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E2F-3BC9-4359-9EEC-D4A59FE5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F2E-4C57-44AA-A2C2-06EDAD77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B4E44-B5C0-41F3-917F-B2B62DC5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492C7-5744-4508-9DA7-E27F1015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6F2BD-0B5D-42A7-BBA8-7A4482CC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50447-55F9-49FD-9EB0-8303CCAA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DDAF2-3150-42D2-878A-5A05A573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C09BD-7250-4E03-BDA6-38F57FEC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2E67F-B5C0-4DB9-B256-D3C6299F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889C5-AE5D-44B2-B8E3-DFEDC63F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0EBCB-F38B-48EA-9B52-F6DFC044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D4B2D-E21A-407F-96C9-62E74557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06F-47CD-4304-B122-3F9DBE38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C8A0D-D6C0-4834-B819-0AB96115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326B0-6076-488F-824F-284A0071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DEEED-EB1D-41C4-941C-21C0E5AF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B6707-D98F-411E-9B0B-1DC52A68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D3265-CA98-42A0-B8CF-F81BBCAC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4CC08-792A-415A-8A40-6AD8DF31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4BB4E-59E4-44EF-B909-6A80AE8D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B8F0A-98F8-4AD5-8E59-C1794C63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143FE-D32F-45A0-A953-154592E8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7E2F7-2E2A-4FEB-B7DB-FC1E3ACF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D0C-9848-4F82-8533-2CE30952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F71C4-1A0A-485E-8C88-FEA608CB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4FDBF-94D8-47DE-9108-86D4DB2D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E3DD3-5926-446E-9555-388900EC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C6E87-E2C8-4298-826B-806A0405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AEA9B-8321-4861-B24D-8E64E4EB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3F968-6E9A-4450-8F6D-75673714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9281F-7A49-4D1A-8AD2-50FA5141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FD5AF-B9F2-45EE-A08B-F920B02F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DB65D-7901-45F5-B84D-BDBBA6D8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38610-7E49-47EA-932D-EA52EDAC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FEF6-4F63-48A6-BF46-E9DB2CDF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81770-08B3-42D0-A857-151A0FEA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5D34B-0C02-4C10-9D86-828C686C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A9DB6-A19E-4DD7-9E59-E223D992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A631F-4AF9-4A96-ADCB-53D6B08B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B3457-091E-4761-97FD-55D5A9B0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AFCAA-2A5A-4059-9E9A-1EBF0C2E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02DCB-A3AA-4905-B60C-3C0A4AAF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AB1FD-29C1-4DF5-9C8C-0651CA9B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FAE15-6806-4293-B307-B74158B2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DB40E-AD8F-4997-B5E3-96BCD8E9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7A36-AEF9-4E6E-888F-A3B09E4E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B9B3E-5DD5-4133-9F27-CA9F8EB0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9CA15-B2DB-4863-9C9F-970CE24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78EF1-DF19-469D-A0DB-B81FA31F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2DEE3-FA94-404E-9868-BE49CC55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2CA38-3F8F-477C-82A0-16123DB1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CE6ED-41D4-4CDE-BBB3-44E3DD60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D8F64-A6B5-4A22-8C99-94B9B75F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5628F-9933-402B-8DB0-1C19DF84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0524E-D009-47E3-AAF7-DA07CE3B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F0126-D610-46F9-8FCD-C74839C9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7594-14C5-40EF-9097-F95763BB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DA9B8-3274-4972-8C94-48AFCB22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75D06-65AC-4811-BA4C-7E6588EA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C1EED-4D0E-4CFF-B744-326CDFC3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5FC25-EBF0-45BA-9F63-CC9FEC52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3FF58-E92B-4E74-8142-9AD2D7A4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015B3-D5D5-4B8E-AFA4-848F7136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A5B00-1E9B-424F-A57C-9C028C0D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A12A-1730-423E-98B2-BCE133C5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2E35-7198-4925-8D3A-A32D0381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B19E-FF16-4163-B98B-24D5DB47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E9CE-53FA-4145-A27A-A58B33E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BC1-0B82-4F0C-8812-9D6DA6D3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F3BA-4BAB-4504-B8E7-577958D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AA5E-3129-4028-B5C3-D49615E8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E90E-BC90-4587-A936-662A40B0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8A15-634D-486E-93A2-82C94895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DA5E-C42A-4C66-9DF3-34321FCD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97D2-871D-455E-A5B0-3258A762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FA67-1F41-4A70-AD17-30D6900D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C538E-CE56-421C-87D1-75CFC9D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7AA4-4D64-48F6-BFFF-83FC98A2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E212-DA17-4602-BB6F-3153EDBB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CCB-D606-4C2F-A86D-8E778CFE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993B-ED24-4EE8-8C28-B6CD998F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7629-3E59-48A3-B352-AE7E2119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1714-CA45-41DC-B306-D63D66D5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0D6C4-19D3-49CE-BC78-E1A6F148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C4F4-D138-4433-BA03-4F2D5FF7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7BF4-078D-4C75-A37B-ECF730C9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FAFE-2DB9-4F41-A63B-E2B4B7C1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DA7B7-4459-4EC9-84F4-A819FD2F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0FA6-115D-4449-B3F3-DC719901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42F1D-1043-4071-B31F-AF677B2C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6F3-DB98-455F-B21B-E43CB6BA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B0337-706E-44DF-A5E8-8BE611B9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C77D6-8659-410D-89F1-11FC8781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E5BE8-F2DF-4B38-B9AE-AAE5EE84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9D713-12DD-451D-BB0C-227C3321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0B830-9DF5-47C5-A9AC-8C9B6E89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3DE2-ED1C-4FE0-82B9-09AB775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FB54A-8D59-42DC-A7F7-54A8029B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DB103-4A43-438F-BDFD-35E29743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A12B-415E-4833-9004-66BF5441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13DEF-73DC-433F-9074-2DEB6377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673-193A-413B-8197-CFAA6436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34DD8-0793-4DEC-8800-495618C7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49DB6-C80D-45BB-85C1-0E12F4E2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E285F-D48E-4AB9-8974-6FCDCDF5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08656-64CF-472E-9BF1-3794C23B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1DBFC-0078-48B6-8137-2A56A24D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3CE0-476B-459C-8CC0-104AE595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A5CDF-CE09-4F3F-BDD7-BFBBBA5E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5DA25-9477-46DE-A559-A842BB6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31B9-DA4F-431A-A168-ACA5B9D9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C5F2C-6D61-4A35-9033-7BBDB7FD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44C-3587-4168-86A2-C039C2D9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E43CF-38B4-417D-90E1-40092670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7A5B2-1666-4E00-97C4-401B9340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815C8-BE30-423E-8336-B0911412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657B0-BE64-4C62-BBDB-9A7A2EDD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EF606-B688-4A18-9BAC-82A84DF0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3C0FA-DC70-4E67-B6FB-13E65E93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519AC-FDB1-46CD-B725-9251B273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7949C-744E-4DB9-8EE7-C4E8FD0A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95CC1-47D7-452D-9A61-EC124AC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431FB-3DA3-4845-B31D-160D139E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FEE-4DC8-44BA-9338-A4BD842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F94F1-7924-4519-9314-F0B48E8A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4D4A0-66E1-4260-AED9-6BC0FE8B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9F9AC-D41E-4D09-8811-48A49F3A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CE92D-82CB-46E9-8691-6B5AE5C4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A6B2C-5350-4CA0-A1F0-70A84E89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6CBE3-CDEB-469F-A8E3-F9AB5F95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2776B-7E8C-499F-8C35-D88AFB17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2D914-A0EF-4A68-B469-9D93B18A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3CF1F-6F00-4753-8332-289848CA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CDB94-BB58-44F1-9EC3-AFE79BB2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B8D-4426-4743-A302-C24D3E9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44205-00EC-4668-B0C9-BFCAC667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043CF-21F8-4DB0-A6E1-F89285C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1BEA9-D6D8-4045-AD80-0F19274F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AD47E-DDF3-4F14-A720-6C390178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9C9F9-6E9E-4A1E-9566-0878C79B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C7374-0A2C-4D01-9A1D-CA3EA918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40781-9304-4100-A6B1-B7F75DE6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1991E-4CE3-45A0-821F-11E0E329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62C5B-1B46-4B57-8AED-9A3C25D2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DD671-9656-40B8-9F4A-A742EAC1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E96-A16A-460C-998E-391723B2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4B7F0-A1F1-4AED-8357-ED2929B2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00FE8-3FC0-44E1-BF3D-E1479E62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71182-0C5B-432F-A325-D5A04907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3972B-23DB-4C7C-B526-D44798F3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5D705-6B75-416A-9AA6-10279A85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409D9-D833-4AF2-9754-41AEE157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5B984-DDEC-428F-A586-09D25C6F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9D369-B3F7-4056-907D-2A6AB676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79D31-867F-428D-AD28-99D3E0EC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0210F-D11E-4C3D-990A-21695DA5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C777-6C7B-4328-88F8-5FE439022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14A1-5279-45CA-9569-CDA50B0B83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FEF7-0A98-460E-B7E0-6E12D14CC7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52C6-071C-4672-9D55-26060E6B27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7705-E9C3-4998-A07A-9D0CDE0446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C15E-2631-4F6E-914D-AA0E668238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A6CF-FE40-4FD3-8C5A-829707C29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A2B3-7AC5-4B58-A0C4-1F097234C5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2E2D-97AB-4073-951B-937365384B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6A98-08E0-4EBB-B607-FCDE07DEBD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9915-8C92-4308-B010-B7EF2A1A36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0F5F-79CB-4242-807D-E2D3D90BFC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B4F-91B5-4BE4-8EC2-646907E025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CEDF-66DB-40AB-9EE0-6FCF9BD42A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CFC4-1546-45FA-8032-21C029DF8F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6BED-48A7-493C-BB09-E0374E9B90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1D44-ED99-4363-87D4-F9B6094080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E664-46AF-4B44-9A36-AACF4B1528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51C8-7DBD-40A4-9CE3-0C7F13ACC8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72C0-A32D-4229-BF7B-27F378E65F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3514-BF47-4AC0-9F06-02F6FA29E2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1AA4-36B2-45C7-BCF3-3EC5033A3C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64DE-44BA-4F78-BD6F-6CE3582945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75EC-424F-43F0-B6C6-A72E4539B1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3006-B0A3-43D2-905C-0F865C3886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WordArt 6"/>
          <p:cNvSpPr txBox="1"/>
          <p:nvPr/>
        </p:nvSpPr>
        <p:spPr>
          <a:xfrm>
            <a:off x="1187280" y="907920"/>
            <a:ext cx="6624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火烧云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144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79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44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118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79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9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WordArt 2"/>
          <p:cNvSpPr txBox="1"/>
          <p:nvPr/>
        </p:nvSpPr>
        <p:spPr>
          <a:xfrm>
            <a:off x="1835280" y="2133720"/>
            <a:ext cx="576108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形状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680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345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347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4"/>
          <p:cNvSpPr/>
          <p:nvPr/>
        </p:nvSpPr>
        <p:spPr>
          <a:xfrm>
            <a:off x="2002680" y="981000"/>
            <a:ext cx="49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上的云从西边一直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东边，红彤彤的，好像是天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着了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347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395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58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680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4030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2706480" y="1919160"/>
            <a:ext cx="4362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隶书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我们这儿也有比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奇特的景物，我要去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细观察观察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7" descr="txgif039"/>
          <p:cNvPicPr/>
          <p:nvPr/>
        </p:nvPicPr>
        <p:blipFill>
          <a:blip r:embed="rId1"/>
          <a:stretch/>
        </p:blipFill>
        <p:spPr>
          <a:xfrm>
            <a:off x="1260360" y="10540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460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34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79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WordArt 5"/>
          <p:cNvSpPr txBox="1"/>
          <p:nvPr/>
        </p:nvSpPr>
        <p:spPr>
          <a:xfrm>
            <a:off x="1835280" y="2133720"/>
            <a:ext cx="576108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颜色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510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14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09:40:02Z</dcterms:created>
  <dc:creator>赵镒涓</dc:creator>
  <dc:description/>
  <dc:language>en-US</dc:language>
  <cp:lastModifiedBy>a</cp:lastModifiedBy>
  <dcterms:modified xsi:type="dcterms:W3CDTF">2015-03-16T08:45:02Z</dcterms:modified>
  <cp:revision>5</cp:revision>
  <dc:subject/>
  <dc:title>幻灯片 1</dc:title>
</cp:coreProperties>
</file>