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BCB-54C6-4060-9944-D1D82B29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E10-BF46-4F6D-BA77-EED50D67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29AF5-191C-45E1-9783-FB18F2AA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4BE3E-1193-44E6-B276-D7748CBE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A71D7-5A38-4F9C-B0B5-1284390E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19C97-1C94-4875-A04E-1FB1E531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27A5C-AE80-42A2-9604-3E02E59F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DF8C2-F307-46F1-9990-4F1158DC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E82BF-1AC3-4B67-8C43-4028306B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89E82-16F0-482B-861C-8F9D9491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8361D-4073-4A9E-96FF-F9455F21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B63D3-5FBB-47F6-A9A2-DE5B4C1D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C4A-3A8B-4B51-A65F-D7CEF0C1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ABA05-2A2C-4E57-B89E-5AA86D91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EC54A-18BF-4299-B6A9-2369AEDC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CE528-136F-4969-9B35-89A9B20F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EDDE0-437B-4227-82DE-94B15BF3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09205-B6D9-451D-B0E5-9CA79B2D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8F625-9977-4F7C-BD42-FA825425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FFCE6-5BA0-47F0-A8B6-CA512171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3855C-2AC9-45CA-81A9-FFB4B52E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D40F3-2B4F-45F5-B5D4-C86C5CEB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B1792-F69F-4E65-9D87-86D66BCE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61D-DF06-4020-8E8A-3184C3C6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9E0D0-80C9-4936-AD3D-A12B87F6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42217-FF28-41D8-82B0-B86442D6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E595A-1916-4B38-B5C7-88E5A5F2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A330B-BBE8-4B0F-B332-084ADCE7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24B14-AEAC-4E91-A23A-ABAAD6B0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D78FC-45FD-481F-8CD2-D2B98715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110F3-28A3-4A55-9179-27A18346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E191F-E32C-4591-B4A3-F292F9D2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E5A81-B114-41D7-A474-7916F859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3B774-D138-49A1-9E97-72CBBADF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AC60-4376-401F-8658-465FD88E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1D152-CE16-48B5-AA04-96BAA94A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99E83-ED83-4BE6-8DC7-6825F82D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9F283-1417-41B7-BE5C-DCF572EC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2C916-2AB5-4FB0-A5DE-99E49089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A1A03-5DF0-4BCF-888F-214BEF13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2EEBD-5946-4DC7-8825-A115E9B6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46AA0-35F9-4BF2-9CAD-755018BD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E231A-802A-4107-AFD2-08F61CEE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57830-751D-4D47-9D76-97403C99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D7BAF-BA5A-4BC0-A57A-8D8EE66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FAD3-7AC5-43AF-8345-E8F571AE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1AAC9-0773-464C-BE1B-113B88C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07805-F221-4317-9223-159241FD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8AB20-8DDA-4650-910F-22E0AF58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2B314-F6E4-4B02-8DC3-7DD7F4CD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2679E-AD51-461C-B02B-35D44B84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99BB4-EB29-4D9E-96D8-DAD71396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C977A-EEDF-4E74-A542-FBF88B0E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3D5A8-3709-418A-9E1B-C5C99DBC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37B7C-978C-48D5-B219-0BBADEE1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D573B-A0D7-48BC-B0FC-58767A10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FB47-736A-4EA6-B066-96DD7C43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8AF1B-6D75-47D2-89C3-EDAF4BD3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3D8C9-4456-4A68-9F48-66031D7A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C23CC-D67B-41B6-B626-5213D48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30696-402E-4DB7-813E-EAF7847F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36B1B-1129-40B7-A26E-F01928A5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C0EC2-5875-43A3-BF0D-5F5CFBCA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8645A-802C-43BF-8A41-0773A728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875A-6C3B-4137-8DC4-B8C02C59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E5C3-7D96-4460-A566-336E66FC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2EC5-C0E0-4374-836A-F6627A4D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30F2-8F5F-431D-A318-8F7A62B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191-7901-4E35-A263-2A405A0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2601-2091-4BB8-B40A-445104E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0B92-EE76-495A-93A6-9F563A19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387D-2B49-4509-BA1A-30BD3E92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14A1-041A-4943-9A18-D94987F0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3856-EF72-4627-9565-73F0F05E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17983-226D-4C5C-AF58-2BC4EA47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439AC-A1C9-48C2-9F43-01B02F3D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E2B5-C9FC-459B-99A9-B54896F7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DE9F-B96B-4B96-BD3F-5EFA0E6D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A1201-90B5-4457-8C60-8A1FE096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9C0-C144-48E9-9B98-81E4E9F5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95B5-B6CC-45B9-86A3-6AF799F0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6A1DF-8F86-4498-BEAE-F42B03AF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D134-B99A-4C49-9076-7C60765D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E63E-09CB-4428-BA40-50AAA539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77E9-4AA8-490F-B3A6-95456A55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3835-3018-4BD6-A75D-11E0EA66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D940A-03F6-4620-8735-2A61C5CC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53FF4-F277-413D-9BD6-A9326F25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F754-F948-4EF7-BD69-5B70B502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99D7E-19F1-4558-B1AA-39E20141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31C-1F94-45C7-B4DB-16CFAC45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5837-D7B4-4433-8E7E-465B26B7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CC00-7071-4D19-887D-A63FB85D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AE88-2717-481E-985D-8FA00A78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2A33-CE2F-4FB4-9199-F0A43B32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23B28-EE46-496D-B5B6-01957665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B51A6-D98E-4499-A40F-A31AC02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45662-09BF-4263-A3BB-97E47CEC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B5F1-BE29-41C7-B69B-ED947F29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9E1D6-2763-4CFF-99EC-0B391A46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73AF0-0A53-45FB-9850-913179B6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177-88A2-4A5F-A0A8-F647968E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3A33-0F12-45E9-91FB-CD938980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AB7A2-498E-4AF5-BEA9-6F9F977F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B3EB-58DB-45F4-B597-C0D9D874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5C57-55C4-4CAC-8EDA-AC308B5A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D95D7-548D-4046-997A-04F5B7B9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84C9A-EA24-499B-A859-461DD480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5297B-96C3-4D6D-B86F-1A6EB3E1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E1D21-33E4-4779-A7EF-23FF6C68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1B65E-5371-433B-AB8D-781614C8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A782F-8DCA-44A6-87FD-1C659056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0A0-FF04-42D8-A939-72ED1FD2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61BEC-E372-4AA6-96C3-E9FCC899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F205A-8CD0-4B8E-B4F3-83359577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0061-823F-4BFC-8EC8-352665DD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BD583-E6B2-4864-A216-B7E7DA71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0CEEB-52C8-453B-9287-3E9F7BC9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CB1BD-AF10-4B32-A6BE-CEA8B5F3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3FC75-D096-44CA-B3F5-66AB85B3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6F44C-DAB5-4256-85BF-D4DFC1E1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6E2BC-8A14-4EA2-903B-12D959D3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270A3-5780-4628-9488-4E10D37D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619-B1FE-424E-A579-0E62307B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4C1FC-6A95-4955-A58C-E2186365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D2A7-13E7-421F-8F18-3E824322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C94FC-549A-4FED-AC9A-8BD81953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42518-6F06-4BD2-8B93-1616C4FC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877EF-0264-4820-BFA8-ACB5F5B0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87E11-0EDB-4AA4-9968-656F7B1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33F58-FFD2-4433-8D4B-4CD598ED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77436-2618-4E0C-8B0C-0C4D3EC1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F2B6F-09FA-4562-9F76-7DDAD573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02D9A-7913-4BDE-B2C4-940FB076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5AE-94CE-41EB-B259-C5D1D94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34675-75C5-45BF-8221-018373EA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CA661-54EC-4D7E-937B-71D6675C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8CAB8-25E8-435E-ADCE-9C90C2E7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56861-D5AB-49AE-9CE0-BE9BB905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9892C-64C0-4029-BA59-1F197B85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FA7CB-CF65-498E-B77A-B29936F3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83CE8-BAAA-4020-8500-50114D57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EA03D-B083-4DC6-9B16-31EB6CC9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A0CC5-2D39-4EFC-8851-DA61BFF0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48228-8FF4-42A0-82FA-5FDFF42F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4B4-1D7C-40CE-850E-B6FD0E1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BA2D2-B9EF-4D02-B7F0-B85B808F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EF1DC-3E30-461A-9358-836D8203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38679-D5CE-4E2C-8377-F769429C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54B49-DF3A-4DD4-82A8-D6BB38F9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F20B9-2BA9-48BF-8B37-44F33299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8CEEE-2D19-4F50-B047-F0E18537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6955F-CF57-412A-9C28-BB9A2E1C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665DE-1242-4F43-8D2E-9A0D452E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04A38-999C-44C2-A1C0-ECDD4534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0F54A-2D2D-45ED-A4E3-59D981CA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BC48-70DF-4B73-8986-80267E22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E38F-B776-4F6C-9825-8C9613D20F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DF51-D6C2-4215-9607-2B4FB440B8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EE47-A662-41F8-BF09-493C972EE8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1E22-21A9-4655-84A7-2F42AA6B33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A8DB-D969-40B2-8DA3-EE5B8E82EC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2414-5D78-4BEF-8F3D-399F9A582A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B37C-924D-4C27-B0FE-E00BC65260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B713-BA57-4E56-9E39-857816AC2A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0228-47E3-48A1-BA41-570F668E4B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98B5-22A0-435B-995F-667C71D149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CF26-781E-422D-BF18-984D00B5A8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C9D7-3CA9-49F8-8073-719E747CAA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CC6D-5ECD-42BC-B095-17B183CEAF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ACCF-09CC-4566-B97E-C0A8398762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12D8-189C-4587-BBCD-1D35B088F6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605F-1374-4524-A2D7-AF41DEBF49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4019-87FB-4185-AFAF-1804F0AF6A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0F87-B4A4-4BC6-BD96-B3D700F5DC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3151-1FF1-4389-8554-5EA1A78722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3DEC-5E9C-4EDE-BE95-4FB7528A83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9D52-8822-4AE6-8972-15DA1B7CEB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6BB0-8DFA-47DE-92C1-9C4780A6B9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6D79-AB96-40E5-991A-DEF574E263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7C30-AF02-474B-856D-C686EB1A42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219320" y="4876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荷叶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2971800" y="4876920"/>
            <a:ext cx="5638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圆圆的，绿绿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023200" y="379800"/>
            <a:ext cx="23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6600cc"/>
                </a:solidFill>
                <a:latin typeface="Times New Roman"/>
              </a:rPr>
              <a:t>荷叶圆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8"/>
          <p:cNvSpPr/>
          <p:nvPr/>
        </p:nvSpPr>
        <p:spPr>
          <a:xfrm>
            <a:off x="4025880" y="18414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2" descr="qing wa"/>
          <p:cNvPicPr/>
          <p:nvPr/>
        </p:nvPicPr>
        <p:blipFill>
          <a:blip r:embed="rId2"/>
          <a:stretch/>
        </p:blipFill>
        <p:spPr>
          <a:xfrm>
            <a:off x="1066680" y="5029200"/>
            <a:ext cx="2105280" cy="15908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qing ting"/>
          <p:cNvPicPr/>
          <p:nvPr/>
        </p:nvPicPr>
        <p:blipFill>
          <a:blip r:embed="rId3"/>
          <a:stretch/>
        </p:blipFill>
        <p:spPr>
          <a:xfrm>
            <a:off x="3581280" y="990720"/>
            <a:ext cx="4800600" cy="21621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"/>
          <p:cNvSpPr/>
          <p:nvPr/>
        </p:nvSpPr>
        <p:spPr>
          <a:xfrm>
            <a:off x="380880" y="15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谁在荷叶上干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581280" y="5029200"/>
            <a:ext cx="51818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青蛙在荷叶上唱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青蛙在荷叶上呱呱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04920" y="24382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蜻蜓在荷叶上休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2" descr="图片1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水珠说：“荷叶是我的摇篮。”小水珠躺在荷叶上，眨着亮晶晶的眼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3962520" y="914400"/>
            <a:ext cx="350496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242280" y="121824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~~~~~~~~~~~~~~~~~~~~~~~~~~~~~~~~~~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0" y="1730160"/>
            <a:ext cx="83059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蜻蜓说：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荷叶是我的机场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蜻蜓停在荷叶上，展开宽宽的翅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-609480" y="294084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青蛙说：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荷叶是我的歌台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青蛙蹲在荷叶上，呱呱地放声歌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0" y="423684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朋友说：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荷叶是我的凉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朋友戴上荷叶，红润润的脸蛋儿，藏在绿油油的荷叶下，比荷花还美呢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2" descr="图片1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303228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457200" y="8535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水珠说：“荷叶是我的摇篮。”小水珠躺在荷叶上，眨着亮晶晶的眼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2875680" y="190440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水珠把荷叶当作自己的摇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4721040" y="2666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小水珠躺在荷叶上，眨着亮晶晶的眼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533520" y="4342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小水珠把荷叶当作自己的摇篮，躺在上面，眨着亮晶晶的眼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2" descr="图片1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3"/>
          <p:cNvSpPr/>
          <p:nvPr/>
        </p:nvSpPr>
        <p:spPr>
          <a:xfrm>
            <a:off x="380880" y="53244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小水珠把荷叶当作自己的摇篮，躺在上面，眨着亮晶晶的眼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304920" y="19040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蜻蜓把荷叶当作自己的机场，停在上面，展开宽宽的翅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65040" y="3199320"/>
            <a:ext cx="83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青蛙把荷叶当作自己的歌台，蹲在上面，呱呱地放声歌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304920" y="4570920"/>
            <a:ext cx="803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小朋友把荷叶当作自己的凉帽，戴上它，红润润的脸蛋儿，藏在绿油油的荷叶下，比荷花还美呢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890640" y="3801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说话练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2882520" y="1206000"/>
            <a:ext cx="429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蘑菇是小白兔的篮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树叶是小蚂蚁的小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西瓜皮是小熊的帽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459000" y="367560"/>
            <a:ext cx="62888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白兔把蘑菇当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蚂蚁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3213720" y="3187080"/>
            <a:ext cx="429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白兔把蘑菇当作篮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蚂蚁把树叶当作小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熊把西瓜皮当作帽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3"/>
          <p:cNvSpPr/>
          <p:nvPr/>
        </p:nvSpPr>
        <p:spPr>
          <a:xfrm>
            <a:off x="228600" y="2361600"/>
            <a:ext cx="819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白兔把蘑菇当作篮子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着它，高高兴兴地向家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304920" y="685080"/>
            <a:ext cx="86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小蚂蚁把树叶当作小船，撑（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chēng)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住它，顺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(shùn)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着水流飘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(piāo)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向远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457200" y="358056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熊把西瓜皮当作帽子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380880" y="1460520"/>
            <a:ext cx="8001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小蚂蚁把树叶当作小船，撑住它，顺着水流飘向远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小白兔把蘑菇当作篮子，拎着它，高高兴兴地向家跑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小熊把西瓜皮当作帽子，戴上它，胖胖的脸藏在凉凉的瓜皮下面，真舒服啊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6:06:34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6T08:44:31Z</dcterms:modified>
  <cp:revision>4</cp:revision>
  <dc:subject/>
  <dc:title>第一PPT模板网-WWW.1PPT.COM</dc:title>
</cp:coreProperties>
</file>