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laser.wav" ContentType="audio/x-wav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5A6-2055-4362-9713-28EB2714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566-593C-4F19-8813-B497A3E5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8919A-CE6A-4D06-9FC5-72EE8759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3C161-BE89-4294-9F1A-FA73B85B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0C316-CF96-45A3-8C52-EA0355C6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6BABB-9F3F-400A-9CE3-0D87298A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AC238-AFE3-478A-A0EF-B85E2DD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E75D3-37B6-4241-84C6-2EA1FAD7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CDCA3-7915-43C6-9308-3151FE5A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FA98A-15F9-4EB3-83EC-85373A01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29469-2F40-46AF-B5FC-86AF204C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3E54E-9EC0-49C1-B459-7EF1E324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D36-6D92-432B-9F8E-29B56A06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61F3A-ECEC-450D-8CBB-20FD5F03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EC120-CC72-4920-ACBF-A112F763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DEE30-0895-49C4-802E-498AB507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EB45C-B72F-4EDF-B919-E1BFE050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A4BEB-9E25-4F1B-97B3-87F699C1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ABCDA-8466-4FE2-A954-65A6484C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32904-3014-441B-A7B2-93AF00AF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9332A-D585-4922-B7CE-3BE33083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FF0F3-157E-41BE-A616-4C061A02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A6041-A467-4D7B-AD3F-42D224CF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299-D2C2-4B8E-A322-56D20680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62614-0C41-4410-92DB-BDA6F0B4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22208-7C29-49C5-B5BA-ABC44087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203FE-D2B5-49FF-9A7C-3496F724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DBA6E-6FBE-45BB-9B98-4AD49FA6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9CFC1-E7A9-43C4-ADCB-0711CEF4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D553B-FD55-441B-A7A2-83C9123A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1BB38-DAD8-4067-9BF5-2CE1BDD7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1CCED-F5DF-4079-AEA7-48AD6F8B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1110B-A781-4306-8C38-65996D6F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5BFF9-4068-4B20-AE0A-18A3685E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B51B-3058-4D5E-A88B-5BD2AE76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178B7-CD53-44E2-9F6F-F500B4E4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0B39B-94F3-4E36-ACD5-6042E91E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1B0C1-E1D2-4960-81F8-5FD01335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0DB8D-7E45-4271-A941-1593B37C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91986-1770-4D06-BD9A-C6F27DB8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CF074-19DC-4BC3-8246-C36A1D04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B92FE-F083-448C-B7F9-D24A25AC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4F7E1-A192-4B55-9DC9-D54D89A1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93FF5-255D-4451-AB36-0C34023B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890AA-8077-4FC2-A454-20187CDA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48F7-94BB-4DDB-BCE4-A14FF67F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10E90-6F4D-4C34-88E7-5F5E7973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D3C70-7615-4AA3-A7DA-E8D23E1E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4F746-7469-4882-8C98-8972DD6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03D6D-8694-48AA-B7EF-4229EE19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FC56F-2F3E-4769-8632-148EE8D7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E98A6-9C35-42CC-9707-4167AC5A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EEFB2-A515-4B08-92CB-1FB1721A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6C2B2-9F4B-4B7D-A7AE-20EDB11B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8398F-324C-47E8-98B6-10D41072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06BC6-601A-4E1B-9D45-8DC89A10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DD8B-0C96-4FA9-B591-031604F5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E43DE-30A5-455F-BD85-3291DEB2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B05BD-D719-427F-80E7-66524069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8D3D1-3A19-4368-8337-6C3E2230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3A10A-2419-4696-A42A-052D423B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4F9DA-4357-40C2-B7A1-55108F9B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D8D85-682E-4757-BC01-2EDFBFE1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67817-746A-43A0-8BD0-439671F5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8AF7E-B89D-433B-9CF4-41FDF43E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9EDBE-E105-49E6-89E9-DC1C7E57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4CFA7-CDEF-41D9-84F4-C81ECA4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8883-029D-4578-993A-743BB351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FC7B1-B9CA-4F7E-8A9D-912A73D2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3FBAE-FC26-42F3-AA5D-1A3BA53E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40E70-5079-48D0-94BD-ACEC3F87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50225-2366-4F91-8140-0E0F761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C2169-3782-468C-A70F-E4FA90DD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F37F9-54E2-4962-A74B-2888A6AF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5EDFD-F616-423E-A36C-811C7C84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1CAAA-0573-431A-9524-2B35D313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71849-FC50-44DA-8C81-DAA00114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2CB8-F607-43DE-A9B9-659B674E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F1AE-6548-4769-9702-FAE84945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6A73-E81F-462F-95AC-A9030E0C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B1B-C6C2-42EE-9663-34D6B407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3C88-FC9E-4829-8653-B2132CAD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527A-5791-4320-8688-5D0C82F1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CFC0-CFE3-42FE-B5D5-BB49330B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DB67-FAEE-4E81-93C4-431D8E62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17E0-C987-46E4-B813-91A8DDF3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4C431-1B06-454A-816D-44EF7E31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3571-971F-4E77-81DA-C140B408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980E-005F-4851-99E0-371FECAD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29E7-626B-40A4-81BC-A2AAEF08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E9ED-6D4D-4373-AC81-E567F9AD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227-992B-46DB-81EB-13D53ACE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3BE7-1746-43A8-9F09-B83EDF14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32BD-7DA8-418F-A076-E7E0ECB2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907B-82A2-463C-A350-2D1EC46B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2BC1-02EB-4885-9BEE-E5C7D56E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00DF-7237-4C29-AA3A-0C471BA6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A2CE-612F-4F7E-BDB9-A9F28A34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0C59-1E59-4431-A753-8E697277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78F47-5798-47CA-98D5-165186C0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31233-DC64-4C72-AFC5-A37405DD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E58F-27F3-49A0-A2AE-341CB88A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FE5-12A1-4548-BC3E-7BDD911C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7AB53-9F6D-4C77-A08F-B9087616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35A0-07BE-46C7-A340-3C7E28B2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2A62E-A2C5-4155-A1BB-22EBBA93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F496C-0C16-4A34-B827-2AE5D89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43D6B-1962-4820-ABA0-ACF425C9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CFD4B-D9FF-4D29-B8FC-F62327A2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5B2C-D3C9-4F04-B7F3-F3527036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0CBFB-992D-40A8-974A-E4D6B90C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4858-74A4-4069-AC94-93572ABD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EC026-973C-4B1E-A2DD-58308C74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A2F-DEEE-4ECC-AB7F-E5945DC4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D8E24-6D0F-43ED-9A36-19E2FAEF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50B3E-2BB0-4AF9-9FF3-CB8712A9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2A57-CC0E-4F57-8D81-A4912D39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8910D-54B6-45EE-ADA2-20737D9F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B5C2E-EF7A-4683-AB5F-A9FD509C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52CBE-BC28-4D4A-8FA4-D6E91714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E2D03-2BAD-498C-954E-257A086A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E3702-8EBC-45E6-91FD-46F8BD69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D607-0722-4719-80F5-D8B31D46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2451C-D623-4AD8-8F46-F0F3E7A0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85F-DADD-4443-85F9-486E64CC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5E3D-924F-4701-8423-85E76F28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5C31B-7712-4001-954B-8506DE3E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EB47F-FB4B-42DC-833C-9C595278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70250-28D8-43DD-AF7D-7CDAD357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00969-A945-438A-9520-A061B51E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BD5EB-E144-4122-B41C-B6060F58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D99EA-C528-4F63-8A8F-F7CA4CD8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A8059-1697-488F-8C34-BC1A7567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EED0F-6880-447A-A735-04B807EA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90D5E-26F3-4B33-AD35-0A621E15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609-42F2-42D5-960E-B68CFB8A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74461-C4EA-4935-9EFC-E29FAC2A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8AC2B-AC0E-48E8-BDAA-BA6ADB95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51B14-6DDF-4112-A9DF-D734652B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059B8-E543-4ADB-A258-C650FCFD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56008-43D8-419B-B9BF-CCEF565A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7AD27-B8B7-4B9F-A72E-2DD32FC2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B88E7-6C90-4635-B579-F838B297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9C76F-E20D-44E2-B1DC-46769026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22EC3-287B-4F6B-B374-AFE862A6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4F091-867D-41D1-A827-5CBEB49E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E91-66D8-4F3C-A051-9E1F859D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04F25-0DFC-4E1B-B939-0B0FE9F0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57179-8D1A-436F-9F8D-C8CAC477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21966-BDE4-4A5B-A2BC-7EAAB706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71483-8BC9-4CBD-879F-49DDA4FC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42A02-69DD-4C58-8CE2-DE5C95C8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1AFE8-146C-40E7-8762-733132E7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2DF03-CFAC-4C79-B69E-00A72140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A6EF8-789F-439D-9A59-C991EA08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9427A-26B8-4429-9180-09BE8C92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4CF71-F71C-4B7D-8B5D-EA9CE465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A83-68D6-4BE0-B413-633C0A1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9CCCF-A2A8-4447-8904-1D4FA87F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30DDF-EA9A-4D98-93E5-5C216042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25E65-BEA3-4986-9234-F81B7B38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966D6-3A04-4BCB-BF22-2E979073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01C60-BBEB-47FB-A50F-FC9540CE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8CCFD-506D-44BF-89C9-AA0987B0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C6D9B-87CF-42EA-ABFE-56C814DA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E6D19-8128-48A8-B30D-1E672C83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2F520-D259-42EB-A425-8C199124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3323D-94C7-4DBA-86B6-1A0ABBA3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9431-4C98-417F-B4F2-9490E932ED42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A4FB-77BD-4F6E-B61A-4E684CC891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10E2-6626-402A-9B3D-7367865F7E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1BD6-F6AB-4D5E-85F1-15D5410975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E9C7-40A7-41BA-AAA4-411604BE96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0199-51C8-49E2-BC7F-1A6B1B35C3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748C-71D6-4BE5-BE1E-0AB15C78C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8302-8ABB-427B-80C4-37624B0F9D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739B-6614-4A57-BD5C-0C404405ED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FDC1-2AE7-438B-AE34-E8B26E11C7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632D-B1A9-41F2-B5B9-B67E9A4FA6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D471-AA77-4F0D-B940-35A7D97058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5DBF-A31D-4D6D-96D8-ECBEB8E347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93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6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485C-67A2-47E6-B4B3-227C4926B233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86A1-71C2-40FA-A61E-10BD6B3A39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5F97-7D31-4E18-826F-DA88CCA1ED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EAAF-5B69-4031-A162-3BBB01418F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37D8-C9E2-4F70-B0DA-2BD90806F3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73ED-EF81-44E9-A17C-0CB709539A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4F06-B2B9-41A3-AECF-7EE4B7D7F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70AA-185E-481D-BED1-338AD968F1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8497-7E7E-4803-95B2-7B2B147FC8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EB61-4F6E-486D-A20E-5F3F273279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D314-875F-40A1-8102-C31A651414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32B2-6361-4BA9-BB44-D798FB6842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2E1D-A444-468C-9027-FCEB5A7023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核舟"/>
          <p:cNvPicPr/>
          <p:nvPr/>
        </p:nvPicPr>
        <p:blipFill>
          <a:blip r:embed="rId1"/>
          <a:stretch/>
        </p:blipFill>
        <p:spPr>
          <a:xfrm>
            <a:off x="0" y="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3"/>
          <p:cNvSpPr/>
          <p:nvPr/>
        </p:nvSpPr>
        <p:spPr>
          <a:xfrm>
            <a:off x="3354480" y="3581280"/>
            <a:ext cx="292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核舟记</a:t>
            </a:r>
            <a:endParaRPr b="0" lang="en-US" sz="1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058400" y="1143000"/>
            <a:ext cx="7632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核舟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3278160" y="380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教学目标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2440080" y="1600200"/>
            <a:ext cx="429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一、了解我国古代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工艺美术的卓越成就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704120" y="380988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二、总结积累文言词汇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018320" y="525780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三、学习空间顺序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210680" y="1294920"/>
            <a:ext cx="7632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2135160" y="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Times New Roman"/>
                <a:ea typeface="方正舒体"/>
              </a:rPr>
              <a:t>难解文言词语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Text Box 17"/>
          <p:cNvSpPr/>
          <p:nvPr/>
        </p:nvSpPr>
        <p:spPr>
          <a:xfrm>
            <a:off x="2354400" y="853920"/>
            <a:ext cx="2923920" cy="6426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能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径寸之木，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宫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室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Text Box 18"/>
          <p:cNvSpPr/>
          <p:nvPr/>
        </p:nvSpPr>
        <p:spPr>
          <a:xfrm>
            <a:off x="2212200" y="1668600"/>
            <a:ext cx="107496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尝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贻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余核舟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Text Box 19"/>
          <p:cNvSpPr/>
          <p:nvPr/>
        </p:nvSpPr>
        <p:spPr>
          <a:xfrm>
            <a:off x="2009160" y="2278080"/>
            <a:ext cx="188748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盖大苏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泛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赤壁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Text Box 20"/>
          <p:cNvSpPr/>
          <p:nvPr/>
        </p:nvSpPr>
        <p:spPr>
          <a:xfrm>
            <a:off x="1927800" y="2963880"/>
            <a:ext cx="164340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其两膝相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2009160" y="3726000"/>
            <a:ext cx="188748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神情与苏黄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属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Text Box 22"/>
          <p:cNvSpPr/>
          <p:nvPr/>
        </p:nvSpPr>
        <p:spPr>
          <a:xfrm>
            <a:off x="1447920" y="44672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1846440" y="4411800"/>
            <a:ext cx="139968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诎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右臂支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2205720" y="5173560"/>
            <a:ext cx="107496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左手倚一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衡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木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Text Box 25"/>
          <p:cNvSpPr/>
          <p:nvPr/>
        </p:nvSpPr>
        <p:spPr>
          <a:xfrm>
            <a:off x="1927440" y="6012000"/>
            <a:ext cx="164412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珠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历历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数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57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606320" y="525600"/>
            <a:ext cx="115632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勾画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了了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1774080" y="1363680"/>
            <a:ext cx="188748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为字共三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有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四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937880" y="2125800"/>
            <a:ext cx="213120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而记其长曾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盈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019240" y="2963880"/>
            <a:ext cx="237492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盖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拣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桃核修狭者为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1432080" y="375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1467000" y="291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核舟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AutoShape 8"/>
          <p:cNvSpPr/>
          <p:nvPr/>
        </p:nvSpPr>
        <p:spPr>
          <a:xfrm>
            <a:off x="2057400" y="266688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2534040" y="2301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正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面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2473560" y="3809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背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面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AutoShape 14"/>
          <p:cNvSpPr/>
          <p:nvPr/>
        </p:nvSpPr>
        <p:spPr>
          <a:xfrm>
            <a:off x="3276720" y="19051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34131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3880080" y="1616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船舱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中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3429000" y="2509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3600720" y="2378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头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Text Box 20"/>
          <p:cNvSpPr/>
          <p:nvPr/>
        </p:nvSpPr>
        <p:spPr>
          <a:xfrm>
            <a:off x="3677040" y="3216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尾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AutoShape 21"/>
          <p:cNvSpPr/>
          <p:nvPr/>
        </p:nvSpPr>
        <p:spPr>
          <a:xfrm>
            <a:off x="5410080" y="1828800"/>
            <a:ext cx="381240" cy="243828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Text Box 22"/>
          <p:cNvSpPr/>
          <p:nvPr/>
        </p:nvSpPr>
        <p:spPr>
          <a:xfrm>
            <a:off x="5947920" y="15624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空间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顺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12737160" y="144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作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1947240" y="18288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一、识记文言字词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2423160" y="2895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二、翻译全文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2760120" y="40384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  <a:ea typeface="黑体"/>
              </a:rPr>
              <a:t>三、试写一篇以空间顺序为顺序的说明文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2:21:13Z</dcterms:created>
  <dc:creator>z</dc:creator>
  <dc:description/>
  <dc:language>en-US</dc:language>
  <cp:lastModifiedBy>a</cp:lastModifiedBy>
  <dcterms:modified xsi:type="dcterms:W3CDTF">2015-02-10T11:46:30Z</dcterms:modified>
  <cp:revision>21</cp:revision>
  <dc:subject/>
  <dc:title>PowerPoint 演示文稿</dc:title>
</cp:coreProperties>
</file>