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16A-3130-4DD6-B420-BA6F8DEC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FAC-4834-46CC-9D12-2A5960D4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66DB0-B8CD-4B52-9329-985CF826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31BBB-D72E-4FF5-8056-9052B0CB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19984-FA0C-4E68-8F97-F47B0C79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DB34A-456B-418D-8F3E-32C33F0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D5E83-D3AA-4E36-9C8B-176BF57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4B151-D0BD-4D44-87D8-911C8935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60223-9C04-4393-B703-8A9DA82B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BFC4C-678F-4D04-A1EE-D31005F0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A4A20-9549-4AA1-AD3A-3923ECC0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2B9DB-B62F-4A6F-A437-C391F94A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9A6-7F52-47D6-972F-81EBC714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CE79D-03C0-4DC5-94EF-74828280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7E1C5-F38A-41C8-BD3A-EBC4BD6D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3ECB6-1EA9-4BED-BD15-177A3DD3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65F78-C00D-47B2-A6D6-2AE27C3D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5D580-EFB3-4068-A9D9-604E8EC6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61E98-040B-44B3-B8BE-802B6C0F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74A16-5B77-4222-A67B-79EDD49D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B4B70-BF33-491D-AC2B-6F59C7FC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ECA1E-6261-49A3-9A87-1F4A6042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24B8F-2217-4512-AC01-8BAAED74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F6A-5D09-4682-833E-C1802689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37032-6A3B-487C-B941-2786D624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76FBD-83C7-4324-B8FE-F3F63D30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6ED01-BB77-406F-AD7D-EF742CBC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D420E-12A6-41C9-B41B-006E7602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EEBE4-5DDE-4599-B0D3-240A88C0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5AE66-6D43-4A27-8DBE-EEB90064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8BE75-AE41-42B1-9D44-3E2AD5B8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C12A2-4582-440E-82BF-15DC067C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10E03-8CBA-4AF1-85BF-8474A8FE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C3F86-CFA7-47CB-B579-CA02B49E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E11B-170F-4770-8B16-6CB9958F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914D7-BB7D-44B7-91D1-6874D7C9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B1A45-5F9E-4246-9C08-0C5425DF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386CC-1BC5-4F2F-B2F6-5959F599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706B2-BC41-478A-AD9A-733ABCDC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54DF3-EEDD-43D4-9DED-98970A7D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0E7D5-6E17-42D7-9E39-CFD16201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EB7FF-C4AA-43AD-986A-175016E9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88BEC-9790-4C68-A0BF-697E9F27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186C0-41AF-4DBB-8B73-1384AE7F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D5EBC-133F-4AB4-A067-09542B46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A3C5-EA2D-43AA-A622-CAB60616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08051-EC03-4398-A0E8-B21583E6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919BD-D2FB-4622-BDF5-47F1628B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A0470-1A21-4C2D-8AA6-AAAF60EC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B6598-89B1-45A6-BB20-4956C077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124D6-E30B-4A64-B729-38B1489D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631E8-7529-424B-A78D-158ACC58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7766C-02F5-4E41-958A-C15D2111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187A5-B595-4170-902D-81D5C3FC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5F987-E90D-4194-986E-6F69782C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515D7-AE20-4D9D-899B-F1CAF928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ED2E-2CF1-4844-9F66-C324F84C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4465F-51FA-44CD-A804-E8B795AD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CAB8B-C2EE-4A81-9628-74A8582B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C6848-A3F2-4E8F-BB59-A31F70DD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AD046-B78A-4EF7-B549-0722C838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07A11-5BE8-46E6-A708-D741BED9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CF121-ED0F-4FE8-A095-A4BF030D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5D8F2-9B5C-419A-9381-9FBFEA4F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F1EF-5FF9-445F-A262-69F03A5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C106-1CE5-4482-BBC6-14C610C5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6A62-79A4-4B27-8602-C1AC5B4D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5AFC-4564-4177-AE78-B502098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0AA-BA28-4CD3-B2E1-8748BF50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3A7E-605D-4172-94A4-2FA42D7C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8141-B96F-49ED-A9DD-294B8D4C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ED51-0F27-4D31-89A3-4361AC54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9F3C-E2DC-41FB-97CD-67E7E265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2DD1-817C-4E23-ADD4-F09F5962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DE41-899F-432B-A81B-399016A2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B1ED-E493-4E5E-9D08-DF9A6BB2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4BFE-7A8E-41FD-829C-007CB879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96D07-F3A9-45B5-8E2B-5BE04660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9780-1511-4299-BF72-B8AF4C87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9B1-23FC-4FEB-A4AE-B34672CA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510D-4639-4A17-916E-F3E72AD2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B2BA-090D-47B4-99A3-E4B3830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7D48C-7546-4293-8BEE-6FA5A64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BDA7-17B6-4073-8502-987C34EA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BDFE-086C-4C49-9168-A0D56210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44BB2-77C1-4C6C-A067-70B41BA8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D7C1-6D2F-477D-AFD6-2D9F8CFA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57557-B860-4557-B88F-B5072944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77A4-5D16-4158-B90A-7EE74079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B115-7355-42C0-AF10-D75DAB77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8C6-16B0-430B-AD0C-E16D0ED9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93FD2-E687-49F7-BC7C-4BFA0119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2E07-43BD-4931-A3ED-3EC2A6D5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8BB4-7B15-469C-AFE7-D77AF73E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4F612-0B60-41A0-B19C-5A97243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66C44-832F-4601-8143-3CA29528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0A2D2-810C-4F19-9371-EB169424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ECCFC-B78D-4DA9-B684-ABC155C1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C718-3E79-4373-8BB2-6EB28C46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92D7-F6A9-4ACD-A8E1-7AB4B536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9070-18E5-4B27-B959-E550EC6A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913-CE64-46E3-8FD2-A6ECFF37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F6E2-B0CE-44A2-8700-D1751515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1CEE5-ADAB-4CF1-ABFE-296DFAEA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C2ABF-486A-4E72-BFE5-634A7B03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5F25-1272-4EF3-B48A-A34C756C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CD3E7-087C-4390-B868-22601FE1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CAC1-464C-45BE-990D-834DFB2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EF094-5DA6-49F8-860B-B5E2DDC7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C2D2-55EC-4B3F-8D27-BAFA84DB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D6EF9-BF4F-40D6-B93F-EB4B57CA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9AECF-E64D-4D34-A89F-A8B22A6B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DE2-9FAC-4EB7-95AF-7B8667D9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17A6-57DE-4244-8C0C-7E3A0A00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FC64B-9909-4601-AB04-36FFD1F3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6673E-65AE-4CBC-8143-9A1084C4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FCFBC-A439-424B-AD4C-99BCFBE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E315F-8608-4B3A-88BD-11980B2E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DCCB8-BD83-44A4-89FB-D094DECA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DB434-5E23-4E4B-AFD0-5E4329B7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E8143-4F2D-44EE-800C-502B1B2C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956B7-F75B-4A56-A9F0-562B8A89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9FBFD-F027-4265-96D4-9A40401F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161-E876-495B-B700-85F374D7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74966-E16F-4BEE-9991-539B4F4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3E7EC-2A05-45BB-9BD4-98BF7CB0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3933B-1B5F-4221-ADC2-3EE84049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0559B-8E30-466D-8197-99D8B637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BBCEA-97F0-45AC-BB46-BE250BD6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2F4D6-81D2-4A0A-AEDC-E44C65A1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7B31B-AE20-4767-9306-347F003C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AF10E-F093-4627-8C2F-415974C2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FF496-3993-4FAB-967F-C79C120A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69AB9-5130-4C14-8F3D-133528BE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FD4-44B4-45B3-B09D-F051D1E4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D2F1A-2E3C-414A-BC72-11852888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D0FCB-9BA9-4EBB-8B5B-D5EDCE30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83C3B-4194-412E-B259-640028A6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7D341-7268-4610-A38B-FCB82052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9A1B9-B7A2-4B2C-9E22-8E8BC0F1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ED3DD-5C3F-43BE-9392-0C534CBD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870F7-B99E-4E86-AE64-51E89F82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92996-A3ED-4B5D-A48E-1B0B54F5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3E220-3B35-495F-A310-12ACFA48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E40B7-3C10-4174-9D99-83582CC9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3DC-9E1A-47D1-BE33-83922EF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EDBF3-066C-46DD-AAFD-8887D8E6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A0B8F-6C5F-4D55-AE16-8BC9BD95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41BE5-D434-4C6B-BB8F-746E037B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1DF7A-F391-4F18-9021-75182EE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84B03-8112-42EA-8F9B-0BAB18F2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B5A0D-2B4C-4198-BE59-D0F7C48A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A83F2-1141-48AD-BB3E-532C4071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70801-9A10-4C5E-A565-8167EA79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BEC0D-80CF-4CB4-A0D3-3C6461ED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5DEC6-F5A3-4E7D-9380-E874A1B9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630F-B6DE-4539-8A3F-95C72E49FE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12CB-C85B-439E-B2B7-AFAE10BCC7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0E8-07A4-4960-A30D-A1A95E611D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D2AF-EE56-4A26-8090-FB0E83C0AD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255C-B480-4726-A3F6-06D32CA677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1D17-9FB4-4F0E-9AFC-928FC22EDA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DDD0-A30D-4582-A2BD-DAB0DD1298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19D2-C123-4598-BFDB-6371C8FB2F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2DBB-7A99-44AA-BD69-95F5E617F0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6AAC-8AE4-48B7-8913-65AA88ECF5A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A7D0-0CD7-451A-AB62-CD97801ACD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79B6-7F00-49F4-8014-CA16CD94DF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952C-4CED-4B0D-9927-263C119A62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AC04-E2A7-43B6-BC98-04E8F64E53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7BEF-6FF0-4DB1-978F-29E48C36F2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0A42-064C-4269-9AD2-707FAF28B0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CE0A-EDED-4271-BFBB-315C30585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2C7E-CD85-4210-B089-B51471233D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F3C6-C7C7-4D7A-956F-4F1C1C6A75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E055-AAEA-4CA2-86D5-4F2036FC1D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FC2F-53B2-4F85-97CF-4B363ADC0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EA9-45C7-43A1-80C6-478BDCEDBF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A08F-7133-4EBD-A5B4-CF91D2BDA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74A3-1162-455A-90CA-2A2E210555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9ED4-4035-4233-A5FB-9871B9EC34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87631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2d050"/>
                </a:solidFill>
                <a:latin typeface="汉仪行楷繁"/>
                <a:ea typeface="汉仪行楷繁"/>
              </a:rPr>
              <a:t>一切为了孩子</a:t>
            </a:r>
            <a:br>
              <a:rPr sz="6000"/>
            </a:br>
            <a:r>
              <a:rPr b="0" lang="zh-CN" sz="6000" spc="-1" strike="noStrike">
                <a:solidFill>
                  <a:srgbClr val="92d050"/>
                </a:solidFill>
                <a:latin typeface="汉仪行楷繁"/>
                <a:ea typeface="汉仪行楷繁"/>
              </a:rPr>
              <a:t>做好孩子的护航使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5"/>
          <p:cNvSpPr txBox="1"/>
          <p:nvPr/>
        </p:nvSpPr>
        <p:spPr>
          <a:xfrm>
            <a:off x="1066680" y="1600200"/>
            <a:ext cx="670572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92d05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华文行楷"/>
              </a:rPr>
              <a:t>欢迎各位家长观临指导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92d050"/>
              </a:solidFill>
              <a:effectLst>
                <a:outerShdw dist="0" dir="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495680" y="60958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高一（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12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）班家长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2013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年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5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月</a:t>
            </a:r>
            <a:r>
              <a:rPr b="0" lang="en-US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8</a:t>
            </a:r>
            <a:r>
              <a:rPr b="0" lang="zh-CN" sz="1600" spc="-1" strike="noStrike">
                <a:solidFill>
                  <a:srgbClr val="92d050"/>
                </a:solidFill>
                <a:latin typeface="华文细黑"/>
                <a:ea typeface="华文细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教育需要社会 家庭 学校共同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我们对学生的关爱是火热的友情，沉静的了解、相互信任、共同享受和彼此了解；是互相取长补短承认孩子们的弱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孩子们的进步也是</a:t>
            </a:r>
            <a:r>
              <a:rPr b="1" lang="zh-CN" sz="3200" spc="-1" strike="noStrike">
                <a:solidFill>
                  <a:srgbClr val="ff0066"/>
                </a:solidFill>
                <a:latin typeface="汉仪行楷简"/>
                <a:ea typeface="汉仪行楷简"/>
              </a:rPr>
              <a:t>我们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我们</a:t>
            </a: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老师</a:t>
            </a:r>
            <a:r>
              <a:rPr b="1" lang="en-US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家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学生致家长的一封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1066320"/>
            <a:ext cx="5334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家，赐予我一座又一座路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父母永远不疲倦的向我期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古老而又永恒的关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有时，父母的手送我一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有时，父母的心送我一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其实送与不送都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早已经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无论是刮风下雨，还是冰天雪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都以是你心头的牵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在岁月的风雨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我会带着感恩和虔诚为您祝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琥珀"/>
              </a:rPr>
              <a:t>谢谢您的支持，祝您工作顺利</a:t>
            </a:r>
            <a:br>
              <a:rPr sz="4800"/>
            </a:b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琥珀"/>
              </a:rPr>
              <a:t>生活愉快，再见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汉仪方隶简"/>
                <a:ea typeface="汉仪方隶简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1 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校领导讲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2 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期中考试成绩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生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对您的几点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针对您孩子的情况反馈您的意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学生致家长的一封信及您对孩子的鼓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班级情况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           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本班共有</a:t>
            </a: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69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学生，期中</a:t>
            </a:r>
            <a:r>
              <a:rPr b="1" lang="en-US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38</a:t>
            </a:r>
            <a:r>
              <a:rPr b="1" lang="zh-CN" sz="3200" spc="-1" strike="noStrike">
                <a:solidFill>
                  <a:srgbClr val="cc0000"/>
                </a:solidFill>
                <a:latin typeface="华文行楷"/>
                <a:ea typeface="华文行楷"/>
              </a:rPr>
              <a:t>位女生，入学成绩相差较大。学生来源以敦化市为主，也有周边县市的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WordArt 5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2598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期中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理科参加考试人数：</a:t>
            </a:r>
            <a:r>
              <a:rPr b="0" lang="en-US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14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各科平均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0" y="2743200"/>
          <a:ext cx="8839080" cy="1293840"/>
        </p:xfrm>
        <a:graphic>
          <a:graphicData uri="http://schemas.openxmlformats.org/drawingml/2006/table">
            <a:tbl>
              <a:tblPr/>
              <a:tblGrid>
                <a:gridCol w="1787400"/>
                <a:gridCol w="933480"/>
                <a:gridCol w="1011240"/>
                <a:gridCol w="916200"/>
                <a:gridCol w="1143000"/>
                <a:gridCol w="990360"/>
                <a:gridCol w="9907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文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级平均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班级各科最高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895840"/>
                <a:gridCol w="312408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科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学生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宋义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杨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曲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宋义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沈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欧阳博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文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沈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华文行楷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华文行楷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067680" cy="6705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表现优秀的同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王岩、魏子策、李慧、夏文静、邢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班级前十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沈威、欧阳博宇、杨杰、李伟晨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迟玉婷、李振华、王雪冰、孟凡博、张轩、李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班级进步较快的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行楷"/>
              </a:rPr>
              <a:t>: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王艺霖、赵健、代安妮，祁若男、丁梦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吴柳虎、魏子策、张轩、姜博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邢宇、张轩、宋金明、夏文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本学期出勤良好的同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沈威、欧阳博宇、杨杰、李振华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孟凡博、李慧、宋义双、郭连东、曲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8"/>
          <p:cNvSpPr/>
          <p:nvPr/>
        </p:nvSpPr>
        <p:spPr>
          <a:xfrm>
            <a:off x="6337440" y="3295800"/>
            <a:ext cx="208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  <a:ea typeface="宋体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教子宝典康熙年间就有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生不败宝典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规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W020100929372548913723"/>
          <p:cNvPicPr/>
          <p:nvPr/>
        </p:nvPicPr>
        <p:blipFill>
          <a:blip r:embed="rId10"/>
          <a:stretch/>
        </p:blipFill>
        <p:spPr>
          <a:xfrm>
            <a:off x="5715000" y="1600200"/>
            <a:ext cx="3232080" cy="41148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1690920" y="609120"/>
            <a:ext cx="49456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总纲： 弟子规 圣人训 首孝悌 次谨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泛爱众 而亲仁 有余力 则学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1066680" y="3241800"/>
            <a:ext cx="43434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首先，在日常生活中要做到孝敬父母，友爱兄弟姐妹，其次一切言行中，要谨慎，要讲信用；和大众交往时要平等仁和，要时常亲近有仁德的人，向他学习 。以上这些事是学习的根本，非做不可。如果做了还有余遐，更应努力的学习礼、乐、射、御、书、术等六艺，各种经典，以及其他有益的学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04920" y="5956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通过细节改变习惯 再改变性格 从而改变命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学生存在的一些问题及给您的几点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-360" y="57913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5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空挡时间安排不合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1295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少数同学没从根本上认识到学习的重要性，课堂不能集中注意力好好听课，在课堂还玩心十足，上课思路不能跟着老师走，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听讲效率不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0" y="2666880"/>
            <a:ext cx="8839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学习上相当一部分同学存在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懒学情绪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学习不主动，有一些同学根本不会自主学习，学习根本没有压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0" y="3733920"/>
            <a:ext cx="9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校园携带手机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上课发信息，上网，看小说，百害而无一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0" y="457200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良的行为习惯，主要表现在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早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穿着打扮不得体，不讲文明礼貌，缺少认识错误的心理承受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早恋的危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1781640" y="152316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当前高中校园早恋问题日趋严重，并呈现五个鲜明特征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380880" y="2559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1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行为公开化。以前学生恋爱是小偷式地下活动，而今学生恋爱毫无顾忌。他们之间的称呼也令人吃惊，“老婆，过来一下”、“老公，我先去点菜”，类似的语言在校园常能听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713040" y="33519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动作神速化。入学一个月后，高一学生早恋状况，每个班都不同程度地存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3567240" y="403776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方式信息化。利用手机、现代通讯工具表达爱意，或利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谈情说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4003560" y="46476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恋爱联盟化。几对人集体行动，同时约会、同场所举止亲昵，形成恋爱同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380880" y="56840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后果疯狂化。处理早恋问题成了学校、班主任花精力最大、效果最不明显的工作。不少学校处理方法比较简单，往往是发现问题后严肃批评，通报处分，告诉家长，直至退学。这些传统方法收效甚微，甚至造成严重后果。所以，如何科学地正确地应对高中学生早恋是摆在学校、家庭面前的急待解决的问题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09T02:04:2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