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9.png" ContentType="image/png"/>
  <Override PartName="/ppt/media/image20.png" ContentType="image/png"/>
  <Override PartName="/ppt/media/image7.jpeg" ContentType="image/jpeg"/>
  <Override PartName="/ppt/media/image28.jpeg" ContentType="image/jpeg"/>
  <Override PartName="/ppt/media/camera.wav" ContentType="audio/x-wav"/>
  <Override PartName="/ppt/media/image16.png" ContentType="image/png"/>
  <Override PartName="/ppt/media/image21.jpeg" ContentType="image/jpeg"/>
  <Override PartName="/ppt/media/chimes.wav" ContentType="audio/x-wav"/>
  <Override PartName="/ppt/media/image5.png" ContentType="image/png"/>
  <Override PartName="/ppt/media/image8.jpeg" ContentType="image/jpeg"/>
  <Override PartName="/ppt/media/image29.jpeg" ContentType="image/jpeg"/>
  <Override PartName="/ppt/media/image27.png" ContentType="image/png"/>
  <Override PartName="/ppt/media/image12.wmf" ContentType="image/x-wmf"/>
  <Override PartName="/ppt/media/image6.jpeg" ContentType="image/jpeg"/>
  <Override PartName="/ppt/media/image30.jpeg" ContentType="image/jpeg"/>
  <Override PartName="/ppt/media/image13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8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E6B-5224-4BCA-8FD7-2291EA35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D83-2BFE-4A14-B87F-138E1CD7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5BCA2-ADFA-46F5-925C-1CB908F8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DEF3C-EF9F-4D7C-8594-8A55BA41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82A2D-6C40-43EA-A9CA-4AE6905E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39488-885C-4E09-A5EB-B979886D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50373-9F4A-4F49-AE78-0FBF321D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F0144-EAC8-4E72-8D41-04B2340D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CE4A9-AB4B-41B7-9EC2-D8F635BB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D8A37-4DD9-4D86-BE58-810EE62C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23361-B43E-46B0-AACA-153F5F62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68093-9D18-407D-899C-7C8B1EE8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F83-6713-4185-93A5-1876383D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B1F9B-21C6-49FF-A1F9-DEBABEC1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4F00B-5C44-406B-8BA3-B36A9946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85170-9089-4C40-B315-D1BBD712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7CDD7-5073-4E34-8834-134D64B6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98183-9179-4E0B-BF90-5BEB0EC3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1535C-26B2-4761-9B94-CA3A5D08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7670B-76DA-47A9-9E90-D8EB31DA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3F3C6-716C-4EE8-A220-9E4C8560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AC9DE-7143-4FB0-9E96-97DE6806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7AD8C-E78B-45C2-89A2-2AC82667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DE3-168D-4257-8EE2-2681FAAC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6818E-648E-4508-86D0-8C8CCA25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7DF4B-464D-4D95-80A4-5981E7EF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64E85-4938-4669-B459-692FC27E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45F7B-E3F9-4812-842A-03987B5A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C52C9-F253-4C11-ADEB-08D2C797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9F899-FA9B-491F-A56D-C473AA42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8D0A2-E0D3-4A1B-BC2B-EFC3751D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2FB31-0DF4-452E-8731-F76B9255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ED2D8-E062-462D-9545-C95770F0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123FD-78BF-44E1-BCB2-13ADF038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94E7-A3DF-4859-942A-9D532070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B975C-34B3-4790-9026-2667B835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E3C14-B68F-4B8B-B6DB-7BC76C95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2D3DB-61F2-4BCF-9297-C799D551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7245C-1216-4C82-A661-18046CEA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40540-F368-4B60-AA09-6DF9B834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C28AE-EB55-40F4-9755-79150B72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C0781-C7E2-468D-8A24-EB4E1015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BE3AF-2292-496C-8754-EC8A54FE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C122D-A2B6-47B4-A5FD-842A99CF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E29CB-61AA-477A-8B9B-6D6D7040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157E-D5D2-49BA-BC63-510B8120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C52C1-24EA-433D-B4FF-D2E1A8D0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B7A7F-7207-4069-A044-B7383330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89A79-F868-4A9F-BD4B-750A30E0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FD043-8401-4A3B-8E24-A74D6DED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B6E10-2C5A-42A7-BD87-1670B9D7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D5257-CBA4-4069-9EA9-3BE1495C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69278-F08A-45DC-997B-E7E0FABE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74231-C7C4-459C-95FD-CD98E84A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3603A-3564-48B6-A8C3-7ED5E909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7CBED-CD52-4BEE-AE29-26B9C1D7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E449-E15C-4ED1-9A0E-6FA64DA1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5259E-7D69-4C2B-81A4-49C0D563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9EA64-534A-4FE5-B09B-7CB117B6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DEE8E-6DEC-4DCC-8921-5B994D05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8B791-78F4-4677-AE93-EDA9B552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177DB-530B-4F46-AE7F-3137C4CE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5235E-A003-47D2-ABCC-78FA4AAF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9D2F8-4688-4378-8C76-B8C7F941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C351B2-96D4-44A1-B2C4-E5497D4E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A9D20B-3AC3-4197-B714-B0F9230D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9018B1-6827-4833-9D7D-6AC07024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EF0A-9D5E-43F3-94B9-DCCF3EF8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A6EF5-6846-4CC4-9CE1-F1EAECED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128E9-ECF9-48DD-AE9F-BCD3AD75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A9E5A-A1EF-434D-8FF6-4125A14A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C8A8F-30C5-4170-AA94-4A425AC1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531DB7-3530-4DDB-A316-547E6440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72D69-AFBF-47A5-A2F1-D9358A3A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22F92-E8EF-4B07-AE6E-0C0BE80C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0D010-96C2-435F-9D41-3BDF138E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5F3CEA-FD8C-4097-B34C-B74EDE1E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C212-1458-4F8C-B5BD-5E95482F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D06E-512F-4325-8250-63CC535A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6455-0BD7-414D-A3A0-4B7C387C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813-1255-485E-B5F3-472D689C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5CF5-01DA-4725-B1ED-CFE7E476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1EF1-3F7E-4230-8ACC-3CAE479C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B19C-AC9B-4112-BC4F-A79D4C2D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A167-A40D-4D33-B3D0-97DBA556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8713-7208-4083-864C-2827DBD8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1C598-7CF4-482C-BA22-311B5549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48B58-2F1C-4842-B461-2BAE5237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ADE6-D640-46CB-B14A-CA5B5A12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EA64-BB70-4086-AE5B-17AE57EB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0CFE1-725D-4EBA-A130-B7415BBB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68D-0B4D-4FA4-A238-B39D1285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3118-F111-4044-9FC3-2DA82D54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D556-F279-4E11-9BC6-D3461908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8602-F082-4AEB-8CF6-4C1FCFB5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E9B3C-69F2-4717-9F25-6E3B5344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2B46-8E2E-4336-9D6A-FEA9A701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53D2E-0584-4B39-88BC-3E428A3D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67621-AE70-4062-9844-F85C845D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EB4F3-75B3-4671-B8D4-626B58BE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0F40-55C4-41D4-AF31-2C62776B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D4785-64C8-44A9-A14B-9B1C5B44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4D6-A5F1-4453-9E8C-DF737B9D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04520-ADF1-41EF-8A5D-07100B63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9A413-1DDA-4CCC-AC20-5382EB9C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F227F-A42B-4F21-9426-ACE34DCE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E1F69-CD8A-40E0-9C3A-FF509774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EC572-A28F-4E6F-A644-5E182F6A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A9B9A-3FE9-4876-AA08-2CB58F01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E6959-AF65-4EF1-ABB6-2DE8824C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AFDCA-444D-495E-A8B0-4A1D5FED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31206-E631-489B-902A-C9930EAD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0E342-836E-4C81-9024-C922E1E6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897-3AF3-4651-B3C9-B9FB6D52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7D27B-F0EB-42DF-8DF4-15794F0C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A2938-31EF-474A-BCD4-B7CA4B75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94AB5-411B-4860-894E-B017B674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57748-8CAF-46F4-8666-4CC8301C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048A2-3958-4100-995C-B122124B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25867-B688-47F4-807E-B6A2DCB5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793C2-9397-4CE8-9FEF-8AF269E2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C22B5-3861-47F8-9DE4-CA8FC1CD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1ED04-9795-45BF-93A8-48388FA6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B3643-5F67-4208-A18B-57E8AF97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6DB-C3A5-4EA3-A61B-7CB7CC70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006C9-7032-467B-8B94-CD5FE418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1D8CC-0E79-4E0B-AFB4-719EC30E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72D2E-46F5-46D1-817E-37C963C4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577D6-4558-40AA-8AD0-80B91C6A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25AEC-6638-42FB-B1AA-3910221B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E9F89-FB6B-4BFD-A22E-797C4D91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8079C-8F68-48D5-B0BE-B26B3678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EDF48-EB11-476F-AC04-38E3F751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CE1CC-8B3C-4718-9ED8-CA36AB26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EF1CA-97B0-47B1-A73D-09243DB6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A3D-9245-4621-99A1-5089F4B5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21A7C-EC2A-4CA1-BD1A-4899B935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D4B34-7901-4A87-8B28-825C425A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3406C-6405-48D3-B59A-3624DFA7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64823-B519-4C4A-8C24-980EEFEC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192E6-C3D3-4FFB-A3E6-7514BEEA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9C66C-0D65-4FC4-A536-3DBBAEFA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1A1A7-B1A8-48BB-AAA6-A0CD789D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7DDA8-5DB5-4C4B-9E56-3073D9DF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987FC-DF4E-49B1-8049-FBD5181E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C7B70-00E8-479F-A48F-5D6222A6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20F-0DAF-4F43-8BB8-85EC6692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35C4A-6C4C-44FD-942A-F03E1C3F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D2CD1-C2E7-415B-8208-213421A4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14317-877D-4294-B308-1CB73F57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27B7C-37BA-424D-B9BD-14420FF8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22169-6BA2-4594-886C-389C580A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BA7BF-73ED-4F07-856C-6BB3FE48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16CCB-63D9-41FB-B0A4-EC256AD6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42013-4B05-43F4-A1C6-2C469929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A5351-DB43-401D-864D-EADCABD5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211E8-A204-4E54-90CB-9EF85B61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063-95EB-42F4-98D3-B940BE0A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4BF13-7246-4419-9484-F6112C1B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95081-2AF3-4CFE-BB14-402EBFD3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7D7BE-2C2C-4E83-8FF4-6C44E21B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DC94A-64AF-4507-834C-C87555E4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3A13F-4D2B-450A-8166-B2E690EF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B5E39-BDD1-42DA-8E66-AF2E1209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FBD7B-73D9-42BD-8ED1-4C017F55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64024-0171-4F7F-8543-95AB224E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A898E-54F9-4D0C-914B-1FCAD879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D8819-9EDB-4F42-AC62-9FA78A80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thers 3-2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EB25-3187-495F-8383-67F2BECED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20D4-D364-46DB-ABE7-256C5F368BE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99D4-46B3-45D2-A47A-48E399B5E60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9E23-E1F3-4A05-94CD-EE9ED12D5AB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ACA8-5578-45C5-AE9B-36AD123CF06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0149-C2E2-46C0-99E5-D44C37D251B1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98A7-D729-4383-9DE3-69EF601B01F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5CCC-C8F0-4C03-B921-7EE00EDDF957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8E5A-4922-49A6-AE2A-EB8ED2CB340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4D1B-6F49-4CA8-80FE-38BE45AC8629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AE62-C2F8-4403-BB7F-069DC85E037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1DF3-890F-445B-B196-2C37B4FA90C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0002-2772-4CD0-9A37-B1B345596A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other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EXPHORSA"/>
          <p:cNvPicPr/>
          <p:nvPr/>
        </p:nvPicPr>
        <p:blipFill>
          <a:blip r:embed="rId3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4875-0BA0-4F59-ABA8-356292DBE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7BA3-F091-448B-9602-2D19BAF79645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C880-C7E7-40F3-9B4D-9B6C55E54630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3324-F7CD-413A-8264-38110EE069B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74DA-42E6-42D6-AE59-D91A7FB4280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8F2A-E533-4F48-99EB-CC113BFDEA7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3628-62B6-468D-8E6E-A23A98F4368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46E8-212E-4208-B260-31A54BA7B347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2098-A909-49DC-9559-2D74C64B2A3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A1C8-C881-42D2-B168-99A63826AE7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E65F-8B5D-42FC-8B5A-6B772F7E1E0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885A-42D0-4F1C-B6CF-52226065CAB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36FA-6DE5-4DE1-9FCD-A9CB0EE7430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6"/>
          <p:cNvSpPr/>
          <p:nvPr/>
        </p:nvSpPr>
        <p:spPr>
          <a:xfrm>
            <a:off x="468360" y="8334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什么是杠杆的平衡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684360" y="14986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当杠杆在动力和阻力的作用下静止时，或作匀速转动时，我们说杠杆平衡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273960" y="18576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复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468360" y="2492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杠杆两端有两只可调节的螺母，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起什么作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425520" y="3716280"/>
            <a:ext cx="82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为什么要求杠杆静止时，在水平位置呢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3780000" y="3068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新魏"/>
              </a:rPr>
              <a:t>作用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新魏"/>
              </a:rPr>
              <a:t>调节杠杆自身的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468360" y="4724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为了直接读出力臂的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324000" y="53197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４．杠杆的平衡条件是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1332000" y="6021360"/>
            <a:ext cx="4897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75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75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4" name=""/>
          <p:cNvGraphicFramePr/>
          <p:nvPr/>
        </p:nvGraphicFramePr>
        <p:xfrm>
          <a:off x="76320" y="1459080"/>
          <a:ext cx="9067680" cy="5160960"/>
        </p:xfrm>
        <a:graphic>
          <a:graphicData uri="http://schemas.openxmlformats.org/drawingml/2006/table">
            <a:tbl>
              <a:tblPr/>
              <a:tblGrid>
                <a:gridCol w="1752480"/>
                <a:gridCol w="1965240"/>
                <a:gridCol w="1920960"/>
                <a:gridCol w="182880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杠杆类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杠杆特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杠杆优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杠杆缺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应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省力杠杆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费力杠杆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臂杠杆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WordArt 33"/>
          <p:cNvSpPr txBox="1"/>
          <p:nvPr/>
        </p:nvSpPr>
        <p:spPr>
          <a:xfrm>
            <a:off x="0" y="0"/>
            <a:ext cx="15476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归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36" name="Rectangle 34"/>
          <p:cNvSpPr/>
          <p:nvPr/>
        </p:nvSpPr>
        <p:spPr>
          <a:xfrm>
            <a:off x="1828800" y="1916280"/>
            <a:ext cx="19051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动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阻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809880" y="2192400"/>
          <a:ext cx="3749760" cy="4390920"/>
        </p:xfrm>
        <a:graphic>
          <a:graphicData uri="http://schemas.openxmlformats.org/drawingml/2006/table">
            <a:tbl>
              <a:tblPr/>
              <a:tblGrid>
                <a:gridCol w="1920960"/>
                <a:gridCol w="1828800"/>
              </a:tblGrid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省力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费距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省距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费力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既不省力也不省距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8" name="Rectangle 48"/>
          <p:cNvSpPr/>
          <p:nvPr/>
        </p:nvSpPr>
        <p:spPr>
          <a:xfrm>
            <a:off x="1905120" y="3516480"/>
            <a:ext cx="190476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动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阻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49"/>
          <p:cNvSpPr/>
          <p:nvPr/>
        </p:nvSpPr>
        <p:spPr>
          <a:xfrm>
            <a:off x="1828800" y="5116680"/>
            <a:ext cx="19051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动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阻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51" descr="09"/>
          <p:cNvPicPr/>
          <p:nvPr/>
        </p:nvPicPr>
        <p:blipFill>
          <a:blip r:embed="rId1"/>
          <a:stretch/>
        </p:blipFill>
        <p:spPr>
          <a:xfrm>
            <a:off x="7524720" y="2205000"/>
            <a:ext cx="1619280" cy="11937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52" descr="12"/>
          <p:cNvPicPr/>
          <p:nvPr/>
        </p:nvPicPr>
        <p:blipFill>
          <a:blip r:embed="rId2"/>
          <a:stretch/>
        </p:blipFill>
        <p:spPr>
          <a:xfrm>
            <a:off x="7524720" y="3645000"/>
            <a:ext cx="1619280" cy="13096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53" descr="05"/>
          <p:cNvPicPr/>
          <p:nvPr/>
        </p:nvPicPr>
        <p:blipFill>
          <a:blip r:embed="rId3"/>
          <a:stretch/>
        </p:blipFill>
        <p:spPr>
          <a:xfrm>
            <a:off x="7524720" y="5300640"/>
            <a:ext cx="1619280" cy="10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WordArt 6"/>
          <p:cNvSpPr txBox="1"/>
          <p:nvPr/>
        </p:nvSpPr>
        <p:spPr>
          <a:xfrm>
            <a:off x="0" y="0"/>
            <a:ext cx="83808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684360" y="357336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杠杆的种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省力杠杆、费力杠杆、等臂杠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19"/>
          <p:cNvSpPr/>
          <p:nvPr/>
        </p:nvSpPr>
        <p:spPr>
          <a:xfrm>
            <a:off x="684360" y="1557360"/>
            <a:ext cx="63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杠杆平衡条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F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l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= F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l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动力</a:t>
            </a: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动力臂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阻力</a:t>
            </a: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阻力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457200" y="1295280"/>
            <a:ext cx="82296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两个力作用在杠杆两端使杠杆平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这两个力的大小必须相等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这两个力的力臂长必须相等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力臂较长的那个力比较大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力臂较长的那个力比较小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要使右图杠杆保持平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最省力的方向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WordArt 3"/>
          <p:cNvSpPr txBox="1"/>
          <p:nvPr/>
        </p:nvSpPr>
        <p:spPr>
          <a:xfrm>
            <a:off x="304920" y="457200"/>
            <a:ext cx="2682720" cy="138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88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课堂练习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7170840" y="534672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5"/>
          <p:cNvSpPr/>
          <p:nvPr/>
        </p:nvSpPr>
        <p:spPr>
          <a:xfrm flipH="1" flipV="1">
            <a:off x="6865560" y="4203360"/>
            <a:ext cx="30492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6"/>
          <p:cNvSpPr/>
          <p:nvPr/>
        </p:nvSpPr>
        <p:spPr>
          <a:xfrm>
            <a:off x="8161200" y="534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7"/>
          <p:cNvSpPr/>
          <p:nvPr/>
        </p:nvSpPr>
        <p:spPr>
          <a:xfrm flipV="1">
            <a:off x="6256440" y="4203360"/>
            <a:ext cx="609480" cy="2286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8"/>
          <p:cNvSpPr/>
          <p:nvPr/>
        </p:nvSpPr>
        <p:spPr>
          <a:xfrm flipH="1" flipV="1">
            <a:off x="6713280" y="3593880"/>
            <a:ext cx="15228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9"/>
          <p:cNvSpPr/>
          <p:nvPr/>
        </p:nvSpPr>
        <p:spPr>
          <a:xfrm>
            <a:off x="6865920" y="4203720"/>
            <a:ext cx="11160" cy="109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10"/>
          <p:cNvSpPr/>
          <p:nvPr/>
        </p:nvSpPr>
        <p:spPr>
          <a:xfrm flipH="1">
            <a:off x="6865560" y="420372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11"/>
          <p:cNvSpPr/>
          <p:nvPr/>
        </p:nvSpPr>
        <p:spPr>
          <a:xfrm>
            <a:off x="8008920" y="5880240"/>
            <a:ext cx="380880" cy="3045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6014160" y="42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3"/>
          <p:cNvSpPr/>
          <p:nvPr/>
        </p:nvSpPr>
        <p:spPr>
          <a:xfrm>
            <a:off x="6404040" y="3441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14"/>
          <p:cNvSpPr/>
          <p:nvPr/>
        </p:nvSpPr>
        <p:spPr>
          <a:xfrm>
            <a:off x="658980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15"/>
          <p:cNvSpPr/>
          <p:nvPr/>
        </p:nvSpPr>
        <p:spPr>
          <a:xfrm>
            <a:off x="7401600" y="3822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7"/>
          <p:cNvSpPr/>
          <p:nvPr/>
        </p:nvSpPr>
        <p:spPr>
          <a:xfrm rot="20562600">
            <a:off x="6789240" y="421596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18"/>
          <p:cNvSpPr/>
          <p:nvPr/>
        </p:nvSpPr>
        <p:spPr>
          <a:xfrm>
            <a:off x="6865920" y="4203720"/>
            <a:ext cx="763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9"/>
          <p:cNvSpPr/>
          <p:nvPr/>
        </p:nvSpPr>
        <p:spPr>
          <a:xfrm>
            <a:off x="6927840" y="515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20"/>
          <p:cNvSpPr/>
          <p:nvPr/>
        </p:nvSpPr>
        <p:spPr>
          <a:xfrm>
            <a:off x="7264080" y="134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21"/>
          <p:cNvSpPr/>
          <p:nvPr/>
        </p:nvSpPr>
        <p:spPr>
          <a:xfrm>
            <a:off x="349380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250920" y="119700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：动力和阻力可以人为规定。（     ）                   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重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物体分别挂在杠杆的两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杠杆平衡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端的长度之比是＿＿＿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WordArt 3"/>
          <p:cNvSpPr txBox="1"/>
          <p:nvPr/>
        </p:nvSpPr>
        <p:spPr>
          <a:xfrm>
            <a:off x="304920" y="457200"/>
            <a:ext cx="2682720" cy="138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88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课堂练习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223920" y="2951640"/>
            <a:ext cx="89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、各式各样的剪刀都是一对杠杆．要剪开较硬的物体，使用哪种剪刀最合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(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1"/>
          <a:stretch/>
        </p:blipFill>
        <p:spPr>
          <a:xfrm>
            <a:off x="0" y="4294080"/>
            <a:ext cx="1728720" cy="5605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6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2160360" cy="6811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7" descr=""/>
          <p:cNvPicPr/>
          <p:nvPr/>
        </p:nvPicPr>
        <p:blipFill>
          <a:blip r:embed="rId3"/>
          <a:stretch/>
        </p:blipFill>
        <p:spPr>
          <a:xfrm>
            <a:off x="4500720" y="4294080"/>
            <a:ext cx="2232000" cy="62244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8" descr=""/>
          <p:cNvPicPr/>
          <p:nvPr/>
        </p:nvPicPr>
        <p:blipFill>
          <a:blip r:embed="rId4"/>
          <a:stretch/>
        </p:blipFill>
        <p:spPr>
          <a:xfrm>
            <a:off x="6983280" y="4294080"/>
            <a:ext cx="2160720" cy="687600"/>
          </a:xfrm>
          <a:prstGeom prst="rect">
            <a:avLst/>
          </a:prstGeom>
          <a:ln w="0">
            <a:noFill/>
          </a:ln>
        </p:spPr>
      </p:pic>
      <p:sp>
        <p:nvSpPr>
          <p:cNvPr id="772" name="Rectangle 9"/>
          <p:cNvSpPr/>
          <p:nvPr/>
        </p:nvSpPr>
        <p:spPr>
          <a:xfrm>
            <a:off x="1573200" y="4867920"/>
            <a:ext cx="59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     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    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    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0"/>
          <p:cNvSpPr/>
          <p:nvPr/>
        </p:nvSpPr>
        <p:spPr>
          <a:xfrm>
            <a:off x="7209000" y="107172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1"/>
          <p:cNvSpPr/>
          <p:nvPr/>
        </p:nvSpPr>
        <p:spPr>
          <a:xfrm>
            <a:off x="5581080" y="2133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3: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12"/>
          <p:cNvSpPr/>
          <p:nvPr/>
        </p:nvSpPr>
        <p:spPr>
          <a:xfrm>
            <a:off x="6616440" y="350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8"/>
          <p:cNvSpPr/>
          <p:nvPr/>
        </p:nvSpPr>
        <p:spPr>
          <a:xfrm>
            <a:off x="250920" y="126792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右图为人的上肢图解，此时手托着质量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克的物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肱二头肌收缩时所承受的力为（    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顿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顿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12" descr="图片1"/>
          <p:cNvPicPr/>
          <p:nvPr/>
        </p:nvPicPr>
        <p:blipFill>
          <a:blip r:embed="rId1"/>
          <a:stretch/>
        </p:blipFill>
        <p:spPr>
          <a:xfrm>
            <a:off x="3019320" y="4000680"/>
            <a:ext cx="6124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0" y="0"/>
            <a:ext cx="9325080" cy="155628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．如图所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某同学在做俯卧撑运动。可将他视为一个杠杆。他的重心在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重力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牛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那么他将身体撑起，双手对地面的压力至少＿＿＿  。若他在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分钟内做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个俯卧撑，每次肩部上升的距离均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0.4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米，则他的功率至少为＿＿＿瓦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4"/>
          <p:cNvSpPr/>
          <p:nvPr/>
        </p:nvSpPr>
        <p:spPr>
          <a:xfrm>
            <a:off x="6119640" y="907920"/>
            <a:ext cx="13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5868720" y="1916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Picture 6" descr="P1060711"/>
          <p:cNvPicPr/>
          <p:nvPr/>
        </p:nvPicPr>
        <p:blipFill>
          <a:blip r:embed="rId1"/>
          <a:stretch/>
        </p:blipFill>
        <p:spPr>
          <a:xfrm>
            <a:off x="1403280" y="2565360"/>
            <a:ext cx="5761080" cy="4316400"/>
          </a:xfrm>
          <a:prstGeom prst="rect">
            <a:avLst/>
          </a:prstGeom>
          <a:ln w="0">
            <a:noFill/>
          </a:ln>
        </p:spPr>
      </p:pic>
      <p:sp>
        <p:nvSpPr>
          <p:cNvPr id="782" name="AutoShape 7">
            <a:hlinkClick r:id="" action="ppaction://hlinkshowjump?jump=endshow"/>
          </p:cNvPr>
          <p:cNvSpPr/>
          <p:nvPr/>
        </p:nvSpPr>
        <p:spPr>
          <a:xfrm>
            <a:off x="7885080" y="6021360"/>
            <a:ext cx="1258920" cy="836640"/>
          </a:xfrm>
          <a:custGeom>
            <a:avLst/>
            <a:gdLst>
              <a:gd name="textAreaLeft" fmla="*/ 54000 w 1258920"/>
              <a:gd name="textAreaRight" fmla="*/ 1204920 w 1258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2498" h="21600">
                <a:moveTo>
                  <a:pt x="0" y="0"/>
                </a:moveTo>
                <a:lnTo>
                  <a:pt x="32498" y="0"/>
                </a:lnTo>
                <a:lnTo>
                  <a:pt x="32498" y="21600"/>
                </a:lnTo>
                <a:lnTo>
                  <a:pt x="0" y="21600"/>
                </a:lnTo>
                <a:close/>
              </a:path>
              <a:path fill="lightenLess" w="32498" h="21600">
                <a:moveTo>
                  <a:pt x="0" y="0"/>
                </a:moveTo>
                <a:lnTo>
                  <a:pt x="32498" y="0"/>
                </a:lnTo>
                <a:lnTo>
                  <a:pt x="31098" y="1400"/>
                </a:lnTo>
                <a:lnTo>
                  <a:pt x="1400" y="1400"/>
                </a:lnTo>
                <a:close/>
              </a:path>
              <a:path fill="darken" w="32498" h="21600">
                <a:moveTo>
                  <a:pt x="32498" y="0"/>
                </a:moveTo>
                <a:lnTo>
                  <a:pt x="32498" y="21600"/>
                </a:lnTo>
                <a:lnTo>
                  <a:pt x="31098" y="20200"/>
                </a:lnTo>
                <a:lnTo>
                  <a:pt x="31098" y="1400"/>
                </a:lnTo>
                <a:close/>
              </a:path>
              <a:path fill="darkenLess" w="32498" h="21600">
                <a:moveTo>
                  <a:pt x="32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98" y="20200"/>
                </a:lnTo>
                <a:close/>
              </a:path>
              <a:path fill="lighten" w="32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69"/>
          <p:cNvGrpSpPr/>
          <p:nvPr/>
        </p:nvGrpSpPr>
        <p:grpSpPr>
          <a:xfrm>
            <a:off x="0" y="3284640"/>
            <a:ext cx="5435640" cy="3384360"/>
            <a:chOff x="0" y="3284640"/>
            <a:chExt cx="5435640" cy="3384360"/>
          </a:xfrm>
        </p:grpSpPr>
        <p:grpSp>
          <p:nvGrpSpPr>
            <p:cNvPr id="587" name="Group 66"/>
            <p:cNvGrpSpPr/>
            <p:nvPr/>
          </p:nvGrpSpPr>
          <p:grpSpPr>
            <a:xfrm>
              <a:off x="0" y="3284640"/>
              <a:ext cx="5435640" cy="2880000"/>
              <a:chOff x="0" y="3284640"/>
              <a:chExt cx="5435640" cy="2880000"/>
            </a:xfrm>
          </p:grpSpPr>
          <p:sp>
            <p:nvSpPr>
              <p:cNvPr id="588" name="Line 7"/>
              <p:cNvSpPr/>
              <p:nvPr/>
            </p:nvSpPr>
            <p:spPr>
              <a:xfrm flipV="1">
                <a:off x="1979640" y="3284640"/>
                <a:ext cx="3456000" cy="26301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AutoShape 9"/>
              <p:cNvSpPr/>
              <p:nvPr/>
            </p:nvSpPr>
            <p:spPr>
              <a:xfrm>
                <a:off x="2440080" y="5476680"/>
                <a:ext cx="406440" cy="437760"/>
              </a:xfrm>
              <a:prstGeom prst="triangle">
                <a:avLst>
                  <a:gd name="adj" fmla="val 50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" name="Group 65"/>
              <p:cNvGrpSpPr/>
              <p:nvPr/>
            </p:nvGrpSpPr>
            <p:grpSpPr>
              <a:xfrm>
                <a:off x="454680" y="4415400"/>
                <a:ext cx="2054520" cy="1716120"/>
                <a:chOff x="454680" y="4415400"/>
                <a:chExt cx="2054520" cy="1716120"/>
              </a:xfrm>
            </p:grpSpPr>
            <p:sp>
              <p:nvSpPr>
                <p:cNvPr id="591" name="Freeform 8"/>
                <p:cNvSpPr/>
                <p:nvPr/>
              </p:nvSpPr>
              <p:spPr>
                <a:xfrm rot="424800">
                  <a:off x="539640" y="4525560"/>
                  <a:ext cx="1884600" cy="1495080"/>
                </a:xfrm>
                <a:custGeom>
                  <a:avLst/>
                  <a:gdLst/>
                  <a:ahLst/>
                  <a:rect l="l" t="t" r="r" b="b"/>
                  <a:pathLst>
                    <a:path w="973" h="750">
                      <a:moveTo>
                        <a:pt x="0" y="733"/>
                      </a:moveTo>
                      <a:cubicBezTo>
                        <a:pt x="5" y="623"/>
                        <a:pt x="7" y="513"/>
                        <a:pt x="15" y="403"/>
                      </a:cubicBezTo>
                      <a:cubicBezTo>
                        <a:pt x="17" y="368"/>
                        <a:pt x="18" y="331"/>
                        <a:pt x="30" y="298"/>
                      </a:cubicBezTo>
                      <a:cubicBezTo>
                        <a:pt x="65" y="202"/>
                        <a:pt x="165" y="148"/>
                        <a:pt x="255" y="118"/>
                      </a:cubicBezTo>
                      <a:cubicBezTo>
                        <a:pt x="301" y="119"/>
                        <a:pt x="751" y="0"/>
                        <a:pt x="870" y="178"/>
                      </a:cubicBezTo>
                      <a:cubicBezTo>
                        <a:pt x="928" y="265"/>
                        <a:pt x="829" y="186"/>
                        <a:pt x="930" y="253"/>
                      </a:cubicBezTo>
                      <a:cubicBezTo>
                        <a:pt x="961" y="346"/>
                        <a:pt x="973" y="419"/>
                        <a:pt x="885" y="478"/>
                      </a:cubicBezTo>
                      <a:cubicBezTo>
                        <a:pt x="870" y="501"/>
                        <a:pt x="817" y="592"/>
                        <a:pt x="780" y="613"/>
                      </a:cubicBezTo>
                      <a:cubicBezTo>
                        <a:pt x="718" y="647"/>
                        <a:pt x="637" y="650"/>
                        <a:pt x="570" y="658"/>
                      </a:cubicBezTo>
                      <a:cubicBezTo>
                        <a:pt x="451" y="698"/>
                        <a:pt x="417" y="705"/>
                        <a:pt x="285" y="718"/>
                      </a:cubicBezTo>
                      <a:cubicBezTo>
                        <a:pt x="189" y="750"/>
                        <a:pt x="157" y="745"/>
                        <a:pt x="45" y="733"/>
                      </a:cubicBezTo>
                      <a:cubicBezTo>
                        <a:pt x="3" y="670"/>
                        <a:pt x="0" y="645"/>
                        <a:pt x="0" y="568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"/>
                <p:cNvSpPr/>
                <p:nvPr/>
              </p:nvSpPr>
              <p:spPr>
                <a:xfrm rot="424800">
                  <a:off x="545400" y="5174280"/>
                  <a:ext cx="814320" cy="525240"/>
                </a:xfrm>
                <a:custGeom>
                  <a:avLst/>
                  <a:gdLst/>
                  <a:ahLst/>
                  <a:rect l="l" t="t" r="r" b="b"/>
                  <a:pathLst>
                    <a:path w="421" h="263">
                      <a:moveTo>
                        <a:pt x="210" y="0"/>
                      </a:moveTo>
                      <a:cubicBezTo>
                        <a:pt x="249" y="13"/>
                        <a:pt x="292" y="13"/>
                        <a:pt x="330" y="30"/>
                      </a:cubicBezTo>
                      <a:cubicBezTo>
                        <a:pt x="363" y="45"/>
                        <a:pt x="420" y="90"/>
                        <a:pt x="420" y="90"/>
                      </a:cubicBezTo>
                      <a:cubicBezTo>
                        <a:pt x="362" y="263"/>
                        <a:pt x="421" y="135"/>
                        <a:pt x="0" y="135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1"/>
                <p:cNvSpPr/>
                <p:nvPr/>
              </p:nvSpPr>
              <p:spPr>
                <a:xfrm rot="424800">
                  <a:off x="1516680" y="5022720"/>
                  <a:ext cx="600120" cy="887040"/>
                </a:xfrm>
                <a:custGeom>
                  <a:avLst/>
                  <a:gdLst/>
                  <a:ahLst/>
                  <a:rect l="l" t="t" r="r" b="b"/>
                  <a:pathLst>
                    <a:path w="310" h="445">
                      <a:moveTo>
                        <a:pt x="25" y="25"/>
                      </a:moveTo>
                      <a:cubicBezTo>
                        <a:pt x="145" y="105"/>
                        <a:pt x="0" y="0"/>
                        <a:pt x="100" y="100"/>
                      </a:cubicBezTo>
                      <a:cubicBezTo>
                        <a:pt x="154" y="154"/>
                        <a:pt x="243" y="152"/>
                        <a:pt x="310" y="160"/>
                      </a:cubicBezTo>
                      <a:cubicBezTo>
                        <a:pt x="305" y="185"/>
                        <a:pt x="309" y="214"/>
                        <a:pt x="295" y="235"/>
                      </a:cubicBezTo>
                      <a:cubicBezTo>
                        <a:pt x="286" y="248"/>
                        <a:pt x="262" y="240"/>
                        <a:pt x="250" y="250"/>
                      </a:cubicBezTo>
                      <a:cubicBezTo>
                        <a:pt x="194" y="295"/>
                        <a:pt x="237" y="332"/>
                        <a:pt x="160" y="370"/>
                      </a:cubicBezTo>
                      <a:cubicBezTo>
                        <a:pt x="146" y="377"/>
                        <a:pt x="129" y="377"/>
                        <a:pt x="115" y="385"/>
                      </a:cubicBezTo>
                      <a:cubicBezTo>
                        <a:pt x="83" y="403"/>
                        <a:pt x="25" y="445"/>
                        <a:pt x="25" y="445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Group 64"/>
              <p:cNvGrpSpPr/>
              <p:nvPr/>
            </p:nvGrpSpPr>
            <p:grpSpPr>
              <a:xfrm>
                <a:off x="0" y="5954400"/>
                <a:ext cx="4473720" cy="210240"/>
                <a:chOff x="0" y="5954400"/>
                <a:chExt cx="4473720" cy="210240"/>
              </a:xfrm>
            </p:grpSpPr>
            <p:sp>
              <p:nvSpPr>
                <p:cNvPr id="595" name="Line 5"/>
                <p:cNvSpPr/>
                <p:nvPr/>
              </p:nvSpPr>
              <p:spPr>
                <a:xfrm>
                  <a:off x="0" y="5954400"/>
                  <a:ext cx="447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6" name="Group 12"/>
                <p:cNvGrpSpPr/>
                <p:nvPr/>
              </p:nvGrpSpPr>
              <p:grpSpPr>
                <a:xfrm>
                  <a:off x="115920" y="5984280"/>
                  <a:ext cx="1037880" cy="180360"/>
                  <a:chOff x="115920" y="5984280"/>
                  <a:chExt cx="1037880" cy="180360"/>
                </a:xfrm>
              </p:grpSpPr>
              <p:grpSp>
                <p:nvGrpSpPr>
                  <p:cNvPr id="597" name="Group 13"/>
                  <p:cNvGrpSpPr/>
                  <p:nvPr/>
                </p:nvGrpSpPr>
                <p:grpSpPr>
                  <a:xfrm>
                    <a:off x="115920" y="5984280"/>
                    <a:ext cx="340560" cy="180360"/>
                    <a:chOff x="115920" y="5984280"/>
                    <a:chExt cx="340560" cy="180360"/>
                  </a:xfrm>
                </p:grpSpPr>
                <p:sp>
                  <p:nvSpPr>
                    <p:cNvPr id="598" name="Line 14"/>
                    <p:cNvSpPr/>
                    <p:nvPr/>
                  </p:nvSpPr>
                  <p:spPr>
                    <a:xfrm>
                      <a:off x="11592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Line 15"/>
                    <p:cNvSpPr/>
                    <p:nvPr/>
                  </p:nvSpPr>
                  <p:spPr>
                    <a:xfrm>
                      <a:off x="34308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Line 16"/>
                    <p:cNvSpPr/>
                    <p:nvPr/>
                  </p:nvSpPr>
                  <p:spPr>
                    <a:xfrm>
                      <a:off x="22932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1" name="Group 17"/>
                  <p:cNvGrpSpPr/>
                  <p:nvPr/>
                </p:nvGrpSpPr>
                <p:grpSpPr>
                  <a:xfrm>
                    <a:off x="813240" y="5984280"/>
                    <a:ext cx="340560" cy="180360"/>
                    <a:chOff x="813240" y="5984280"/>
                    <a:chExt cx="340560" cy="180360"/>
                  </a:xfrm>
                </p:grpSpPr>
                <p:sp>
                  <p:nvSpPr>
                    <p:cNvPr id="602" name="Line 18"/>
                    <p:cNvSpPr/>
                    <p:nvPr/>
                  </p:nvSpPr>
                  <p:spPr>
                    <a:xfrm>
                      <a:off x="81324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Line 19"/>
                    <p:cNvSpPr/>
                    <p:nvPr/>
                  </p:nvSpPr>
                  <p:spPr>
                    <a:xfrm>
                      <a:off x="10404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Line 20"/>
                    <p:cNvSpPr/>
                    <p:nvPr/>
                  </p:nvSpPr>
                  <p:spPr>
                    <a:xfrm>
                      <a:off x="92664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5" name="Group 21"/>
                  <p:cNvGrpSpPr/>
                  <p:nvPr/>
                </p:nvGrpSpPr>
                <p:grpSpPr>
                  <a:xfrm>
                    <a:off x="464400" y="5984280"/>
                    <a:ext cx="340560" cy="180360"/>
                    <a:chOff x="464400" y="5984280"/>
                    <a:chExt cx="340560" cy="180360"/>
                  </a:xfrm>
                </p:grpSpPr>
                <p:sp>
                  <p:nvSpPr>
                    <p:cNvPr id="606" name="Line 22"/>
                    <p:cNvSpPr/>
                    <p:nvPr/>
                  </p:nvSpPr>
                  <p:spPr>
                    <a:xfrm>
                      <a:off x="4644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Line 23"/>
                    <p:cNvSpPr/>
                    <p:nvPr/>
                  </p:nvSpPr>
                  <p:spPr>
                    <a:xfrm>
                      <a:off x="69156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Line 24"/>
                    <p:cNvSpPr/>
                    <p:nvPr/>
                  </p:nvSpPr>
                  <p:spPr>
                    <a:xfrm>
                      <a:off x="5778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09" name="Group 25"/>
                <p:cNvGrpSpPr/>
                <p:nvPr/>
              </p:nvGrpSpPr>
              <p:grpSpPr>
                <a:xfrm>
                  <a:off x="2214720" y="5984280"/>
                  <a:ext cx="1037880" cy="180360"/>
                  <a:chOff x="2214720" y="5984280"/>
                  <a:chExt cx="1037880" cy="180360"/>
                </a:xfrm>
              </p:grpSpPr>
              <p:grpSp>
                <p:nvGrpSpPr>
                  <p:cNvPr id="610" name="Group 26"/>
                  <p:cNvGrpSpPr/>
                  <p:nvPr/>
                </p:nvGrpSpPr>
                <p:grpSpPr>
                  <a:xfrm>
                    <a:off x="2214720" y="5984280"/>
                    <a:ext cx="340560" cy="180360"/>
                    <a:chOff x="2214720" y="5984280"/>
                    <a:chExt cx="340560" cy="180360"/>
                  </a:xfrm>
                </p:grpSpPr>
                <p:sp>
                  <p:nvSpPr>
                    <p:cNvPr id="611" name="Line 27"/>
                    <p:cNvSpPr/>
                    <p:nvPr/>
                  </p:nvSpPr>
                  <p:spPr>
                    <a:xfrm>
                      <a:off x="221472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Line 28"/>
                    <p:cNvSpPr/>
                    <p:nvPr/>
                  </p:nvSpPr>
                  <p:spPr>
                    <a:xfrm>
                      <a:off x="244188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Line 29"/>
                    <p:cNvSpPr/>
                    <p:nvPr/>
                  </p:nvSpPr>
                  <p:spPr>
                    <a:xfrm>
                      <a:off x="232812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4" name="Group 30"/>
                  <p:cNvGrpSpPr/>
                  <p:nvPr/>
                </p:nvGrpSpPr>
                <p:grpSpPr>
                  <a:xfrm>
                    <a:off x="2912040" y="5984280"/>
                    <a:ext cx="340560" cy="180360"/>
                    <a:chOff x="2912040" y="5984280"/>
                    <a:chExt cx="340560" cy="180360"/>
                  </a:xfrm>
                </p:grpSpPr>
                <p:sp>
                  <p:nvSpPr>
                    <p:cNvPr id="615" name="Line 31"/>
                    <p:cNvSpPr/>
                    <p:nvPr/>
                  </p:nvSpPr>
                  <p:spPr>
                    <a:xfrm>
                      <a:off x="291204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Line 32"/>
                    <p:cNvSpPr/>
                    <p:nvPr/>
                  </p:nvSpPr>
                  <p:spPr>
                    <a:xfrm>
                      <a:off x="31392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Line 33"/>
                    <p:cNvSpPr/>
                    <p:nvPr/>
                  </p:nvSpPr>
                  <p:spPr>
                    <a:xfrm>
                      <a:off x="302544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8" name="Group 34"/>
                  <p:cNvGrpSpPr/>
                  <p:nvPr/>
                </p:nvGrpSpPr>
                <p:grpSpPr>
                  <a:xfrm>
                    <a:off x="2563200" y="5984280"/>
                    <a:ext cx="340560" cy="180360"/>
                    <a:chOff x="2563200" y="5984280"/>
                    <a:chExt cx="340560" cy="180360"/>
                  </a:xfrm>
                </p:grpSpPr>
                <p:sp>
                  <p:nvSpPr>
                    <p:cNvPr id="619" name="Line 35"/>
                    <p:cNvSpPr/>
                    <p:nvPr/>
                  </p:nvSpPr>
                  <p:spPr>
                    <a:xfrm>
                      <a:off x="25632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Line 36"/>
                    <p:cNvSpPr/>
                    <p:nvPr/>
                  </p:nvSpPr>
                  <p:spPr>
                    <a:xfrm>
                      <a:off x="279036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Line 37"/>
                    <p:cNvSpPr/>
                    <p:nvPr/>
                  </p:nvSpPr>
                  <p:spPr>
                    <a:xfrm>
                      <a:off x="26766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22" name="Group 38"/>
                <p:cNvGrpSpPr/>
                <p:nvPr/>
              </p:nvGrpSpPr>
              <p:grpSpPr>
                <a:xfrm>
                  <a:off x="3289320" y="5984280"/>
                  <a:ext cx="1037880" cy="180360"/>
                  <a:chOff x="3289320" y="5984280"/>
                  <a:chExt cx="1037880" cy="180360"/>
                </a:xfrm>
              </p:grpSpPr>
              <p:grpSp>
                <p:nvGrpSpPr>
                  <p:cNvPr id="623" name="Group 39"/>
                  <p:cNvGrpSpPr/>
                  <p:nvPr/>
                </p:nvGrpSpPr>
                <p:grpSpPr>
                  <a:xfrm>
                    <a:off x="3289320" y="5984280"/>
                    <a:ext cx="340560" cy="180360"/>
                    <a:chOff x="3289320" y="5984280"/>
                    <a:chExt cx="340560" cy="180360"/>
                  </a:xfrm>
                </p:grpSpPr>
                <p:sp>
                  <p:nvSpPr>
                    <p:cNvPr id="624" name="Line 40"/>
                    <p:cNvSpPr/>
                    <p:nvPr/>
                  </p:nvSpPr>
                  <p:spPr>
                    <a:xfrm>
                      <a:off x="328932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Line 41"/>
                    <p:cNvSpPr/>
                    <p:nvPr/>
                  </p:nvSpPr>
                  <p:spPr>
                    <a:xfrm>
                      <a:off x="351648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Line 42"/>
                    <p:cNvSpPr/>
                    <p:nvPr/>
                  </p:nvSpPr>
                  <p:spPr>
                    <a:xfrm>
                      <a:off x="340272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7" name="Group 43"/>
                  <p:cNvGrpSpPr/>
                  <p:nvPr/>
                </p:nvGrpSpPr>
                <p:grpSpPr>
                  <a:xfrm>
                    <a:off x="3986640" y="5984280"/>
                    <a:ext cx="340560" cy="180360"/>
                    <a:chOff x="3986640" y="5984280"/>
                    <a:chExt cx="340560" cy="180360"/>
                  </a:xfrm>
                </p:grpSpPr>
                <p:sp>
                  <p:nvSpPr>
                    <p:cNvPr id="628" name="Line 44"/>
                    <p:cNvSpPr/>
                    <p:nvPr/>
                  </p:nvSpPr>
                  <p:spPr>
                    <a:xfrm>
                      <a:off x="398664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Line 45"/>
                    <p:cNvSpPr/>
                    <p:nvPr/>
                  </p:nvSpPr>
                  <p:spPr>
                    <a:xfrm>
                      <a:off x="42138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Line 46"/>
                    <p:cNvSpPr/>
                    <p:nvPr/>
                  </p:nvSpPr>
                  <p:spPr>
                    <a:xfrm>
                      <a:off x="410004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1" name="Group 47"/>
                  <p:cNvGrpSpPr/>
                  <p:nvPr/>
                </p:nvGrpSpPr>
                <p:grpSpPr>
                  <a:xfrm>
                    <a:off x="3637800" y="5984280"/>
                    <a:ext cx="340560" cy="180360"/>
                    <a:chOff x="3637800" y="5984280"/>
                    <a:chExt cx="340560" cy="180360"/>
                  </a:xfrm>
                </p:grpSpPr>
                <p:sp>
                  <p:nvSpPr>
                    <p:cNvPr id="632" name="Line 48"/>
                    <p:cNvSpPr/>
                    <p:nvPr/>
                  </p:nvSpPr>
                  <p:spPr>
                    <a:xfrm>
                      <a:off x="36378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" name="Line 49"/>
                    <p:cNvSpPr/>
                    <p:nvPr/>
                  </p:nvSpPr>
                  <p:spPr>
                    <a:xfrm>
                      <a:off x="386496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" name="Line 50"/>
                    <p:cNvSpPr/>
                    <p:nvPr/>
                  </p:nvSpPr>
                  <p:spPr>
                    <a:xfrm>
                      <a:off x="37512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35" name="Group 51"/>
                <p:cNvGrpSpPr/>
                <p:nvPr/>
              </p:nvGrpSpPr>
              <p:grpSpPr>
                <a:xfrm>
                  <a:off x="1162080" y="5984280"/>
                  <a:ext cx="1037880" cy="180360"/>
                  <a:chOff x="1162080" y="5984280"/>
                  <a:chExt cx="1037880" cy="180360"/>
                </a:xfrm>
              </p:grpSpPr>
              <p:grpSp>
                <p:nvGrpSpPr>
                  <p:cNvPr id="636" name="Group 52"/>
                  <p:cNvGrpSpPr/>
                  <p:nvPr/>
                </p:nvGrpSpPr>
                <p:grpSpPr>
                  <a:xfrm>
                    <a:off x="1162080" y="5984280"/>
                    <a:ext cx="340560" cy="180360"/>
                    <a:chOff x="1162080" y="5984280"/>
                    <a:chExt cx="340560" cy="180360"/>
                  </a:xfrm>
                </p:grpSpPr>
                <p:sp>
                  <p:nvSpPr>
                    <p:cNvPr id="637" name="Line 53"/>
                    <p:cNvSpPr/>
                    <p:nvPr/>
                  </p:nvSpPr>
                  <p:spPr>
                    <a:xfrm>
                      <a:off x="116208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Line 54"/>
                    <p:cNvSpPr/>
                    <p:nvPr/>
                  </p:nvSpPr>
                  <p:spPr>
                    <a:xfrm>
                      <a:off x="138924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Line 55"/>
                    <p:cNvSpPr/>
                    <p:nvPr/>
                  </p:nvSpPr>
                  <p:spPr>
                    <a:xfrm>
                      <a:off x="127548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0" name="Group 56"/>
                  <p:cNvGrpSpPr/>
                  <p:nvPr/>
                </p:nvGrpSpPr>
                <p:grpSpPr>
                  <a:xfrm>
                    <a:off x="1859400" y="5984280"/>
                    <a:ext cx="340560" cy="180360"/>
                    <a:chOff x="1859400" y="5984280"/>
                    <a:chExt cx="340560" cy="180360"/>
                  </a:xfrm>
                </p:grpSpPr>
                <p:sp>
                  <p:nvSpPr>
                    <p:cNvPr id="641" name="Line 57"/>
                    <p:cNvSpPr/>
                    <p:nvPr/>
                  </p:nvSpPr>
                  <p:spPr>
                    <a:xfrm>
                      <a:off x="18594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Line 58"/>
                    <p:cNvSpPr/>
                    <p:nvPr/>
                  </p:nvSpPr>
                  <p:spPr>
                    <a:xfrm>
                      <a:off x="208656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" name="Line 59"/>
                    <p:cNvSpPr/>
                    <p:nvPr/>
                  </p:nvSpPr>
                  <p:spPr>
                    <a:xfrm>
                      <a:off x="197280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4" name="Group 60"/>
                  <p:cNvGrpSpPr/>
                  <p:nvPr/>
                </p:nvGrpSpPr>
                <p:grpSpPr>
                  <a:xfrm>
                    <a:off x="1510560" y="5984280"/>
                    <a:ext cx="340560" cy="180360"/>
                    <a:chOff x="1510560" y="5984280"/>
                    <a:chExt cx="340560" cy="180360"/>
                  </a:xfrm>
                </p:grpSpPr>
                <p:sp>
                  <p:nvSpPr>
                    <p:cNvPr id="645" name="Line 61"/>
                    <p:cNvSpPr/>
                    <p:nvPr/>
                  </p:nvSpPr>
                  <p:spPr>
                    <a:xfrm>
                      <a:off x="151056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Line 62"/>
                    <p:cNvSpPr/>
                    <p:nvPr/>
                  </p:nvSpPr>
                  <p:spPr>
                    <a:xfrm>
                      <a:off x="173772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Line 63"/>
                    <p:cNvSpPr/>
                    <p:nvPr/>
                  </p:nvSpPr>
                  <p:spPr>
                    <a:xfrm>
                      <a:off x="1623960" y="5984280"/>
                      <a:ext cx="113400" cy="18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8" name="Line 67"/>
            <p:cNvSpPr/>
            <p:nvPr/>
          </p:nvSpPr>
          <p:spPr>
            <a:xfrm>
              <a:off x="1979640" y="5877000"/>
              <a:ext cx="504720" cy="7920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68"/>
            <p:cNvSpPr/>
            <p:nvPr/>
          </p:nvSpPr>
          <p:spPr>
            <a:xfrm>
              <a:off x="5435640" y="3357720"/>
              <a:ext cx="0" cy="10080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Text Box 70"/>
          <p:cNvSpPr/>
          <p:nvPr/>
        </p:nvSpPr>
        <p:spPr>
          <a:xfrm>
            <a:off x="2052720" y="560556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71"/>
          <p:cNvSpPr/>
          <p:nvPr/>
        </p:nvSpPr>
        <p:spPr>
          <a:xfrm>
            <a:off x="2466000" y="4840200"/>
            <a:ext cx="3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2"/>
          <p:cNvSpPr/>
          <p:nvPr/>
        </p:nvSpPr>
        <p:spPr>
          <a:xfrm>
            <a:off x="4913640" y="289548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73"/>
          <p:cNvSpPr/>
          <p:nvPr/>
        </p:nvSpPr>
        <p:spPr>
          <a:xfrm>
            <a:off x="5435640" y="4292640"/>
            <a:ext cx="0" cy="2016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74"/>
          <p:cNvSpPr/>
          <p:nvPr/>
        </p:nvSpPr>
        <p:spPr>
          <a:xfrm>
            <a:off x="2627280" y="5445000"/>
            <a:ext cx="2808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75"/>
          <p:cNvSpPr/>
          <p:nvPr/>
        </p:nvSpPr>
        <p:spPr>
          <a:xfrm>
            <a:off x="5078520" y="537840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76"/>
          <p:cNvSpPr/>
          <p:nvPr/>
        </p:nvSpPr>
        <p:spPr>
          <a:xfrm>
            <a:off x="5148360" y="5229360"/>
            <a:ext cx="287280" cy="215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77"/>
          <p:cNvSpPr/>
          <p:nvPr/>
        </p:nvSpPr>
        <p:spPr>
          <a:xfrm>
            <a:off x="2564280" y="640080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78"/>
          <p:cNvSpPr/>
          <p:nvPr/>
        </p:nvSpPr>
        <p:spPr>
          <a:xfrm>
            <a:off x="5588640" y="414972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79"/>
          <p:cNvSpPr/>
          <p:nvPr/>
        </p:nvSpPr>
        <p:spPr>
          <a:xfrm>
            <a:off x="0" y="293400"/>
            <a:ext cx="9144000" cy="1556280"/>
          </a:xfrm>
          <a:prstGeom prst="rect">
            <a:avLst/>
          </a:prstGeom>
          <a:solidFill>
            <a:srgbClr val="0000ff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如图所示，用撬棒撬石头，手握在撬棒的末端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端，其中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AO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0.1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米，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AB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米，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OC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0.7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米，要撬起石头需要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牛的力，求在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端要用多少向下的力才能撬起石头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15"/>
          <p:cNvGrpSpPr/>
          <p:nvPr/>
        </p:nvGrpSpPr>
        <p:grpSpPr>
          <a:xfrm>
            <a:off x="1690560" y="2637000"/>
            <a:ext cx="5905800" cy="3771720"/>
            <a:chOff x="1690560" y="2637000"/>
            <a:chExt cx="5905800" cy="3771720"/>
          </a:xfrm>
        </p:grpSpPr>
        <p:pic>
          <p:nvPicPr>
            <p:cNvPr id="661" name="Picture 14" descr=""/>
            <p:cNvPicPr/>
            <p:nvPr/>
          </p:nvPicPr>
          <p:blipFill>
            <a:blip r:embed="rId1"/>
            <a:stretch/>
          </p:blipFill>
          <p:spPr>
            <a:xfrm>
              <a:off x="1690560" y="2637000"/>
              <a:ext cx="5905800" cy="377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2" name="Group 4"/>
            <p:cNvGrpSpPr/>
            <p:nvPr/>
          </p:nvGrpSpPr>
          <p:grpSpPr>
            <a:xfrm>
              <a:off x="5705640" y="3213000"/>
              <a:ext cx="666720" cy="1657080"/>
              <a:chOff x="5705640" y="3213000"/>
              <a:chExt cx="666720" cy="1657080"/>
            </a:xfrm>
          </p:grpSpPr>
          <p:pic>
            <p:nvPicPr>
              <p:cNvPr id="663" name="Picture 5" descr="5"/>
              <p:cNvPicPr/>
              <p:nvPr/>
            </p:nvPicPr>
            <p:blipFill>
              <a:blip r:embed="rId2"/>
              <a:stretch/>
            </p:blipFill>
            <p:spPr>
              <a:xfrm>
                <a:off x="5715360" y="3213000"/>
                <a:ext cx="657000" cy="89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4" name="Picture 6" descr="5"/>
              <p:cNvPicPr/>
              <p:nvPr/>
            </p:nvPicPr>
            <p:blipFill>
              <a:blip r:embed="rId3"/>
              <a:stretch/>
            </p:blipFill>
            <p:spPr>
              <a:xfrm>
                <a:off x="5705640" y="3974760"/>
                <a:ext cx="657360" cy="895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5" name="Group 7"/>
            <p:cNvGrpSpPr/>
            <p:nvPr/>
          </p:nvGrpSpPr>
          <p:grpSpPr>
            <a:xfrm>
              <a:off x="3348000" y="3213000"/>
              <a:ext cx="657000" cy="2228760"/>
              <a:chOff x="3348000" y="3213000"/>
              <a:chExt cx="657000" cy="2228760"/>
            </a:xfrm>
          </p:grpSpPr>
          <p:pic>
            <p:nvPicPr>
              <p:cNvPr id="666" name="Picture 8" descr="4"/>
              <p:cNvPicPr/>
              <p:nvPr/>
            </p:nvPicPr>
            <p:blipFill>
              <a:blip r:embed="rId4"/>
              <a:stretch/>
            </p:blipFill>
            <p:spPr>
              <a:xfrm>
                <a:off x="3385800" y="3213000"/>
                <a:ext cx="552600" cy="16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Picture 9" descr="5"/>
              <p:cNvPicPr/>
              <p:nvPr/>
            </p:nvPicPr>
            <p:blipFill>
              <a:blip r:embed="rId5"/>
              <a:stretch/>
            </p:blipFill>
            <p:spPr>
              <a:xfrm>
                <a:off x="3348000" y="4546440"/>
                <a:ext cx="657000" cy="895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8" name="Text Box 10"/>
          <p:cNvSpPr/>
          <p:nvPr/>
        </p:nvSpPr>
        <p:spPr>
          <a:xfrm>
            <a:off x="68400" y="833400"/>
            <a:ext cx="69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条件：杠杆已平衡（如图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11"/>
          <p:cNvSpPr/>
          <p:nvPr/>
        </p:nvSpPr>
        <p:spPr>
          <a:xfrm>
            <a:off x="-36360" y="1569960"/>
            <a:ext cx="99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、两端去掉相同质量的钩码，杠杆平衡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、将两端钩码向支点移同样的距离，杠杆平衡吗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WordArt 12"/>
          <p:cNvSpPr txBox="1"/>
          <p:nvPr/>
        </p:nvSpPr>
        <p:spPr>
          <a:xfrm>
            <a:off x="539640" y="3933720"/>
            <a:ext cx="137160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做一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71" name="Rectangle 13"/>
          <p:cNvSpPr/>
          <p:nvPr/>
        </p:nvSpPr>
        <p:spPr>
          <a:xfrm>
            <a:off x="40788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彩云"/>
              </a:rPr>
              <a:t>问题探究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2" descr="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3" name="Group 3"/>
          <p:cNvGrpSpPr/>
          <p:nvPr/>
        </p:nvGrpSpPr>
        <p:grpSpPr>
          <a:xfrm>
            <a:off x="5362560" y="2762280"/>
            <a:ext cx="657000" cy="2228760"/>
            <a:chOff x="5362560" y="2762280"/>
            <a:chExt cx="657000" cy="2228760"/>
          </a:xfrm>
        </p:grpSpPr>
        <p:pic>
          <p:nvPicPr>
            <p:cNvPr id="674" name="Picture 4" descr="4"/>
            <p:cNvPicPr/>
            <p:nvPr/>
          </p:nvPicPr>
          <p:blipFill>
            <a:blip r:embed="rId2"/>
            <a:stretch/>
          </p:blipFill>
          <p:spPr>
            <a:xfrm>
              <a:off x="5400360" y="2762280"/>
              <a:ext cx="5526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Picture 5" descr="5"/>
            <p:cNvPicPr/>
            <p:nvPr/>
          </p:nvPicPr>
          <p:blipFill>
            <a:blip r:embed="rId3"/>
            <a:stretch/>
          </p:blipFill>
          <p:spPr>
            <a:xfrm>
              <a:off x="5362560" y="4095720"/>
              <a:ext cx="657000" cy="89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6" name="Picture 6" descr="瘫"/>
          <p:cNvPicPr/>
          <p:nvPr/>
        </p:nvPicPr>
        <p:blipFill>
          <a:blip r:embed="rId4"/>
          <a:stretch/>
        </p:blipFill>
        <p:spPr>
          <a:xfrm>
            <a:off x="7924680" y="2971800"/>
            <a:ext cx="766800" cy="343836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7"/>
          <p:cNvSpPr/>
          <p:nvPr/>
        </p:nvSpPr>
        <p:spPr>
          <a:xfrm>
            <a:off x="-88560" y="549360"/>
            <a:ext cx="11552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如何用弹簧秤将右边杠杆调平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WordArt 8"/>
          <p:cNvSpPr txBox="1"/>
          <p:nvPr/>
        </p:nvSpPr>
        <p:spPr>
          <a:xfrm>
            <a:off x="1905120" y="0"/>
            <a:ext cx="1676160" cy="24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679" name="Group 9"/>
          <p:cNvGrpSpPr/>
          <p:nvPr/>
        </p:nvGrpSpPr>
        <p:grpSpPr>
          <a:xfrm>
            <a:off x="6019920" y="-485640"/>
            <a:ext cx="919080" cy="3438360"/>
            <a:chOff x="6019920" y="-485640"/>
            <a:chExt cx="919080" cy="3438360"/>
          </a:xfrm>
        </p:grpSpPr>
        <p:pic>
          <p:nvPicPr>
            <p:cNvPr id="680" name="Picture 10" descr="瘫"/>
            <p:cNvPicPr/>
            <p:nvPr/>
          </p:nvPicPr>
          <p:blipFill>
            <a:blip r:embed="rId5"/>
            <a:stretch/>
          </p:blipFill>
          <p:spPr>
            <a:xfrm>
              <a:off x="6172200" y="-485640"/>
              <a:ext cx="76680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Rectangle 11"/>
            <p:cNvSpPr/>
            <p:nvPr/>
          </p:nvSpPr>
          <p:spPr>
            <a:xfrm>
              <a:off x="6114960" y="2514600"/>
              <a:ext cx="666720" cy="266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2"/>
            <p:cNvSpPr/>
            <p:nvPr/>
          </p:nvSpPr>
          <p:spPr>
            <a:xfrm>
              <a:off x="6172200" y="24764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3"/>
            <p:cNvSpPr/>
            <p:nvPr/>
          </p:nvSpPr>
          <p:spPr>
            <a:xfrm>
              <a:off x="6019920" y="27432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14"/>
          <p:cNvGrpSpPr/>
          <p:nvPr/>
        </p:nvGrpSpPr>
        <p:grpSpPr>
          <a:xfrm>
            <a:off x="2362320" y="2666880"/>
            <a:ext cx="838080" cy="3738600"/>
            <a:chOff x="2362320" y="2666880"/>
            <a:chExt cx="838080" cy="3738600"/>
          </a:xfrm>
        </p:grpSpPr>
        <p:pic>
          <p:nvPicPr>
            <p:cNvPr id="685" name="Picture 15" descr="瘫"/>
            <p:cNvPicPr/>
            <p:nvPr/>
          </p:nvPicPr>
          <p:blipFill>
            <a:blip r:embed="rId6"/>
            <a:stretch/>
          </p:blipFill>
          <p:spPr>
            <a:xfrm>
              <a:off x="2362320" y="2666880"/>
              <a:ext cx="8334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Line 16"/>
            <p:cNvSpPr/>
            <p:nvPr/>
          </p:nvSpPr>
          <p:spPr>
            <a:xfrm>
              <a:off x="2362320" y="27432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8" name="Group 3"/>
          <p:cNvGrpSpPr/>
          <p:nvPr/>
        </p:nvGrpSpPr>
        <p:grpSpPr>
          <a:xfrm>
            <a:off x="5362560" y="2762280"/>
            <a:ext cx="657000" cy="2228760"/>
            <a:chOff x="5362560" y="2762280"/>
            <a:chExt cx="657000" cy="2228760"/>
          </a:xfrm>
        </p:grpSpPr>
        <p:pic>
          <p:nvPicPr>
            <p:cNvPr id="689" name="Picture 4" descr="4"/>
            <p:cNvPicPr/>
            <p:nvPr/>
          </p:nvPicPr>
          <p:blipFill>
            <a:blip r:embed="rId2"/>
            <a:stretch/>
          </p:blipFill>
          <p:spPr>
            <a:xfrm>
              <a:off x="5400360" y="2762280"/>
              <a:ext cx="5526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5" descr="5"/>
            <p:cNvPicPr/>
            <p:nvPr/>
          </p:nvPicPr>
          <p:blipFill>
            <a:blip r:embed="rId3"/>
            <a:stretch/>
          </p:blipFill>
          <p:spPr>
            <a:xfrm>
              <a:off x="5362560" y="4095720"/>
              <a:ext cx="65700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1" name="Line 6"/>
          <p:cNvSpPr/>
          <p:nvPr/>
        </p:nvSpPr>
        <p:spPr>
          <a:xfrm flipV="1">
            <a:off x="6781680" y="1066680"/>
            <a:ext cx="1295640" cy="1524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7"/>
          <p:cNvSpPr/>
          <p:nvPr/>
        </p:nvSpPr>
        <p:spPr>
          <a:xfrm flipV="1">
            <a:off x="6781680" y="837720"/>
            <a:ext cx="0" cy="1752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8"/>
          <p:cNvSpPr/>
          <p:nvPr/>
        </p:nvSpPr>
        <p:spPr>
          <a:xfrm>
            <a:off x="6781680" y="2590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9"/>
          <p:cNvSpPr/>
          <p:nvPr/>
        </p:nvSpPr>
        <p:spPr>
          <a:xfrm flipH="1" flipV="1">
            <a:off x="5943600" y="12949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8002440" y="533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1"/>
          <p:cNvSpPr/>
          <p:nvPr/>
        </p:nvSpPr>
        <p:spPr>
          <a:xfrm>
            <a:off x="6478560" y="30492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2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2"/>
          <p:cNvSpPr/>
          <p:nvPr/>
        </p:nvSpPr>
        <p:spPr>
          <a:xfrm>
            <a:off x="7926120" y="2743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3"/>
          <p:cNvSpPr/>
          <p:nvPr/>
        </p:nvSpPr>
        <p:spPr>
          <a:xfrm>
            <a:off x="5335560" y="1066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Picture 14" descr="瘫"/>
          <p:cNvPicPr/>
          <p:nvPr/>
        </p:nvPicPr>
        <p:blipFill>
          <a:blip r:embed="rId4"/>
          <a:stretch/>
        </p:blipFill>
        <p:spPr>
          <a:xfrm>
            <a:off x="380880" y="2209680"/>
            <a:ext cx="766800" cy="3438720"/>
          </a:xfrm>
          <a:prstGeom prst="rect">
            <a:avLst/>
          </a:prstGeom>
          <a:ln w="0">
            <a:noFill/>
          </a:ln>
        </p:spPr>
      </p:pic>
      <p:sp>
        <p:nvSpPr>
          <p:cNvPr id="700" name="WordArt 15"/>
          <p:cNvSpPr txBox="1"/>
          <p:nvPr/>
        </p:nvSpPr>
        <p:spPr>
          <a:xfrm>
            <a:off x="1066680" y="0"/>
            <a:ext cx="3886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哪个方向更省力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1" name="WordArt 16"/>
          <p:cNvSpPr txBox="1"/>
          <p:nvPr/>
        </p:nvSpPr>
        <p:spPr>
          <a:xfrm>
            <a:off x="7391520" y="545796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拉一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4"/>
          <p:cNvSpPr/>
          <p:nvPr/>
        </p:nvSpPr>
        <p:spPr>
          <a:xfrm>
            <a:off x="0" y="0"/>
            <a:ext cx="61722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三   思考与讨论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5"/>
          <p:cNvSpPr/>
          <p:nvPr/>
        </p:nvSpPr>
        <p:spPr>
          <a:xfrm>
            <a:off x="468360" y="1341360"/>
            <a:ext cx="7343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说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小称砣能压千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道理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7"/>
          <p:cNvSpPr/>
          <p:nvPr/>
        </p:nvSpPr>
        <p:spPr>
          <a:xfrm>
            <a:off x="468360" y="21463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拧松生锈的螺帽要用一段水管套在板手柄上的道理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8" descr="PE01561_"/>
          <p:cNvPicPr/>
          <p:nvPr/>
        </p:nvPicPr>
        <p:blipFill>
          <a:blip r:embed="rId1"/>
          <a:stretch/>
        </p:blipFill>
        <p:spPr>
          <a:xfrm>
            <a:off x="4356000" y="3500280"/>
            <a:ext cx="458316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4"/>
          <p:cNvSpPr/>
          <p:nvPr/>
        </p:nvSpPr>
        <p:spPr>
          <a:xfrm>
            <a:off x="0" y="0"/>
            <a:ext cx="6300720" cy="58140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给下列杠杆分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5" descr="Image1902"/>
          <p:cNvPicPr/>
          <p:nvPr/>
        </p:nvPicPr>
        <p:blipFill>
          <a:blip r:embed="rId1"/>
          <a:stretch/>
        </p:blipFill>
        <p:spPr>
          <a:xfrm>
            <a:off x="0" y="549360"/>
            <a:ext cx="3995640" cy="31352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7" descr="Image1893"/>
          <p:cNvPicPr/>
          <p:nvPr/>
        </p:nvPicPr>
        <p:blipFill>
          <a:blip r:embed="rId2"/>
          <a:stretch/>
        </p:blipFill>
        <p:spPr>
          <a:xfrm>
            <a:off x="6012000" y="0"/>
            <a:ext cx="3132000" cy="45086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8" descr="14t102"/>
          <p:cNvPicPr/>
          <p:nvPr/>
        </p:nvPicPr>
        <p:blipFill>
          <a:blip r:embed="rId3"/>
          <a:stretch/>
        </p:blipFill>
        <p:spPr>
          <a:xfrm>
            <a:off x="0" y="3014640"/>
            <a:ext cx="3157560" cy="38433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10" descr=""/>
          <p:cNvPicPr/>
          <p:nvPr/>
        </p:nvPicPr>
        <p:blipFill>
          <a:blip r:embed="rId4"/>
          <a:stretch/>
        </p:blipFill>
        <p:spPr>
          <a:xfrm>
            <a:off x="3132000" y="3573360"/>
            <a:ext cx="2952720" cy="32403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1" descr="指甲刀"/>
          <p:cNvPicPr/>
          <p:nvPr/>
        </p:nvPicPr>
        <p:blipFill>
          <a:blip r:embed="rId5"/>
          <a:stretch/>
        </p:blipFill>
        <p:spPr>
          <a:xfrm>
            <a:off x="3995640" y="549360"/>
            <a:ext cx="2089080" cy="30240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2" descr=""/>
          <p:cNvPicPr/>
          <p:nvPr/>
        </p:nvPicPr>
        <p:blipFill>
          <a:blip r:embed="rId6"/>
          <a:stretch/>
        </p:blipFill>
        <p:spPr>
          <a:xfrm>
            <a:off x="6084720" y="4508640"/>
            <a:ext cx="3059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WordArt 2"/>
          <p:cNvSpPr txBox="1"/>
          <p:nvPr/>
        </p:nvSpPr>
        <p:spPr>
          <a:xfrm>
            <a:off x="611280" y="33336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究方案 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611280" y="1397160"/>
          <a:ext cx="7921440" cy="4371840"/>
        </p:xfrm>
        <a:graphic>
          <a:graphicData uri="http://schemas.openxmlformats.org/drawingml/2006/table">
            <a:tbl>
              <a:tblPr/>
              <a:tblGrid>
                <a:gridCol w="1944720"/>
                <a:gridCol w="3336840"/>
                <a:gridCol w="263988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杠杆实例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点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力臂和阻力臂的关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省力还是费力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Text Box 17"/>
          <p:cNvSpPr/>
          <p:nvPr/>
        </p:nvSpPr>
        <p:spPr>
          <a:xfrm>
            <a:off x="1476360" y="3141720"/>
            <a:ext cx="115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18"/>
          <p:cNvSpPr/>
          <p:nvPr/>
        </p:nvSpPr>
        <p:spPr>
          <a:xfrm>
            <a:off x="684360" y="2565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铡 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19"/>
          <p:cNvSpPr/>
          <p:nvPr/>
        </p:nvSpPr>
        <p:spPr>
          <a:xfrm>
            <a:off x="3419640" y="2492280"/>
            <a:ext cx="151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0"/>
          <p:cNvSpPr/>
          <p:nvPr/>
        </p:nvSpPr>
        <p:spPr>
          <a:xfrm>
            <a:off x="6516720" y="256536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省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21"/>
          <p:cNvSpPr/>
          <p:nvPr/>
        </p:nvSpPr>
        <p:spPr>
          <a:xfrm>
            <a:off x="684360" y="299736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羊角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22"/>
          <p:cNvSpPr/>
          <p:nvPr/>
        </p:nvSpPr>
        <p:spPr>
          <a:xfrm>
            <a:off x="3419640" y="2997360"/>
            <a:ext cx="151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23"/>
          <p:cNvSpPr/>
          <p:nvPr/>
        </p:nvSpPr>
        <p:spPr>
          <a:xfrm>
            <a:off x="6516720" y="306864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省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24"/>
          <p:cNvSpPr/>
          <p:nvPr/>
        </p:nvSpPr>
        <p:spPr>
          <a:xfrm>
            <a:off x="684360" y="3500280"/>
            <a:ext cx="15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25"/>
          <p:cNvSpPr/>
          <p:nvPr/>
        </p:nvSpPr>
        <p:spPr>
          <a:xfrm>
            <a:off x="6516720" y="357336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费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26"/>
          <p:cNvSpPr/>
          <p:nvPr/>
        </p:nvSpPr>
        <p:spPr>
          <a:xfrm>
            <a:off x="3348000" y="3500280"/>
            <a:ext cx="151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7"/>
          <p:cNvSpPr/>
          <p:nvPr/>
        </p:nvSpPr>
        <p:spPr>
          <a:xfrm>
            <a:off x="684360" y="400536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钓鱼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8"/>
          <p:cNvSpPr/>
          <p:nvPr/>
        </p:nvSpPr>
        <p:spPr>
          <a:xfrm>
            <a:off x="6516720" y="407664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费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9"/>
          <p:cNvSpPr/>
          <p:nvPr/>
        </p:nvSpPr>
        <p:spPr>
          <a:xfrm>
            <a:off x="755640" y="450864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30"/>
          <p:cNvSpPr/>
          <p:nvPr/>
        </p:nvSpPr>
        <p:spPr>
          <a:xfrm>
            <a:off x="3348000" y="4005360"/>
            <a:ext cx="151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31"/>
          <p:cNvSpPr/>
          <p:nvPr/>
        </p:nvSpPr>
        <p:spPr>
          <a:xfrm>
            <a:off x="3348000" y="4508640"/>
            <a:ext cx="151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2"/>
          <p:cNvSpPr/>
          <p:nvPr/>
        </p:nvSpPr>
        <p:spPr>
          <a:xfrm>
            <a:off x="6300720" y="4581360"/>
            <a:ext cx="18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省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不费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755640" y="189000"/>
            <a:ext cx="313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33"/>
                </a:solidFill>
                <a:latin typeface="Times New Roman"/>
                <a:ea typeface="华文彩云"/>
              </a:rPr>
              <a:t>等臂杠杆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2" name="ShockwaveFlash1"/>
          <p:cNvGraphicFramePr/>
          <p:nvPr/>
        </p:nvGraphicFramePr>
        <p:xfrm>
          <a:off x="0" y="1125360"/>
          <a:ext cx="7380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7380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3:30:17Z</dcterms:created>
  <dc:creator/>
  <dc:description/>
  <dc:language>en-US</dc:language>
  <cp:lastModifiedBy>a</cp:lastModifiedBy>
  <dcterms:modified xsi:type="dcterms:W3CDTF">2015-03-17T05:58:55Z</dcterms:modified>
  <cp:revision>82</cp:revision>
  <dc:subject/>
  <dc:title>幻灯片 1</dc:title>
</cp:coreProperties>
</file>