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47F44-2044-417C-A114-F64D4620C3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4CEA0-42BA-45B4-8802-F8EF4FC0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9590B2-4173-4775-A6C8-E10BFAB4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D18E3A-F29D-4E1A-A034-4E9017F4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7C43E1-C842-4B97-BC32-FB993AEC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04FD9E-5D88-4A72-B838-9285E1E3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DDBCD3-EF19-4F93-BA2F-9BDF2349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E3D612-2D08-413D-8474-EA53057B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F0E717-E548-4B76-856B-1A47C5EF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E192BD-3BB0-4FAD-9AD9-0EC4DBB6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9C9C73-F24B-4670-B55E-B6D6119E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178100-8B94-4C3F-9B94-F2675B1D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39D22-2AE1-4B5D-8ED7-5A725430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E5E579-88B2-44AA-9A96-2C86F01F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ABD3F7-203E-481D-A26E-B1E79F32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F37BFA-C386-44B7-8B96-603B3E0A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14AFBD-7D1D-4B0C-AB30-FC3ED20C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0A9EF7-2D7C-4014-B813-8CA28DD7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5B5411-B7A7-43AA-AC97-9D6D55F2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5E34E8-B9E5-4DF7-A280-BF7654C4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D3849C-BD98-4A7A-9DAC-53B4D2EE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4FE422-FCA8-432F-9074-8EC0D6C6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5E084C-834B-41EC-AB52-F1165029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73326-C9CB-4CF9-8423-882A432836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935809-22A2-4AB6-8B5E-4450B2AF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1E30FA-5CF3-412A-812B-4D0619B7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70DB05-4425-469A-87D2-0C6159A8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3C0589-DFF9-4CCF-A5D8-04B3E30F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8A909E-2FD7-4D29-88FD-2D1E3B81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588AFD-26F6-4877-8F02-7956C3E1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F13274-6D04-45E8-BFD9-2AAE6778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F669F8-87C3-4D48-84FE-20F4D4FC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75D7D3-E3F6-46C5-8118-0F16AF91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19CAC4-3899-4EA7-8EC3-311BF1CC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6CE7B-3D59-483A-BBD9-03BE670F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EB00E1-7C02-4D10-8731-23294426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83516A-99FA-47EC-8A03-A876AAF6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20C287-5955-46B2-AE81-AF5D686F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EDE117-DDED-4F55-8064-53BD9E8B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4474DC-F8E2-46E4-8BD4-4905E5BE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BD3CD2-BD66-415C-9FEB-4086BC65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1B9B54-9187-4027-9AED-76C17376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3F8026-8C2D-4BE2-AD97-DA8A6850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60D905-438C-4C31-A049-D0F019C2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F0FEEA-5041-4A46-BC24-135B0551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FBF73-18F5-4E7C-943A-867CC394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CCD9D5-9E26-4043-9A19-B389F107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D2D831-AC6D-4E1C-B9B8-534ED8C8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49D9D8-0770-4AAD-9EA8-ACFAB5E1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0A8944-0831-43DC-A9B0-1CB11EDA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90F551-A4C1-4CE0-BB98-AB11D5A5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784598-8A87-41AB-A571-C40846CA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DEA013-2085-422C-9D4C-E9B18BEC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8E1013-3423-4CFE-AEBD-85ED3418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795BB1-84E4-4056-BFE7-2C48F241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4B69D7-E970-4161-9795-480A3443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D1B89-4865-4683-A643-90FF9D33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D8C878-25A2-46C9-9AE9-806A47C4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22D667-25E0-45BE-B951-6939DF5A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50612A-D1CE-4D3F-BB5A-8CB080C8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307988-0E3E-4154-AFE1-4D02FC94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C1F132-7623-4472-BE9B-290A90E6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4D66E6-5667-44ED-98BF-DAE5DDEC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D0EE3D-C3D7-404F-8173-BE5EA5EE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681D02C-CD30-4FD0-9FE6-CC3155E1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30B9B7-6897-46D0-B759-1557349F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C5199DE-A045-4EEE-98F8-BD7F4B03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E8755-46D8-4312-BF47-F9C8F353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18DBD4B-453A-4C62-8BB2-FB7C49B9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1766AEE-83BE-4A37-9F16-92EC6509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302EB92-2265-472E-98CB-F2D28F19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40140D4-D58E-49C7-BBE9-8C02F0FA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AE1BF50-A36C-42B8-8339-87A4C3ED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704795C-6778-4E2E-98EA-6EFC0A19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B950C69-C951-45EA-B883-59F7394B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679B1F9-6C2E-42D5-9BF4-6D08C613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A41F3B2-C800-4987-A47D-160CB328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24504F-5A99-41A5-9387-D238FA80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64AB3-AE9D-4382-96F3-FDB79366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672AD4D-DDEB-4768-8593-31AB7A5A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279B60A-ACF7-4CB2-85B2-B4335606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0CC8AC6-A481-4E06-A9F0-95E588B5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1A72470-2B79-4A69-B741-537AB852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089D490-C415-4C3E-9E14-AAEEE4CF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25DE90C-A71F-48D9-A115-1369CA3A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B08DACF-3FE2-463C-A474-9D43DBEF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DBD36AA-0EE4-44E0-84C9-F9040AC6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BF98E4-1D4C-48A2-987A-A0A0513A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48B29D4-5AEB-4C68-A1BE-2F89342B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25380-A224-4FCE-B400-AC80B675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139BAF3-3239-41E2-9FCB-DA6D22A9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2303579-1871-4B7A-9B27-27F00F05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227FF25-C6B1-4B5F-9E8E-F2EB0998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90F0BA7-FA97-4B90-9230-E1C196CD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21AB9DE-6969-4BC1-BB3B-B2AD83F9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3C0E114-7280-4824-B779-FD08BE84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0BEBE61-2BE8-4C44-9727-F912E3AD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5AD0D4B-DA46-461A-8813-31A3F324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2BA54AC-F58D-4DF1-B5C6-A5A2623C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6436EC1-D886-4DF3-BD41-EAEADBF1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21274-52CA-4825-8AC2-09DF7276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FCBCAEA-B1F5-4D68-A152-1A50581A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6A60D66-DCF5-46F9-A71B-ECC35C6A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0003C23-3241-41EB-A04F-3F4E90E4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0B55AD5-6C81-4D69-B23A-4EB2B9C0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B14F41F-D863-45E2-80C1-84C26DEA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D2915CA-79F3-4896-86BB-4EC4FC5F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E9B4C30-A6D7-497C-BC5B-86BE8C37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8299E30-FF45-4D03-9786-909F5AF1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8816747-62BB-45EE-B413-FA89BCDC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E49257B-73B2-4234-901D-29724CAE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D4D31-4D47-4DE3-95BA-F61A8D3E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FB818-7E5F-4675-B490-AA1A6B4B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98B5CAD-DAEF-46D1-8D30-DF64E83E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020D317-D448-471B-83BA-038AF996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94A0065-65FB-416E-B578-D01E436C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EA16B2D-4259-4E82-A8A6-7B2E03CC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574E4C9-C4D5-4349-A9AA-2A862E79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D724C69-999F-4DDD-A5DE-46D0094B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153E92F-BCC6-4AA0-8A86-EBB047B6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A4CC7EB-2389-402D-B75D-E47E3B93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FD75408-2A60-42D8-81E8-3A94761B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9764E4F-3B47-4473-A4D9-66479EEC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D068E-1D97-430C-84BF-5754E33A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1B96BE5-6FF3-4623-A42D-A02205DA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C968CF3-0307-47D1-8C5D-A29F18D2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29C1DBE-AEA3-40D2-AC50-6DBE724A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76F3B39-A194-4668-8744-A3DE9E16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F18CE1E-A44D-4B48-9886-6EF2331B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B88454E-031A-4DA6-9FAB-9FA0ADC6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3B9A990-561A-40F1-9DDF-7B0E34FA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AC909EC-1DCD-4AAE-930D-60E9B705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FCDB288-976A-4E31-8C78-D4BA75FF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7A06F7C-9A95-4D05-A2F7-B39849FF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D1DE4-3245-4B18-805F-104D1EA9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DE93FF9-A7E0-481D-8124-E59F417D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00DB959-E057-48DF-950F-29F1837F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D0D1ECF-41E9-4A29-BFFF-3728ABFC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5C49EDD-434F-4173-B5BD-78DC4BE5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E9C5B84-8CD7-4832-9F04-278481E3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A12D9A3-F862-497E-B0BD-5D200573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56DF4B9-8A7A-40A7-BDB6-8CCA6C7F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F5129F5-26D3-491D-AB51-BD8C7E31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45A8F78-3E0C-4CFB-BB75-C53D0AB3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43556C3-43F6-4167-A2F6-F492118D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927AE-298A-4BD9-921D-424E3AEDE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7CF1FB5-8349-4380-84F3-CA091377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7BC0AED-3D9C-44F0-BB40-7F28DB4A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FE0580B-DECE-4342-A09B-7C685EB4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A68FE29-EF09-4E9E-8012-F3525695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9F711FC-3D67-4070-88C5-9D0191B8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B65F961-42DA-4521-9579-4F6890CA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4C4244A-E00B-4893-9A2A-6557F197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9F5B2D7-3A20-4907-ABB0-EDF5B3D3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B71094C-5511-4363-B6D3-0F694B25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DC10CCE-6BD4-495F-92FC-DCE3AEA0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0E654-9A44-42F6-A60F-5F49BBFE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F94968A-29CD-4174-AB29-4F37D813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BA29619-4FFB-4528-AF23-FE9C9681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01F4654-ADE0-4D18-AFC8-412774D0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D46677A-9EE7-4C99-A098-8152B95D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D1D77CA-2DD8-4E70-BEE5-9BBA370D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EB415EB-755F-4ABA-8D3A-0D2F8800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8809DB8-FDB7-4A26-AF23-B7B49A77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5A16C8B-3052-49CC-B1F6-A6D4E23C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30AB78D-EF20-4526-8EF7-A99585B9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9FE7566-3F01-41F2-8704-1D98A1B2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25F58F-E583-4E48-8042-ECF5CC6E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0A0E0D2-0FFE-4B6E-B7B4-8999D279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7337594-B008-453D-B580-661B5334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D8E3511-F212-4091-9749-10D996A8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C78037E-A38F-4D6A-A7B4-8BF50494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8611875-F705-4C1A-A44D-E754CD80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704BA19-9B8F-4101-B64B-95C28D8E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8DB7095-0BAE-4352-93CB-05947469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824014C-2116-41EA-9D32-0920F850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AF700A5-6A4F-4ECB-8270-E4AFC6A8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10B5809-B78F-4958-A4F1-18B730C0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B6CB44-9BB6-432F-8612-04E39177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F36EA45-DBE8-421A-A823-85D4EFCE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03F58AC-1AB9-44FC-9494-0A8B0088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E2057B0-B20A-45ED-A74E-6C78A256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B565D90-66DF-470D-A78E-FE0E18F2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3146070-98DD-46FB-B521-20CD0BC7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598D598-E371-4177-B3A4-3AA3CFF1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B621033-B180-4A92-84A4-6C59B4BF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131730C-9D13-46E9-804F-F9F1CDF0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D42CB61-E6D6-48A5-BCDF-5829A9B6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F09B6E8-0E87-411B-8291-C2725DE4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38A52-5763-43C4-B5BC-31596AE0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1453A5D-A43B-43FD-B1BA-7B648C54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307D1A7-C2A5-43DE-83A8-AC7F6052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1AF74B7-D77C-433C-A27B-9567B420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380A39C-3DF8-46AF-8229-9FC5E40F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89DBBFE-7A68-4171-84E5-730026BC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5C0802A-E693-42A8-A187-B1E891CD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E563553-C40F-4CF6-8222-88EB1EE9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0BA1D6C-BEAB-4CC4-9EF3-08498A6F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C7EB966-897A-4F44-9CEA-4577E4C3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CAE38DB-DB5B-47E2-84FF-41D27BBB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3F0CC-396E-43B4-8FB1-4BCFF98D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09C83E1-AD2D-4D6B-B29E-02A0A057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BB37CCB-C7C9-440A-A6E6-D47C74C6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16EF907-8837-41A3-8C7B-E0F64794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4862882-8D81-4C53-9125-642D09AA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0676D90-ED13-4ACB-AAAC-B8EDB98F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1E3EF07-EE11-45DF-AFC5-392BD8DA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4F3DCF6-5C8D-418C-8A75-C6A26EE6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E3BD00D-6930-4BC6-A7B5-1ECC95C5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6654EEF-1248-4FFE-94C6-45FC36FC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5BBF34F-CB20-4E1C-A8DD-11C8CC1D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15C37A-EDF9-4994-B6A9-D9742641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B1C31F0-7A30-47CF-A838-17E416E9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325CB8D-1641-45B0-B073-22FB08B1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AA375BF-FEAD-4C61-BCAF-E8B0A6DA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08EF961-0D05-4708-A303-65BED6BA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A3B48C8-BFB1-48D4-B9E1-CFDB3422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839C553-9CBF-4632-BA7E-77B51D61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FA60800-75C0-4063-96A5-DF8F2FB7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CEDDE00-97DD-4387-A617-BD2C4370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696485B-53E1-458F-9807-AD4273EE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D53FA2F-E24A-4994-9ADF-90B4B3EE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3A6A9-03AD-4D63-B8F9-13617DEB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53707-48B7-420D-AA9C-D7853069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577A03E-8A1E-4EFE-B862-E4BAB226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58E0985-2F0D-4602-8D40-47592E3F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1AF4067-436A-45E8-9AC4-325F9370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197AF09-C70F-41B5-8990-2604CD5B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CC77F5E-3834-45AE-B896-E0DFF7A1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3BD3E3E-A01A-4BCC-86AB-949154F9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9ECD7F5-EFC0-4DDE-B085-A88D04C0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2A27E85-F173-484C-87A1-CA89AB78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2835D47-AACD-4826-89E0-C1FDB2AF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9D7A8D6-A27C-48AF-83A1-73DEFBB6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9C8CD5-0127-4CBC-AC8A-971CDF6A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AC792B7-53CF-4FDD-8FFA-B3E9680C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4A62DBC-73EE-478B-B1C2-02F0EC94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142F2B1-C50B-4A06-8267-A2A7CB3F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09A2FE-90DE-485E-BA77-202BA4CD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E78642-0CBF-42BD-9EDE-0050D7FB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9B956F-02B9-4759-B78C-CA791EA3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E8C8D-7447-47E7-AF94-4DCC2DA7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D2963C-A895-4EB2-A152-A8FFB3F6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32288A-0F80-4983-9EA1-3FBEF6DE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FF667C-4284-49B5-ACB5-8E4D86A9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69784B-D7B0-453B-B8C8-0A9C20DC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0008C-2196-476B-A757-E29A2DF2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B0C00C-093E-4131-A298-49EC2C79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4E2673-09D3-4127-9203-4A7818BC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B2EA5E-7CC9-4486-B2A6-7062A126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7860ED-FF64-4469-9494-3FA9CD68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076693-DDD6-4514-B342-8774D447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05CAF0-7A3D-4465-A919-ABB5F83B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28C5EA-6339-4970-A868-C8142ABF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D0C921-79FD-470C-B753-FE641F2D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42F9CD-6D1D-43C5-A482-192C45E6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EF2C94-6AED-4986-B0A7-82E13D0B2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D7419-1472-45D1-BA6C-A3CA0B40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383882-4EC7-4A4C-8077-4B482DA7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C25A07-CBB1-423F-997E-82ABCBEF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745535-29EA-4ED2-BFA7-ED4A23DB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D2A560-3158-486A-8F54-6738C67E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8A72C2-F653-4791-B57A-68241BF6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CBB18B-8064-418A-ABA9-51BC36B9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4700EF-4A2D-4AAF-A6F8-AF2DF8A6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90CEBF-DA8E-46BA-B3E7-A2BBFF44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8CBEE2-C838-4B4B-A307-8704BCC2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468B74-9A0B-4633-AE93-E40210B3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C42CE-761F-449F-B63E-9850811F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8CB5F9-643D-421A-BFF6-8FB3F81D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BC8229-08F6-4221-9332-B3BB4994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C6CBB4-877D-4BBC-9354-4194CF99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569E11-2BA8-4892-8BEA-AFEC4DBC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462EFB-C553-48DF-9530-FC6FEC37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4769FD-E59C-4B95-9554-BC3000E6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839115-F796-4794-9A6E-1E7CD836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D2026A-B34C-496B-B67C-2CA6E97C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BF3617-C3C7-473F-8A85-8CEE8F72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A9B66D-322B-475D-8D23-01F21AA2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6780C-A682-4750-9565-7C384A05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D45F5D-3556-4987-9759-39B654D0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EEA161-6ED6-4836-85C5-62C9B044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9C8DD5-ECC2-4957-9297-C5C8E311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6F0287-FCAC-4BE0-BF10-D7519132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38012A-9AAA-4211-9655-42256A2D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5C4B3E-3E4B-4C54-B1A9-D360C9AC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FE4397-1474-4AA0-B6D3-3A7105EA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5B9B28-FEB5-480A-AB61-2167B09B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F8A1FF-06A3-4C1F-901C-05CCC48F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6A765E-43B1-47B5-803F-F20F45E0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CBF3E-9A4C-44BB-AB2E-E0A15404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E7C0AC-980C-430A-916F-0C3C8A16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AB333C-20A1-42FF-92B3-87926E0E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83451D-1D2E-4C3F-885E-03F7C1C1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0A6729-6185-433D-B727-2F564F1D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C9754D-FAB6-4246-9E71-089D2385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7973C9-C340-42CC-B7D9-17C437B1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D8666D-DEFC-400A-83CE-3E5FBF72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FC07D7-8A73-48B0-9A96-449E8A95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19112E-CD15-42E0-B919-EB93DBE7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664C67-A921-4FA3-9F09-503DB6AA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656B5-7C40-43BE-A06B-BBFD0A6D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515341-0079-44FA-AA3D-7BBCC3BA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6FBE41-C72E-406F-9428-BDC902EF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50F4D1-2B3B-4BCC-8AC8-D70A7E47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7E54E7-CD66-4925-9791-8A46303D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E21C7F-94BD-44BD-A37F-3F9FB1A5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A528FF-20D9-4711-B330-A5445D36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A22421-285A-4393-A3E9-F0BE5594F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4FA7A8-D752-4A29-B18E-2D14C059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2B2629-79DD-42BA-BCD5-C0E77C7A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72BC8D-E5BB-4EC0-9C98-FEB62FEE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4"/>
          <p:cNvSpPr/>
          <p:nvPr/>
        </p:nvSpPr>
        <p:spPr>
          <a:xfrm>
            <a:off x="0" y="6310440"/>
            <a:ext cx="9144000" cy="561960"/>
          </a:xfrm>
          <a:prstGeom prst="roundRect">
            <a:avLst>
              <a:gd name="adj" fmla="val 26273"/>
            </a:avLst>
          </a:prstGeom>
          <a:solidFill>
            <a:srgbClr val="36a0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565680" y="657828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aeaea"/>
                </a:solidFill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28C5-11EC-4F7B-BEDB-7F0F748365B7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214"/>
          <p:cNvGrpSpPr/>
          <p:nvPr/>
        </p:nvGrpSpPr>
        <p:grpSpPr>
          <a:xfrm>
            <a:off x="0" y="0"/>
            <a:ext cx="8570520" cy="1031760"/>
            <a:chOff x="0" y="0"/>
            <a:chExt cx="8570520" cy="1031760"/>
          </a:xfrm>
        </p:grpSpPr>
        <p:sp>
          <p:nvSpPr>
            <p:cNvPr id="4" name="AutoShape 37"/>
            <p:cNvSpPr/>
            <p:nvPr/>
          </p:nvSpPr>
          <p:spPr>
            <a:xfrm>
              <a:off x="0" y="0"/>
              <a:ext cx="8560080" cy="1031760"/>
            </a:xfrm>
            <a:prstGeom prst="roundRect">
              <a:avLst>
                <a:gd name="adj" fmla="val 26273"/>
              </a:avLst>
            </a:prstGeom>
            <a:solidFill>
              <a:srgbClr val="36a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38"/>
            <p:cNvSpPr/>
            <p:nvPr/>
          </p:nvSpPr>
          <p:spPr>
            <a:xfrm>
              <a:off x="10440" y="793800"/>
              <a:ext cx="8560080" cy="114120"/>
            </a:xfrm>
            <a:prstGeom prst="rect">
              <a:avLst/>
            </a:prstGeom>
            <a:solidFill>
              <a:srgbClr val="0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Rectangle 36"/>
          <p:cNvSpPr/>
          <p:nvPr/>
        </p:nvSpPr>
        <p:spPr>
          <a:xfrm>
            <a:off x="0" y="6477120"/>
            <a:ext cx="9144000" cy="114120"/>
          </a:xfrm>
          <a:prstGeom prst="rect">
            <a:avLst/>
          </a:prstGeom>
          <a:solidFill>
            <a:srgbClr val="0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39"/>
          <p:cNvSpPr/>
          <p:nvPr/>
        </p:nvSpPr>
        <p:spPr>
          <a:xfrm>
            <a:off x="0" y="905040"/>
            <a:ext cx="9144000" cy="55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410"/>
          <p:cNvGrpSpPr/>
          <p:nvPr/>
        </p:nvGrpSpPr>
        <p:grpSpPr>
          <a:xfrm>
            <a:off x="7772400" y="0"/>
            <a:ext cx="1244520" cy="1181160"/>
            <a:chOff x="7772400" y="0"/>
            <a:chExt cx="1244520" cy="1181160"/>
          </a:xfrm>
        </p:grpSpPr>
        <p:sp>
          <p:nvSpPr>
            <p:cNvPr id="9" name="Oval 296"/>
            <p:cNvSpPr/>
            <p:nvPr/>
          </p:nvSpPr>
          <p:spPr>
            <a:xfrm>
              <a:off x="7772400" y="0"/>
              <a:ext cx="1181160" cy="1181160"/>
            </a:xfrm>
            <a:prstGeom prst="ellipse">
              <a:avLst/>
            </a:prstGeom>
            <a:solidFill>
              <a:srgbClr val="347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Oval 297"/>
            <p:cNvSpPr/>
            <p:nvPr/>
          </p:nvSpPr>
          <p:spPr>
            <a:xfrm>
              <a:off x="7835760" y="0"/>
              <a:ext cx="1181160" cy="118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Group 438"/>
          <p:cNvGrpSpPr/>
          <p:nvPr/>
        </p:nvGrpSpPr>
        <p:grpSpPr>
          <a:xfrm>
            <a:off x="8026200" y="115920"/>
            <a:ext cx="977040" cy="872280"/>
            <a:chOff x="8026200" y="115920"/>
            <a:chExt cx="977040" cy="872280"/>
          </a:xfrm>
        </p:grpSpPr>
        <p:grpSp>
          <p:nvGrpSpPr>
            <p:cNvPr id="12" name="Group 417"/>
            <p:cNvGrpSpPr/>
            <p:nvPr/>
          </p:nvGrpSpPr>
          <p:grpSpPr>
            <a:xfrm>
              <a:off x="8026200" y="491040"/>
              <a:ext cx="495000" cy="497160"/>
              <a:chOff x="8026200" y="491040"/>
              <a:chExt cx="495000" cy="497160"/>
            </a:xfrm>
          </p:grpSpPr>
          <p:sp>
            <p:nvSpPr>
              <p:cNvPr id="13" name="AutoShape 418"/>
              <p:cNvSpPr/>
              <p:nvPr/>
            </p:nvSpPr>
            <p:spPr>
              <a:xfrm flipH="1">
                <a:off x="8025840" y="491040"/>
                <a:ext cx="495000" cy="247680"/>
              </a:xfrm>
              <a:prstGeom prst="diamond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419"/>
              <p:cNvSpPr/>
              <p:nvPr/>
            </p:nvSpPr>
            <p:spPr>
              <a:xfrm flipH="1">
                <a:off x="8273160" y="611640"/>
                <a:ext cx="247320" cy="3754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420"/>
              <p:cNvSpPr/>
              <p:nvPr/>
            </p:nvSpPr>
            <p:spPr>
              <a:xfrm>
                <a:off x="8027640" y="612720"/>
                <a:ext cx="247320" cy="3754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421"/>
            <p:cNvGrpSpPr/>
            <p:nvPr/>
          </p:nvGrpSpPr>
          <p:grpSpPr>
            <a:xfrm>
              <a:off x="8510400" y="494280"/>
              <a:ext cx="492840" cy="493920"/>
              <a:chOff x="8510400" y="494280"/>
              <a:chExt cx="492840" cy="493920"/>
            </a:xfrm>
          </p:grpSpPr>
          <p:sp>
            <p:nvSpPr>
              <p:cNvPr id="17" name="AutoShape 422"/>
              <p:cNvSpPr/>
              <p:nvPr/>
            </p:nvSpPr>
            <p:spPr>
              <a:xfrm flipH="1">
                <a:off x="8510040" y="494280"/>
                <a:ext cx="492840" cy="245880"/>
              </a:xfrm>
              <a:prstGeom prst="diamond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423"/>
              <p:cNvSpPr/>
              <p:nvPr/>
            </p:nvSpPr>
            <p:spPr>
              <a:xfrm flipH="1">
                <a:off x="8756280" y="614880"/>
                <a:ext cx="246600" cy="3715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424"/>
              <p:cNvSpPr/>
              <p:nvPr/>
            </p:nvSpPr>
            <p:spPr>
              <a:xfrm>
                <a:off x="8512200" y="614880"/>
                <a:ext cx="246600" cy="3733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" name="Group 412"/>
            <p:cNvGrpSpPr/>
            <p:nvPr/>
          </p:nvGrpSpPr>
          <p:grpSpPr>
            <a:xfrm>
              <a:off x="8260200" y="115920"/>
              <a:ext cx="494640" cy="493560"/>
              <a:chOff x="8260200" y="115920"/>
              <a:chExt cx="494640" cy="493560"/>
            </a:xfrm>
          </p:grpSpPr>
          <p:sp>
            <p:nvSpPr>
              <p:cNvPr id="21" name="AutoShape 413"/>
              <p:cNvSpPr/>
              <p:nvPr/>
            </p:nvSpPr>
            <p:spPr>
              <a:xfrm flipH="1">
                <a:off x="8259840" y="115920"/>
                <a:ext cx="494280" cy="245520"/>
              </a:xfrm>
              <a:prstGeom prst="diamond">
                <a:avLst/>
              </a:prstGeom>
              <a:solidFill>
                <a:srgbClr val="347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Freeform 414"/>
              <p:cNvSpPr/>
              <p:nvPr/>
            </p:nvSpPr>
            <p:spPr>
              <a:xfrm flipH="1">
                <a:off x="8508600" y="236880"/>
                <a:ext cx="246240" cy="37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Freeform 415"/>
              <p:cNvSpPr/>
              <p:nvPr/>
            </p:nvSpPr>
            <p:spPr>
              <a:xfrm>
                <a:off x="8262000" y="236880"/>
                <a:ext cx="246240" cy="3726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7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A824-4C20-42C9-BAEA-044B4F773F2F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8BB5-A4EC-4E50-878D-E7E864483332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D714-D47B-4BF6-86CC-5E10C8E337C4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886B-06CD-4894-9D66-5F16E2707717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97AF-377B-4033-AB27-A609EA7288AD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1FBD-E172-49FC-83A0-CAE2EFDFC6D0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3B7C-06DF-4F3B-97DD-F39C0DD77C1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 type="ftr" idx="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 type="sldNum" idx="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D6B8-EC5A-4F1C-845D-73572EC4DF9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B7CF-5662-47D3-B381-AAB1B8E2382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7DF4-DCFC-4CFA-B117-B518306CA5C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F58A-63CE-4ECE-B278-12C23B6E97E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C224-3B81-44FA-8FA2-4AE7E1C9F9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dt" idx="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0A47-E64B-4AF7-9BE3-C7B7F6CAEA1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 type="ftr" idx="5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 type="sldNum" idx="5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DB46-24F4-4903-A3F5-08F0250740B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38FF-9D61-4007-AD7F-F368D3E9549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 type="dt" idx="5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915E-C318-4F25-8650-EB6F3954244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 type="ftr" idx="5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 type="sldNum" idx="5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FFE9-BE77-419D-A355-1E250CAF832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6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8040-A434-4DD7-927F-65E28681F8A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ftr" idx="6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sldNum" idx="6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CB2C-F265-4962-A2D3-BAC66339B32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 type="dt" idx="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3770-A810-449A-8A79-7BAA82C4B7E0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 type="ftr" idx="6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 type="sldNum" idx="6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4962-F7B3-4937-AF0A-FDFE4712200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 type="dt" idx="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F1CE-A332-4A54-A4D1-9074983BC5F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 type="ftr" idx="6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 type="sldNum" idx="6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B4A1-64A6-49D5-9789-50C6C71C34F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 type="dt" idx="6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9FAC-76A7-44F5-A590-348D13F9647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 type="ftr" idx="7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 type="sldNum" idx="7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0734-E10C-42DC-8350-2C040BDB4EC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 type="dt" idx="7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48A6-147E-44F7-A8C2-9D06A5207C1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 type="ftr" idx="7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 type="sldNum" idx="7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1801-A653-4808-9D91-B1C49874848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 type="dt" idx="7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CD0D-0DE8-410F-AA6D-566C84C92B9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 type="ftr" idx="7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 type="sldNum" idx="7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7F2A-14AA-4740-8744-F0574AAF82E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E7F6-A632-46CB-AAA9-9C0F2C3C4AC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50AD-88EA-414D-BD56-05B572238D5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25"/>
          <p:cNvSpPr/>
          <p:nvPr/>
        </p:nvSpPr>
        <p:spPr>
          <a:xfrm>
            <a:off x="6029280" y="1125360"/>
            <a:ext cx="2087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2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3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4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5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6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7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8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9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0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1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49"/>
          <p:cNvSpPr/>
          <p:nvPr/>
        </p:nvSpPr>
        <p:spPr>
          <a:xfrm>
            <a:off x="0" y="6310440"/>
            <a:ext cx="9144000" cy="561960"/>
          </a:xfrm>
          <a:prstGeom prst="roundRect">
            <a:avLst>
              <a:gd name="adj" fmla="val 26273"/>
            </a:avLst>
          </a:prstGeom>
          <a:solidFill>
            <a:srgbClr val="0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0"/>
          <p:cNvSpPr/>
          <p:nvPr/>
        </p:nvSpPr>
        <p:spPr>
          <a:xfrm>
            <a:off x="0" y="533520"/>
            <a:ext cx="9144000" cy="6057720"/>
          </a:xfrm>
          <a:prstGeom prst="rect">
            <a:avLst/>
          </a:prstGeom>
          <a:solidFill>
            <a:srgbClr val="36a0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7"/>
          <p:cNvSpPr/>
          <p:nvPr/>
        </p:nvSpPr>
        <p:spPr>
          <a:xfrm>
            <a:off x="0" y="6477120"/>
            <a:ext cx="9144000" cy="114120"/>
          </a:xfrm>
          <a:prstGeom prst="rect">
            <a:avLst/>
          </a:prstGeom>
          <a:solidFill>
            <a:srgbClr val="347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100"/>
          <p:cNvGrpSpPr/>
          <p:nvPr/>
        </p:nvGrpSpPr>
        <p:grpSpPr>
          <a:xfrm>
            <a:off x="6463800" y="4392720"/>
            <a:ext cx="2371320" cy="2375280"/>
            <a:chOff x="6463800" y="4392720"/>
            <a:chExt cx="2371320" cy="2375280"/>
          </a:xfrm>
        </p:grpSpPr>
        <p:grpSp>
          <p:nvGrpSpPr>
            <p:cNvPr id="147" name="Group 101"/>
            <p:cNvGrpSpPr/>
            <p:nvPr/>
          </p:nvGrpSpPr>
          <p:grpSpPr>
            <a:xfrm>
              <a:off x="7334640" y="4392720"/>
              <a:ext cx="1492920" cy="1927080"/>
              <a:chOff x="7334640" y="4392720"/>
              <a:chExt cx="1492920" cy="1927080"/>
            </a:xfrm>
          </p:grpSpPr>
          <p:sp>
            <p:nvSpPr>
              <p:cNvPr id="148" name="AutoShape 102"/>
              <p:cNvSpPr/>
              <p:nvPr/>
            </p:nvSpPr>
            <p:spPr>
              <a:xfrm flipH="1">
                <a:off x="7335000" y="5281200"/>
                <a:ext cx="586800" cy="293040"/>
              </a:xfrm>
              <a:prstGeom prst="diamond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103"/>
              <p:cNvSpPr/>
              <p:nvPr/>
            </p:nvSpPr>
            <p:spPr>
              <a:xfrm flipH="1">
                <a:off x="7628400" y="5424840"/>
                <a:ext cx="293040" cy="4449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104"/>
              <p:cNvSpPr/>
              <p:nvPr/>
            </p:nvSpPr>
            <p:spPr>
              <a:xfrm>
                <a:off x="7335000" y="5424840"/>
                <a:ext cx="293400" cy="4449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AutoShape 105"/>
              <p:cNvSpPr/>
              <p:nvPr/>
            </p:nvSpPr>
            <p:spPr>
              <a:xfrm flipH="1">
                <a:off x="7335000" y="4981320"/>
                <a:ext cx="586800" cy="293400"/>
              </a:xfrm>
              <a:prstGeom prst="diamond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Freeform 106"/>
              <p:cNvSpPr/>
              <p:nvPr/>
            </p:nvSpPr>
            <p:spPr>
              <a:xfrm flipH="1">
                <a:off x="7628400" y="5125680"/>
                <a:ext cx="293040" cy="4449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Freeform 107"/>
              <p:cNvSpPr/>
              <p:nvPr/>
            </p:nvSpPr>
            <p:spPr>
              <a:xfrm>
                <a:off x="7336440" y="5127480"/>
                <a:ext cx="293400" cy="4449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Group 108"/>
              <p:cNvGrpSpPr/>
              <p:nvPr/>
            </p:nvGrpSpPr>
            <p:grpSpPr>
              <a:xfrm>
                <a:off x="7335000" y="4684320"/>
                <a:ext cx="586800" cy="590040"/>
                <a:chOff x="7335000" y="4684320"/>
                <a:chExt cx="586800" cy="590040"/>
              </a:xfrm>
            </p:grpSpPr>
            <p:sp>
              <p:nvSpPr>
                <p:cNvPr id="155" name="AutoShape 109"/>
                <p:cNvSpPr/>
                <p:nvPr/>
              </p:nvSpPr>
              <p:spPr>
                <a:xfrm flipH="1">
                  <a:off x="7335000" y="4684320"/>
                  <a:ext cx="586800" cy="29376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Freeform 110"/>
                <p:cNvSpPr/>
                <p:nvPr/>
              </p:nvSpPr>
              <p:spPr>
                <a:xfrm flipH="1">
                  <a:off x="7627680" y="4827600"/>
                  <a:ext cx="29340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111"/>
                <p:cNvSpPr/>
                <p:nvPr/>
              </p:nvSpPr>
              <p:spPr>
                <a:xfrm>
                  <a:off x="7336440" y="4828680"/>
                  <a:ext cx="29340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AutoShape 112"/>
              <p:cNvSpPr/>
              <p:nvPr/>
            </p:nvSpPr>
            <p:spPr>
              <a:xfrm flipH="1">
                <a:off x="7631280" y="5428800"/>
                <a:ext cx="587160" cy="293400"/>
              </a:xfrm>
              <a:prstGeom prst="diamond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113"/>
              <p:cNvSpPr/>
              <p:nvPr/>
            </p:nvSpPr>
            <p:spPr>
              <a:xfrm flipH="1">
                <a:off x="7919280" y="5572440"/>
                <a:ext cx="293400" cy="4467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114"/>
              <p:cNvSpPr/>
              <p:nvPr/>
            </p:nvSpPr>
            <p:spPr>
              <a:xfrm>
                <a:off x="7632000" y="5572440"/>
                <a:ext cx="293400" cy="4467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" name="Group 115"/>
              <p:cNvGrpSpPr/>
              <p:nvPr/>
            </p:nvGrpSpPr>
            <p:grpSpPr>
              <a:xfrm>
                <a:off x="7631640" y="5131440"/>
                <a:ext cx="587160" cy="590400"/>
                <a:chOff x="7631640" y="5131440"/>
                <a:chExt cx="587160" cy="590400"/>
              </a:xfrm>
            </p:grpSpPr>
            <p:sp>
              <p:nvSpPr>
                <p:cNvPr id="162" name="AutoShape 116"/>
                <p:cNvSpPr/>
                <p:nvPr/>
              </p:nvSpPr>
              <p:spPr>
                <a:xfrm flipH="1">
                  <a:off x="7631280" y="5131440"/>
                  <a:ext cx="587160" cy="29376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Freeform 117"/>
                <p:cNvSpPr/>
                <p:nvPr/>
              </p:nvSpPr>
              <p:spPr>
                <a:xfrm flipH="1">
                  <a:off x="7924680" y="5274720"/>
                  <a:ext cx="29340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Freeform 118"/>
                <p:cNvSpPr/>
                <p:nvPr/>
              </p:nvSpPr>
              <p:spPr>
                <a:xfrm>
                  <a:off x="7633440" y="5276160"/>
                  <a:ext cx="29340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Group 119"/>
              <p:cNvGrpSpPr/>
              <p:nvPr/>
            </p:nvGrpSpPr>
            <p:grpSpPr>
              <a:xfrm>
                <a:off x="7639920" y="4841640"/>
                <a:ext cx="586800" cy="587880"/>
                <a:chOff x="7639920" y="4841640"/>
                <a:chExt cx="586800" cy="587880"/>
              </a:xfrm>
            </p:grpSpPr>
            <p:sp>
              <p:nvSpPr>
                <p:cNvPr id="166" name="AutoShape 120"/>
                <p:cNvSpPr/>
                <p:nvPr/>
              </p:nvSpPr>
              <p:spPr>
                <a:xfrm flipH="1">
                  <a:off x="7639920" y="4841640"/>
                  <a:ext cx="58680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Freeform 121"/>
                <p:cNvSpPr/>
                <p:nvPr/>
              </p:nvSpPr>
              <p:spPr>
                <a:xfrm flipH="1">
                  <a:off x="7926840" y="498348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Freeform 122"/>
                <p:cNvSpPr/>
                <p:nvPr/>
              </p:nvSpPr>
              <p:spPr>
                <a:xfrm>
                  <a:off x="7641360" y="49849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Group 123"/>
              <p:cNvGrpSpPr/>
              <p:nvPr/>
            </p:nvGrpSpPr>
            <p:grpSpPr>
              <a:xfrm>
                <a:off x="7937640" y="5583960"/>
                <a:ext cx="586800" cy="588960"/>
                <a:chOff x="7937640" y="5583960"/>
                <a:chExt cx="586800" cy="588960"/>
              </a:xfrm>
            </p:grpSpPr>
            <p:sp>
              <p:nvSpPr>
                <p:cNvPr id="170" name="AutoShape 124"/>
                <p:cNvSpPr/>
                <p:nvPr/>
              </p:nvSpPr>
              <p:spPr>
                <a:xfrm flipH="1">
                  <a:off x="7937640" y="5583960"/>
                  <a:ext cx="58680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Freeform 125"/>
                <p:cNvSpPr/>
                <p:nvPr/>
              </p:nvSpPr>
              <p:spPr>
                <a:xfrm flipH="1">
                  <a:off x="8230320" y="572688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Freeform 126"/>
                <p:cNvSpPr/>
                <p:nvPr/>
              </p:nvSpPr>
              <p:spPr>
                <a:xfrm>
                  <a:off x="7939080" y="57283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Group 127"/>
              <p:cNvGrpSpPr/>
              <p:nvPr/>
            </p:nvGrpSpPr>
            <p:grpSpPr>
              <a:xfrm>
                <a:off x="7933680" y="5288760"/>
                <a:ext cx="586800" cy="587880"/>
                <a:chOff x="7933680" y="5288760"/>
                <a:chExt cx="586800" cy="587880"/>
              </a:xfrm>
            </p:grpSpPr>
            <p:sp>
              <p:nvSpPr>
                <p:cNvPr id="174" name="AutoShape 128"/>
                <p:cNvSpPr/>
                <p:nvPr/>
              </p:nvSpPr>
              <p:spPr>
                <a:xfrm flipH="1">
                  <a:off x="7933680" y="5288760"/>
                  <a:ext cx="586800" cy="292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Freeform 129"/>
                <p:cNvSpPr/>
                <p:nvPr/>
              </p:nvSpPr>
              <p:spPr>
                <a:xfrm flipH="1">
                  <a:off x="8222400" y="5432040"/>
                  <a:ext cx="293400" cy="4424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Freeform 130"/>
                <p:cNvSpPr/>
                <p:nvPr/>
              </p:nvSpPr>
              <p:spPr>
                <a:xfrm>
                  <a:off x="7939080" y="543204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131"/>
              <p:cNvGrpSpPr/>
              <p:nvPr/>
            </p:nvGrpSpPr>
            <p:grpSpPr>
              <a:xfrm>
                <a:off x="7933680" y="4993200"/>
                <a:ext cx="586800" cy="582120"/>
                <a:chOff x="7933680" y="4993200"/>
                <a:chExt cx="586800" cy="582120"/>
              </a:xfrm>
            </p:grpSpPr>
            <p:sp>
              <p:nvSpPr>
                <p:cNvPr id="178" name="AutoShape 132"/>
                <p:cNvSpPr/>
                <p:nvPr/>
              </p:nvSpPr>
              <p:spPr>
                <a:xfrm flipH="1">
                  <a:off x="7933680" y="4993200"/>
                  <a:ext cx="58680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Freeform 133"/>
                <p:cNvSpPr/>
                <p:nvPr/>
              </p:nvSpPr>
              <p:spPr>
                <a:xfrm flipH="1">
                  <a:off x="8222400" y="512928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Freeform 134"/>
                <p:cNvSpPr/>
                <p:nvPr/>
              </p:nvSpPr>
              <p:spPr>
                <a:xfrm>
                  <a:off x="7937640" y="51307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Group 135"/>
              <p:cNvGrpSpPr/>
              <p:nvPr/>
            </p:nvGrpSpPr>
            <p:grpSpPr>
              <a:xfrm>
                <a:off x="8240400" y="5731920"/>
                <a:ext cx="586440" cy="587880"/>
                <a:chOff x="8240400" y="5731920"/>
                <a:chExt cx="586440" cy="587880"/>
              </a:xfrm>
            </p:grpSpPr>
            <p:sp>
              <p:nvSpPr>
                <p:cNvPr id="182" name="AutoShape 136"/>
                <p:cNvSpPr/>
                <p:nvPr/>
              </p:nvSpPr>
              <p:spPr>
                <a:xfrm flipH="1">
                  <a:off x="8240040" y="5731920"/>
                  <a:ext cx="586440" cy="292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Freeform 137"/>
                <p:cNvSpPr/>
                <p:nvPr/>
              </p:nvSpPr>
              <p:spPr>
                <a:xfrm flipH="1">
                  <a:off x="8533080" y="5875200"/>
                  <a:ext cx="293400" cy="4424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Freeform 138"/>
                <p:cNvSpPr/>
                <p:nvPr/>
              </p:nvSpPr>
              <p:spPr>
                <a:xfrm>
                  <a:off x="8242200" y="58752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Group 139"/>
              <p:cNvGrpSpPr/>
              <p:nvPr/>
            </p:nvGrpSpPr>
            <p:grpSpPr>
              <a:xfrm>
                <a:off x="8240760" y="5436360"/>
                <a:ext cx="586800" cy="588960"/>
                <a:chOff x="8240760" y="5436360"/>
                <a:chExt cx="586800" cy="588960"/>
              </a:xfrm>
            </p:grpSpPr>
            <p:sp>
              <p:nvSpPr>
                <p:cNvPr id="186" name="AutoShape 140"/>
                <p:cNvSpPr/>
                <p:nvPr/>
              </p:nvSpPr>
              <p:spPr>
                <a:xfrm flipH="1">
                  <a:off x="8240760" y="5436360"/>
                  <a:ext cx="58680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Freeform 141"/>
                <p:cNvSpPr/>
                <p:nvPr/>
              </p:nvSpPr>
              <p:spPr>
                <a:xfrm flipH="1">
                  <a:off x="8533440" y="557928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Freeform 142"/>
                <p:cNvSpPr/>
                <p:nvPr/>
              </p:nvSpPr>
              <p:spPr>
                <a:xfrm>
                  <a:off x="8241840" y="558036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Group 143"/>
              <p:cNvGrpSpPr/>
              <p:nvPr/>
            </p:nvGrpSpPr>
            <p:grpSpPr>
              <a:xfrm>
                <a:off x="8240760" y="5141160"/>
                <a:ext cx="586800" cy="588240"/>
                <a:chOff x="8240760" y="5141160"/>
                <a:chExt cx="586800" cy="588240"/>
              </a:xfrm>
            </p:grpSpPr>
            <p:sp>
              <p:nvSpPr>
                <p:cNvPr id="190" name="AutoShape 144"/>
                <p:cNvSpPr/>
                <p:nvPr/>
              </p:nvSpPr>
              <p:spPr>
                <a:xfrm flipH="1">
                  <a:off x="8240760" y="5141160"/>
                  <a:ext cx="586800" cy="292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Freeform 145"/>
                <p:cNvSpPr/>
                <p:nvPr/>
              </p:nvSpPr>
              <p:spPr>
                <a:xfrm flipH="1">
                  <a:off x="8533440" y="528372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Freeform 146"/>
                <p:cNvSpPr/>
                <p:nvPr/>
              </p:nvSpPr>
              <p:spPr>
                <a:xfrm>
                  <a:off x="8241840" y="5285520"/>
                  <a:ext cx="293400" cy="4438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Group 147"/>
              <p:cNvGrpSpPr/>
              <p:nvPr/>
            </p:nvGrpSpPr>
            <p:grpSpPr>
              <a:xfrm>
                <a:off x="7334640" y="4392720"/>
                <a:ext cx="586440" cy="587880"/>
                <a:chOff x="7334640" y="4392720"/>
                <a:chExt cx="586440" cy="587880"/>
              </a:xfrm>
            </p:grpSpPr>
            <p:sp>
              <p:nvSpPr>
                <p:cNvPr id="194" name="AutoShape 148"/>
                <p:cNvSpPr/>
                <p:nvPr/>
              </p:nvSpPr>
              <p:spPr>
                <a:xfrm flipH="1">
                  <a:off x="7334280" y="4392720"/>
                  <a:ext cx="58644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Freeform 149"/>
                <p:cNvSpPr/>
                <p:nvPr/>
              </p:nvSpPr>
              <p:spPr>
                <a:xfrm flipH="1">
                  <a:off x="7619760" y="45360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Freeform 150"/>
                <p:cNvSpPr/>
                <p:nvPr/>
              </p:nvSpPr>
              <p:spPr>
                <a:xfrm>
                  <a:off x="7335000" y="45360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Group 151"/>
              <p:cNvGrpSpPr/>
              <p:nvPr/>
            </p:nvGrpSpPr>
            <p:grpSpPr>
              <a:xfrm>
                <a:off x="7638120" y="4540320"/>
                <a:ext cx="586800" cy="590400"/>
                <a:chOff x="7638120" y="4540320"/>
                <a:chExt cx="586800" cy="590400"/>
              </a:xfrm>
            </p:grpSpPr>
            <p:sp>
              <p:nvSpPr>
                <p:cNvPr id="198" name="AutoShape 152"/>
                <p:cNvSpPr/>
                <p:nvPr/>
              </p:nvSpPr>
              <p:spPr>
                <a:xfrm flipH="1">
                  <a:off x="7638120" y="4540320"/>
                  <a:ext cx="586800" cy="29376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Freeform 153"/>
                <p:cNvSpPr/>
                <p:nvPr/>
              </p:nvSpPr>
              <p:spPr>
                <a:xfrm flipH="1">
                  <a:off x="7930800" y="4683600"/>
                  <a:ext cx="29340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54"/>
                <p:cNvSpPr/>
                <p:nvPr/>
              </p:nvSpPr>
              <p:spPr>
                <a:xfrm>
                  <a:off x="7639560" y="4685040"/>
                  <a:ext cx="29340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Group 155"/>
              <p:cNvGrpSpPr/>
              <p:nvPr/>
            </p:nvGrpSpPr>
            <p:grpSpPr>
              <a:xfrm>
                <a:off x="7937280" y="4690080"/>
                <a:ext cx="586440" cy="590040"/>
                <a:chOff x="7937280" y="4690080"/>
                <a:chExt cx="586440" cy="590040"/>
              </a:xfrm>
            </p:grpSpPr>
            <p:sp>
              <p:nvSpPr>
                <p:cNvPr id="202" name="AutoShape 156"/>
                <p:cNvSpPr/>
                <p:nvPr/>
              </p:nvSpPr>
              <p:spPr>
                <a:xfrm flipH="1">
                  <a:off x="7936920" y="4690080"/>
                  <a:ext cx="58644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57"/>
                <p:cNvSpPr/>
                <p:nvPr/>
              </p:nvSpPr>
              <p:spPr>
                <a:xfrm flipH="1">
                  <a:off x="8220240" y="483408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8"/>
                <p:cNvSpPr/>
                <p:nvPr/>
              </p:nvSpPr>
              <p:spPr>
                <a:xfrm>
                  <a:off x="7939080" y="48355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Group 159"/>
              <p:cNvGrpSpPr/>
              <p:nvPr/>
            </p:nvGrpSpPr>
            <p:grpSpPr>
              <a:xfrm>
                <a:off x="8240400" y="4845600"/>
                <a:ext cx="586440" cy="587880"/>
                <a:chOff x="8240400" y="4845600"/>
                <a:chExt cx="586440" cy="587880"/>
              </a:xfrm>
            </p:grpSpPr>
            <p:sp>
              <p:nvSpPr>
                <p:cNvPr id="206" name="AutoShape 160"/>
                <p:cNvSpPr/>
                <p:nvPr/>
              </p:nvSpPr>
              <p:spPr>
                <a:xfrm flipH="1">
                  <a:off x="8240040" y="4845600"/>
                  <a:ext cx="58644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61"/>
                <p:cNvSpPr/>
                <p:nvPr/>
              </p:nvSpPr>
              <p:spPr>
                <a:xfrm flipH="1">
                  <a:off x="8533080" y="4988880"/>
                  <a:ext cx="293400" cy="442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2"/>
                <p:cNvSpPr/>
                <p:nvPr/>
              </p:nvSpPr>
              <p:spPr>
                <a:xfrm>
                  <a:off x="8242200" y="498888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9" name="Group 163"/>
            <p:cNvGrpSpPr/>
            <p:nvPr/>
          </p:nvGrpSpPr>
          <p:grpSpPr>
            <a:xfrm>
              <a:off x="6463800" y="4828320"/>
              <a:ext cx="1492560" cy="1927800"/>
              <a:chOff x="6463800" y="4828320"/>
              <a:chExt cx="1492560" cy="1927800"/>
            </a:xfrm>
          </p:grpSpPr>
          <p:sp>
            <p:nvSpPr>
              <p:cNvPr id="210" name="AutoShape 164"/>
              <p:cNvSpPr/>
              <p:nvPr/>
            </p:nvSpPr>
            <p:spPr>
              <a:xfrm flipH="1">
                <a:off x="6464160" y="5716440"/>
                <a:ext cx="586800" cy="293400"/>
              </a:xfrm>
              <a:prstGeom prst="diamond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Freeform 165"/>
              <p:cNvSpPr/>
              <p:nvPr/>
            </p:nvSpPr>
            <p:spPr>
              <a:xfrm flipH="1">
                <a:off x="6756840" y="5860080"/>
                <a:ext cx="293400" cy="4449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166"/>
              <p:cNvSpPr/>
              <p:nvPr/>
            </p:nvSpPr>
            <p:spPr>
              <a:xfrm>
                <a:off x="6464160" y="5860080"/>
                <a:ext cx="293400" cy="4449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AutoShape 167"/>
              <p:cNvSpPr/>
              <p:nvPr/>
            </p:nvSpPr>
            <p:spPr>
              <a:xfrm flipH="1">
                <a:off x="6464160" y="5417280"/>
                <a:ext cx="586800" cy="293400"/>
              </a:xfrm>
              <a:prstGeom prst="diamond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Freeform 168"/>
              <p:cNvSpPr/>
              <p:nvPr/>
            </p:nvSpPr>
            <p:spPr>
              <a:xfrm flipH="1">
                <a:off x="6756840" y="5560920"/>
                <a:ext cx="293400" cy="4449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Freeform 169"/>
              <p:cNvSpPr/>
              <p:nvPr/>
            </p:nvSpPr>
            <p:spPr>
              <a:xfrm>
                <a:off x="6466320" y="5563080"/>
                <a:ext cx="293400" cy="4446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" name="Group 170"/>
              <p:cNvGrpSpPr/>
              <p:nvPr/>
            </p:nvGrpSpPr>
            <p:grpSpPr>
              <a:xfrm>
                <a:off x="6464160" y="5119560"/>
                <a:ext cx="586800" cy="590760"/>
                <a:chOff x="6464160" y="5119560"/>
                <a:chExt cx="586800" cy="590760"/>
              </a:xfrm>
            </p:grpSpPr>
            <p:sp>
              <p:nvSpPr>
                <p:cNvPr id="217" name="AutoShape 171"/>
                <p:cNvSpPr/>
                <p:nvPr/>
              </p:nvSpPr>
              <p:spPr>
                <a:xfrm flipH="1">
                  <a:off x="6464160" y="5119560"/>
                  <a:ext cx="586800" cy="2941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172"/>
                <p:cNvSpPr/>
                <p:nvPr/>
              </p:nvSpPr>
              <p:spPr>
                <a:xfrm flipH="1">
                  <a:off x="6756840" y="526284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173"/>
                <p:cNvSpPr/>
                <p:nvPr/>
              </p:nvSpPr>
              <p:spPr>
                <a:xfrm>
                  <a:off x="6465600" y="526428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AutoShape 174"/>
              <p:cNvSpPr/>
              <p:nvPr/>
            </p:nvSpPr>
            <p:spPr>
              <a:xfrm flipH="1">
                <a:off x="6761520" y="5864400"/>
                <a:ext cx="586800" cy="293400"/>
              </a:xfrm>
              <a:prstGeom prst="diamond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Freeform 175"/>
              <p:cNvSpPr/>
              <p:nvPr/>
            </p:nvSpPr>
            <p:spPr>
              <a:xfrm flipH="1">
                <a:off x="7048440" y="6008040"/>
                <a:ext cx="293400" cy="4474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Freeform 176"/>
              <p:cNvSpPr/>
              <p:nvPr/>
            </p:nvSpPr>
            <p:spPr>
              <a:xfrm>
                <a:off x="6761520" y="6008040"/>
                <a:ext cx="293400" cy="4474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3" name="Group 177"/>
              <p:cNvGrpSpPr/>
              <p:nvPr/>
            </p:nvGrpSpPr>
            <p:grpSpPr>
              <a:xfrm>
                <a:off x="6761520" y="5566680"/>
                <a:ext cx="586800" cy="590760"/>
                <a:chOff x="6761520" y="5566680"/>
                <a:chExt cx="586800" cy="590760"/>
              </a:xfrm>
            </p:grpSpPr>
            <p:sp>
              <p:nvSpPr>
                <p:cNvPr id="224" name="AutoShape 178"/>
                <p:cNvSpPr/>
                <p:nvPr/>
              </p:nvSpPr>
              <p:spPr>
                <a:xfrm flipH="1">
                  <a:off x="6761520" y="5566680"/>
                  <a:ext cx="586800" cy="29412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179"/>
                <p:cNvSpPr/>
                <p:nvPr/>
              </p:nvSpPr>
              <p:spPr>
                <a:xfrm flipH="1">
                  <a:off x="7054200" y="570996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180"/>
                <p:cNvSpPr/>
                <p:nvPr/>
              </p:nvSpPr>
              <p:spPr>
                <a:xfrm>
                  <a:off x="6762960" y="571140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Group 181"/>
              <p:cNvGrpSpPr/>
              <p:nvPr/>
            </p:nvGrpSpPr>
            <p:grpSpPr>
              <a:xfrm>
                <a:off x="6769440" y="5276880"/>
                <a:ext cx="586080" cy="588600"/>
                <a:chOff x="6769440" y="5276880"/>
                <a:chExt cx="586080" cy="588600"/>
              </a:xfrm>
            </p:grpSpPr>
            <p:sp>
              <p:nvSpPr>
                <p:cNvPr id="228" name="AutoShape 182"/>
                <p:cNvSpPr/>
                <p:nvPr/>
              </p:nvSpPr>
              <p:spPr>
                <a:xfrm flipH="1">
                  <a:off x="6769440" y="5276880"/>
                  <a:ext cx="58608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183"/>
                <p:cNvSpPr/>
                <p:nvPr/>
              </p:nvSpPr>
              <p:spPr>
                <a:xfrm flipH="1">
                  <a:off x="7056720" y="541872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184"/>
                <p:cNvSpPr/>
                <p:nvPr/>
              </p:nvSpPr>
              <p:spPr>
                <a:xfrm>
                  <a:off x="6771600" y="542052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Group 185"/>
              <p:cNvGrpSpPr/>
              <p:nvPr/>
            </p:nvGrpSpPr>
            <p:grpSpPr>
              <a:xfrm>
                <a:off x="7066440" y="6019920"/>
                <a:ext cx="586800" cy="588600"/>
                <a:chOff x="7066440" y="6019920"/>
                <a:chExt cx="586800" cy="588600"/>
              </a:xfrm>
            </p:grpSpPr>
            <p:sp>
              <p:nvSpPr>
                <p:cNvPr id="232" name="AutoShape 186"/>
                <p:cNvSpPr/>
                <p:nvPr/>
              </p:nvSpPr>
              <p:spPr>
                <a:xfrm flipH="1">
                  <a:off x="7066440" y="6019920"/>
                  <a:ext cx="58680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187"/>
                <p:cNvSpPr/>
                <p:nvPr/>
              </p:nvSpPr>
              <p:spPr>
                <a:xfrm flipH="1">
                  <a:off x="7359120" y="616284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188"/>
                <p:cNvSpPr/>
                <p:nvPr/>
              </p:nvSpPr>
              <p:spPr>
                <a:xfrm>
                  <a:off x="7067880" y="61639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Group 189"/>
              <p:cNvGrpSpPr/>
              <p:nvPr/>
            </p:nvGrpSpPr>
            <p:grpSpPr>
              <a:xfrm>
                <a:off x="7062840" y="5724360"/>
                <a:ext cx="586080" cy="588600"/>
                <a:chOff x="7062840" y="5724360"/>
                <a:chExt cx="586080" cy="588600"/>
              </a:xfrm>
            </p:grpSpPr>
            <p:sp>
              <p:nvSpPr>
                <p:cNvPr id="236" name="AutoShape 190"/>
                <p:cNvSpPr/>
                <p:nvPr/>
              </p:nvSpPr>
              <p:spPr>
                <a:xfrm flipH="1">
                  <a:off x="7062840" y="5724360"/>
                  <a:ext cx="58608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191"/>
                <p:cNvSpPr/>
                <p:nvPr/>
              </p:nvSpPr>
              <p:spPr>
                <a:xfrm flipH="1">
                  <a:off x="7351200" y="5868000"/>
                  <a:ext cx="292680" cy="442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192"/>
                <p:cNvSpPr/>
                <p:nvPr/>
              </p:nvSpPr>
              <p:spPr>
                <a:xfrm>
                  <a:off x="7068240" y="586800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Group 193"/>
              <p:cNvGrpSpPr/>
              <p:nvPr/>
            </p:nvGrpSpPr>
            <p:grpSpPr>
              <a:xfrm>
                <a:off x="7062840" y="5428800"/>
                <a:ext cx="586080" cy="582840"/>
                <a:chOff x="7062840" y="5428800"/>
                <a:chExt cx="586080" cy="582840"/>
              </a:xfrm>
            </p:grpSpPr>
            <p:sp>
              <p:nvSpPr>
                <p:cNvPr id="240" name="AutoShape 194"/>
                <p:cNvSpPr/>
                <p:nvPr/>
              </p:nvSpPr>
              <p:spPr>
                <a:xfrm flipH="1">
                  <a:off x="7062840" y="5428800"/>
                  <a:ext cx="58608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195"/>
                <p:cNvSpPr/>
                <p:nvPr/>
              </p:nvSpPr>
              <p:spPr>
                <a:xfrm flipH="1">
                  <a:off x="7351200" y="556452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196"/>
                <p:cNvSpPr/>
                <p:nvPr/>
              </p:nvSpPr>
              <p:spPr>
                <a:xfrm>
                  <a:off x="7066080" y="556668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Group 197"/>
              <p:cNvGrpSpPr/>
              <p:nvPr/>
            </p:nvGrpSpPr>
            <p:grpSpPr>
              <a:xfrm>
                <a:off x="7369200" y="6167520"/>
                <a:ext cx="586440" cy="588600"/>
                <a:chOff x="7369200" y="6167520"/>
                <a:chExt cx="586440" cy="588600"/>
              </a:xfrm>
            </p:grpSpPr>
            <p:sp>
              <p:nvSpPr>
                <p:cNvPr id="244" name="AutoShape 198"/>
                <p:cNvSpPr/>
                <p:nvPr/>
              </p:nvSpPr>
              <p:spPr>
                <a:xfrm flipH="1">
                  <a:off x="7368840" y="6167520"/>
                  <a:ext cx="58644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99"/>
                <p:cNvSpPr/>
                <p:nvPr/>
              </p:nvSpPr>
              <p:spPr>
                <a:xfrm flipH="1">
                  <a:off x="7661880" y="6311160"/>
                  <a:ext cx="293400" cy="442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200"/>
                <p:cNvSpPr/>
                <p:nvPr/>
              </p:nvSpPr>
              <p:spPr>
                <a:xfrm>
                  <a:off x="7371000" y="631116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Group 201"/>
              <p:cNvGrpSpPr/>
              <p:nvPr/>
            </p:nvGrpSpPr>
            <p:grpSpPr>
              <a:xfrm>
                <a:off x="7369560" y="5872320"/>
                <a:ext cx="586800" cy="588600"/>
                <a:chOff x="7369560" y="5872320"/>
                <a:chExt cx="586800" cy="588600"/>
              </a:xfrm>
            </p:grpSpPr>
            <p:sp>
              <p:nvSpPr>
                <p:cNvPr id="248" name="AutoShape 202"/>
                <p:cNvSpPr/>
                <p:nvPr/>
              </p:nvSpPr>
              <p:spPr>
                <a:xfrm flipH="1">
                  <a:off x="7369560" y="5872320"/>
                  <a:ext cx="586800" cy="292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203"/>
                <p:cNvSpPr/>
                <p:nvPr/>
              </p:nvSpPr>
              <p:spPr>
                <a:xfrm flipH="1">
                  <a:off x="7662240" y="601524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204"/>
                <p:cNvSpPr/>
                <p:nvPr/>
              </p:nvSpPr>
              <p:spPr>
                <a:xfrm>
                  <a:off x="7370640" y="60163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Group 205"/>
              <p:cNvGrpSpPr/>
              <p:nvPr/>
            </p:nvGrpSpPr>
            <p:grpSpPr>
              <a:xfrm>
                <a:off x="7369560" y="5576400"/>
                <a:ext cx="586800" cy="588960"/>
                <a:chOff x="7369560" y="5576400"/>
                <a:chExt cx="586800" cy="588960"/>
              </a:xfrm>
            </p:grpSpPr>
            <p:sp>
              <p:nvSpPr>
                <p:cNvPr id="252" name="AutoShape 206"/>
                <p:cNvSpPr/>
                <p:nvPr/>
              </p:nvSpPr>
              <p:spPr>
                <a:xfrm flipH="1">
                  <a:off x="7369560" y="5576400"/>
                  <a:ext cx="58680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7"/>
                <p:cNvSpPr/>
                <p:nvPr/>
              </p:nvSpPr>
              <p:spPr>
                <a:xfrm flipH="1">
                  <a:off x="7662240" y="571932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08"/>
                <p:cNvSpPr/>
                <p:nvPr/>
              </p:nvSpPr>
              <p:spPr>
                <a:xfrm>
                  <a:off x="7370640" y="572076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209"/>
              <p:cNvGrpSpPr/>
              <p:nvPr/>
            </p:nvGrpSpPr>
            <p:grpSpPr>
              <a:xfrm>
                <a:off x="6463800" y="4828320"/>
                <a:ext cx="586440" cy="588600"/>
                <a:chOff x="6463800" y="4828320"/>
                <a:chExt cx="586440" cy="588600"/>
              </a:xfrm>
            </p:grpSpPr>
            <p:sp>
              <p:nvSpPr>
                <p:cNvPr id="256" name="AutoShape 210"/>
                <p:cNvSpPr/>
                <p:nvPr/>
              </p:nvSpPr>
              <p:spPr>
                <a:xfrm flipH="1">
                  <a:off x="6463440" y="4828320"/>
                  <a:ext cx="58644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11"/>
                <p:cNvSpPr/>
                <p:nvPr/>
              </p:nvSpPr>
              <p:spPr>
                <a:xfrm flipH="1">
                  <a:off x="6748920" y="497196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12"/>
                <p:cNvSpPr/>
                <p:nvPr/>
              </p:nvSpPr>
              <p:spPr>
                <a:xfrm>
                  <a:off x="6464160" y="497196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Group 213"/>
              <p:cNvGrpSpPr/>
              <p:nvPr/>
            </p:nvGrpSpPr>
            <p:grpSpPr>
              <a:xfrm>
                <a:off x="6767280" y="4975920"/>
                <a:ext cx="586800" cy="590400"/>
                <a:chOff x="6767280" y="4975920"/>
                <a:chExt cx="586800" cy="590400"/>
              </a:xfrm>
            </p:grpSpPr>
            <p:sp>
              <p:nvSpPr>
                <p:cNvPr id="260" name="AutoShape 214"/>
                <p:cNvSpPr/>
                <p:nvPr/>
              </p:nvSpPr>
              <p:spPr>
                <a:xfrm flipH="1">
                  <a:off x="6767280" y="4975920"/>
                  <a:ext cx="586800" cy="29376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15"/>
                <p:cNvSpPr/>
                <p:nvPr/>
              </p:nvSpPr>
              <p:spPr>
                <a:xfrm flipH="1">
                  <a:off x="7059960" y="5119200"/>
                  <a:ext cx="29340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16"/>
                <p:cNvSpPr/>
                <p:nvPr/>
              </p:nvSpPr>
              <p:spPr>
                <a:xfrm>
                  <a:off x="6768720" y="5120640"/>
                  <a:ext cx="29340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Group 217"/>
              <p:cNvGrpSpPr/>
              <p:nvPr/>
            </p:nvGrpSpPr>
            <p:grpSpPr>
              <a:xfrm>
                <a:off x="7066080" y="5125320"/>
                <a:ext cx="586440" cy="590760"/>
                <a:chOff x="7066080" y="5125320"/>
                <a:chExt cx="586440" cy="590760"/>
              </a:xfrm>
            </p:grpSpPr>
            <p:sp>
              <p:nvSpPr>
                <p:cNvPr id="264" name="AutoShape 218"/>
                <p:cNvSpPr/>
                <p:nvPr/>
              </p:nvSpPr>
              <p:spPr>
                <a:xfrm flipH="1">
                  <a:off x="7065720" y="5125320"/>
                  <a:ext cx="58644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219"/>
                <p:cNvSpPr/>
                <p:nvPr/>
              </p:nvSpPr>
              <p:spPr>
                <a:xfrm flipH="1">
                  <a:off x="7349040" y="526932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220"/>
                <p:cNvSpPr/>
                <p:nvPr/>
              </p:nvSpPr>
              <p:spPr>
                <a:xfrm>
                  <a:off x="7067880" y="527112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221"/>
              <p:cNvGrpSpPr/>
              <p:nvPr/>
            </p:nvGrpSpPr>
            <p:grpSpPr>
              <a:xfrm>
                <a:off x="7369560" y="5280840"/>
                <a:ext cx="586800" cy="588600"/>
                <a:chOff x="7369560" y="5280840"/>
                <a:chExt cx="586800" cy="588600"/>
              </a:xfrm>
            </p:grpSpPr>
            <p:sp>
              <p:nvSpPr>
                <p:cNvPr id="268" name="AutoShape 222"/>
                <p:cNvSpPr/>
                <p:nvPr/>
              </p:nvSpPr>
              <p:spPr>
                <a:xfrm flipH="1">
                  <a:off x="7369560" y="5280840"/>
                  <a:ext cx="586800" cy="292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223"/>
                <p:cNvSpPr/>
                <p:nvPr/>
              </p:nvSpPr>
              <p:spPr>
                <a:xfrm flipH="1">
                  <a:off x="7662240" y="542376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224"/>
                <p:cNvSpPr/>
                <p:nvPr/>
              </p:nvSpPr>
              <p:spPr>
                <a:xfrm>
                  <a:off x="7370640" y="542484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1" name="Group 225"/>
            <p:cNvGrpSpPr/>
            <p:nvPr/>
          </p:nvGrpSpPr>
          <p:grpSpPr>
            <a:xfrm>
              <a:off x="7956720" y="5139000"/>
              <a:ext cx="878400" cy="1629000"/>
              <a:chOff x="7956720" y="5139000"/>
              <a:chExt cx="878400" cy="1629000"/>
            </a:xfrm>
          </p:grpSpPr>
          <p:grpSp>
            <p:nvGrpSpPr>
              <p:cNvPr id="272" name="Group 226"/>
              <p:cNvGrpSpPr/>
              <p:nvPr/>
            </p:nvGrpSpPr>
            <p:grpSpPr>
              <a:xfrm>
                <a:off x="8248320" y="6033600"/>
                <a:ext cx="586800" cy="588600"/>
                <a:chOff x="8248320" y="6033600"/>
                <a:chExt cx="586800" cy="588600"/>
              </a:xfrm>
            </p:grpSpPr>
            <p:sp>
              <p:nvSpPr>
                <p:cNvPr id="273" name="AutoShape 227"/>
                <p:cNvSpPr/>
                <p:nvPr/>
              </p:nvSpPr>
              <p:spPr>
                <a:xfrm flipH="1">
                  <a:off x="8248320" y="6033600"/>
                  <a:ext cx="586800" cy="292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228"/>
                <p:cNvSpPr/>
                <p:nvPr/>
              </p:nvSpPr>
              <p:spPr>
                <a:xfrm flipH="1">
                  <a:off x="8541000" y="617652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229"/>
                <p:cNvSpPr/>
                <p:nvPr/>
              </p:nvSpPr>
              <p:spPr>
                <a:xfrm>
                  <a:off x="8249400" y="61776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Group 230"/>
              <p:cNvGrpSpPr/>
              <p:nvPr/>
            </p:nvGrpSpPr>
            <p:grpSpPr>
              <a:xfrm>
                <a:off x="7957080" y="6179040"/>
                <a:ext cx="586080" cy="588960"/>
                <a:chOff x="7957080" y="6179040"/>
                <a:chExt cx="586080" cy="588960"/>
              </a:xfrm>
            </p:grpSpPr>
            <p:sp>
              <p:nvSpPr>
                <p:cNvPr id="277" name="AutoShape 231"/>
                <p:cNvSpPr/>
                <p:nvPr/>
              </p:nvSpPr>
              <p:spPr>
                <a:xfrm flipH="1">
                  <a:off x="7957080" y="6179040"/>
                  <a:ext cx="58608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232"/>
                <p:cNvSpPr/>
                <p:nvPr/>
              </p:nvSpPr>
              <p:spPr>
                <a:xfrm flipH="1">
                  <a:off x="8249040" y="6323040"/>
                  <a:ext cx="293400" cy="442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233"/>
                <p:cNvSpPr/>
                <p:nvPr/>
              </p:nvSpPr>
              <p:spPr>
                <a:xfrm>
                  <a:off x="7958520" y="632304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Group 234"/>
              <p:cNvGrpSpPr/>
              <p:nvPr/>
            </p:nvGrpSpPr>
            <p:grpSpPr>
              <a:xfrm>
                <a:off x="8248320" y="5731920"/>
                <a:ext cx="586800" cy="588960"/>
                <a:chOff x="8248320" y="5731920"/>
                <a:chExt cx="586800" cy="588960"/>
              </a:xfrm>
            </p:grpSpPr>
            <p:sp>
              <p:nvSpPr>
                <p:cNvPr id="281" name="AutoShape 235"/>
                <p:cNvSpPr/>
                <p:nvPr/>
              </p:nvSpPr>
              <p:spPr>
                <a:xfrm flipH="1">
                  <a:off x="8248320" y="5731920"/>
                  <a:ext cx="58680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236"/>
                <p:cNvSpPr/>
                <p:nvPr/>
              </p:nvSpPr>
              <p:spPr>
                <a:xfrm flipH="1">
                  <a:off x="8541000" y="58752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237"/>
                <p:cNvSpPr/>
                <p:nvPr/>
              </p:nvSpPr>
              <p:spPr>
                <a:xfrm>
                  <a:off x="8249760" y="587592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Group 238"/>
              <p:cNvGrpSpPr/>
              <p:nvPr/>
            </p:nvGrpSpPr>
            <p:grpSpPr>
              <a:xfrm>
                <a:off x="7956720" y="5877720"/>
                <a:ext cx="586440" cy="588600"/>
                <a:chOff x="7956720" y="5877720"/>
                <a:chExt cx="586440" cy="588600"/>
              </a:xfrm>
            </p:grpSpPr>
            <p:sp>
              <p:nvSpPr>
                <p:cNvPr id="285" name="AutoShape 239"/>
                <p:cNvSpPr/>
                <p:nvPr/>
              </p:nvSpPr>
              <p:spPr>
                <a:xfrm flipH="1">
                  <a:off x="7956360" y="5877720"/>
                  <a:ext cx="586440" cy="292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240"/>
                <p:cNvSpPr/>
                <p:nvPr/>
              </p:nvSpPr>
              <p:spPr>
                <a:xfrm flipH="1">
                  <a:off x="8250120" y="6020640"/>
                  <a:ext cx="29304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241"/>
                <p:cNvSpPr/>
                <p:nvPr/>
              </p:nvSpPr>
              <p:spPr>
                <a:xfrm>
                  <a:off x="7958160" y="6021720"/>
                  <a:ext cx="29304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Group 242"/>
              <p:cNvGrpSpPr/>
              <p:nvPr/>
            </p:nvGrpSpPr>
            <p:grpSpPr>
              <a:xfrm>
                <a:off x="8248320" y="5430600"/>
                <a:ext cx="586800" cy="590400"/>
                <a:chOff x="8248320" y="5430600"/>
                <a:chExt cx="586800" cy="590400"/>
              </a:xfrm>
            </p:grpSpPr>
            <p:sp>
              <p:nvSpPr>
                <p:cNvPr id="289" name="AutoShape 243"/>
                <p:cNvSpPr/>
                <p:nvPr/>
              </p:nvSpPr>
              <p:spPr>
                <a:xfrm flipH="1">
                  <a:off x="8248320" y="5430600"/>
                  <a:ext cx="586800" cy="29376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244"/>
                <p:cNvSpPr/>
                <p:nvPr/>
              </p:nvSpPr>
              <p:spPr>
                <a:xfrm flipH="1">
                  <a:off x="8541000" y="5573880"/>
                  <a:ext cx="29340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245"/>
                <p:cNvSpPr/>
                <p:nvPr/>
              </p:nvSpPr>
              <p:spPr>
                <a:xfrm>
                  <a:off x="8249760" y="5575320"/>
                  <a:ext cx="29340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Group 246"/>
              <p:cNvGrpSpPr/>
              <p:nvPr/>
            </p:nvGrpSpPr>
            <p:grpSpPr>
              <a:xfrm>
                <a:off x="7956720" y="5576040"/>
                <a:ext cx="586440" cy="590760"/>
                <a:chOff x="7956720" y="5576040"/>
                <a:chExt cx="586440" cy="590760"/>
              </a:xfrm>
            </p:grpSpPr>
            <p:sp>
              <p:nvSpPr>
                <p:cNvPr id="293" name="AutoShape 247"/>
                <p:cNvSpPr/>
                <p:nvPr/>
              </p:nvSpPr>
              <p:spPr>
                <a:xfrm flipH="1">
                  <a:off x="7956360" y="5576040"/>
                  <a:ext cx="586440" cy="29376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248"/>
                <p:cNvSpPr/>
                <p:nvPr/>
              </p:nvSpPr>
              <p:spPr>
                <a:xfrm flipH="1">
                  <a:off x="8250120" y="5719320"/>
                  <a:ext cx="29304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249"/>
                <p:cNvSpPr/>
                <p:nvPr/>
              </p:nvSpPr>
              <p:spPr>
                <a:xfrm>
                  <a:off x="7958160" y="5720760"/>
                  <a:ext cx="29304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250"/>
              <p:cNvGrpSpPr/>
              <p:nvPr/>
            </p:nvGrpSpPr>
            <p:grpSpPr>
              <a:xfrm>
                <a:off x="8248320" y="5139000"/>
                <a:ext cx="586800" cy="588960"/>
                <a:chOff x="8248320" y="5139000"/>
                <a:chExt cx="586800" cy="588960"/>
              </a:xfrm>
            </p:grpSpPr>
            <p:sp>
              <p:nvSpPr>
                <p:cNvPr id="297" name="AutoShape 251"/>
                <p:cNvSpPr/>
                <p:nvPr/>
              </p:nvSpPr>
              <p:spPr>
                <a:xfrm flipH="1">
                  <a:off x="8248320" y="5139000"/>
                  <a:ext cx="58680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Freeform 252"/>
                <p:cNvSpPr/>
                <p:nvPr/>
              </p:nvSpPr>
              <p:spPr>
                <a:xfrm flipH="1">
                  <a:off x="8541000" y="528228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Freeform 253"/>
                <p:cNvSpPr/>
                <p:nvPr/>
              </p:nvSpPr>
              <p:spPr>
                <a:xfrm>
                  <a:off x="8249760" y="528300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Group 254"/>
              <p:cNvGrpSpPr/>
              <p:nvPr/>
            </p:nvGrpSpPr>
            <p:grpSpPr>
              <a:xfrm>
                <a:off x="7956720" y="5284800"/>
                <a:ext cx="586440" cy="588600"/>
                <a:chOff x="7956720" y="5284800"/>
                <a:chExt cx="586440" cy="588600"/>
              </a:xfrm>
            </p:grpSpPr>
            <p:sp>
              <p:nvSpPr>
                <p:cNvPr id="301" name="AutoShape 255"/>
                <p:cNvSpPr/>
                <p:nvPr/>
              </p:nvSpPr>
              <p:spPr>
                <a:xfrm flipH="1">
                  <a:off x="7956360" y="5284800"/>
                  <a:ext cx="586440" cy="292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Freeform 256"/>
                <p:cNvSpPr/>
                <p:nvPr/>
              </p:nvSpPr>
              <p:spPr>
                <a:xfrm flipH="1">
                  <a:off x="8250120" y="5427720"/>
                  <a:ext cx="29304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Freeform 257"/>
                <p:cNvSpPr/>
                <p:nvPr/>
              </p:nvSpPr>
              <p:spPr>
                <a:xfrm>
                  <a:off x="7958160" y="5429160"/>
                  <a:ext cx="29304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4" name="Group 258"/>
          <p:cNvGrpSpPr/>
          <p:nvPr/>
        </p:nvGrpSpPr>
        <p:grpSpPr>
          <a:xfrm>
            <a:off x="6426000" y="4329000"/>
            <a:ext cx="2371320" cy="2375640"/>
            <a:chOff x="6426000" y="4329000"/>
            <a:chExt cx="2371320" cy="2375640"/>
          </a:xfrm>
        </p:grpSpPr>
        <p:grpSp>
          <p:nvGrpSpPr>
            <p:cNvPr id="305" name="Group 259"/>
            <p:cNvGrpSpPr/>
            <p:nvPr/>
          </p:nvGrpSpPr>
          <p:grpSpPr>
            <a:xfrm>
              <a:off x="7296840" y="4329000"/>
              <a:ext cx="1492920" cy="1928160"/>
              <a:chOff x="7296840" y="4329000"/>
              <a:chExt cx="1492920" cy="1928160"/>
            </a:xfrm>
          </p:grpSpPr>
          <p:sp>
            <p:nvSpPr>
              <p:cNvPr id="306" name="AutoShape 260"/>
              <p:cNvSpPr/>
              <p:nvPr/>
            </p:nvSpPr>
            <p:spPr>
              <a:xfrm flipH="1">
                <a:off x="7297200" y="5217480"/>
                <a:ext cx="586800" cy="293040"/>
              </a:xfrm>
              <a:prstGeom prst="diamond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Freeform 261"/>
              <p:cNvSpPr/>
              <p:nvPr/>
            </p:nvSpPr>
            <p:spPr>
              <a:xfrm flipH="1">
                <a:off x="7590600" y="5361480"/>
                <a:ext cx="293040" cy="4449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Freeform 262"/>
              <p:cNvSpPr/>
              <p:nvPr/>
            </p:nvSpPr>
            <p:spPr>
              <a:xfrm>
                <a:off x="7297200" y="5361480"/>
                <a:ext cx="293400" cy="4449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AutoShape 263"/>
              <p:cNvSpPr/>
              <p:nvPr/>
            </p:nvSpPr>
            <p:spPr>
              <a:xfrm flipH="1">
                <a:off x="7297200" y="4917960"/>
                <a:ext cx="586800" cy="293400"/>
              </a:xfrm>
              <a:prstGeom prst="diamond">
                <a:avLst/>
              </a:prstGeom>
              <a:solidFill>
                <a:srgbClr val="347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Freeform 264"/>
              <p:cNvSpPr/>
              <p:nvPr/>
            </p:nvSpPr>
            <p:spPr>
              <a:xfrm flipH="1">
                <a:off x="7590600" y="5061960"/>
                <a:ext cx="293040" cy="4449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Freeform 265"/>
              <p:cNvSpPr/>
              <p:nvPr/>
            </p:nvSpPr>
            <p:spPr>
              <a:xfrm>
                <a:off x="7298640" y="5063760"/>
                <a:ext cx="293400" cy="4449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7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2" name="Group 266"/>
              <p:cNvGrpSpPr/>
              <p:nvPr/>
            </p:nvGrpSpPr>
            <p:grpSpPr>
              <a:xfrm>
                <a:off x="7297200" y="4620600"/>
                <a:ext cx="586800" cy="590400"/>
                <a:chOff x="7297200" y="4620600"/>
                <a:chExt cx="586800" cy="590400"/>
              </a:xfrm>
            </p:grpSpPr>
            <p:sp>
              <p:nvSpPr>
                <p:cNvPr id="313" name="AutoShape 267"/>
                <p:cNvSpPr/>
                <p:nvPr/>
              </p:nvSpPr>
              <p:spPr>
                <a:xfrm flipH="1">
                  <a:off x="7297200" y="4620600"/>
                  <a:ext cx="586800" cy="29376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Freeform 268"/>
                <p:cNvSpPr/>
                <p:nvPr/>
              </p:nvSpPr>
              <p:spPr>
                <a:xfrm flipH="1">
                  <a:off x="7589880" y="4763880"/>
                  <a:ext cx="29340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Freeform 269"/>
                <p:cNvSpPr/>
                <p:nvPr/>
              </p:nvSpPr>
              <p:spPr>
                <a:xfrm>
                  <a:off x="7298640" y="4765320"/>
                  <a:ext cx="29340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6" name="AutoShape 270"/>
              <p:cNvSpPr/>
              <p:nvPr/>
            </p:nvSpPr>
            <p:spPr>
              <a:xfrm flipH="1">
                <a:off x="7593480" y="5365440"/>
                <a:ext cx="587160" cy="293400"/>
              </a:xfrm>
              <a:prstGeom prst="diamond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Freeform 271"/>
              <p:cNvSpPr/>
              <p:nvPr/>
            </p:nvSpPr>
            <p:spPr>
              <a:xfrm flipH="1">
                <a:off x="7881480" y="5509080"/>
                <a:ext cx="293400" cy="4467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Freeform 272"/>
              <p:cNvSpPr/>
              <p:nvPr/>
            </p:nvSpPr>
            <p:spPr>
              <a:xfrm>
                <a:off x="7594200" y="5509080"/>
                <a:ext cx="293400" cy="4467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Group 273"/>
              <p:cNvGrpSpPr/>
              <p:nvPr/>
            </p:nvGrpSpPr>
            <p:grpSpPr>
              <a:xfrm>
                <a:off x="7593840" y="5067720"/>
                <a:ext cx="587160" cy="590760"/>
                <a:chOff x="7593840" y="5067720"/>
                <a:chExt cx="587160" cy="590760"/>
              </a:xfrm>
            </p:grpSpPr>
            <p:sp>
              <p:nvSpPr>
                <p:cNvPr id="320" name="AutoShape 274"/>
                <p:cNvSpPr/>
                <p:nvPr/>
              </p:nvSpPr>
              <p:spPr>
                <a:xfrm flipH="1">
                  <a:off x="7593480" y="5067720"/>
                  <a:ext cx="587160" cy="29412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Freeform 275"/>
                <p:cNvSpPr/>
                <p:nvPr/>
              </p:nvSpPr>
              <p:spPr>
                <a:xfrm flipH="1">
                  <a:off x="7886880" y="521100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Freeform 276"/>
                <p:cNvSpPr/>
                <p:nvPr/>
              </p:nvSpPr>
              <p:spPr>
                <a:xfrm>
                  <a:off x="7595640" y="521244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Group 277"/>
              <p:cNvGrpSpPr/>
              <p:nvPr/>
            </p:nvGrpSpPr>
            <p:grpSpPr>
              <a:xfrm>
                <a:off x="7602120" y="4777920"/>
                <a:ext cx="586800" cy="588600"/>
                <a:chOff x="7602120" y="4777920"/>
                <a:chExt cx="586800" cy="588600"/>
              </a:xfrm>
            </p:grpSpPr>
            <p:sp>
              <p:nvSpPr>
                <p:cNvPr id="324" name="AutoShape 278"/>
                <p:cNvSpPr/>
                <p:nvPr/>
              </p:nvSpPr>
              <p:spPr>
                <a:xfrm flipH="1">
                  <a:off x="7602120" y="4777920"/>
                  <a:ext cx="586800" cy="29340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Freeform 279"/>
                <p:cNvSpPr/>
                <p:nvPr/>
              </p:nvSpPr>
              <p:spPr>
                <a:xfrm flipH="1">
                  <a:off x="7889040" y="491976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Freeform 280"/>
                <p:cNvSpPr/>
                <p:nvPr/>
              </p:nvSpPr>
              <p:spPr>
                <a:xfrm>
                  <a:off x="7603560" y="492156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Group 281"/>
              <p:cNvGrpSpPr/>
              <p:nvPr/>
            </p:nvGrpSpPr>
            <p:grpSpPr>
              <a:xfrm>
                <a:off x="7899840" y="5520600"/>
                <a:ext cx="586800" cy="588960"/>
                <a:chOff x="7899840" y="5520600"/>
                <a:chExt cx="586800" cy="588960"/>
              </a:xfrm>
            </p:grpSpPr>
            <p:sp>
              <p:nvSpPr>
                <p:cNvPr id="328" name="AutoShape 282"/>
                <p:cNvSpPr/>
                <p:nvPr/>
              </p:nvSpPr>
              <p:spPr>
                <a:xfrm flipH="1">
                  <a:off x="7899840" y="5520600"/>
                  <a:ext cx="586800" cy="29304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Freeform 283"/>
                <p:cNvSpPr/>
                <p:nvPr/>
              </p:nvSpPr>
              <p:spPr>
                <a:xfrm flipH="1">
                  <a:off x="8192520" y="56635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Freeform 284"/>
                <p:cNvSpPr/>
                <p:nvPr/>
              </p:nvSpPr>
              <p:spPr>
                <a:xfrm>
                  <a:off x="7901280" y="566496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Group 285"/>
              <p:cNvGrpSpPr/>
              <p:nvPr/>
            </p:nvGrpSpPr>
            <p:grpSpPr>
              <a:xfrm>
                <a:off x="7895880" y="5225040"/>
                <a:ext cx="586800" cy="588600"/>
                <a:chOff x="7895880" y="5225040"/>
                <a:chExt cx="586800" cy="588600"/>
              </a:xfrm>
            </p:grpSpPr>
            <p:sp>
              <p:nvSpPr>
                <p:cNvPr id="332" name="AutoShape 286"/>
                <p:cNvSpPr/>
                <p:nvPr/>
              </p:nvSpPr>
              <p:spPr>
                <a:xfrm flipH="1">
                  <a:off x="7895880" y="5225040"/>
                  <a:ext cx="586800" cy="29304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Freeform 287"/>
                <p:cNvSpPr/>
                <p:nvPr/>
              </p:nvSpPr>
              <p:spPr>
                <a:xfrm flipH="1">
                  <a:off x="8184600" y="5368680"/>
                  <a:ext cx="293400" cy="442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Freeform 288"/>
                <p:cNvSpPr/>
                <p:nvPr/>
              </p:nvSpPr>
              <p:spPr>
                <a:xfrm>
                  <a:off x="7901280" y="536868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Group 289"/>
              <p:cNvGrpSpPr/>
              <p:nvPr/>
            </p:nvGrpSpPr>
            <p:grpSpPr>
              <a:xfrm>
                <a:off x="7895880" y="4929840"/>
                <a:ext cx="586800" cy="582840"/>
                <a:chOff x="7895880" y="4929840"/>
                <a:chExt cx="586800" cy="582840"/>
              </a:xfrm>
            </p:grpSpPr>
            <p:sp>
              <p:nvSpPr>
                <p:cNvPr id="336" name="AutoShape 290"/>
                <p:cNvSpPr/>
                <p:nvPr/>
              </p:nvSpPr>
              <p:spPr>
                <a:xfrm flipH="1">
                  <a:off x="7895880" y="4929840"/>
                  <a:ext cx="586800" cy="29340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Freeform 291"/>
                <p:cNvSpPr/>
                <p:nvPr/>
              </p:nvSpPr>
              <p:spPr>
                <a:xfrm flipH="1">
                  <a:off x="8184600" y="50659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Freeform 292"/>
                <p:cNvSpPr/>
                <p:nvPr/>
              </p:nvSpPr>
              <p:spPr>
                <a:xfrm>
                  <a:off x="7899840" y="506772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Group 293"/>
              <p:cNvGrpSpPr/>
              <p:nvPr/>
            </p:nvGrpSpPr>
            <p:grpSpPr>
              <a:xfrm>
                <a:off x="8202600" y="5668560"/>
                <a:ext cx="586440" cy="588600"/>
                <a:chOff x="8202600" y="5668560"/>
                <a:chExt cx="586440" cy="588600"/>
              </a:xfrm>
            </p:grpSpPr>
            <p:sp>
              <p:nvSpPr>
                <p:cNvPr id="340" name="AutoShape 294"/>
                <p:cNvSpPr/>
                <p:nvPr/>
              </p:nvSpPr>
              <p:spPr>
                <a:xfrm flipH="1">
                  <a:off x="8202240" y="5668560"/>
                  <a:ext cx="586440" cy="29304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Freeform 295"/>
                <p:cNvSpPr/>
                <p:nvPr/>
              </p:nvSpPr>
              <p:spPr>
                <a:xfrm flipH="1">
                  <a:off x="8495280" y="5812200"/>
                  <a:ext cx="293400" cy="442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Freeform 296"/>
                <p:cNvSpPr/>
                <p:nvPr/>
              </p:nvSpPr>
              <p:spPr>
                <a:xfrm>
                  <a:off x="8204400" y="581220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Group 297"/>
              <p:cNvGrpSpPr/>
              <p:nvPr/>
            </p:nvGrpSpPr>
            <p:grpSpPr>
              <a:xfrm>
                <a:off x="8202960" y="5372640"/>
                <a:ext cx="586800" cy="588960"/>
                <a:chOff x="8202960" y="5372640"/>
                <a:chExt cx="586800" cy="588960"/>
              </a:xfrm>
            </p:grpSpPr>
            <p:sp>
              <p:nvSpPr>
                <p:cNvPr id="344" name="AutoShape 298"/>
                <p:cNvSpPr/>
                <p:nvPr/>
              </p:nvSpPr>
              <p:spPr>
                <a:xfrm flipH="1">
                  <a:off x="8202960" y="5372640"/>
                  <a:ext cx="586800" cy="29304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Freeform 299"/>
                <p:cNvSpPr/>
                <p:nvPr/>
              </p:nvSpPr>
              <p:spPr>
                <a:xfrm flipH="1">
                  <a:off x="8495640" y="551556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Freeform 300"/>
                <p:cNvSpPr/>
                <p:nvPr/>
              </p:nvSpPr>
              <p:spPr>
                <a:xfrm>
                  <a:off x="8204040" y="551664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Group 301"/>
              <p:cNvGrpSpPr/>
              <p:nvPr/>
            </p:nvGrpSpPr>
            <p:grpSpPr>
              <a:xfrm>
                <a:off x="8202960" y="5077440"/>
                <a:ext cx="586800" cy="588600"/>
                <a:chOff x="8202960" y="5077440"/>
                <a:chExt cx="586800" cy="588600"/>
              </a:xfrm>
            </p:grpSpPr>
            <p:sp>
              <p:nvSpPr>
                <p:cNvPr id="348" name="AutoShape 302"/>
                <p:cNvSpPr/>
                <p:nvPr/>
              </p:nvSpPr>
              <p:spPr>
                <a:xfrm flipH="1">
                  <a:off x="8202960" y="5077440"/>
                  <a:ext cx="586800" cy="29268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Freeform 303"/>
                <p:cNvSpPr/>
                <p:nvPr/>
              </p:nvSpPr>
              <p:spPr>
                <a:xfrm flipH="1">
                  <a:off x="8495640" y="522036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Freeform 304"/>
                <p:cNvSpPr/>
                <p:nvPr/>
              </p:nvSpPr>
              <p:spPr>
                <a:xfrm>
                  <a:off x="8204040" y="522180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305"/>
              <p:cNvGrpSpPr/>
              <p:nvPr/>
            </p:nvGrpSpPr>
            <p:grpSpPr>
              <a:xfrm>
                <a:off x="7296840" y="4329000"/>
                <a:ext cx="586440" cy="588600"/>
                <a:chOff x="7296840" y="4329000"/>
                <a:chExt cx="586440" cy="588600"/>
              </a:xfrm>
            </p:grpSpPr>
            <p:sp>
              <p:nvSpPr>
                <p:cNvPr id="352" name="AutoShape 306"/>
                <p:cNvSpPr/>
                <p:nvPr/>
              </p:nvSpPr>
              <p:spPr>
                <a:xfrm flipH="1">
                  <a:off x="7296480" y="4329000"/>
                  <a:ext cx="586440" cy="29340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Freeform 307"/>
                <p:cNvSpPr/>
                <p:nvPr/>
              </p:nvSpPr>
              <p:spPr>
                <a:xfrm flipH="1">
                  <a:off x="7581960" y="447264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Freeform 308"/>
                <p:cNvSpPr/>
                <p:nvPr/>
              </p:nvSpPr>
              <p:spPr>
                <a:xfrm>
                  <a:off x="7297200" y="447264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Group 309"/>
              <p:cNvGrpSpPr/>
              <p:nvPr/>
            </p:nvGrpSpPr>
            <p:grpSpPr>
              <a:xfrm>
                <a:off x="7600320" y="4476600"/>
                <a:ext cx="586800" cy="590760"/>
                <a:chOff x="7600320" y="4476600"/>
                <a:chExt cx="586800" cy="590760"/>
              </a:xfrm>
            </p:grpSpPr>
            <p:sp>
              <p:nvSpPr>
                <p:cNvPr id="356" name="AutoShape 310"/>
                <p:cNvSpPr/>
                <p:nvPr/>
              </p:nvSpPr>
              <p:spPr>
                <a:xfrm flipH="1">
                  <a:off x="7600320" y="4476600"/>
                  <a:ext cx="586800" cy="29412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Freeform 311"/>
                <p:cNvSpPr/>
                <p:nvPr/>
              </p:nvSpPr>
              <p:spPr>
                <a:xfrm flipH="1">
                  <a:off x="7893000" y="461988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Freeform 312"/>
                <p:cNvSpPr/>
                <p:nvPr/>
              </p:nvSpPr>
              <p:spPr>
                <a:xfrm>
                  <a:off x="7601760" y="462132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Group 313"/>
              <p:cNvGrpSpPr/>
              <p:nvPr/>
            </p:nvGrpSpPr>
            <p:grpSpPr>
              <a:xfrm>
                <a:off x="7899480" y="4626360"/>
                <a:ext cx="586440" cy="590760"/>
                <a:chOff x="7899480" y="4626360"/>
                <a:chExt cx="586440" cy="590760"/>
              </a:xfrm>
            </p:grpSpPr>
            <p:sp>
              <p:nvSpPr>
                <p:cNvPr id="360" name="AutoShape 314"/>
                <p:cNvSpPr/>
                <p:nvPr/>
              </p:nvSpPr>
              <p:spPr>
                <a:xfrm flipH="1">
                  <a:off x="7899120" y="4626360"/>
                  <a:ext cx="586440" cy="29340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Freeform 315"/>
                <p:cNvSpPr/>
                <p:nvPr/>
              </p:nvSpPr>
              <p:spPr>
                <a:xfrm flipH="1">
                  <a:off x="8182440" y="477036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Freeform 316"/>
                <p:cNvSpPr/>
                <p:nvPr/>
              </p:nvSpPr>
              <p:spPr>
                <a:xfrm>
                  <a:off x="7901280" y="477216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317"/>
              <p:cNvGrpSpPr/>
              <p:nvPr/>
            </p:nvGrpSpPr>
            <p:grpSpPr>
              <a:xfrm>
                <a:off x="8202600" y="4781880"/>
                <a:ext cx="586440" cy="588600"/>
                <a:chOff x="8202600" y="4781880"/>
                <a:chExt cx="586440" cy="588600"/>
              </a:xfrm>
            </p:grpSpPr>
            <p:sp>
              <p:nvSpPr>
                <p:cNvPr id="364" name="AutoShape 318"/>
                <p:cNvSpPr/>
                <p:nvPr/>
              </p:nvSpPr>
              <p:spPr>
                <a:xfrm flipH="1">
                  <a:off x="8202240" y="4781880"/>
                  <a:ext cx="586440" cy="29340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Freeform 319"/>
                <p:cNvSpPr/>
                <p:nvPr/>
              </p:nvSpPr>
              <p:spPr>
                <a:xfrm flipH="1">
                  <a:off x="8495280" y="4925520"/>
                  <a:ext cx="293400" cy="4431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Freeform 320"/>
                <p:cNvSpPr/>
                <p:nvPr/>
              </p:nvSpPr>
              <p:spPr>
                <a:xfrm>
                  <a:off x="8204400" y="492552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7" name="Group 321"/>
            <p:cNvGrpSpPr/>
            <p:nvPr/>
          </p:nvGrpSpPr>
          <p:grpSpPr>
            <a:xfrm>
              <a:off x="6426000" y="4764600"/>
              <a:ext cx="1492560" cy="1928160"/>
              <a:chOff x="6426000" y="4764600"/>
              <a:chExt cx="1492560" cy="1928160"/>
            </a:xfrm>
          </p:grpSpPr>
          <p:sp>
            <p:nvSpPr>
              <p:cNvPr id="368" name="AutoShape 322"/>
              <p:cNvSpPr/>
              <p:nvPr/>
            </p:nvSpPr>
            <p:spPr>
              <a:xfrm flipH="1">
                <a:off x="6426360" y="5653080"/>
                <a:ext cx="586800" cy="293400"/>
              </a:xfrm>
              <a:prstGeom prst="diamond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Freeform 323"/>
              <p:cNvSpPr/>
              <p:nvPr/>
            </p:nvSpPr>
            <p:spPr>
              <a:xfrm flipH="1">
                <a:off x="6719040" y="5796720"/>
                <a:ext cx="293400" cy="4453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Freeform 324"/>
              <p:cNvSpPr/>
              <p:nvPr/>
            </p:nvSpPr>
            <p:spPr>
              <a:xfrm>
                <a:off x="6426360" y="5796720"/>
                <a:ext cx="293400" cy="4453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AutoShape 325"/>
              <p:cNvSpPr/>
              <p:nvPr/>
            </p:nvSpPr>
            <p:spPr>
              <a:xfrm flipH="1">
                <a:off x="6426360" y="5353560"/>
                <a:ext cx="586800" cy="293400"/>
              </a:xfrm>
              <a:prstGeom prst="diamond">
                <a:avLst/>
              </a:prstGeom>
              <a:solidFill>
                <a:srgbClr val="347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Freeform 326"/>
              <p:cNvSpPr/>
              <p:nvPr/>
            </p:nvSpPr>
            <p:spPr>
              <a:xfrm flipH="1">
                <a:off x="6719040" y="5497200"/>
                <a:ext cx="293400" cy="4453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Freeform 327"/>
              <p:cNvSpPr/>
              <p:nvPr/>
            </p:nvSpPr>
            <p:spPr>
              <a:xfrm>
                <a:off x="6428520" y="5499360"/>
                <a:ext cx="293400" cy="4446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7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4" name="Group 328"/>
              <p:cNvGrpSpPr/>
              <p:nvPr/>
            </p:nvGrpSpPr>
            <p:grpSpPr>
              <a:xfrm>
                <a:off x="6426360" y="5055840"/>
                <a:ext cx="586800" cy="590760"/>
                <a:chOff x="6426360" y="5055840"/>
                <a:chExt cx="586800" cy="590760"/>
              </a:xfrm>
            </p:grpSpPr>
            <p:sp>
              <p:nvSpPr>
                <p:cNvPr id="375" name="AutoShape 329"/>
                <p:cNvSpPr/>
                <p:nvPr/>
              </p:nvSpPr>
              <p:spPr>
                <a:xfrm flipH="1">
                  <a:off x="6426360" y="5055840"/>
                  <a:ext cx="586800" cy="29412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Freeform 330"/>
                <p:cNvSpPr/>
                <p:nvPr/>
              </p:nvSpPr>
              <p:spPr>
                <a:xfrm flipH="1">
                  <a:off x="6719040" y="519912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Freeform 331"/>
                <p:cNvSpPr/>
                <p:nvPr/>
              </p:nvSpPr>
              <p:spPr>
                <a:xfrm>
                  <a:off x="6427800" y="520056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AutoShape 332"/>
              <p:cNvSpPr/>
              <p:nvPr/>
            </p:nvSpPr>
            <p:spPr>
              <a:xfrm flipH="1">
                <a:off x="6723720" y="5800680"/>
                <a:ext cx="586800" cy="293400"/>
              </a:xfrm>
              <a:prstGeom prst="diamond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Freeform 333"/>
              <p:cNvSpPr/>
              <p:nvPr/>
            </p:nvSpPr>
            <p:spPr>
              <a:xfrm flipH="1">
                <a:off x="7010640" y="5944320"/>
                <a:ext cx="293400" cy="4474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Freeform 334"/>
              <p:cNvSpPr/>
              <p:nvPr/>
            </p:nvSpPr>
            <p:spPr>
              <a:xfrm>
                <a:off x="6723720" y="5944320"/>
                <a:ext cx="293400" cy="4474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1" name="Group 335"/>
              <p:cNvGrpSpPr/>
              <p:nvPr/>
            </p:nvGrpSpPr>
            <p:grpSpPr>
              <a:xfrm>
                <a:off x="6723720" y="5502960"/>
                <a:ext cx="586800" cy="590760"/>
                <a:chOff x="6723720" y="5502960"/>
                <a:chExt cx="586800" cy="590760"/>
              </a:xfrm>
            </p:grpSpPr>
            <p:sp>
              <p:nvSpPr>
                <p:cNvPr id="382" name="AutoShape 336"/>
                <p:cNvSpPr/>
                <p:nvPr/>
              </p:nvSpPr>
              <p:spPr>
                <a:xfrm flipH="1">
                  <a:off x="6723720" y="5502960"/>
                  <a:ext cx="586800" cy="29412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Freeform 337"/>
                <p:cNvSpPr/>
                <p:nvPr/>
              </p:nvSpPr>
              <p:spPr>
                <a:xfrm flipH="1">
                  <a:off x="7016400" y="564624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Freeform 338"/>
                <p:cNvSpPr/>
                <p:nvPr/>
              </p:nvSpPr>
              <p:spPr>
                <a:xfrm>
                  <a:off x="6725160" y="564768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Group 339"/>
              <p:cNvGrpSpPr/>
              <p:nvPr/>
            </p:nvGrpSpPr>
            <p:grpSpPr>
              <a:xfrm>
                <a:off x="6731640" y="5213160"/>
                <a:ext cx="586080" cy="588600"/>
                <a:chOff x="6731640" y="5213160"/>
                <a:chExt cx="586080" cy="588600"/>
              </a:xfrm>
            </p:grpSpPr>
            <p:sp>
              <p:nvSpPr>
                <p:cNvPr id="386" name="AutoShape 340"/>
                <p:cNvSpPr/>
                <p:nvPr/>
              </p:nvSpPr>
              <p:spPr>
                <a:xfrm flipH="1">
                  <a:off x="6731640" y="5213160"/>
                  <a:ext cx="586080" cy="29340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Freeform 341"/>
                <p:cNvSpPr/>
                <p:nvPr/>
              </p:nvSpPr>
              <p:spPr>
                <a:xfrm flipH="1">
                  <a:off x="7018920" y="535500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Freeform 342"/>
                <p:cNvSpPr/>
                <p:nvPr/>
              </p:nvSpPr>
              <p:spPr>
                <a:xfrm>
                  <a:off x="6733800" y="535680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Group 343"/>
              <p:cNvGrpSpPr/>
              <p:nvPr/>
            </p:nvGrpSpPr>
            <p:grpSpPr>
              <a:xfrm>
                <a:off x="7028640" y="5956200"/>
                <a:ext cx="586800" cy="588600"/>
                <a:chOff x="7028640" y="5956200"/>
                <a:chExt cx="586800" cy="588600"/>
              </a:xfrm>
            </p:grpSpPr>
            <p:sp>
              <p:nvSpPr>
                <p:cNvPr id="390" name="AutoShape 344"/>
                <p:cNvSpPr/>
                <p:nvPr/>
              </p:nvSpPr>
              <p:spPr>
                <a:xfrm flipH="1">
                  <a:off x="7028640" y="5956200"/>
                  <a:ext cx="586800" cy="29304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Freeform 345"/>
                <p:cNvSpPr/>
                <p:nvPr/>
              </p:nvSpPr>
              <p:spPr>
                <a:xfrm flipH="1">
                  <a:off x="7321320" y="60991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Freeform 346"/>
                <p:cNvSpPr/>
                <p:nvPr/>
              </p:nvSpPr>
              <p:spPr>
                <a:xfrm>
                  <a:off x="7030080" y="61002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347"/>
              <p:cNvGrpSpPr/>
              <p:nvPr/>
            </p:nvGrpSpPr>
            <p:grpSpPr>
              <a:xfrm>
                <a:off x="7025040" y="5661000"/>
                <a:ext cx="586080" cy="588600"/>
                <a:chOff x="7025040" y="5661000"/>
                <a:chExt cx="586080" cy="588600"/>
              </a:xfrm>
            </p:grpSpPr>
            <p:sp>
              <p:nvSpPr>
                <p:cNvPr id="394" name="AutoShape 348"/>
                <p:cNvSpPr/>
                <p:nvPr/>
              </p:nvSpPr>
              <p:spPr>
                <a:xfrm flipH="1">
                  <a:off x="7025040" y="5661000"/>
                  <a:ext cx="586080" cy="29304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Freeform 349"/>
                <p:cNvSpPr/>
                <p:nvPr/>
              </p:nvSpPr>
              <p:spPr>
                <a:xfrm flipH="1">
                  <a:off x="7313400" y="5804640"/>
                  <a:ext cx="292680" cy="442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Freeform 350"/>
                <p:cNvSpPr/>
                <p:nvPr/>
              </p:nvSpPr>
              <p:spPr>
                <a:xfrm>
                  <a:off x="7030440" y="580464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Group 351"/>
              <p:cNvGrpSpPr/>
              <p:nvPr/>
            </p:nvGrpSpPr>
            <p:grpSpPr>
              <a:xfrm>
                <a:off x="7025040" y="5365080"/>
                <a:ext cx="586080" cy="582840"/>
                <a:chOff x="7025040" y="5365080"/>
                <a:chExt cx="586080" cy="582840"/>
              </a:xfrm>
            </p:grpSpPr>
            <p:sp>
              <p:nvSpPr>
                <p:cNvPr id="398" name="AutoShape 352"/>
                <p:cNvSpPr/>
                <p:nvPr/>
              </p:nvSpPr>
              <p:spPr>
                <a:xfrm flipH="1">
                  <a:off x="7025040" y="5365080"/>
                  <a:ext cx="586080" cy="29340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Freeform 353"/>
                <p:cNvSpPr/>
                <p:nvPr/>
              </p:nvSpPr>
              <p:spPr>
                <a:xfrm flipH="1">
                  <a:off x="7313400" y="550080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Freeform 354"/>
                <p:cNvSpPr/>
                <p:nvPr/>
              </p:nvSpPr>
              <p:spPr>
                <a:xfrm>
                  <a:off x="7028280" y="550296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Group 355"/>
              <p:cNvGrpSpPr/>
              <p:nvPr/>
            </p:nvGrpSpPr>
            <p:grpSpPr>
              <a:xfrm>
                <a:off x="7331400" y="6104160"/>
                <a:ext cx="586440" cy="588600"/>
                <a:chOff x="7331400" y="6104160"/>
                <a:chExt cx="586440" cy="588600"/>
              </a:xfrm>
            </p:grpSpPr>
            <p:sp>
              <p:nvSpPr>
                <p:cNvPr id="402" name="AutoShape 356"/>
                <p:cNvSpPr/>
                <p:nvPr/>
              </p:nvSpPr>
              <p:spPr>
                <a:xfrm flipH="1">
                  <a:off x="7331040" y="6104160"/>
                  <a:ext cx="586440" cy="29304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Freeform 357"/>
                <p:cNvSpPr/>
                <p:nvPr/>
              </p:nvSpPr>
              <p:spPr>
                <a:xfrm flipH="1">
                  <a:off x="7624080" y="6247800"/>
                  <a:ext cx="293400" cy="442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Freeform 358"/>
                <p:cNvSpPr/>
                <p:nvPr/>
              </p:nvSpPr>
              <p:spPr>
                <a:xfrm>
                  <a:off x="7333200" y="624780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Group 359"/>
              <p:cNvGrpSpPr/>
              <p:nvPr/>
            </p:nvGrpSpPr>
            <p:grpSpPr>
              <a:xfrm>
                <a:off x="7331760" y="5808600"/>
                <a:ext cx="586800" cy="588600"/>
                <a:chOff x="7331760" y="5808600"/>
                <a:chExt cx="586800" cy="588600"/>
              </a:xfrm>
            </p:grpSpPr>
            <p:sp>
              <p:nvSpPr>
                <p:cNvPr id="406" name="AutoShape 360"/>
                <p:cNvSpPr/>
                <p:nvPr/>
              </p:nvSpPr>
              <p:spPr>
                <a:xfrm flipH="1">
                  <a:off x="7331760" y="5808600"/>
                  <a:ext cx="586800" cy="29268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Freeform 361"/>
                <p:cNvSpPr/>
                <p:nvPr/>
              </p:nvSpPr>
              <p:spPr>
                <a:xfrm flipH="1">
                  <a:off x="7624440" y="595152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Freeform 362"/>
                <p:cNvSpPr/>
                <p:nvPr/>
              </p:nvSpPr>
              <p:spPr>
                <a:xfrm>
                  <a:off x="7332840" y="59526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Group 363"/>
              <p:cNvGrpSpPr/>
              <p:nvPr/>
            </p:nvGrpSpPr>
            <p:grpSpPr>
              <a:xfrm>
                <a:off x="7331760" y="5512680"/>
                <a:ext cx="586800" cy="588960"/>
                <a:chOff x="7331760" y="5512680"/>
                <a:chExt cx="586800" cy="588960"/>
              </a:xfrm>
            </p:grpSpPr>
            <p:sp>
              <p:nvSpPr>
                <p:cNvPr id="410" name="AutoShape 364"/>
                <p:cNvSpPr/>
                <p:nvPr/>
              </p:nvSpPr>
              <p:spPr>
                <a:xfrm flipH="1">
                  <a:off x="7331760" y="5512680"/>
                  <a:ext cx="586800" cy="29304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Freeform 365"/>
                <p:cNvSpPr/>
                <p:nvPr/>
              </p:nvSpPr>
              <p:spPr>
                <a:xfrm flipH="1">
                  <a:off x="7624440" y="565560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Freeform 366"/>
                <p:cNvSpPr/>
                <p:nvPr/>
              </p:nvSpPr>
              <p:spPr>
                <a:xfrm>
                  <a:off x="7332840" y="565704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Group 367"/>
              <p:cNvGrpSpPr/>
              <p:nvPr/>
            </p:nvGrpSpPr>
            <p:grpSpPr>
              <a:xfrm>
                <a:off x="6426000" y="4764600"/>
                <a:ext cx="586440" cy="588600"/>
                <a:chOff x="6426000" y="4764600"/>
                <a:chExt cx="586440" cy="588600"/>
              </a:xfrm>
            </p:grpSpPr>
            <p:sp>
              <p:nvSpPr>
                <p:cNvPr id="414" name="AutoShape 368"/>
                <p:cNvSpPr/>
                <p:nvPr/>
              </p:nvSpPr>
              <p:spPr>
                <a:xfrm flipH="1">
                  <a:off x="6425640" y="4764600"/>
                  <a:ext cx="586440" cy="29340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Freeform 369"/>
                <p:cNvSpPr/>
                <p:nvPr/>
              </p:nvSpPr>
              <p:spPr>
                <a:xfrm flipH="1">
                  <a:off x="6711120" y="490824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Freeform 370"/>
                <p:cNvSpPr/>
                <p:nvPr/>
              </p:nvSpPr>
              <p:spPr>
                <a:xfrm>
                  <a:off x="6426360" y="490824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Group 371"/>
              <p:cNvGrpSpPr/>
              <p:nvPr/>
            </p:nvGrpSpPr>
            <p:grpSpPr>
              <a:xfrm>
                <a:off x="6729480" y="4912200"/>
                <a:ext cx="586800" cy="590400"/>
                <a:chOff x="6729480" y="4912200"/>
                <a:chExt cx="586800" cy="590400"/>
              </a:xfrm>
            </p:grpSpPr>
            <p:sp>
              <p:nvSpPr>
                <p:cNvPr id="418" name="AutoShape 372"/>
                <p:cNvSpPr/>
                <p:nvPr/>
              </p:nvSpPr>
              <p:spPr>
                <a:xfrm flipH="1">
                  <a:off x="6729480" y="4912200"/>
                  <a:ext cx="586800" cy="29376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Freeform 373"/>
                <p:cNvSpPr/>
                <p:nvPr/>
              </p:nvSpPr>
              <p:spPr>
                <a:xfrm flipH="1">
                  <a:off x="7022160" y="5055480"/>
                  <a:ext cx="29340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Freeform 374"/>
                <p:cNvSpPr/>
                <p:nvPr/>
              </p:nvSpPr>
              <p:spPr>
                <a:xfrm>
                  <a:off x="6730920" y="5056920"/>
                  <a:ext cx="29340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Group 375"/>
              <p:cNvGrpSpPr/>
              <p:nvPr/>
            </p:nvGrpSpPr>
            <p:grpSpPr>
              <a:xfrm>
                <a:off x="7028280" y="5061600"/>
                <a:ext cx="586440" cy="590760"/>
                <a:chOff x="7028280" y="5061600"/>
                <a:chExt cx="586440" cy="590760"/>
              </a:xfrm>
            </p:grpSpPr>
            <p:sp>
              <p:nvSpPr>
                <p:cNvPr id="422" name="AutoShape 376"/>
                <p:cNvSpPr/>
                <p:nvPr/>
              </p:nvSpPr>
              <p:spPr>
                <a:xfrm flipH="1">
                  <a:off x="7027920" y="5061600"/>
                  <a:ext cx="586440" cy="29340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Freeform 377"/>
                <p:cNvSpPr/>
                <p:nvPr/>
              </p:nvSpPr>
              <p:spPr>
                <a:xfrm flipH="1">
                  <a:off x="7311240" y="520560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Freeform 378"/>
                <p:cNvSpPr/>
                <p:nvPr/>
              </p:nvSpPr>
              <p:spPr>
                <a:xfrm>
                  <a:off x="7030080" y="520740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Group 379"/>
              <p:cNvGrpSpPr/>
              <p:nvPr/>
            </p:nvGrpSpPr>
            <p:grpSpPr>
              <a:xfrm>
                <a:off x="7331760" y="5217120"/>
                <a:ext cx="586800" cy="588600"/>
                <a:chOff x="7331760" y="5217120"/>
                <a:chExt cx="586800" cy="588600"/>
              </a:xfrm>
            </p:grpSpPr>
            <p:sp>
              <p:nvSpPr>
                <p:cNvPr id="426" name="AutoShape 380"/>
                <p:cNvSpPr/>
                <p:nvPr/>
              </p:nvSpPr>
              <p:spPr>
                <a:xfrm flipH="1">
                  <a:off x="7331760" y="5217120"/>
                  <a:ext cx="586800" cy="29268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Freeform 381"/>
                <p:cNvSpPr/>
                <p:nvPr/>
              </p:nvSpPr>
              <p:spPr>
                <a:xfrm flipH="1">
                  <a:off x="7624440" y="536004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Freeform 382"/>
                <p:cNvSpPr/>
                <p:nvPr/>
              </p:nvSpPr>
              <p:spPr>
                <a:xfrm>
                  <a:off x="7332840" y="53611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9" name="Group 383"/>
            <p:cNvGrpSpPr/>
            <p:nvPr/>
          </p:nvGrpSpPr>
          <p:grpSpPr>
            <a:xfrm>
              <a:off x="7918920" y="5075640"/>
              <a:ext cx="878400" cy="1629000"/>
              <a:chOff x="7918920" y="5075640"/>
              <a:chExt cx="878400" cy="1629000"/>
            </a:xfrm>
          </p:grpSpPr>
          <p:grpSp>
            <p:nvGrpSpPr>
              <p:cNvPr id="430" name="Group 384"/>
              <p:cNvGrpSpPr/>
              <p:nvPr/>
            </p:nvGrpSpPr>
            <p:grpSpPr>
              <a:xfrm>
                <a:off x="8210520" y="5970240"/>
                <a:ext cx="586800" cy="588600"/>
                <a:chOff x="8210520" y="5970240"/>
                <a:chExt cx="586800" cy="588600"/>
              </a:xfrm>
            </p:grpSpPr>
            <p:sp>
              <p:nvSpPr>
                <p:cNvPr id="431" name="AutoShape 385"/>
                <p:cNvSpPr/>
                <p:nvPr/>
              </p:nvSpPr>
              <p:spPr>
                <a:xfrm flipH="1">
                  <a:off x="8210520" y="5970240"/>
                  <a:ext cx="586800" cy="29268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Freeform 386"/>
                <p:cNvSpPr/>
                <p:nvPr/>
              </p:nvSpPr>
              <p:spPr>
                <a:xfrm flipH="1">
                  <a:off x="8503200" y="611316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Freeform 387"/>
                <p:cNvSpPr/>
                <p:nvPr/>
              </p:nvSpPr>
              <p:spPr>
                <a:xfrm>
                  <a:off x="8211600" y="611424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Group 388"/>
              <p:cNvGrpSpPr/>
              <p:nvPr/>
            </p:nvGrpSpPr>
            <p:grpSpPr>
              <a:xfrm>
                <a:off x="7919280" y="6115680"/>
                <a:ext cx="586080" cy="588960"/>
                <a:chOff x="7919280" y="6115680"/>
                <a:chExt cx="586080" cy="588960"/>
              </a:xfrm>
            </p:grpSpPr>
            <p:sp>
              <p:nvSpPr>
                <p:cNvPr id="435" name="AutoShape 389"/>
                <p:cNvSpPr/>
                <p:nvPr/>
              </p:nvSpPr>
              <p:spPr>
                <a:xfrm flipH="1">
                  <a:off x="7919280" y="6115680"/>
                  <a:ext cx="586080" cy="29340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Freeform 390"/>
                <p:cNvSpPr/>
                <p:nvPr/>
              </p:nvSpPr>
              <p:spPr>
                <a:xfrm flipH="1">
                  <a:off x="8211240" y="6259680"/>
                  <a:ext cx="293400" cy="4428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Freeform 391"/>
                <p:cNvSpPr/>
                <p:nvPr/>
              </p:nvSpPr>
              <p:spPr>
                <a:xfrm>
                  <a:off x="7920720" y="625968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Group 392"/>
              <p:cNvGrpSpPr/>
              <p:nvPr/>
            </p:nvGrpSpPr>
            <p:grpSpPr>
              <a:xfrm>
                <a:off x="8210520" y="5668560"/>
                <a:ext cx="586800" cy="588960"/>
                <a:chOff x="8210520" y="5668560"/>
                <a:chExt cx="586800" cy="588960"/>
              </a:xfrm>
            </p:grpSpPr>
            <p:sp>
              <p:nvSpPr>
                <p:cNvPr id="439" name="AutoShape 393"/>
                <p:cNvSpPr/>
                <p:nvPr/>
              </p:nvSpPr>
              <p:spPr>
                <a:xfrm flipH="1">
                  <a:off x="8210520" y="5668560"/>
                  <a:ext cx="586800" cy="29304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Freeform 394"/>
                <p:cNvSpPr/>
                <p:nvPr/>
              </p:nvSpPr>
              <p:spPr>
                <a:xfrm flipH="1">
                  <a:off x="8503200" y="581184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Freeform 395"/>
                <p:cNvSpPr/>
                <p:nvPr/>
              </p:nvSpPr>
              <p:spPr>
                <a:xfrm>
                  <a:off x="8211960" y="581256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Group 396"/>
              <p:cNvGrpSpPr/>
              <p:nvPr/>
            </p:nvGrpSpPr>
            <p:grpSpPr>
              <a:xfrm>
                <a:off x="7918920" y="5814360"/>
                <a:ext cx="586440" cy="588600"/>
                <a:chOff x="7918920" y="5814360"/>
                <a:chExt cx="586440" cy="588600"/>
              </a:xfrm>
            </p:grpSpPr>
            <p:sp>
              <p:nvSpPr>
                <p:cNvPr id="443" name="AutoShape 397"/>
                <p:cNvSpPr/>
                <p:nvPr/>
              </p:nvSpPr>
              <p:spPr>
                <a:xfrm flipH="1">
                  <a:off x="7918560" y="5814360"/>
                  <a:ext cx="586440" cy="29268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Freeform 398"/>
                <p:cNvSpPr/>
                <p:nvPr/>
              </p:nvSpPr>
              <p:spPr>
                <a:xfrm flipH="1">
                  <a:off x="8212320" y="5957280"/>
                  <a:ext cx="29304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Freeform 399"/>
                <p:cNvSpPr/>
                <p:nvPr/>
              </p:nvSpPr>
              <p:spPr>
                <a:xfrm>
                  <a:off x="7920360" y="5958360"/>
                  <a:ext cx="29304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Group 400"/>
              <p:cNvGrpSpPr/>
              <p:nvPr/>
            </p:nvGrpSpPr>
            <p:grpSpPr>
              <a:xfrm>
                <a:off x="8210520" y="5367240"/>
                <a:ext cx="586800" cy="590400"/>
                <a:chOff x="8210520" y="5367240"/>
                <a:chExt cx="586800" cy="590400"/>
              </a:xfrm>
            </p:grpSpPr>
            <p:sp>
              <p:nvSpPr>
                <p:cNvPr id="447" name="AutoShape 401"/>
                <p:cNvSpPr/>
                <p:nvPr/>
              </p:nvSpPr>
              <p:spPr>
                <a:xfrm flipH="1">
                  <a:off x="8210520" y="5367240"/>
                  <a:ext cx="586800" cy="29376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Freeform 402"/>
                <p:cNvSpPr/>
                <p:nvPr/>
              </p:nvSpPr>
              <p:spPr>
                <a:xfrm flipH="1">
                  <a:off x="8503200" y="5510520"/>
                  <a:ext cx="29340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Freeform 403"/>
                <p:cNvSpPr/>
                <p:nvPr/>
              </p:nvSpPr>
              <p:spPr>
                <a:xfrm>
                  <a:off x="8211960" y="5511960"/>
                  <a:ext cx="29340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Group 404"/>
              <p:cNvGrpSpPr/>
              <p:nvPr/>
            </p:nvGrpSpPr>
            <p:grpSpPr>
              <a:xfrm>
                <a:off x="7918920" y="5512680"/>
                <a:ext cx="586440" cy="590760"/>
                <a:chOff x="7918920" y="5512680"/>
                <a:chExt cx="586440" cy="590760"/>
              </a:xfrm>
            </p:grpSpPr>
            <p:sp>
              <p:nvSpPr>
                <p:cNvPr id="451" name="AutoShape 405"/>
                <p:cNvSpPr/>
                <p:nvPr/>
              </p:nvSpPr>
              <p:spPr>
                <a:xfrm flipH="1">
                  <a:off x="7918560" y="5512680"/>
                  <a:ext cx="586440" cy="29376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Freeform 406"/>
                <p:cNvSpPr/>
                <p:nvPr/>
              </p:nvSpPr>
              <p:spPr>
                <a:xfrm flipH="1">
                  <a:off x="8212320" y="5655960"/>
                  <a:ext cx="29304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Freeform 407"/>
                <p:cNvSpPr/>
                <p:nvPr/>
              </p:nvSpPr>
              <p:spPr>
                <a:xfrm>
                  <a:off x="7920360" y="5657400"/>
                  <a:ext cx="29304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Group 408"/>
              <p:cNvGrpSpPr/>
              <p:nvPr/>
            </p:nvGrpSpPr>
            <p:grpSpPr>
              <a:xfrm>
                <a:off x="8210520" y="5075640"/>
                <a:ext cx="586800" cy="588960"/>
                <a:chOff x="8210520" y="5075640"/>
                <a:chExt cx="586800" cy="588960"/>
              </a:xfrm>
            </p:grpSpPr>
            <p:sp>
              <p:nvSpPr>
                <p:cNvPr id="455" name="AutoShape 409"/>
                <p:cNvSpPr/>
                <p:nvPr/>
              </p:nvSpPr>
              <p:spPr>
                <a:xfrm flipH="1">
                  <a:off x="8210520" y="5075640"/>
                  <a:ext cx="586800" cy="29304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Freeform 410"/>
                <p:cNvSpPr/>
                <p:nvPr/>
              </p:nvSpPr>
              <p:spPr>
                <a:xfrm flipH="1">
                  <a:off x="8503200" y="52189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Freeform 411"/>
                <p:cNvSpPr/>
                <p:nvPr/>
              </p:nvSpPr>
              <p:spPr>
                <a:xfrm>
                  <a:off x="8211960" y="521964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Group 412"/>
              <p:cNvGrpSpPr/>
              <p:nvPr/>
            </p:nvGrpSpPr>
            <p:grpSpPr>
              <a:xfrm>
                <a:off x="7918920" y="5221440"/>
                <a:ext cx="586440" cy="588600"/>
                <a:chOff x="7918920" y="5221440"/>
                <a:chExt cx="586440" cy="588600"/>
              </a:xfrm>
            </p:grpSpPr>
            <p:sp>
              <p:nvSpPr>
                <p:cNvPr id="459" name="AutoShape 413"/>
                <p:cNvSpPr/>
                <p:nvPr/>
              </p:nvSpPr>
              <p:spPr>
                <a:xfrm flipH="1">
                  <a:off x="7918560" y="5221440"/>
                  <a:ext cx="586440" cy="29268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Freeform 414"/>
                <p:cNvSpPr/>
                <p:nvPr/>
              </p:nvSpPr>
              <p:spPr>
                <a:xfrm flipH="1">
                  <a:off x="8212320" y="5364360"/>
                  <a:ext cx="29304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Freeform 415"/>
                <p:cNvSpPr/>
                <p:nvPr/>
              </p:nvSpPr>
              <p:spPr>
                <a:xfrm>
                  <a:off x="7920360" y="5365800"/>
                  <a:ext cx="29304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62" name="Rectangle 424"/>
          <p:cNvSpPr/>
          <p:nvPr/>
        </p:nvSpPr>
        <p:spPr>
          <a:xfrm>
            <a:off x="706320" y="646200"/>
            <a:ext cx="8437680" cy="220680"/>
          </a:xfrm>
          <a:prstGeom prst="rect">
            <a:avLst/>
          </a:prstGeom>
          <a:solidFill>
            <a:srgbClr val="347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Group 82"/>
          <p:cNvGrpSpPr/>
          <p:nvPr/>
        </p:nvGrpSpPr>
        <p:grpSpPr>
          <a:xfrm>
            <a:off x="212760" y="133200"/>
            <a:ext cx="5816520" cy="5423040"/>
            <a:chOff x="212760" y="133200"/>
            <a:chExt cx="5816520" cy="5423040"/>
          </a:xfrm>
        </p:grpSpPr>
        <p:sp>
          <p:nvSpPr>
            <p:cNvPr id="464" name="Oval 83"/>
            <p:cNvSpPr/>
            <p:nvPr/>
          </p:nvSpPr>
          <p:spPr>
            <a:xfrm>
              <a:off x="212760" y="133200"/>
              <a:ext cx="5816520" cy="5423040"/>
            </a:xfrm>
            <a:prstGeom prst="ellipse">
              <a:avLst/>
            </a:prstGeom>
            <a:solidFill>
              <a:srgbClr val="0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AutoShape 84"/>
            <p:cNvSpPr/>
            <p:nvPr/>
          </p:nvSpPr>
          <p:spPr>
            <a:xfrm flipV="1">
              <a:off x="212760" y="132840"/>
              <a:ext cx="3063240" cy="2638800"/>
            </a:xfrm>
            <a:prstGeom prst="rtTriangle">
              <a:avLst/>
            </a:prstGeom>
            <a:solidFill>
              <a:srgbClr val="0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Rectangle 72"/>
          <p:cNvSpPr/>
          <p:nvPr/>
        </p:nvSpPr>
        <p:spPr>
          <a:xfrm>
            <a:off x="7978680" y="3816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416"/>
          <p:cNvSpPr/>
          <p:nvPr/>
        </p:nvSpPr>
        <p:spPr>
          <a:xfrm flipV="1">
            <a:off x="7856640" y="3031920"/>
            <a:ext cx="0" cy="2119320"/>
          </a:xfrm>
          <a:prstGeom prst="line">
            <a:avLst/>
          </a:prstGeom>
          <a:ln w="19080">
            <a:solidFill>
              <a:srgbClr val="c0c0c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417"/>
          <p:cNvSpPr/>
          <p:nvPr/>
        </p:nvSpPr>
        <p:spPr>
          <a:xfrm flipV="1">
            <a:off x="7392960" y="2455920"/>
            <a:ext cx="0" cy="28368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418"/>
          <p:cNvSpPr/>
          <p:nvPr/>
        </p:nvSpPr>
        <p:spPr>
          <a:xfrm flipV="1">
            <a:off x="7113600" y="3184200"/>
            <a:ext cx="0" cy="1749240"/>
          </a:xfrm>
          <a:prstGeom prst="line">
            <a:avLst/>
          </a:prstGeom>
          <a:ln w="28440">
            <a:solidFill>
              <a:srgbClr val="c0c0c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419"/>
          <p:cNvSpPr/>
          <p:nvPr/>
        </p:nvSpPr>
        <p:spPr>
          <a:xfrm flipV="1">
            <a:off x="7545240" y="2847960"/>
            <a:ext cx="0" cy="1974960"/>
          </a:xfrm>
          <a:prstGeom prst="line">
            <a:avLst/>
          </a:prstGeom>
          <a:ln w="3240">
            <a:solidFill>
              <a:srgbClr val="eaeae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421"/>
          <p:cNvGrpSpPr/>
          <p:nvPr/>
        </p:nvGrpSpPr>
        <p:grpSpPr>
          <a:xfrm>
            <a:off x="0" y="6480"/>
            <a:ext cx="5816520" cy="5422680"/>
            <a:chOff x="0" y="6480"/>
            <a:chExt cx="5816520" cy="5422680"/>
          </a:xfrm>
        </p:grpSpPr>
        <p:sp>
          <p:nvSpPr>
            <p:cNvPr id="472" name="Oval 422"/>
            <p:cNvSpPr/>
            <p:nvPr/>
          </p:nvSpPr>
          <p:spPr>
            <a:xfrm>
              <a:off x="0" y="6480"/>
              <a:ext cx="5816520" cy="542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AutoShape 423"/>
            <p:cNvSpPr/>
            <p:nvPr/>
          </p:nvSpPr>
          <p:spPr>
            <a:xfrm flipV="1">
              <a:off x="0" y="6120"/>
              <a:ext cx="3063240" cy="263880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AutoShape 54"/>
          <p:cNvSpPr/>
          <p:nvPr/>
        </p:nvSpPr>
        <p:spPr>
          <a:xfrm>
            <a:off x="695160" y="0"/>
            <a:ext cx="8448840" cy="757080"/>
          </a:xfrm>
          <a:prstGeom prst="roundRect">
            <a:avLst>
              <a:gd name="adj" fmla="val 26273"/>
            </a:avLst>
          </a:prstGeom>
          <a:solidFill>
            <a:srgbClr val="0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75"/>
          <p:cNvSpPr/>
          <p:nvPr/>
        </p:nvSpPr>
        <p:spPr>
          <a:xfrm>
            <a:off x="706320" y="558720"/>
            <a:ext cx="8437680" cy="220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77"/>
          <p:cNvSpPr/>
          <p:nvPr/>
        </p:nvSpPr>
        <p:spPr>
          <a:xfrm>
            <a:off x="12600" y="0"/>
            <a:ext cx="1575000" cy="1574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6a048"/>
              </a:gs>
            </a:gsLst>
            <a:lin ang="18900000"/>
          </a:gradFill>
          <a:ln w="38160">
            <a:solidFill>
              <a:srgbClr val="004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928"/>
          <p:cNvGrpSpPr/>
          <p:nvPr/>
        </p:nvGrpSpPr>
        <p:grpSpPr>
          <a:xfrm>
            <a:off x="139320" y="158760"/>
            <a:ext cx="1581480" cy="1287000"/>
            <a:chOff x="139320" y="158760"/>
            <a:chExt cx="1581480" cy="1287000"/>
          </a:xfrm>
        </p:grpSpPr>
        <p:grpSp>
          <p:nvGrpSpPr>
            <p:cNvPr id="478" name="Group 713"/>
            <p:cNvGrpSpPr/>
            <p:nvPr/>
          </p:nvGrpSpPr>
          <p:grpSpPr>
            <a:xfrm>
              <a:off x="1293840" y="509760"/>
              <a:ext cx="426960" cy="426960"/>
              <a:chOff x="1293840" y="509760"/>
              <a:chExt cx="426960" cy="426960"/>
            </a:xfrm>
          </p:grpSpPr>
          <p:sp>
            <p:nvSpPr>
              <p:cNvPr id="479" name="AutoShape 714"/>
              <p:cNvSpPr/>
              <p:nvPr/>
            </p:nvSpPr>
            <p:spPr>
              <a:xfrm flipH="1">
                <a:off x="1293840" y="509760"/>
                <a:ext cx="426960" cy="212400"/>
              </a:xfrm>
              <a:prstGeom prst="diamond">
                <a:avLst/>
              </a:prstGeom>
              <a:solidFill>
                <a:srgbClr val="333333"/>
              </a:solidFill>
              <a:ln w="0">
                <a:noFill/>
              </a:ln>
              <a:effectLst>
                <a:outerShdw dist="17819" dir="2700000" blurRad="0" rotWithShape="0">
                  <a:srgbClr val="0046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Freeform 715"/>
              <p:cNvSpPr/>
              <p:nvPr/>
            </p:nvSpPr>
            <p:spPr>
              <a:xfrm flipH="1">
                <a:off x="1506240" y="614160"/>
                <a:ext cx="213480" cy="3207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  <a:effectLst>
                <a:outerShdw dist="36147" dir="2700000" blurRad="0" rotWithShape="0">
                  <a:srgbClr val="0046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Freeform 716"/>
              <p:cNvSpPr/>
              <p:nvPr/>
            </p:nvSpPr>
            <p:spPr>
              <a:xfrm>
                <a:off x="1294920" y="614160"/>
                <a:ext cx="213480" cy="3225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  <a:effectLst>
                <a:outerShdw dist="36147" dir="2700000" blurRad="0" rotWithShape="0">
                  <a:srgbClr val="0046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Group 927"/>
            <p:cNvGrpSpPr/>
            <p:nvPr/>
          </p:nvGrpSpPr>
          <p:grpSpPr>
            <a:xfrm>
              <a:off x="139320" y="158760"/>
              <a:ext cx="1285920" cy="1287000"/>
              <a:chOff x="139320" y="158760"/>
              <a:chExt cx="1285920" cy="1287000"/>
            </a:xfrm>
          </p:grpSpPr>
          <p:grpSp>
            <p:nvGrpSpPr>
              <p:cNvPr id="483" name="Group 668"/>
              <p:cNvGrpSpPr/>
              <p:nvPr/>
            </p:nvGrpSpPr>
            <p:grpSpPr>
              <a:xfrm>
                <a:off x="139320" y="555480"/>
                <a:ext cx="566280" cy="569160"/>
                <a:chOff x="139320" y="555480"/>
                <a:chExt cx="566280" cy="569160"/>
              </a:xfrm>
            </p:grpSpPr>
            <p:sp>
              <p:nvSpPr>
                <p:cNvPr id="484" name="AutoShape 669"/>
                <p:cNvSpPr/>
                <p:nvPr/>
              </p:nvSpPr>
              <p:spPr>
                <a:xfrm flipH="1">
                  <a:off x="138960" y="555480"/>
                  <a:ext cx="566280" cy="28332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Freeform 670"/>
                <p:cNvSpPr/>
                <p:nvPr/>
              </p:nvSpPr>
              <p:spPr>
                <a:xfrm flipH="1">
                  <a:off x="422640" y="693720"/>
                  <a:ext cx="282960" cy="4298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36147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Freeform 671"/>
                <p:cNvSpPr/>
                <p:nvPr/>
              </p:nvSpPr>
              <p:spPr>
                <a:xfrm>
                  <a:off x="141120" y="694800"/>
                  <a:ext cx="282960" cy="4298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36147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Group 680"/>
              <p:cNvGrpSpPr/>
              <p:nvPr/>
            </p:nvGrpSpPr>
            <p:grpSpPr>
              <a:xfrm>
                <a:off x="502200" y="728280"/>
                <a:ext cx="563760" cy="565560"/>
                <a:chOff x="502200" y="728280"/>
                <a:chExt cx="563760" cy="565560"/>
              </a:xfrm>
            </p:grpSpPr>
            <p:sp>
              <p:nvSpPr>
                <p:cNvPr id="488" name="AutoShape 681"/>
                <p:cNvSpPr/>
                <p:nvPr/>
              </p:nvSpPr>
              <p:spPr>
                <a:xfrm flipH="1">
                  <a:off x="502200" y="728280"/>
                  <a:ext cx="563760" cy="28152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Freeform 682"/>
                <p:cNvSpPr/>
                <p:nvPr/>
              </p:nvSpPr>
              <p:spPr>
                <a:xfrm flipH="1">
                  <a:off x="783000" y="866160"/>
                  <a:ext cx="281880" cy="425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36147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Freeform 683"/>
                <p:cNvSpPr/>
                <p:nvPr/>
              </p:nvSpPr>
              <p:spPr>
                <a:xfrm>
                  <a:off x="503640" y="866160"/>
                  <a:ext cx="281880" cy="427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36147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Group 684"/>
              <p:cNvGrpSpPr/>
              <p:nvPr/>
            </p:nvGrpSpPr>
            <p:grpSpPr>
              <a:xfrm>
                <a:off x="501840" y="442440"/>
                <a:ext cx="564120" cy="567360"/>
                <a:chOff x="501840" y="442440"/>
                <a:chExt cx="564120" cy="567360"/>
              </a:xfrm>
            </p:grpSpPr>
            <p:sp>
              <p:nvSpPr>
                <p:cNvPr id="492" name="AutoShape 685"/>
                <p:cNvSpPr/>
                <p:nvPr/>
              </p:nvSpPr>
              <p:spPr>
                <a:xfrm flipH="1">
                  <a:off x="501480" y="442440"/>
                  <a:ext cx="564120" cy="28224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Freeform 686"/>
                <p:cNvSpPr/>
                <p:nvPr/>
              </p:nvSpPr>
              <p:spPr>
                <a:xfrm flipH="1">
                  <a:off x="783360" y="579960"/>
                  <a:ext cx="281880" cy="428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36147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Freeform 687"/>
                <p:cNvSpPr/>
                <p:nvPr/>
              </p:nvSpPr>
              <p:spPr>
                <a:xfrm>
                  <a:off x="503280" y="581400"/>
                  <a:ext cx="281880" cy="428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36147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688"/>
              <p:cNvGrpSpPr/>
              <p:nvPr/>
            </p:nvGrpSpPr>
            <p:grpSpPr>
              <a:xfrm>
                <a:off x="501840" y="158760"/>
                <a:ext cx="564120" cy="565560"/>
                <a:chOff x="501840" y="158760"/>
                <a:chExt cx="564120" cy="565560"/>
              </a:xfrm>
            </p:grpSpPr>
            <p:sp>
              <p:nvSpPr>
                <p:cNvPr id="496" name="AutoShape 689"/>
                <p:cNvSpPr/>
                <p:nvPr/>
              </p:nvSpPr>
              <p:spPr>
                <a:xfrm flipH="1">
                  <a:off x="501480" y="158760"/>
                  <a:ext cx="564120" cy="28152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Freeform 690"/>
                <p:cNvSpPr/>
                <p:nvPr/>
              </p:nvSpPr>
              <p:spPr>
                <a:xfrm flipH="1">
                  <a:off x="783360" y="295920"/>
                  <a:ext cx="281880" cy="4273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36147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Freeform 691"/>
                <p:cNvSpPr/>
                <p:nvPr/>
              </p:nvSpPr>
              <p:spPr>
                <a:xfrm>
                  <a:off x="503280" y="297360"/>
                  <a:ext cx="281880" cy="426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36147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Group 717"/>
              <p:cNvGrpSpPr/>
              <p:nvPr/>
            </p:nvGrpSpPr>
            <p:grpSpPr>
              <a:xfrm>
                <a:off x="860760" y="879480"/>
                <a:ext cx="564480" cy="566280"/>
                <a:chOff x="860760" y="879480"/>
                <a:chExt cx="564480" cy="566280"/>
              </a:xfrm>
            </p:grpSpPr>
            <p:sp>
              <p:nvSpPr>
                <p:cNvPr id="500" name="AutoShape 718"/>
                <p:cNvSpPr/>
                <p:nvPr/>
              </p:nvSpPr>
              <p:spPr>
                <a:xfrm flipH="1">
                  <a:off x="860760" y="879480"/>
                  <a:ext cx="564480" cy="28188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Freeform 719"/>
                <p:cNvSpPr/>
                <p:nvPr/>
              </p:nvSpPr>
              <p:spPr>
                <a:xfrm flipH="1">
                  <a:off x="1142640" y="1017360"/>
                  <a:ext cx="282240" cy="427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36147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Freeform 720"/>
                <p:cNvSpPr/>
                <p:nvPr/>
              </p:nvSpPr>
              <p:spPr>
                <a:xfrm>
                  <a:off x="861480" y="1018080"/>
                  <a:ext cx="282240" cy="427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36147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03" name="Group 967"/>
          <p:cNvGrpSpPr/>
          <p:nvPr/>
        </p:nvGrpSpPr>
        <p:grpSpPr>
          <a:xfrm>
            <a:off x="139680" y="158760"/>
            <a:ext cx="1581120" cy="1287360"/>
            <a:chOff x="139680" y="158760"/>
            <a:chExt cx="1581120" cy="1287360"/>
          </a:xfrm>
        </p:grpSpPr>
        <p:grpSp>
          <p:nvGrpSpPr>
            <p:cNvPr id="504" name="Group 963"/>
            <p:cNvGrpSpPr/>
            <p:nvPr/>
          </p:nvGrpSpPr>
          <p:grpSpPr>
            <a:xfrm>
              <a:off x="1293840" y="509760"/>
              <a:ext cx="426960" cy="426960"/>
              <a:chOff x="1293840" y="509760"/>
              <a:chExt cx="426960" cy="426960"/>
            </a:xfrm>
          </p:grpSpPr>
          <p:sp>
            <p:nvSpPr>
              <p:cNvPr id="505" name="AutoShape 931"/>
              <p:cNvSpPr/>
              <p:nvPr/>
            </p:nvSpPr>
            <p:spPr>
              <a:xfrm flipH="1">
                <a:off x="1293840" y="509760"/>
                <a:ext cx="426960" cy="212400"/>
              </a:xfrm>
              <a:prstGeom prst="diamond">
                <a:avLst/>
              </a:prstGeom>
              <a:solidFill>
                <a:srgbClr val="347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Freeform 932"/>
              <p:cNvSpPr/>
              <p:nvPr/>
            </p:nvSpPr>
            <p:spPr>
              <a:xfrm flipH="1">
                <a:off x="1507320" y="614520"/>
                <a:ext cx="212760" cy="3204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Freeform 933"/>
              <p:cNvSpPr/>
              <p:nvPr/>
            </p:nvSpPr>
            <p:spPr>
              <a:xfrm>
                <a:off x="1295280" y="614520"/>
                <a:ext cx="212760" cy="3222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7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Group 966"/>
            <p:cNvGrpSpPr/>
            <p:nvPr/>
          </p:nvGrpSpPr>
          <p:grpSpPr>
            <a:xfrm>
              <a:off x="139680" y="158760"/>
              <a:ext cx="1285920" cy="1287360"/>
              <a:chOff x="139680" y="158760"/>
              <a:chExt cx="1285920" cy="1287360"/>
            </a:xfrm>
          </p:grpSpPr>
          <p:grpSp>
            <p:nvGrpSpPr>
              <p:cNvPr id="509" name="Group 935"/>
              <p:cNvGrpSpPr/>
              <p:nvPr/>
            </p:nvGrpSpPr>
            <p:grpSpPr>
              <a:xfrm>
                <a:off x="139680" y="555480"/>
                <a:ext cx="566640" cy="569520"/>
                <a:chOff x="139680" y="555480"/>
                <a:chExt cx="566640" cy="569520"/>
              </a:xfrm>
            </p:grpSpPr>
            <p:sp>
              <p:nvSpPr>
                <p:cNvPr id="510" name="AutoShape 936"/>
                <p:cNvSpPr/>
                <p:nvPr/>
              </p:nvSpPr>
              <p:spPr>
                <a:xfrm flipH="1">
                  <a:off x="139680" y="555480"/>
                  <a:ext cx="566640" cy="28368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Freeform 937"/>
                <p:cNvSpPr/>
                <p:nvPr/>
              </p:nvSpPr>
              <p:spPr>
                <a:xfrm flipH="1">
                  <a:off x="422280" y="693720"/>
                  <a:ext cx="283320" cy="4302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Freeform 938"/>
                <p:cNvSpPr/>
                <p:nvPr/>
              </p:nvSpPr>
              <p:spPr>
                <a:xfrm>
                  <a:off x="141120" y="694800"/>
                  <a:ext cx="283320" cy="4302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Group 939"/>
              <p:cNvGrpSpPr/>
              <p:nvPr/>
            </p:nvGrpSpPr>
            <p:grpSpPr>
              <a:xfrm>
                <a:off x="501120" y="728640"/>
                <a:ext cx="564840" cy="566280"/>
                <a:chOff x="501120" y="728640"/>
                <a:chExt cx="564840" cy="566280"/>
              </a:xfrm>
            </p:grpSpPr>
            <p:sp>
              <p:nvSpPr>
                <p:cNvPr id="514" name="AutoShape 940"/>
                <p:cNvSpPr/>
                <p:nvPr/>
              </p:nvSpPr>
              <p:spPr>
                <a:xfrm flipH="1">
                  <a:off x="500760" y="728640"/>
                  <a:ext cx="564840" cy="28188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Freeform 941"/>
                <p:cNvSpPr/>
                <p:nvPr/>
              </p:nvSpPr>
              <p:spPr>
                <a:xfrm flipH="1">
                  <a:off x="783000" y="866880"/>
                  <a:ext cx="282600" cy="4258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Freeform 942"/>
                <p:cNvSpPr/>
                <p:nvPr/>
              </p:nvSpPr>
              <p:spPr>
                <a:xfrm>
                  <a:off x="502920" y="866880"/>
                  <a:ext cx="282600" cy="428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Group 943"/>
              <p:cNvGrpSpPr/>
              <p:nvPr/>
            </p:nvGrpSpPr>
            <p:grpSpPr>
              <a:xfrm>
                <a:off x="501480" y="442800"/>
                <a:ext cx="565200" cy="568080"/>
                <a:chOff x="501480" y="442800"/>
                <a:chExt cx="565200" cy="568080"/>
              </a:xfrm>
            </p:grpSpPr>
            <p:sp>
              <p:nvSpPr>
                <p:cNvPr id="518" name="AutoShape 944"/>
                <p:cNvSpPr/>
                <p:nvPr/>
              </p:nvSpPr>
              <p:spPr>
                <a:xfrm flipH="1">
                  <a:off x="501480" y="442800"/>
                  <a:ext cx="565200" cy="28260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Freeform 945"/>
                <p:cNvSpPr/>
                <p:nvPr/>
              </p:nvSpPr>
              <p:spPr>
                <a:xfrm flipH="1">
                  <a:off x="783360" y="580680"/>
                  <a:ext cx="282600" cy="4287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Freeform 946"/>
                <p:cNvSpPr/>
                <p:nvPr/>
              </p:nvSpPr>
              <p:spPr>
                <a:xfrm>
                  <a:off x="502560" y="581760"/>
                  <a:ext cx="282600" cy="429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Group 961"/>
              <p:cNvGrpSpPr/>
              <p:nvPr/>
            </p:nvGrpSpPr>
            <p:grpSpPr>
              <a:xfrm>
                <a:off x="501480" y="158760"/>
                <a:ext cx="565200" cy="566640"/>
                <a:chOff x="501480" y="158760"/>
                <a:chExt cx="565200" cy="566640"/>
              </a:xfrm>
            </p:grpSpPr>
            <p:sp>
              <p:nvSpPr>
                <p:cNvPr id="522" name="AutoShape 948"/>
                <p:cNvSpPr/>
                <p:nvPr/>
              </p:nvSpPr>
              <p:spPr>
                <a:xfrm flipH="1">
                  <a:off x="501480" y="158760"/>
                  <a:ext cx="565200" cy="28260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Freeform 949"/>
                <p:cNvSpPr/>
                <p:nvPr/>
              </p:nvSpPr>
              <p:spPr>
                <a:xfrm flipH="1">
                  <a:off x="783360" y="297000"/>
                  <a:ext cx="282600" cy="426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Freeform 950"/>
                <p:cNvSpPr/>
                <p:nvPr/>
              </p:nvSpPr>
              <p:spPr>
                <a:xfrm>
                  <a:off x="503280" y="298440"/>
                  <a:ext cx="282600" cy="426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Group 965"/>
              <p:cNvGrpSpPr/>
              <p:nvPr/>
            </p:nvGrpSpPr>
            <p:grpSpPr>
              <a:xfrm>
                <a:off x="860400" y="879480"/>
                <a:ext cx="565200" cy="566640"/>
                <a:chOff x="860400" y="879480"/>
                <a:chExt cx="565200" cy="566640"/>
              </a:xfrm>
            </p:grpSpPr>
            <p:sp>
              <p:nvSpPr>
                <p:cNvPr id="526" name="AutoShape 952"/>
                <p:cNvSpPr/>
                <p:nvPr/>
              </p:nvSpPr>
              <p:spPr>
                <a:xfrm flipH="1">
                  <a:off x="860400" y="879480"/>
                  <a:ext cx="565200" cy="28260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Freeform 953"/>
                <p:cNvSpPr/>
                <p:nvPr/>
              </p:nvSpPr>
              <p:spPr>
                <a:xfrm flipH="1">
                  <a:off x="1142280" y="1017720"/>
                  <a:ext cx="282600" cy="426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Freeform 954"/>
                <p:cNvSpPr/>
                <p:nvPr/>
              </p:nvSpPr>
              <p:spPr>
                <a:xfrm>
                  <a:off x="861840" y="1017720"/>
                  <a:ext cx="282600" cy="428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29" name="PlaceHolder 1"/>
          <p:cNvSpPr>
            <a:spLocks noGrp="1"/>
          </p:cNvSpPr>
          <p:nvPr>
            <p:ph type="dt" idx="9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ftr" idx="10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Num" idx="11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C142-C5F5-43AA-A5BD-767DE2190B7D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CC49-3196-40E6-BFAD-AC0B44EB8999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FE86-552B-483A-8F58-215F7FCD7B66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D08C-7C27-4504-B1D0-B65EC4F27723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1D35-6FD2-428B-AB15-ED835423F0D0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F9F7-6B12-4E16-9A20-59ECD786E88C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216000" y="1904760"/>
            <a:ext cx="579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4600"/>
                </a:solidFill>
                <a:latin typeface="方正正大黑简体"/>
                <a:ea typeface="方正正大黑简体"/>
              </a:rPr>
              <a:t>经典</a:t>
            </a:r>
            <a:r>
              <a:rPr b="0" lang="en-US" sz="5400" spc="-1" strike="noStrike">
                <a:solidFill>
                  <a:srgbClr val="004600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5400" spc="-1" strike="noStrike">
                <a:solidFill>
                  <a:srgbClr val="004600"/>
                </a:solidFill>
                <a:latin typeface="方正正大黑简体"/>
                <a:ea typeface="方正正大黑简体"/>
              </a:rPr>
              <a:t>模板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Rectangle 656"/>
          <p:cNvSpPr/>
          <p:nvPr/>
        </p:nvSpPr>
        <p:spPr>
          <a:xfrm>
            <a:off x="731880" y="3840120"/>
            <a:ext cx="4614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第一</a:t>
            </a:r>
            <a:r>
              <a:rPr b="0" lang="en-US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模板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Rectangle 657"/>
          <p:cNvSpPr/>
          <p:nvPr/>
        </p:nvSpPr>
        <p:spPr>
          <a:xfrm>
            <a:off x="1341360" y="4276800"/>
            <a:ext cx="36212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a048"/>
                </a:solidFill>
                <a:latin typeface="Verdana"/>
                <a:ea typeface="Gulim"/>
              </a:rPr>
              <a:t>www.1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342720" y="2533680"/>
            <a:ext cx="570204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600"/>
                </a:solidFill>
                <a:latin typeface="Verdana"/>
                <a:ea typeface="Gulim"/>
              </a:rPr>
              <a:t>Thank You!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9" name="Rectangle 9"/>
          <p:cNvSpPr/>
          <p:nvPr/>
        </p:nvSpPr>
        <p:spPr>
          <a:xfrm>
            <a:off x="7978680" y="3816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  <a:ea typeface="Gulim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19"/>
          <p:cNvSpPr/>
          <p:nvPr/>
        </p:nvSpPr>
        <p:spPr>
          <a:xfrm>
            <a:off x="731880" y="3840120"/>
            <a:ext cx="4614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20"/>
          <p:cNvSpPr/>
          <p:nvPr/>
        </p:nvSpPr>
        <p:spPr>
          <a:xfrm>
            <a:off x="1341360" y="4276800"/>
            <a:ext cx="36212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a048"/>
                </a:solidFill>
                <a:latin typeface="Verdana"/>
                <a:ea typeface="Gulim"/>
              </a:rPr>
              <a:t>Your Site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矩形 4"/>
          <p:cNvSpPr/>
          <p:nvPr/>
        </p:nvSpPr>
        <p:spPr>
          <a:xfrm>
            <a:off x="611280" y="4427640"/>
            <a:ext cx="79214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hangye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sucai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tubiao/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powerpoint/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excel/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kejian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fanwen/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Rectangle 17"/>
          <p:cNvSpPr/>
          <p:nvPr/>
        </p:nvSpPr>
        <p:spPr>
          <a:xfrm>
            <a:off x="0" y="2708280"/>
            <a:ext cx="9144000" cy="1719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4" name="图片 9" descr=""/>
          <p:cNvPicPr/>
          <p:nvPr/>
        </p:nvPicPr>
        <p:blipFill>
          <a:blip r:embed="rId2"/>
          <a:stretch/>
        </p:blipFill>
        <p:spPr>
          <a:xfrm>
            <a:off x="1258920" y="128520"/>
            <a:ext cx="7200720" cy="2508480"/>
          </a:xfrm>
          <a:prstGeom prst="rect">
            <a:avLst/>
          </a:prstGeom>
          <a:ln w="0">
            <a:noFill/>
          </a:ln>
        </p:spPr>
      </p:pic>
      <p:sp>
        <p:nvSpPr>
          <p:cNvPr id="1585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修改模板中的内容包括，图片，数据，文本的替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打包上传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各种形式的付费下载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7" name="Picture 10" descr="png-0644"/>
          <p:cNvPicPr/>
          <p:nvPr/>
        </p:nvPicPr>
        <p:blipFill>
          <a:blip r:embed="rId3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1588" name="Picture 11" descr="png-0652"/>
          <p:cNvPicPr/>
          <p:nvPr/>
        </p:nvPicPr>
        <p:blipFill>
          <a:blip r:embed="rId4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日期占位符 3"/>
          <p:cNvSpPr/>
          <p:nvPr/>
        </p:nvSpPr>
        <p:spPr>
          <a:xfrm>
            <a:off x="6566040" y="657864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76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7634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347634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763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Strengths</a:t>
            </a:r>
            <a:r>
              <a:rPr b="1" lang="en-US" sz="2800" spc="-1" strike="noStrike">
                <a:solidFill>
                  <a:srgbClr val="347634"/>
                </a:solidFill>
                <a:latin typeface="Verdana"/>
                <a:ea typeface="Gulim"/>
              </a:rPr>
              <a:t> </a:t>
            </a:r>
            <a:endParaRPr b="1" lang="en-US" sz="2800" spc="-1" strike="noStrike">
              <a:solidFill>
                <a:srgbClr val="347634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476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7634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347634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7634"/>
              </a:solidFill>
              <a:latin typeface="Verdana"/>
            </a:endParaRPr>
          </a:p>
        </p:txBody>
      </p:sp>
      <p:sp>
        <p:nvSpPr>
          <p:cNvPr id="1475" name="Rectangle 5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Related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日期占位符 3"/>
          <p:cNvSpPr/>
          <p:nvPr/>
        </p:nvSpPr>
        <p:spPr>
          <a:xfrm>
            <a:off x="6566040" y="657864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Rectangle 4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8" name="Group 31"/>
          <p:cNvGrpSpPr/>
          <p:nvPr/>
        </p:nvGrpSpPr>
        <p:grpSpPr>
          <a:xfrm>
            <a:off x="1397160" y="2030400"/>
            <a:ext cx="4651200" cy="623880"/>
            <a:chOff x="1397160" y="2030400"/>
            <a:chExt cx="4651200" cy="623880"/>
          </a:xfrm>
        </p:grpSpPr>
        <p:sp>
          <p:nvSpPr>
            <p:cNvPr id="1479" name="AutoShape 6"/>
            <p:cNvSpPr/>
            <p:nvPr/>
          </p:nvSpPr>
          <p:spPr>
            <a:xfrm>
              <a:off x="1397160" y="2055960"/>
              <a:ext cx="464796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AutoShape 7"/>
            <p:cNvSpPr/>
            <p:nvPr/>
          </p:nvSpPr>
          <p:spPr>
            <a:xfrm>
              <a:off x="1397160" y="203040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048"/>
                </a:gs>
                <a:gs pos="100000">
                  <a:srgbClr val="194a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Oval 8"/>
            <p:cNvSpPr/>
            <p:nvPr/>
          </p:nvSpPr>
          <p:spPr>
            <a:xfrm rot="19033200">
              <a:off x="1422360" y="2125440"/>
              <a:ext cx="22716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6a0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2" name="Group 32"/>
          <p:cNvGrpSpPr/>
          <p:nvPr/>
        </p:nvGrpSpPr>
        <p:grpSpPr>
          <a:xfrm>
            <a:off x="1409760" y="2868480"/>
            <a:ext cx="4651200" cy="623880"/>
            <a:chOff x="1409760" y="2868480"/>
            <a:chExt cx="4651200" cy="623880"/>
          </a:xfrm>
        </p:grpSpPr>
        <p:sp>
          <p:nvSpPr>
            <p:cNvPr id="1483" name="AutoShape 10"/>
            <p:cNvSpPr/>
            <p:nvPr/>
          </p:nvSpPr>
          <p:spPr>
            <a:xfrm>
              <a:off x="1409760" y="2894040"/>
              <a:ext cx="464832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AutoShape 11"/>
            <p:cNvSpPr/>
            <p:nvPr/>
          </p:nvSpPr>
          <p:spPr>
            <a:xfrm>
              <a:off x="1409760" y="286848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Oval 12"/>
            <p:cNvSpPr/>
            <p:nvPr/>
          </p:nvSpPr>
          <p:spPr>
            <a:xfrm rot="19033200">
              <a:off x="1434960" y="2963520"/>
              <a:ext cx="22716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Group 30"/>
          <p:cNvGrpSpPr/>
          <p:nvPr/>
        </p:nvGrpSpPr>
        <p:grpSpPr>
          <a:xfrm>
            <a:off x="1397160" y="3732120"/>
            <a:ext cx="4651200" cy="623880"/>
            <a:chOff x="1397160" y="3732120"/>
            <a:chExt cx="4651200" cy="623880"/>
          </a:xfrm>
        </p:grpSpPr>
        <p:sp>
          <p:nvSpPr>
            <p:cNvPr id="1487" name="AutoShape 14"/>
            <p:cNvSpPr/>
            <p:nvPr/>
          </p:nvSpPr>
          <p:spPr>
            <a:xfrm>
              <a:off x="1397160" y="3757680"/>
              <a:ext cx="464796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AutoShape 15"/>
            <p:cNvSpPr/>
            <p:nvPr/>
          </p:nvSpPr>
          <p:spPr>
            <a:xfrm>
              <a:off x="1397160" y="373212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048"/>
                </a:gs>
                <a:gs pos="100000">
                  <a:srgbClr val="194a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Oval 16"/>
            <p:cNvSpPr/>
            <p:nvPr/>
          </p:nvSpPr>
          <p:spPr>
            <a:xfrm rot="19033200">
              <a:off x="1422360" y="3827160"/>
              <a:ext cx="22716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6a0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0" name="Group 33"/>
          <p:cNvGrpSpPr/>
          <p:nvPr/>
        </p:nvGrpSpPr>
        <p:grpSpPr>
          <a:xfrm>
            <a:off x="1409760" y="4570560"/>
            <a:ext cx="4651200" cy="623880"/>
            <a:chOff x="1409760" y="4570560"/>
            <a:chExt cx="4651200" cy="623880"/>
          </a:xfrm>
        </p:grpSpPr>
        <p:sp>
          <p:nvSpPr>
            <p:cNvPr id="1491" name="AutoShape 18"/>
            <p:cNvSpPr/>
            <p:nvPr/>
          </p:nvSpPr>
          <p:spPr>
            <a:xfrm>
              <a:off x="1409760" y="4595760"/>
              <a:ext cx="4648320" cy="5986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AutoShape 19"/>
            <p:cNvSpPr/>
            <p:nvPr/>
          </p:nvSpPr>
          <p:spPr>
            <a:xfrm>
              <a:off x="1409760" y="457056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Oval 20"/>
            <p:cNvSpPr/>
            <p:nvPr/>
          </p:nvSpPr>
          <p:spPr>
            <a:xfrm rot="19033200">
              <a:off x="1434960" y="4665240"/>
              <a:ext cx="227160" cy="14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4" name="Rectangle 21"/>
          <p:cNvSpPr/>
          <p:nvPr/>
        </p:nvSpPr>
        <p:spPr>
          <a:xfrm>
            <a:off x="1841400" y="2136600"/>
            <a:ext cx="36338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1. Introdu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22"/>
          <p:cNvSpPr/>
          <p:nvPr/>
        </p:nvSpPr>
        <p:spPr>
          <a:xfrm>
            <a:off x="1854360" y="2962440"/>
            <a:ext cx="3633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2. Strate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Rectangle 23"/>
          <p:cNvSpPr/>
          <p:nvPr/>
        </p:nvSpPr>
        <p:spPr>
          <a:xfrm>
            <a:off x="1866960" y="3825720"/>
            <a:ext cx="38876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3. Challengers Forw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Rectangle 24"/>
          <p:cNvSpPr/>
          <p:nvPr/>
        </p:nvSpPr>
        <p:spPr>
          <a:xfrm>
            <a:off x="1879560" y="4664160"/>
            <a:ext cx="3633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4. Conclu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日期占位符 3"/>
          <p:cNvSpPr/>
          <p:nvPr/>
        </p:nvSpPr>
        <p:spPr>
          <a:xfrm>
            <a:off x="6566040" y="657864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AutoShape 26"/>
          <p:cNvSpPr/>
          <p:nvPr/>
        </p:nvSpPr>
        <p:spPr>
          <a:xfrm>
            <a:off x="587520" y="1330200"/>
            <a:ext cx="8072280" cy="835200"/>
          </a:xfrm>
          <a:custGeom>
            <a:avLst/>
            <a:gdLst>
              <a:gd name="textAreaLeft" fmla="*/ 0 w 8072280"/>
              <a:gd name="textAreaRight" fmla="*/ 8072280 w 807228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85" y="0"/>
                </a:lnTo>
                <a:lnTo>
                  <a:pt x="21600" y="10800"/>
                </a:lnTo>
                <a:lnTo>
                  <a:pt x="2018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AutoShape 5"/>
          <p:cNvSpPr/>
          <p:nvPr/>
        </p:nvSpPr>
        <p:spPr>
          <a:xfrm>
            <a:off x="730080" y="1771560"/>
            <a:ext cx="3610080" cy="4132440"/>
          </a:xfrm>
          <a:custGeom>
            <a:avLst/>
            <a:gdLst>
              <a:gd name="textAreaLeft" fmla="*/ 72720 w 3610080"/>
              <a:gd name="textAreaRight" fmla="*/ 3537360 w 3610080"/>
              <a:gd name="textAreaTop" fmla="*/ 72720 h 4132440"/>
              <a:gd name="textAreaBottom" fmla="*/ 4059720 h 4132440"/>
            </a:gdLst>
            <a:ahLst/>
            <a:rect l="textAreaLeft" t="textAreaTop" r="textAreaRight" b="textAreaBottom"/>
            <a:pathLst>
              <a:path w="21600" h="24725">
                <a:moveTo>
                  <a:pt x="1491" y="0"/>
                </a:moveTo>
                <a:arcTo wR="1491" hR="1491" stAng="16200000" swAng="-5400000"/>
                <a:lnTo>
                  <a:pt x="0" y="23234"/>
                </a:lnTo>
                <a:arcTo wR="1491" hR="1491" stAng="10800000" swAng="-5400000"/>
                <a:lnTo>
                  <a:pt x="20109" y="24725"/>
                </a:lnTo>
                <a:arcTo wR="1491" hR="1491" stAng="5400000" swAng="-5400000"/>
                <a:lnTo>
                  <a:pt x="21600" y="1491"/>
                </a:lnTo>
                <a:arcTo wR="1491" hR="14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347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Rectangle 12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2" name="Group 18"/>
          <p:cNvGrpSpPr/>
          <p:nvPr/>
        </p:nvGrpSpPr>
        <p:grpSpPr>
          <a:xfrm>
            <a:off x="952560" y="1461960"/>
            <a:ext cx="3136680" cy="623880"/>
            <a:chOff x="952560" y="1461960"/>
            <a:chExt cx="3136680" cy="623880"/>
          </a:xfrm>
        </p:grpSpPr>
        <p:sp>
          <p:nvSpPr>
            <p:cNvPr id="1503" name="AutoShape 14"/>
            <p:cNvSpPr/>
            <p:nvPr/>
          </p:nvSpPr>
          <p:spPr>
            <a:xfrm>
              <a:off x="952560" y="1487160"/>
              <a:ext cx="3134880" cy="5986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AutoShape 15"/>
            <p:cNvSpPr/>
            <p:nvPr/>
          </p:nvSpPr>
          <p:spPr>
            <a:xfrm>
              <a:off x="952560" y="1461960"/>
              <a:ext cx="313668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048"/>
                </a:gs>
                <a:gs pos="100000">
                  <a:srgbClr val="194a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Oval 16"/>
            <p:cNvSpPr/>
            <p:nvPr/>
          </p:nvSpPr>
          <p:spPr>
            <a:xfrm rot="19033200">
              <a:off x="977400" y="1556640"/>
              <a:ext cx="226440" cy="14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6a0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6" name="Rectangle 17"/>
          <p:cNvSpPr/>
          <p:nvPr/>
        </p:nvSpPr>
        <p:spPr>
          <a:xfrm>
            <a:off x="1397160" y="1568520"/>
            <a:ext cx="2209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AutoShape 19"/>
          <p:cNvSpPr/>
          <p:nvPr/>
        </p:nvSpPr>
        <p:spPr>
          <a:xfrm>
            <a:off x="4691160" y="1766880"/>
            <a:ext cx="3609720" cy="4132440"/>
          </a:xfrm>
          <a:custGeom>
            <a:avLst/>
            <a:gdLst>
              <a:gd name="textAreaLeft" fmla="*/ 72720 w 3609720"/>
              <a:gd name="textAreaRight" fmla="*/ 3537000 w 3609720"/>
              <a:gd name="textAreaTop" fmla="*/ 72720 h 4132440"/>
              <a:gd name="textAreaBottom" fmla="*/ 4059720 h 4132440"/>
            </a:gdLst>
            <a:ahLst/>
            <a:rect l="textAreaLeft" t="textAreaTop" r="textAreaRight" b="textAreaBottom"/>
            <a:pathLst>
              <a:path w="21600" h="24728">
                <a:moveTo>
                  <a:pt x="1491" y="0"/>
                </a:moveTo>
                <a:arcTo wR="1491" hR="1491" stAng="16200000" swAng="-5400000"/>
                <a:lnTo>
                  <a:pt x="0" y="23237"/>
                </a:lnTo>
                <a:arcTo wR="1491" hR="1491" stAng="10800000" swAng="-5400000"/>
                <a:lnTo>
                  <a:pt x="20109" y="24728"/>
                </a:lnTo>
                <a:arcTo wR="1491" hR="1491" stAng="5400000" swAng="-5400000"/>
                <a:lnTo>
                  <a:pt x="21600" y="1491"/>
                </a:lnTo>
                <a:arcTo wR="1491" hR="14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8" name="Group 25"/>
          <p:cNvGrpSpPr/>
          <p:nvPr/>
        </p:nvGrpSpPr>
        <p:grpSpPr>
          <a:xfrm>
            <a:off x="4913280" y="1457280"/>
            <a:ext cx="3136680" cy="623880"/>
            <a:chOff x="4913280" y="1457280"/>
            <a:chExt cx="3136680" cy="623880"/>
          </a:xfrm>
        </p:grpSpPr>
        <p:sp>
          <p:nvSpPr>
            <p:cNvPr id="1509" name="AutoShape 21"/>
            <p:cNvSpPr/>
            <p:nvPr/>
          </p:nvSpPr>
          <p:spPr>
            <a:xfrm>
              <a:off x="4913280" y="1482840"/>
              <a:ext cx="313524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AutoShape 22"/>
            <p:cNvSpPr/>
            <p:nvPr/>
          </p:nvSpPr>
          <p:spPr>
            <a:xfrm>
              <a:off x="4913280" y="1457280"/>
              <a:ext cx="313668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Oval 23"/>
            <p:cNvSpPr/>
            <p:nvPr/>
          </p:nvSpPr>
          <p:spPr>
            <a:xfrm rot="19033200">
              <a:off x="4938480" y="1552320"/>
              <a:ext cx="22716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2" name="Rectangle 24"/>
          <p:cNvSpPr/>
          <p:nvPr/>
        </p:nvSpPr>
        <p:spPr>
          <a:xfrm>
            <a:off x="5357880" y="1563840"/>
            <a:ext cx="2209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日期占位符 3"/>
          <p:cNvSpPr/>
          <p:nvPr/>
        </p:nvSpPr>
        <p:spPr>
          <a:xfrm>
            <a:off x="6566040" y="657864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4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Oval 6"/>
          <p:cNvSpPr/>
          <p:nvPr/>
        </p:nvSpPr>
        <p:spPr>
          <a:xfrm>
            <a:off x="3486240" y="3745080"/>
            <a:ext cx="2135160" cy="2135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Tex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Oval 8"/>
          <p:cNvSpPr/>
          <p:nvPr/>
        </p:nvSpPr>
        <p:spPr>
          <a:xfrm>
            <a:off x="5853240" y="3743280"/>
            <a:ext cx="2135160" cy="2143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Tex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Oval 7"/>
          <p:cNvSpPr/>
          <p:nvPr/>
        </p:nvSpPr>
        <p:spPr>
          <a:xfrm>
            <a:off x="1100160" y="3743280"/>
            <a:ext cx="2143080" cy="21430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Tex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AutoShape 18"/>
          <p:cNvSpPr/>
          <p:nvPr/>
        </p:nvSpPr>
        <p:spPr>
          <a:xfrm>
            <a:off x="1874880" y="2411280"/>
            <a:ext cx="5251320" cy="1306800"/>
          </a:xfrm>
          <a:prstGeom prst="upArrow">
            <a:avLst>
              <a:gd name="adj1" fmla="val 78056"/>
              <a:gd name="adj2" fmla="val 75333"/>
            </a:avLst>
          </a:prstGeom>
          <a:gradFill rotWithShape="0">
            <a:gsLst>
              <a:gs pos="0">
                <a:srgbClr val="36a04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AutoShape 19"/>
          <p:cNvSpPr/>
          <p:nvPr/>
        </p:nvSpPr>
        <p:spPr>
          <a:xfrm>
            <a:off x="1069920" y="1406520"/>
            <a:ext cx="6869160" cy="95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ext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日期占位符 3"/>
          <p:cNvSpPr/>
          <p:nvPr/>
        </p:nvSpPr>
        <p:spPr>
          <a:xfrm>
            <a:off x="6566040" y="657864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26"/>
          <p:cNvSpPr/>
          <p:nvPr/>
        </p:nvSpPr>
        <p:spPr>
          <a:xfrm>
            <a:off x="7759800" y="2658960"/>
            <a:ext cx="601560" cy="8366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36a04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27"/>
          <p:cNvSpPr/>
          <p:nvPr/>
        </p:nvSpPr>
        <p:spPr>
          <a:xfrm>
            <a:off x="7746840" y="3776760"/>
            <a:ext cx="640080" cy="8366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36a04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28"/>
          <p:cNvSpPr/>
          <p:nvPr/>
        </p:nvSpPr>
        <p:spPr>
          <a:xfrm>
            <a:off x="7785000" y="4894200"/>
            <a:ext cx="601920" cy="8366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36a04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25"/>
          <p:cNvSpPr/>
          <p:nvPr/>
        </p:nvSpPr>
        <p:spPr>
          <a:xfrm>
            <a:off x="7721640" y="1541520"/>
            <a:ext cx="639720" cy="8366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36a04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20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29"/>
          <p:cNvSpPr/>
          <p:nvPr/>
        </p:nvSpPr>
        <p:spPr>
          <a:xfrm>
            <a:off x="3666960" y="2658960"/>
            <a:ext cx="4100760" cy="8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30"/>
          <p:cNvSpPr/>
          <p:nvPr/>
        </p:nvSpPr>
        <p:spPr>
          <a:xfrm>
            <a:off x="3679920" y="3776760"/>
            <a:ext cx="4100400" cy="8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31"/>
          <p:cNvSpPr/>
          <p:nvPr/>
        </p:nvSpPr>
        <p:spPr>
          <a:xfrm>
            <a:off x="3692520" y="4894200"/>
            <a:ext cx="4100400" cy="8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32"/>
          <p:cNvSpPr/>
          <p:nvPr/>
        </p:nvSpPr>
        <p:spPr>
          <a:xfrm>
            <a:off x="3654360" y="1541520"/>
            <a:ext cx="4100400" cy="8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Freeform 19"/>
          <p:cNvSpPr/>
          <p:nvPr/>
        </p:nvSpPr>
        <p:spPr>
          <a:xfrm>
            <a:off x="2692440" y="2286000"/>
            <a:ext cx="1317600" cy="339840"/>
          </a:xfrm>
          <a:custGeom>
            <a:avLst/>
            <a:gdLst/>
            <a:ahLst/>
            <a:rect l="l" t="t" r="r" b="b"/>
            <a:pathLst>
              <a:path w="814" h="198">
                <a:moveTo>
                  <a:pt x="189" y="198"/>
                </a:moveTo>
                <a:lnTo>
                  <a:pt x="814" y="140"/>
                </a:lnTo>
                <a:lnTo>
                  <a:pt x="617" y="17"/>
                </a:lnTo>
                <a:lnTo>
                  <a:pt x="0" y="0"/>
                </a:lnTo>
                <a:lnTo>
                  <a:pt x="189" y="19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Freeform 18"/>
          <p:cNvSpPr/>
          <p:nvPr/>
        </p:nvSpPr>
        <p:spPr>
          <a:xfrm>
            <a:off x="1933560" y="3119400"/>
            <a:ext cx="2691000" cy="655560"/>
          </a:xfrm>
          <a:custGeom>
            <a:avLst/>
            <a:gdLst/>
            <a:ahLst/>
            <a:rect l="l" t="t" r="r" b="b"/>
            <a:pathLst>
              <a:path w="1695" h="412">
                <a:moveTo>
                  <a:pt x="304" y="412"/>
                </a:moveTo>
                <a:lnTo>
                  <a:pt x="1695" y="313"/>
                </a:lnTo>
                <a:lnTo>
                  <a:pt x="1366" y="157"/>
                </a:lnTo>
                <a:lnTo>
                  <a:pt x="0" y="0"/>
                </a:lnTo>
                <a:lnTo>
                  <a:pt x="304" y="412"/>
                </a:lnTo>
                <a:close/>
              </a:path>
            </a:pathLst>
          </a:custGeom>
          <a:gradFill rotWithShape="0">
            <a:gsLst>
              <a:gs pos="0">
                <a:srgbClr val="595959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Freeform 17"/>
          <p:cNvSpPr/>
          <p:nvPr/>
        </p:nvSpPr>
        <p:spPr>
          <a:xfrm>
            <a:off x="1150920" y="3879720"/>
            <a:ext cx="4049640" cy="1057320"/>
          </a:xfrm>
          <a:custGeom>
            <a:avLst/>
            <a:gdLst/>
            <a:ahLst/>
            <a:rect l="l" t="t" r="r" b="b"/>
            <a:pathLst>
              <a:path w="2526" h="658">
                <a:moveTo>
                  <a:pt x="444" y="658"/>
                </a:moveTo>
                <a:lnTo>
                  <a:pt x="2526" y="527"/>
                </a:lnTo>
                <a:lnTo>
                  <a:pt x="2155" y="313"/>
                </a:lnTo>
                <a:lnTo>
                  <a:pt x="0" y="0"/>
                </a:lnTo>
                <a:lnTo>
                  <a:pt x="444" y="658"/>
                </a:lnTo>
                <a:close/>
              </a:path>
            </a:pathLst>
          </a:custGeom>
          <a:gradFill rotWithShape="0">
            <a:gsLst>
              <a:gs pos="0">
                <a:srgbClr val="194a21"/>
              </a:gs>
              <a:gs pos="100000">
                <a:srgbClr val="36a04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Freeform 4"/>
          <p:cNvSpPr/>
          <p:nvPr/>
        </p:nvSpPr>
        <p:spPr>
          <a:xfrm>
            <a:off x="1359000" y="4702320"/>
            <a:ext cx="4284720" cy="1228680"/>
          </a:xfrm>
          <a:custGeom>
            <a:avLst/>
            <a:gdLst/>
            <a:ahLst/>
            <a:rect l="l" t="t" r="r" b="b"/>
            <a:pathLst>
              <a:path w="2699" h="774">
                <a:moveTo>
                  <a:pt x="0" y="774"/>
                </a:moveTo>
                <a:lnTo>
                  <a:pt x="2699" y="560"/>
                </a:lnTo>
                <a:lnTo>
                  <a:pt x="2403" y="0"/>
                </a:lnTo>
                <a:lnTo>
                  <a:pt x="313" y="140"/>
                </a:lnTo>
                <a:lnTo>
                  <a:pt x="0" y="774"/>
                </a:lnTo>
                <a:close/>
              </a:path>
            </a:pathLst>
          </a:custGeom>
          <a:gradFill rotWithShape="0">
            <a:gsLst>
              <a:gs pos="0">
                <a:srgbClr val="36a048"/>
              </a:gs>
              <a:gs pos="100000">
                <a:srgbClr val="194a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Freeform 5"/>
          <p:cNvSpPr/>
          <p:nvPr/>
        </p:nvSpPr>
        <p:spPr>
          <a:xfrm>
            <a:off x="1920960" y="3605040"/>
            <a:ext cx="3160800" cy="1149480"/>
          </a:xfrm>
          <a:custGeom>
            <a:avLst/>
            <a:gdLst/>
            <a:ahLst/>
            <a:rect l="l" t="t" r="r" b="b"/>
            <a:pathLst>
              <a:path w="1991" h="724">
                <a:moveTo>
                  <a:pt x="0" y="724"/>
                </a:moveTo>
                <a:lnTo>
                  <a:pt x="1991" y="584"/>
                </a:lnTo>
                <a:lnTo>
                  <a:pt x="1695" y="0"/>
                </a:lnTo>
                <a:lnTo>
                  <a:pt x="304" y="99"/>
                </a:lnTo>
                <a:lnTo>
                  <a:pt x="0" y="724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59595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Freeform 6"/>
          <p:cNvSpPr/>
          <p:nvPr/>
        </p:nvSpPr>
        <p:spPr>
          <a:xfrm>
            <a:off x="2455920" y="2535120"/>
            <a:ext cx="2090520" cy="1096920"/>
          </a:xfrm>
          <a:custGeom>
            <a:avLst/>
            <a:gdLst/>
            <a:ahLst/>
            <a:rect l="l" t="t" r="r" b="b"/>
            <a:pathLst>
              <a:path w="1317" h="700">
                <a:moveTo>
                  <a:pt x="0" y="700"/>
                </a:moveTo>
                <a:lnTo>
                  <a:pt x="1317" y="601"/>
                </a:lnTo>
                <a:lnTo>
                  <a:pt x="980" y="0"/>
                </a:lnTo>
                <a:lnTo>
                  <a:pt x="346" y="49"/>
                </a:lnTo>
                <a:lnTo>
                  <a:pt x="0" y="7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Freeform 7"/>
          <p:cNvSpPr/>
          <p:nvPr/>
        </p:nvSpPr>
        <p:spPr>
          <a:xfrm>
            <a:off x="3044880" y="1528920"/>
            <a:ext cx="900000" cy="939600"/>
          </a:xfrm>
          <a:custGeom>
            <a:avLst/>
            <a:gdLst/>
            <a:ahLst/>
            <a:rect l="l" t="t" r="r" b="b"/>
            <a:pathLst>
              <a:path w="567" h="592">
                <a:moveTo>
                  <a:pt x="0" y="592"/>
                </a:moveTo>
                <a:lnTo>
                  <a:pt x="567" y="543"/>
                </a:lnTo>
                <a:lnTo>
                  <a:pt x="288" y="0"/>
                </a:lnTo>
                <a:lnTo>
                  <a:pt x="0" y="59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6a04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Freeform 8"/>
          <p:cNvSpPr/>
          <p:nvPr/>
        </p:nvSpPr>
        <p:spPr>
          <a:xfrm>
            <a:off x="509760" y="3879720"/>
            <a:ext cx="1358640" cy="2051280"/>
          </a:xfrm>
          <a:custGeom>
            <a:avLst/>
            <a:gdLst/>
            <a:ahLst/>
            <a:rect l="l" t="t" r="r" b="b"/>
            <a:pathLst>
              <a:path w="856" h="1292">
                <a:moveTo>
                  <a:pt x="535" y="1292"/>
                </a:moveTo>
                <a:lnTo>
                  <a:pt x="856" y="658"/>
                </a:lnTo>
                <a:lnTo>
                  <a:pt x="412" y="0"/>
                </a:lnTo>
                <a:lnTo>
                  <a:pt x="0" y="395"/>
                </a:lnTo>
                <a:lnTo>
                  <a:pt x="535" y="1292"/>
                </a:lnTo>
                <a:close/>
              </a:path>
            </a:pathLst>
          </a:custGeom>
          <a:gradFill rotWithShape="0">
            <a:gsLst>
              <a:gs pos="0">
                <a:srgbClr val="36a048"/>
              </a:gs>
              <a:gs pos="100000">
                <a:srgbClr val="194a2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Freeform 9"/>
          <p:cNvSpPr/>
          <p:nvPr/>
        </p:nvSpPr>
        <p:spPr>
          <a:xfrm>
            <a:off x="1254240" y="3110040"/>
            <a:ext cx="1162080" cy="1646280"/>
          </a:xfrm>
          <a:custGeom>
            <a:avLst/>
            <a:gdLst/>
            <a:ahLst/>
            <a:rect l="l" t="t" r="r" b="b"/>
            <a:pathLst>
              <a:path w="732" h="1070">
                <a:moveTo>
                  <a:pt x="428" y="1070"/>
                </a:moveTo>
                <a:lnTo>
                  <a:pt x="0" y="420"/>
                </a:lnTo>
                <a:lnTo>
                  <a:pt x="428" y="0"/>
                </a:lnTo>
                <a:lnTo>
                  <a:pt x="732" y="420"/>
                </a:lnTo>
                <a:lnTo>
                  <a:pt x="428" y="107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59595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Freeform 11"/>
          <p:cNvSpPr/>
          <p:nvPr/>
        </p:nvSpPr>
        <p:spPr>
          <a:xfrm>
            <a:off x="2835360" y="1541520"/>
            <a:ext cx="666720" cy="927000"/>
          </a:xfrm>
          <a:custGeom>
            <a:avLst/>
            <a:gdLst/>
            <a:ahLst/>
            <a:rect l="l" t="t" r="r" b="b"/>
            <a:pathLst>
              <a:path w="420" h="584">
                <a:moveTo>
                  <a:pt x="140" y="584"/>
                </a:moveTo>
                <a:lnTo>
                  <a:pt x="0" y="411"/>
                </a:lnTo>
                <a:lnTo>
                  <a:pt x="420" y="0"/>
                </a:lnTo>
                <a:lnTo>
                  <a:pt x="140" y="5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6a04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Freeform 14"/>
          <p:cNvSpPr/>
          <p:nvPr/>
        </p:nvSpPr>
        <p:spPr>
          <a:xfrm>
            <a:off x="2025720" y="2287440"/>
            <a:ext cx="966600" cy="1343160"/>
          </a:xfrm>
          <a:custGeom>
            <a:avLst/>
            <a:gdLst/>
            <a:ahLst/>
            <a:rect l="l" t="t" r="r" b="b"/>
            <a:pathLst>
              <a:path w="609" h="806">
                <a:moveTo>
                  <a:pt x="280" y="806"/>
                </a:moveTo>
                <a:lnTo>
                  <a:pt x="609" y="197"/>
                </a:lnTo>
                <a:lnTo>
                  <a:pt x="428" y="0"/>
                </a:lnTo>
                <a:lnTo>
                  <a:pt x="0" y="411"/>
                </a:lnTo>
                <a:lnTo>
                  <a:pt x="280" y="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Rectangle 21"/>
          <p:cNvSpPr/>
          <p:nvPr/>
        </p:nvSpPr>
        <p:spPr>
          <a:xfrm>
            <a:off x="2874960" y="5062680"/>
            <a:ext cx="1792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Text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Rectangle 22"/>
          <p:cNvSpPr/>
          <p:nvPr/>
        </p:nvSpPr>
        <p:spPr>
          <a:xfrm>
            <a:off x="3090960" y="3970440"/>
            <a:ext cx="1792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Text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Rectangle 23"/>
          <p:cNvSpPr/>
          <p:nvPr/>
        </p:nvSpPr>
        <p:spPr>
          <a:xfrm>
            <a:off x="3255840" y="2878200"/>
            <a:ext cx="1792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47634"/>
                </a:solidFill>
                <a:latin typeface="Verdana"/>
                <a:ea typeface="Gulim"/>
              </a:rPr>
              <a:t>Text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Rectangle 24"/>
          <p:cNvSpPr/>
          <p:nvPr/>
        </p:nvSpPr>
        <p:spPr>
          <a:xfrm>
            <a:off x="3459240" y="1862280"/>
            <a:ext cx="1792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600"/>
                </a:solidFill>
                <a:latin typeface="Verdana"/>
                <a:ea typeface="Gulim"/>
              </a:rPr>
              <a:t>Text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日期占位符 3"/>
          <p:cNvSpPr/>
          <p:nvPr/>
        </p:nvSpPr>
        <p:spPr>
          <a:xfrm>
            <a:off x="6566040" y="657864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Rectangle 4"/>
          <p:cNvSpPr/>
          <p:nvPr/>
        </p:nvSpPr>
        <p:spPr>
          <a:xfrm>
            <a:off x="2282760" y="2433600"/>
            <a:ext cx="1528920" cy="74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Rectangle 5"/>
          <p:cNvSpPr/>
          <p:nvPr/>
        </p:nvSpPr>
        <p:spPr>
          <a:xfrm>
            <a:off x="2282760" y="3174840"/>
            <a:ext cx="1528920" cy="73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Rectangle 6"/>
          <p:cNvSpPr/>
          <p:nvPr/>
        </p:nvSpPr>
        <p:spPr>
          <a:xfrm>
            <a:off x="2282760" y="3914640"/>
            <a:ext cx="1528920" cy="74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Rectangle 7"/>
          <p:cNvSpPr/>
          <p:nvPr/>
        </p:nvSpPr>
        <p:spPr>
          <a:xfrm>
            <a:off x="2282760" y="4656240"/>
            <a:ext cx="1528920" cy="74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Rectangle 8"/>
          <p:cNvSpPr/>
          <p:nvPr/>
        </p:nvSpPr>
        <p:spPr>
          <a:xfrm>
            <a:off x="3811680" y="2433600"/>
            <a:ext cx="1527120" cy="74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Rectangle 9"/>
          <p:cNvSpPr/>
          <p:nvPr/>
        </p:nvSpPr>
        <p:spPr>
          <a:xfrm>
            <a:off x="3811680" y="3174840"/>
            <a:ext cx="1527120" cy="73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Rectangle 10"/>
          <p:cNvSpPr/>
          <p:nvPr/>
        </p:nvSpPr>
        <p:spPr>
          <a:xfrm>
            <a:off x="3811680" y="3914640"/>
            <a:ext cx="1527120" cy="74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11"/>
          <p:cNvSpPr/>
          <p:nvPr/>
        </p:nvSpPr>
        <p:spPr>
          <a:xfrm>
            <a:off x="3811680" y="4656240"/>
            <a:ext cx="1527120" cy="74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Rectangle 12"/>
          <p:cNvSpPr/>
          <p:nvPr/>
        </p:nvSpPr>
        <p:spPr>
          <a:xfrm>
            <a:off x="5338800" y="2433600"/>
            <a:ext cx="1528560" cy="74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3"/>
          <p:cNvSpPr/>
          <p:nvPr/>
        </p:nvSpPr>
        <p:spPr>
          <a:xfrm>
            <a:off x="5338800" y="3174840"/>
            <a:ext cx="1528560" cy="73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14"/>
          <p:cNvSpPr/>
          <p:nvPr/>
        </p:nvSpPr>
        <p:spPr>
          <a:xfrm>
            <a:off x="5338800" y="3914640"/>
            <a:ext cx="1528560" cy="74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5"/>
          <p:cNvSpPr/>
          <p:nvPr/>
        </p:nvSpPr>
        <p:spPr>
          <a:xfrm>
            <a:off x="5338800" y="4656240"/>
            <a:ext cx="1528560" cy="74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16"/>
          <p:cNvSpPr/>
          <p:nvPr/>
        </p:nvSpPr>
        <p:spPr>
          <a:xfrm>
            <a:off x="6867360" y="2433600"/>
            <a:ext cx="1528920" cy="74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Rectangle 17"/>
          <p:cNvSpPr/>
          <p:nvPr/>
        </p:nvSpPr>
        <p:spPr>
          <a:xfrm>
            <a:off x="6867360" y="3174840"/>
            <a:ext cx="1528920" cy="73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18"/>
          <p:cNvSpPr/>
          <p:nvPr/>
        </p:nvSpPr>
        <p:spPr>
          <a:xfrm>
            <a:off x="6867360" y="3914640"/>
            <a:ext cx="1528920" cy="74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Rectangle 19"/>
          <p:cNvSpPr/>
          <p:nvPr/>
        </p:nvSpPr>
        <p:spPr>
          <a:xfrm>
            <a:off x="6867360" y="4656240"/>
            <a:ext cx="1528920" cy="74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Rectangle 20"/>
          <p:cNvSpPr/>
          <p:nvPr/>
        </p:nvSpPr>
        <p:spPr>
          <a:xfrm>
            <a:off x="741240" y="2433600"/>
            <a:ext cx="1541520" cy="7412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Rectangle 21"/>
          <p:cNvSpPr/>
          <p:nvPr/>
        </p:nvSpPr>
        <p:spPr>
          <a:xfrm>
            <a:off x="741240" y="3174840"/>
            <a:ext cx="1541520" cy="7398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Rectangle 22"/>
          <p:cNvSpPr/>
          <p:nvPr/>
        </p:nvSpPr>
        <p:spPr>
          <a:xfrm>
            <a:off x="741240" y="3914640"/>
            <a:ext cx="1541520" cy="7416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Rectangle 23"/>
          <p:cNvSpPr/>
          <p:nvPr/>
        </p:nvSpPr>
        <p:spPr>
          <a:xfrm>
            <a:off x="741240" y="4656240"/>
            <a:ext cx="1541520" cy="7412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Rectangle 24"/>
          <p:cNvSpPr/>
          <p:nvPr/>
        </p:nvSpPr>
        <p:spPr>
          <a:xfrm>
            <a:off x="2282760" y="2039760"/>
            <a:ext cx="1528920" cy="393840"/>
          </a:xfrm>
          <a:prstGeom prst="rect">
            <a:avLst/>
          </a:prstGeom>
          <a:gradFill rotWithShape="0">
            <a:gsLst>
              <a:gs pos="0">
                <a:srgbClr val="347634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347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600"/>
                </a:solidFill>
                <a:latin typeface="Verdana"/>
                <a:ea typeface="Gulim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Rectangle 25"/>
          <p:cNvSpPr/>
          <p:nvPr/>
        </p:nvSpPr>
        <p:spPr>
          <a:xfrm>
            <a:off x="3811680" y="2039760"/>
            <a:ext cx="1527120" cy="393840"/>
          </a:xfrm>
          <a:prstGeom prst="rect">
            <a:avLst/>
          </a:prstGeom>
          <a:gradFill rotWithShape="0">
            <a:gsLst>
              <a:gs pos="0">
                <a:srgbClr val="347634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347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600"/>
                </a:solidFill>
                <a:latin typeface="Verdana"/>
                <a:ea typeface="Gulim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Rectangle 26"/>
          <p:cNvSpPr/>
          <p:nvPr/>
        </p:nvSpPr>
        <p:spPr>
          <a:xfrm>
            <a:off x="5338800" y="2039760"/>
            <a:ext cx="1528560" cy="393840"/>
          </a:xfrm>
          <a:prstGeom prst="rect">
            <a:avLst/>
          </a:prstGeom>
          <a:gradFill rotWithShape="0">
            <a:gsLst>
              <a:gs pos="0">
                <a:srgbClr val="347634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347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600"/>
                </a:solidFill>
                <a:latin typeface="Verdana"/>
                <a:ea typeface="Gulim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Rectangle 27"/>
          <p:cNvSpPr/>
          <p:nvPr/>
        </p:nvSpPr>
        <p:spPr>
          <a:xfrm>
            <a:off x="6867360" y="2039760"/>
            <a:ext cx="1528920" cy="393840"/>
          </a:xfrm>
          <a:prstGeom prst="rect">
            <a:avLst/>
          </a:prstGeom>
          <a:gradFill rotWithShape="0">
            <a:gsLst>
              <a:gs pos="0">
                <a:srgbClr val="347634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347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600"/>
                </a:solidFill>
                <a:latin typeface="Verdana"/>
                <a:ea typeface="Gulim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Rectangle 28"/>
          <p:cNvSpPr/>
          <p:nvPr/>
        </p:nvSpPr>
        <p:spPr>
          <a:xfrm>
            <a:off x="741240" y="2039760"/>
            <a:ext cx="1541520" cy="393840"/>
          </a:xfrm>
          <a:prstGeom prst="rect">
            <a:avLst/>
          </a:prstGeom>
          <a:gradFill rotWithShape="0">
            <a:gsLst>
              <a:gs pos="0">
                <a:srgbClr val="347634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347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Rectangle 29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日期占位符 2"/>
          <p:cNvSpPr/>
          <p:nvPr/>
        </p:nvSpPr>
        <p:spPr>
          <a:xfrm>
            <a:off x="6566040" y="657864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3" name="Object 4" descr=""/>
          <p:cNvPicPr/>
          <p:nvPr/>
        </p:nvPicPr>
        <p:blipFill>
          <a:blip r:embed="rId1"/>
          <a:stretch/>
        </p:blipFill>
        <p:spPr>
          <a:xfrm>
            <a:off x="1230480" y="1276200"/>
            <a:ext cx="6648120" cy="4867560"/>
          </a:xfrm>
          <a:prstGeom prst="rect">
            <a:avLst/>
          </a:prstGeom>
          <a:ln w="0">
            <a:noFill/>
          </a:ln>
        </p:spPr>
      </p:pic>
      <p:sp>
        <p:nvSpPr>
          <p:cNvPr id="1574" name="Rectangle 6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日期占位符 2"/>
          <p:cNvSpPr/>
          <p:nvPr/>
        </p:nvSpPr>
        <p:spPr>
          <a:xfrm>
            <a:off x="6566040" y="657864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6" name="Object 4" descr=""/>
          <p:cNvPicPr/>
          <p:nvPr/>
        </p:nvPicPr>
        <p:blipFill>
          <a:blip r:embed="rId1"/>
          <a:stretch/>
        </p:blipFill>
        <p:spPr>
          <a:xfrm>
            <a:off x="1008000" y="1146240"/>
            <a:ext cx="7153200" cy="5229000"/>
          </a:xfrm>
          <a:prstGeom prst="rect">
            <a:avLst/>
          </a:prstGeom>
          <a:ln w="0">
            <a:noFill/>
          </a:ln>
        </p:spPr>
      </p:pic>
      <p:sp>
        <p:nvSpPr>
          <p:cNvPr id="1577" name="Rectangle 6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03:16:39Z</dcterms:created>
  <dc:creator>雨林木风</dc:creator>
  <dc:description/>
  <dc:language>en-US</dc:language>
  <cp:lastModifiedBy>a</cp:lastModifiedBy>
  <dcterms:modified xsi:type="dcterms:W3CDTF">2015-03-16T08:50:21Z</dcterms:modified>
  <cp:revision>6</cp:revision>
  <dc:subject/>
  <dc:title>PowerPoint                  Template</dc:title>
</cp:coreProperties>
</file>