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73C6-21F0-4194-B59A-DF816517AC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D14-198E-458B-968C-588B18FD9252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8A2-33A6-4F9F-8081-61B9FE1BBAFB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AB6-2177-480C-AFAF-CAADA64B9CBB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A11-A3DC-45CE-BB3A-8EDC6453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68C-49FD-45B2-A5C0-CE1B043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3D338-55A2-4C4F-8BFE-84381BBD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C302-BF22-48CC-B003-79BBFCDB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6965-70C0-4595-AEFF-1A3E2BB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1C07A-00A2-41A9-A92E-3DFBF7D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7349-624D-4192-9E7C-C1F32B5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498B-7473-40C8-9D0D-D671B6E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CFF4-544F-4848-9398-CFC84B0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DD291-B8BE-4686-9DDA-331A3290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3C5C-8117-4FFC-894C-1247F5E3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3BB69-2688-4EF8-A18E-2490BFA1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E4F-0778-416B-8731-FCEB748E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D10C-A154-4E23-BF52-EF5EC064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AD343-0B35-4105-BD06-89618C97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BFEE5-449B-4F67-9572-5261AD2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043D5-4014-41BC-990F-514E784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3BABD-E90B-4073-9709-A8CF031C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1C35-C29B-4627-BA6B-B1D17EC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F14E1-D268-4D05-A8A1-55D8B22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495BF-098C-4A62-AD6B-FB62D1D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16B9-75E5-476F-BDC4-32F4D460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602C0-F282-4173-948F-EFB5A411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A8D-26E3-4848-BECC-D124F1CE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5EAD6-1684-4D92-BD1B-ED8E30EC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3E2CE-C4D1-4FE0-BA86-6480871E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74AB-70B3-489C-9358-2F5E1A4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FDC16-ACE7-48C3-92FB-90AD25E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992C3-F010-4116-B600-3369A337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91A46-47DB-447D-BAC2-DD3FA131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2F2B-BA23-4C96-9ACB-C177079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B364F-EF5F-48D7-AACF-DDD4092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6B18B-7DB2-46B0-ADF7-F10DE6B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F40AC-2142-472B-85FF-F0062A6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5DB-12B2-43F4-BF7F-74F271B9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2C05D-CDBD-43B7-9737-6719974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A8100-C6F0-48BC-86E8-A48E4FE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94A68-F8DC-4F33-8A42-C76E128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C7E07-93CC-43F9-9FF4-A66BCB77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67950-332B-4734-9476-2A1FC26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8E688-8E28-48BC-9827-860F42E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20254-EB00-40A2-A4A8-A02B0997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885B3-16A1-4FA0-A593-AC4571A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AEA8-6502-4CE8-B95D-D2F84325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FFE0-421C-40A9-9588-99FD066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8C42-4C59-406A-B6E6-E97B5A6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15558-D03A-4CB6-A47E-6469228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3B19E-27B6-4CAB-B953-7414E38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5E88E-61CC-4FB9-974D-1414F3C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8800-2546-484D-AE58-EE380F32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88018-8A9C-46E8-9E1F-6BD5DBC1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04F0F-0A5A-4922-9264-C6FE88BD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95899-082A-4F8A-986C-A8777E6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97D75-248C-46AF-A25E-B7EA824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413CE-C433-4087-AE6B-E8DAF7F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7CC20-97B3-455E-BBA6-171D6FB5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097-AE20-4A91-94AA-58FBEA6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38D38-115E-463E-BA18-5D599F5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A7D79-63A2-4F0C-B695-CE87CE5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642DF-449D-4A47-B04A-28B3D34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9D42-55AC-4309-8FB0-ABE6C09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EBAF5-5AD0-4921-A59D-475AA331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94E4E-D37F-4FFB-BD7F-E4CC644D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E7E85-EAAD-4CB6-9435-2687DBDD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2BFB9-B382-41A6-AD0B-87C7FAAB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C98C8-9716-4012-8893-2AA414A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7B479-0728-4C0D-8399-DC350FB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5BD-7B44-4164-9402-2C8B23C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C4E36-7147-48F4-8465-DE4585F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20AFB-D6F3-4176-82ED-0EF23E5E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D8D50-09AF-402C-B750-B798D558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81790-3E5A-460D-8235-7D953F4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52F44-3915-45AF-B42A-F4E2E69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FF512-9C46-43B7-A23B-5D4876ED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81FFE-FE70-449D-9B4F-9E494E8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5C0EB-DF9C-46BF-ACC2-CCE36E26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41EBC-C482-459E-861C-48F63DD1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7BC8A-B383-4D99-8BE2-2EF2AA4F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BDAF-D95D-4435-8900-3BA6D51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B0EEA-0F17-4EAB-BD0D-2BA2F7D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E3155-13CC-4387-BEA5-6D5E1CFA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DF006-0883-489F-9762-74FF15D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11792-A96C-4E17-8464-62646E5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EEB29-4215-4005-A2A7-6917F92D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765D7-8069-4212-9464-7C6137B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50B5C-96D8-4149-A9D6-BCB7B89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191F4-EE1E-4BED-B3FC-9E323228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DCF3A-A391-4E1E-837B-BD93153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54C7F-24CF-4197-A76B-7A677637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99E4-F80B-46C5-9753-823542B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A81BD-F28A-425B-B90D-BB875BA9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2092-E008-4F69-887C-48B604B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6E2-3084-4F1E-90ED-28C1E3A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4009-20AC-4E41-A094-534C9C5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2B1C-B3CF-4EA5-9EC3-A9A78FE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EFC-C83B-4669-ADB6-C2B7500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326-1F6C-4586-9166-FC8B6C10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51A-BD7D-4A16-9D32-27179F4B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C65-C564-4174-8F52-040A67B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4836-7BCE-4712-AAA5-37622CE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D7AB-E9F3-432B-B8A2-275D96E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252C-8179-44BD-BB82-7991B8A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89C-955B-431C-8347-476B5155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DADD-1068-426E-BA32-428D287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54EF-9C5C-4A73-BF43-1D02E6C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FD22-C17D-4AE3-97D4-7C75A4A9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E89D-19AA-487B-919B-A10353B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788D-ECB7-436F-BC8E-FA9E296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4780-A1A1-4094-9EBF-15CD19E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4320-1F9C-4B84-9F4E-1E024D1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DDD4-B30E-4780-9B49-C8F3B7DA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E4DA-FC61-45FF-8BD3-EA9FA9C7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A11F-09A5-4F94-9C95-D6752997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DD3-81FA-4AC3-973C-2F273B3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52B2-CDEE-473A-9A66-62E0D8E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5F43-978E-4816-B048-B8D7BAE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BE6A-2A10-457B-9A4E-3E7E91DE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3AC6-C4A3-4226-A8DE-E15C22C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8F42-F191-41A9-9D26-1D86358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202E-D669-4DBF-9C5C-8BAC5B7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8282-AB34-45D3-88DB-497F00A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067C-6B34-4CB2-A651-E0152E6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CA93-1DA5-4CEC-861D-EFB2387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D9F9-1AAD-4F9D-AE26-6C9138E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249-84D9-4E21-AE42-C893EF4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9A04-0265-4979-A92E-D40F0004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ADAA-91C1-47A4-8434-E361F966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F524-042F-4042-843A-85D4C85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F3C4-0BAA-4194-A0C2-D3A8C22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8F399-387E-4950-90A1-CC8803B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D295-B1E2-4483-A1DF-B82749B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F2C7-0AEC-4D76-A6D1-40106579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DB89-04A5-4C2F-817C-D66E99F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814E-1218-42F9-8358-2C1E8BB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7333-D309-4BC2-ABB3-023FBB6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89B-7E2F-4765-AAFF-CCF6F75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4E2B9-1B1B-466D-BEBA-176A024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D1E9-A9CB-4AE2-97D1-72FED6CF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8C2E-35AC-4300-8394-F5B5A38C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15B7-D700-4D35-A320-9184AAAA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17F1-8E5D-40D3-8CC6-656B75B4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9308-6D60-4B30-BD99-203F248C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C0593-AA4B-4B71-84F1-A266EEC4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6CF9E-650F-4CF6-AB00-C9E1A30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32DA-A8BE-4F7A-A63B-0FEED9FE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1AB1-6C53-47E6-9420-AAAD851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DB0-6AA8-4879-A616-EF8EDF4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4855-1D8E-432D-A504-562563B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88A09-AFD1-48A6-8341-3728046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D06B-F400-4168-85B9-81C8230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9B2E-4450-416F-8C0A-0C28CF7C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9BAE-A5FE-4154-A6BF-AC945F2B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80AA-8645-45F9-92C9-3E8417F5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79B6-5033-48E4-9750-EE897D8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1CADB-C4D0-4341-B54E-31D09EE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EF228-C5E1-4499-96A5-3AC8E3C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28DF-F7C1-4AEA-8D09-50F5561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F08-FA08-4976-916B-ACA7D68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26FE-FDF4-4399-9C22-4DEE8CF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2B3A3-8292-451F-9A2B-9790554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3C90-AB3A-4654-8029-732E8D2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96AC-B8A3-4D71-90F4-DA587EF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C1B5-78ED-4B40-9CC3-33E078F8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B046-5378-40B5-B598-EC68B53D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B313-FAEE-498A-8AF7-CDB7F734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3BE8D-3888-45A8-90FF-34555C1D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DD92-CD9A-4ECA-9858-403CC1C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3384F-D412-4AAD-A3A8-D58D441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400" b="674"/>
          <a:stretch/>
        </p:blipFill>
        <p:spPr>
          <a:xfrm>
            <a:off x="109440" y="9360"/>
            <a:ext cx="903456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26D9-446E-447F-9B1F-DBEB591748FF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6"/>
          <p:cNvGrpSpPr/>
          <p:nvPr/>
        </p:nvGrpSpPr>
        <p:grpSpPr>
          <a:xfrm>
            <a:off x="-12600" y="0"/>
            <a:ext cx="642960" cy="476280"/>
            <a:chOff x="-12600" y="0"/>
            <a:chExt cx="642960" cy="476280"/>
          </a:xfrm>
        </p:grpSpPr>
        <p:sp>
          <p:nvSpPr>
            <p:cNvPr id="6" name="矩形 8"/>
            <p:cNvSpPr/>
            <p:nvPr/>
          </p:nvSpPr>
          <p:spPr>
            <a:xfrm>
              <a:off x="-12600" y="0"/>
              <a:ext cx="250920" cy="381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" name="矩形 9"/>
            <p:cNvSpPr/>
            <p:nvPr/>
          </p:nvSpPr>
          <p:spPr>
            <a:xfrm>
              <a:off x="290520" y="190440"/>
              <a:ext cx="339840" cy="2858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F44F-8886-4E61-8991-66315D057B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17CF-6A14-473E-879A-276B2395A9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1DC-CEF4-4652-A4FE-33EDDCB5A8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45A-382D-41DF-855E-261F6E0F7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AACE-F638-47C4-BA26-486A00FD25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EE4C-63EC-4AB3-9CF3-EAB8E463E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A3C-86AA-4A74-BF0F-6B3C489B8B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C96-ECB1-4E32-B859-CB7391F769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955-059D-4991-904B-492B74008E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EF31-23DB-4E5E-ACED-C50B29404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017-ED26-4F3D-B6F7-1A11011F3B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5B8F-2BD7-4DF2-99D5-0DD2AD15ED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FCD-8C3E-4C98-92FE-B256E7EE7F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6F7F-BD6E-4852-80CD-5F51AF7DD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73080" y="-4680"/>
            <a:ext cx="907092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矩形 11"/>
          <p:cNvSpPr/>
          <p:nvPr/>
        </p:nvSpPr>
        <p:spPr>
          <a:xfrm>
            <a:off x="0" y="3860640"/>
            <a:ext cx="378000" cy="576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57200" y="4149720"/>
            <a:ext cx="514440" cy="43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932360" y="5516640"/>
            <a:ext cx="257040" cy="216000"/>
          </a:xfrm>
          <a:prstGeom prst="rect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5189400" y="5300640"/>
            <a:ext cx="257400" cy="216000"/>
          </a:xfrm>
          <a:prstGeom prst="rect">
            <a:avLst/>
          </a:pr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2"/>
          <a:srcRect l="0" t="0" r="400" b="674"/>
          <a:stretch/>
        </p:blipFill>
        <p:spPr>
          <a:xfrm>
            <a:off x="109440" y="9360"/>
            <a:ext cx="9034560" cy="68486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1"/>
          <p:cNvSpPr/>
          <p:nvPr/>
        </p:nvSpPr>
        <p:spPr>
          <a:xfrm>
            <a:off x="1378080" y="2062080"/>
            <a:ext cx="379440" cy="576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835280" y="2349360"/>
            <a:ext cx="514080" cy="43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641920" y="3860640"/>
            <a:ext cx="257400" cy="216000"/>
          </a:xfrm>
          <a:prstGeom prst="rect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5899320" y="3646440"/>
            <a:ext cx="257040" cy="216000"/>
          </a:xfrm>
          <a:prstGeom prst="rect">
            <a:avLst/>
          </a:pr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250920" y="90756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66F-473C-47F5-9798-C74C5F4EE152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54A-97EA-44D2-8AEC-2FA33B6BD1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6BC-CEA3-4467-A566-EA2464BB08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A43-C468-468A-82D1-DD1A58BF63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E85B-906F-4BA9-8994-252F70AEA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F34D-DD3F-4572-8789-CA59F21DEE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E76-8ECC-45C7-B414-A52ED2B5E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A85-DDB7-48A0-AA9B-5439EA2735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B9A-E1F3-48D4-B0FC-CF2F78B41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783-3B4F-4D5C-941A-31B8934C08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EB70-853D-4EE3-B0BB-002214727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23760" y="436536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77"/>
                </a:solidFill>
                <a:latin typeface="微软雅黑"/>
              </a:rPr>
              <a:t>蓝色格子商务幻灯片模板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4" name="矩形 4"/>
          <p:cNvSpPr/>
          <p:nvPr/>
        </p:nvSpPr>
        <p:spPr>
          <a:xfrm>
            <a:off x="-22320" y="2232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445040" y="5271480"/>
            <a:ext cx="3732120" cy="2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92360" y="27824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add title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604960" y="3479040"/>
            <a:ext cx="335808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636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温馨提示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403280" y="1628640"/>
            <a:ext cx="604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十字星 5"/>
          <p:cNvSpPr/>
          <p:nvPr/>
        </p:nvSpPr>
        <p:spPr>
          <a:xfrm>
            <a:off x="1785960" y="272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十字星 6"/>
          <p:cNvSpPr/>
          <p:nvPr/>
        </p:nvSpPr>
        <p:spPr>
          <a:xfrm>
            <a:off x="1801800" y="3446640"/>
            <a:ext cx="71280" cy="72720"/>
          </a:xfrm>
          <a:custGeom>
            <a:avLst/>
            <a:gdLst>
              <a:gd name="textAreaLeft" fmla="*/ 29160 w 71280"/>
              <a:gd name="textAreaRight" fmla="*/ 42120 w 71280"/>
              <a:gd name="textAreaTop" fmla="*/ 29880 h 72720"/>
              <a:gd name="textAreaBottom" fmla="*/ 42840 h 7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6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a</cp:lastModifiedBy>
  <dcterms:modified xsi:type="dcterms:W3CDTF">2015-02-10T03:00:30Z</dcterms:modified>
  <cp:revision>1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EN PPT 格式 小方格 方格 方块 几何 图形 图案 渐变 抽象 科技 技术 蓝 蓝色 排列 背景 清新 时尚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小方格排列</vt:lpwstr>
  </property>
  <property fmtid="{D5CDD505-2E9C-101B-9397-08002B2CF9AE}" pid="11" name="模板ID">
    <vt:lpwstr>A30220130428A02</vt:lpwstr>
  </property>
  <property fmtid="{D5CDD505-2E9C-101B-9397-08002B2CF9AE}" pid="12" name="模板缩略图">
    <vt:lpwstr>A30220130428A02.png</vt:lpwstr>
  </property>
  <property fmtid="{D5CDD505-2E9C-101B-9397-08002B2CF9AE}" pid="13" name="相关案例">
    <vt:lpwstr>854</vt:lpwstr>
  </property>
  <property fmtid="{D5CDD505-2E9C-101B-9397-08002B2CF9AE}" pid="14" name="缩略图标题">
    <vt:lpwstr>小方格排列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428A0201</vt:lpwstr>
  </property>
  <property fmtid="{D5CDD505-2E9C-101B-9397-08002B2CF9AE}" pid="17" name="附件缩略图">
    <vt:lpwstr>A30220130428A0201.png</vt:lpwstr>
  </property>
  <property fmtid="{D5CDD505-2E9C-101B-9397-08002B2CF9AE}" pid="18" name="附件路径">
    <vt:lpwstr>A30220130428A0201.pptx</vt:lpwstr>
  </property>
</Properties>
</file>