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F63-4E06-4C8A-8D09-1CEF12A7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4BE-4FAD-42D5-9681-B2194436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360F5-B239-42E3-8B35-47D78FEC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0A73D-C1B4-494B-96CF-6EB25F40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42C7A-00A4-4EDE-9BE8-92178DB1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C7C01-734C-4803-862E-E913556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CA65C-3FBE-42AB-9690-1475598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30CDF-7635-4A80-988A-A45B2174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884A1-1E50-40D1-A060-A00F2830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5C768-AB5D-48FB-977B-58BAABE3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CC564-FB9D-45AE-87C7-3B230D40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2B106-3B32-4490-84C3-8B644CD4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AAA-B214-41B9-A97B-262551F5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77DC8-C2B3-41B1-A867-7F703D3E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E4EEF-040B-4815-A7CF-C1901EF3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DA5DE-7BFA-4426-B422-269CC4E4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EB4E4-4300-4CF7-A3BF-050A4813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283D9-186E-4153-B9C0-AE31DE9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5E32E-F933-4EBE-8AEE-FEF3A005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D0E0E-101D-45A0-B6BD-DE8C81F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685AB-281A-40F2-8DA0-0DDE7CF0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94E07-E6E1-40D6-AA47-78B6DAD4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9C992-A282-44CD-BBF9-0A3A5B56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D62-65C5-4C31-A02A-D052C8CC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050CA-12B2-47EF-B98E-803F50FE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603B4-7071-405F-AC05-DE4466FE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71D4B-909A-4D14-892D-74E31FA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FAA24-C254-46B6-B2F7-16FC1D3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15CAA-5985-46A2-90FF-C76A8BA3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C0954-FB13-4D73-A2CE-4458274C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3CFF-9743-421A-8382-6EF4BFC3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20233-72D0-46A9-AD6E-E33B88AE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C64B-9E5A-42F6-B22A-F180FD7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97ED8-A8DD-4421-BC40-634E093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B7B-686F-40CE-AF3D-A018B8FA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044D4-72CF-465E-8E12-85741263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DF1E3-CAB5-4EB8-BEA2-AD8D593C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3614B-FC54-47A8-BDA8-289CCBB9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DA3BF-4B2E-4F23-8CD8-ECFB568C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B5F3A-335C-48CE-867A-ACEB782D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72C94-F769-4B6B-A19C-6399BB1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F8561-084D-4756-AAB0-CD68CF1F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E9747-7957-4944-92EA-E7401D7A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DC908-A599-42CF-BA78-30F6C37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19546-403C-4499-88A0-FA537AF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1D6-B626-4008-B952-4DE9495A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29E00-06B5-4469-9759-A6EE79BF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90845-DFC6-498B-AED3-4D0D52BA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E731E-354E-4349-A850-A7D8973F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208D0-370B-4771-9169-7E64ACC6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C92EF-E0B8-47A2-9C93-4C8655B7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9BA5D-8CFB-4831-B0B8-C4DC86BC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7CCC9-976D-4C06-A353-CC937BAE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F2595-86D7-4927-AAC1-F601835B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15244-3478-41C9-82E9-1E8A4A0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BC069-89AE-46F3-9D17-2F6EDBE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E76D-7986-4D7E-8F6B-A8E62950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EE273-29A5-4622-A331-83F52799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F0FC3-65D9-4575-A620-8D0F91B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7F666-E8EA-4C1D-9B5B-52D5DE0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96D37-DF6C-4CB0-BA45-DDC2ADE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A4D5C-CF6A-404B-8882-6D4EB335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25B81-20A3-442E-B84E-10D9138E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626D0-6AFA-4E65-ACD6-BC4F7127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B137-C8B8-4554-B870-5130D6C2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AA44-5660-4C69-9923-1B0223A1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070A-589C-4F75-A42B-987EA99C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71D4-139A-41FB-8DFA-A17136E9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689-701C-46D6-AA7A-46159B30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74A-7B72-41F3-AEBA-B8D5766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F321-ACF3-4BFB-95AD-2AFF76C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B20E-2AA9-44CE-82F2-5D728D3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F5C7-EBBA-4F68-808A-469B9EF3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447A-A1C0-4C89-9782-7D294E75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75C2-CA08-4500-A0CD-1220359E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3D2E-6231-4241-A3DD-C0BB900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0552-95CF-440C-9787-B03A2687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3356-998A-4DBB-B496-1AECE428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4DDC-DA02-40BC-BD17-37B7F382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7DB-0D54-40F5-A2E0-9082244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25EE-98FA-43E8-A61F-8A3686EE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6D72-10A3-4A47-BEE7-914556D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4F52-AA6F-4836-9A3D-5600B64D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7645-1FCA-4AD1-A3CF-8257433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2C4E-75D5-4E2F-8AEF-E7BDA67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919A-C7DF-4C50-AFEB-EB0955E3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FFA3-E24C-4ECA-92FF-73BCC300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AD46-8CE2-4221-9111-CE9B3628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2EC3-FC6B-475C-8FD6-81BA929F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990C-7510-4155-B1A4-E5014B5B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741-98DD-4924-917E-2F7608BD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C462-73F5-4D9A-8508-ACA94CC6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DE8A-D3F9-423B-BDF5-284071D0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FCDA6-6E74-4247-9977-42526D92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6471-AB3C-4C1B-BBA7-1462B9A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89C6-52A8-4D9B-9D43-B709C49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6651-9CAB-4896-B76B-D8B181F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ACA9-2376-4573-B81C-B36803AD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14E8-7650-4788-BFDC-7A1E161C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E4E1-78DA-4075-A66F-B3C8ECDA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A9C0-BE81-4FB8-ADA9-0190B5C8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81D-6820-44B1-A733-DB76AA13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72F4-D4F1-4728-AB48-235A77F4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C6CC-9E7C-476E-8113-C7A8638F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9B8D9-12CA-43FF-9DF0-823A88CD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F4D92-6BCF-43CF-9095-23A644E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84285-8EA5-4EEC-9AE1-81FA150B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B1787-ADA7-4DC1-8801-3DCC40F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2A8B3-74E5-4DCD-8B8C-D0731FE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2BE94-F672-4D56-8D73-05AD469A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C2346-4DB5-4D63-B43D-0A4658E3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6EBA-AC68-42FB-85EF-223C15F0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BF5-7772-4621-930D-A6FD4A60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A4E0-F06B-4E3F-9E7D-5D53318A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8991-DE8B-443B-A9C4-30461BCC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05B4F-98B6-4081-8585-3DAED1A5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818CC-BE89-44AC-B2C1-8F884F0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4D39A-5CCF-45C6-BD07-021D557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8B98-BEE6-46C6-9254-E8F485B1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B5E0-FC95-47A0-9F0C-DB67507E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141A5-3D50-46E2-8D86-8D97CBDE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ADEC-6ECC-41FC-9E62-513229A1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D604F-5EA5-4CDE-9DAA-ABCE73B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83D-B9B2-41D2-81E4-2E30A7C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5855C-E51D-4305-BB22-F01B7041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EDFA4-9B9B-4E85-8568-6DC5D356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AA60-A763-4E4A-9512-4EB73F54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084E-FA07-4D08-B047-B7DD166B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7680-61FE-44A1-A41D-B5DA3C3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D6B85-F782-436F-95DE-DAA04800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80B0-E95E-4DF9-8C9B-7625709F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5EE6-F68E-43AD-B5A6-F8056678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9067F-6701-4B13-B5DF-668902CD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63D6D-AAA3-4D6E-AF28-775E2E3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117-FCAE-4422-B81F-01EBA73A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7536D-38DB-4F22-9044-6CADCAAD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527A0-3B5C-4799-BD68-415C79C0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79EEA-B8DA-48D6-8D2D-8FC32A17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D1E7B-506E-4AF6-8C51-3EBB6546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1FC9-023B-4F78-B5F1-34F11C59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D4FD5-3B96-4037-98B0-CF76575F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E884F-70F5-42DE-8466-F73FC191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07A86-FF41-4E8A-858B-F8D6FFFB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9F639-7494-4155-950F-41616B2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4BFCB-BFF1-445C-B535-69A496A5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97C-E097-4D71-92FD-4DFF981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59E35-19DD-416A-9976-75EF31D8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C8101-1337-41FE-BEBF-EE52DFC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62615-F1D9-46B7-ABC5-4590D8D3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CBDF3-BD25-4383-B2E4-C3150B1A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65DE5-383F-414A-A6B4-23152C2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8B656-8A27-42DE-A0A1-04FF9760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0A936-8A9F-447B-BC41-CB0ACB0F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78E8C-C38A-4818-AD89-4BB19E0F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9AE6A-36A8-4F83-9F78-83883F1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C8370-DE70-4FE5-9EFD-0E21709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2131-9B4D-49F6-86CD-34D53F98D4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47D-246C-424A-928F-423791BFAA8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7047-EDF4-4341-A129-5BB137304D6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B00A-3C3C-4535-B015-83AC72ACBDA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87E5-6329-4D9E-AE6B-BF096440D71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80D7-8655-468F-8D10-FF784222356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A091-CFDB-4C6C-ABBB-5115923264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0BA3-4FD8-4843-A0B0-39C9A67A138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15D2-4D80-4760-B560-1F22184FF83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CC9-CD19-438B-AB51-28497499D9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4E34-C499-42EE-A9D2-A5FAE9A25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AC43-6948-44F8-8036-1EDECFAF61C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6E7-1A1C-454B-8953-59E01BD0782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E566-E233-40BD-ADF7-87CF2FA0C5D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88E0-E19D-4326-BD99-16CA91BFBC2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FCA-E897-4FE2-8478-A10F991E56A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893D-A591-441A-885D-D4FD879AE34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CEB-98C4-4A14-8F22-0ED366C92D7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BBBB-1536-4615-B87F-2190F981656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39EA-D73F-45DA-9E37-3BC5F5939D7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83B-4D85-4E43-AA65-E6AF85D33DA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B9C1-0CC9-42C1-A1E2-24A178D2AAE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5867-1A1F-4093-8A8B-C5708699EAA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4D16-DEA8-42CE-B55D-3AAD5009967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AFFA-4650-469D-96CA-5B21483CDE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jpe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1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3" descr="家宽屏1-01"/>
          <p:cNvPicPr/>
          <p:nvPr/>
        </p:nvPicPr>
        <p:blipFill>
          <a:blip r:embed="rId14"/>
          <a:stretch/>
        </p:blipFill>
        <p:spPr>
          <a:xfrm>
            <a:off x="14400" y="0"/>
            <a:ext cx="12182400" cy="68580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15"/>
          <a:stretch/>
        </p:blipFill>
        <p:spPr>
          <a:xfrm>
            <a:off x="3333600" y="2597040"/>
            <a:ext cx="4951440" cy="646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未标题-1"/>
          <p:cNvPicPr/>
          <p:nvPr/>
        </p:nvPicPr>
        <p:blipFill>
          <a:blip r:embed="rId16"/>
          <a:stretch/>
        </p:blipFill>
        <p:spPr>
          <a:xfrm>
            <a:off x="4299120" y="3637080"/>
            <a:ext cx="3914640" cy="5824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8"/>
          <p:cNvSpPr/>
          <p:nvPr/>
        </p:nvSpPr>
        <p:spPr>
          <a:xfrm>
            <a:off x="6788160" y="3422520"/>
            <a:ext cx="14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方正兰亭黑_GBK"/>
              </a:rPr>
              <a:t>快捷、自由、高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9" descr="未标题-2"/>
          <p:cNvPicPr/>
          <p:nvPr/>
        </p:nvPicPr>
        <p:blipFill>
          <a:blip r:embed="rId17"/>
          <a:stretch/>
        </p:blipFill>
        <p:spPr>
          <a:xfrm>
            <a:off x="2165400" y="4394160"/>
            <a:ext cx="7305480" cy="2705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未标题-3"/>
          <p:cNvPicPr/>
          <p:nvPr/>
        </p:nvPicPr>
        <p:blipFill>
          <a:blip r:embed="rId18"/>
          <a:stretch/>
        </p:blipFill>
        <p:spPr>
          <a:xfrm>
            <a:off x="8358120" y="2976480"/>
            <a:ext cx="20368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-19080"/>
            <a:ext cx="12192120" cy="20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12760" y="38268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方正兰亭特黑简体"/>
                <a:ea typeface="方正兰亭特黑简体"/>
              </a:rPr>
              <a:t>标题文字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6645240"/>
            <a:ext cx="12192120" cy="2160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7" descr="未标题-4"/>
          <p:cNvPicPr/>
          <p:nvPr/>
        </p:nvPicPr>
        <p:blipFill>
          <a:blip r:embed="rId1"/>
          <a:stretch/>
        </p:blipFill>
        <p:spPr>
          <a:xfrm>
            <a:off x="8669160" y="1216080"/>
            <a:ext cx="1460520" cy="622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未标题-5"/>
          <p:cNvPicPr/>
          <p:nvPr/>
        </p:nvPicPr>
        <p:blipFill>
          <a:blip r:embed="rId2"/>
          <a:stretch/>
        </p:blipFill>
        <p:spPr>
          <a:xfrm>
            <a:off x="0" y="1832040"/>
            <a:ext cx="8948880" cy="478476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9"/>
          <p:cNvGrpSpPr/>
          <p:nvPr/>
        </p:nvGrpSpPr>
        <p:grpSpPr>
          <a:xfrm>
            <a:off x="5445000" y="2852640"/>
            <a:ext cx="3888000" cy="520560"/>
            <a:chOff x="5445000" y="2852640"/>
            <a:chExt cx="3888000" cy="520560"/>
          </a:xfrm>
        </p:grpSpPr>
        <p:pic>
          <p:nvPicPr>
            <p:cNvPr id="547" name="Picture 10" descr="11-01"/>
            <p:cNvPicPr/>
            <p:nvPr/>
          </p:nvPicPr>
          <p:blipFill>
            <a:blip r:embed="rId3"/>
            <a:stretch/>
          </p:blipFill>
          <p:spPr>
            <a:xfrm>
              <a:off x="5445000" y="2852640"/>
              <a:ext cx="60300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 Box 11"/>
            <p:cNvSpPr/>
            <p:nvPr/>
          </p:nvSpPr>
          <p:spPr>
            <a:xfrm>
              <a:off x="5891760" y="2852640"/>
              <a:ext cx="344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Calibri"/>
                  <a:ea typeface="方正兰亭黑_GBK"/>
                </a:rPr>
                <a:t>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Group 12"/>
          <p:cNvGrpSpPr/>
          <p:nvPr/>
        </p:nvGrpSpPr>
        <p:grpSpPr>
          <a:xfrm>
            <a:off x="4653000" y="3489480"/>
            <a:ext cx="3889080" cy="520560"/>
            <a:chOff x="4653000" y="3489480"/>
            <a:chExt cx="3889080" cy="520560"/>
          </a:xfrm>
        </p:grpSpPr>
        <p:pic>
          <p:nvPicPr>
            <p:cNvPr id="550" name="Picture 13" descr="22-01"/>
            <p:cNvPicPr/>
            <p:nvPr/>
          </p:nvPicPr>
          <p:blipFill>
            <a:blip r:embed="rId4"/>
            <a:stretch/>
          </p:blipFill>
          <p:spPr>
            <a:xfrm>
              <a:off x="4653000" y="3501360"/>
              <a:ext cx="603000" cy="49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4"/>
            <p:cNvSpPr/>
            <p:nvPr/>
          </p:nvSpPr>
          <p:spPr>
            <a:xfrm>
              <a:off x="5100480" y="3489480"/>
              <a:ext cx="344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Calibri"/>
                  <a:ea typeface="方正兰亭黑_GBK"/>
                </a:rPr>
                <a:t>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Group 15"/>
          <p:cNvGrpSpPr/>
          <p:nvPr/>
        </p:nvGrpSpPr>
        <p:grpSpPr>
          <a:xfrm>
            <a:off x="4351320" y="4078440"/>
            <a:ext cx="4694040" cy="552240"/>
            <a:chOff x="4351320" y="4078440"/>
            <a:chExt cx="4694040" cy="552240"/>
          </a:xfrm>
        </p:grpSpPr>
        <p:pic>
          <p:nvPicPr>
            <p:cNvPr id="553" name="Picture 16" descr="33-01"/>
            <p:cNvPicPr/>
            <p:nvPr/>
          </p:nvPicPr>
          <p:blipFill>
            <a:blip r:embed="rId5"/>
            <a:stretch/>
          </p:blipFill>
          <p:spPr>
            <a:xfrm>
              <a:off x="4351320" y="4078440"/>
              <a:ext cx="603000" cy="49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 Box 17"/>
            <p:cNvSpPr/>
            <p:nvPr/>
          </p:nvSpPr>
          <p:spPr>
            <a:xfrm>
              <a:off x="4805640" y="4110120"/>
              <a:ext cx="423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Calibri"/>
                  <a:ea typeface="方正兰亭黑_GBK"/>
                </a:rPr>
                <a:t>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Group 18"/>
          <p:cNvGrpSpPr/>
          <p:nvPr/>
        </p:nvGrpSpPr>
        <p:grpSpPr>
          <a:xfrm>
            <a:off x="4579920" y="4792680"/>
            <a:ext cx="4696920" cy="520560"/>
            <a:chOff x="4579920" y="4792680"/>
            <a:chExt cx="4696920" cy="520560"/>
          </a:xfrm>
        </p:grpSpPr>
        <p:pic>
          <p:nvPicPr>
            <p:cNvPr id="556" name="Picture 19" descr="44-01"/>
            <p:cNvPicPr/>
            <p:nvPr/>
          </p:nvPicPr>
          <p:blipFill>
            <a:blip r:embed="rId6"/>
            <a:stretch/>
          </p:blipFill>
          <p:spPr>
            <a:xfrm>
              <a:off x="4579920" y="4804560"/>
              <a:ext cx="603000" cy="49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 Box 20"/>
            <p:cNvSpPr/>
            <p:nvPr/>
          </p:nvSpPr>
          <p:spPr>
            <a:xfrm>
              <a:off x="5037480" y="4792680"/>
              <a:ext cx="423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Calibri"/>
                  <a:ea typeface="方正兰亭黑_GBK"/>
                </a:rPr>
                <a:t>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8" name="Group 21"/>
          <p:cNvGrpSpPr/>
          <p:nvPr/>
        </p:nvGrpSpPr>
        <p:grpSpPr>
          <a:xfrm>
            <a:off x="5803920" y="5445000"/>
            <a:ext cx="4968360" cy="520560"/>
            <a:chOff x="5803920" y="5445000"/>
            <a:chExt cx="4968360" cy="520560"/>
          </a:xfrm>
        </p:grpSpPr>
        <p:pic>
          <p:nvPicPr>
            <p:cNvPr id="559" name="Picture 22" descr="55-01"/>
            <p:cNvPicPr/>
            <p:nvPr/>
          </p:nvPicPr>
          <p:blipFill>
            <a:blip r:embed="rId7"/>
            <a:stretch/>
          </p:blipFill>
          <p:spPr>
            <a:xfrm>
              <a:off x="5803920" y="5446080"/>
              <a:ext cx="60300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23"/>
            <p:cNvSpPr/>
            <p:nvPr/>
          </p:nvSpPr>
          <p:spPr>
            <a:xfrm>
              <a:off x="6247440" y="5445000"/>
              <a:ext cx="452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99"/>
                  </a:solidFill>
                  <a:latin typeface="Calibri"/>
                  <a:ea typeface="方正兰亭黑_GBK"/>
                </a:rPr>
                <a:t>幻灯片目录文字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5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-19080"/>
            <a:ext cx="12192120" cy="20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6645240"/>
            <a:ext cx="12192120" cy="2160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7" descr="未标题-5"/>
          <p:cNvPicPr/>
          <p:nvPr/>
        </p:nvPicPr>
        <p:blipFill>
          <a:blip r:embed="rId1"/>
          <a:stretch/>
        </p:blipFill>
        <p:spPr>
          <a:xfrm>
            <a:off x="0" y="1738440"/>
            <a:ext cx="8793000" cy="4878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33-01"/>
          <p:cNvPicPr/>
          <p:nvPr/>
        </p:nvPicPr>
        <p:blipFill>
          <a:blip r:embed="rId2"/>
          <a:stretch/>
        </p:blipFill>
        <p:spPr>
          <a:xfrm>
            <a:off x="3870360" y="3700440"/>
            <a:ext cx="930240" cy="7668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9"/>
          <p:cNvSpPr/>
          <p:nvPr/>
        </p:nvSpPr>
        <p:spPr>
          <a:xfrm>
            <a:off x="4657680" y="3792600"/>
            <a:ext cx="57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Calibri"/>
                <a:ea typeface="方正兰亭黑_GBK"/>
              </a:rPr>
              <a:t>幻灯片目录文字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212760" y="38268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方正兰亭特黑简体"/>
                <a:ea typeface="方正兰亭特黑简体"/>
              </a:rPr>
              <a:t>标题文字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-19080"/>
            <a:ext cx="12192120" cy="3510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6645240"/>
            <a:ext cx="12192120" cy="2160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4" descr="未标题-5"/>
          <p:cNvPicPr/>
          <p:nvPr/>
        </p:nvPicPr>
        <p:blipFill>
          <a:blip r:embed="rId1"/>
          <a:stretch/>
        </p:blipFill>
        <p:spPr>
          <a:xfrm>
            <a:off x="7920" y="1800360"/>
            <a:ext cx="9183600" cy="4597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55-01"/>
          <p:cNvPicPr/>
          <p:nvPr/>
        </p:nvPicPr>
        <p:blipFill>
          <a:blip r:embed="rId2"/>
          <a:stretch/>
        </p:blipFill>
        <p:spPr>
          <a:xfrm>
            <a:off x="71280" y="501480"/>
            <a:ext cx="922320" cy="7588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993600" y="620640"/>
            <a:ext cx="59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方正兰亭特黑简体"/>
                <a:ea typeface="方正兰亭特黑简体"/>
              </a:rPr>
              <a:t>标题文字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10780560" y="5724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WPS   </a:t>
            </a:r>
            <a:r>
              <a:rPr b="0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Office</a:t>
            </a:r>
            <a:r>
              <a:rPr b="0" lang="zh-CN" sz="12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11212560" y="-255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@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96960" y="2276640"/>
            <a:ext cx="84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99"/>
                </a:solidFill>
                <a:latin typeface="方正兰亭特黑简体"/>
                <a:ea typeface="方正兰亭特黑简体"/>
              </a:rPr>
              <a:t>标题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409680" y="3378240"/>
            <a:ext cx="89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99"/>
                </a:solidFill>
                <a:latin typeface="方正兰亭特黑简体"/>
                <a:ea typeface="方正兰亭特黑简体"/>
              </a:rPr>
              <a:t>标题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689040" y="4092480"/>
            <a:ext cx="1106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99"/>
                </a:solidFill>
                <a:latin typeface="方正兰亭特黑简体"/>
                <a:ea typeface="方正兰亭特黑简体"/>
              </a:rPr>
              <a:t>标题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家宽屏1-01"/>
          <p:cNvPicPr/>
          <p:nvPr/>
        </p:nvPicPr>
        <p:blipFill>
          <a:blip r:embed="rId1"/>
          <a:stretch/>
        </p:blipFill>
        <p:spPr>
          <a:xfrm>
            <a:off x="-7920" y="0"/>
            <a:ext cx="121824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4587840" y="2600280"/>
            <a:ext cx="36021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3399"/>
                </a:solidFill>
                <a:latin typeface="Calibri"/>
                <a:ea typeface="微软雅黑"/>
              </a:rPr>
              <a:t>谢谢聆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3399"/>
                </a:solidFill>
                <a:latin typeface="Calibri"/>
                <a:ea typeface="微软雅黑"/>
              </a:rPr>
              <a:t>  </a:t>
            </a:r>
            <a:r>
              <a:rPr b="0" i="1" lang="zh-CN" sz="2800" spc="-1" strike="noStrike">
                <a:solidFill>
                  <a:srgbClr val="003399"/>
                </a:solidFill>
                <a:latin typeface="微软雅黑"/>
                <a:ea typeface="微软雅黑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759"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3431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cp:lastPrinted>1899-12-30T00:00:00Z</cp:lastPrinted>
  <dcterms:modified xsi:type="dcterms:W3CDTF">2015-02-10T03:00:5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