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8A2-9C72-4952-818B-A5260A46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600-4DE9-489F-A17D-96D9D78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92A66-8AAC-4927-93E7-28D65C0C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517F2-4EF7-425D-8A34-F4019D8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8A03E-C566-4303-AE14-B764BBA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AB59E-D4DC-44D2-AEAE-86FA12D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B6156-F387-4AE4-96AA-73E6EC7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18410-43E8-4A29-8F6F-1407A08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8C201-62C0-4776-8425-02237BFD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1ECFC-1959-4DA2-8932-B52B1AC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C4786-B149-4464-9276-BB1F6904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C8536-0633-4F54-AD91-A299826B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74D-C8C5-405B-B95D-90626977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A0F6F-F538-4CF6-802B-1EF3F4BB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37D77-90EF-4C39-AEE6-893B06A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144C-17D9-4B5A-A2A8-30B8F55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6DB99-D7F8-4861-A3CD-5631468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C61E-35C3-4E3E-9B79-48D2F62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72F7B-11ED-4EB0-ADF6-8FB688A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6A238-10E4-452C-916C-E661CE13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75932-80E5-4BCE-8DC4-5F5FDFB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D2A80-31CD-40A9-8F26-58CEC7B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9BB61-A45C-4079-9096-8B552972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DEE-BBED-485E-8017-E5D16965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92683-B795-4800-BE18-38741449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259A-1E66-4E1A-91F5-F85CA63B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DDF9-433A-4C0F-BB27-465682D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815F-E1D7-46DE-B6FA-426C604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9912B-8E99-47BA-BDB7-BB5BE6E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59521-07F7-4044-91BF-0887F293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6C41C-53D2-4555-80D0-4B75929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3B12-94BB-4C5C-8192-FE7DB67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E990F-FB81-41D5-B867-668DDDC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2F8EB-E3B3-490C-89FC-7B6F214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F9A9-49AB-403B-863E-38370DB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882B1-BA2E-45DA-810C-1A79E6C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096F3-0A3E-42F2-8305-CBFC0B6C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8D1E9-1C21-47E1-8D56-415CBE18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16EE3-04A2-4A5C-A793-35C7ED36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71250-4DBE-4011-B36C-16D9ABF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43096-8AE1-4A88-9A15-780FAE60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BE027-FB31-487E-859B-F87D58F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C5525-8A52-49E3-A122-2792272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8E39A-4DDE-4831-8914-83C4834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EEDE7-2266-4E86-B862-989DDF0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ECC-0C6F-4ED1-93B8-C4C7D2D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5EB67-B92A-433D-B4C9-F9DA78C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2750C-4861-46D1-BA36-AC996C3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8131E-F3E0-4513-B555-1AEACDD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A030D-A7C2-426E-A76E-FE4DB419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01632-DE7A-4A2B-A7E9-3FCEDC51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D6D6B-2A5E-4AFD-A872-981483DF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E30E8-3382-4CA4-B2E3-3EEA82F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18AA0-6C76-4F60-AEE0-4FA65B97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D6EE1-8880-486B-A769-36CD50CF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31569-9B98-4E1E-9075-834168F9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0589-653B-40AC-8EEF-B5A4B5D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E2F0A-412B-43E2-84BE-6707C1B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4C969-6AF2-4C93-9799-29D1EFAF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E27EB-4891-4661-9365-6D1EE76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3A5B3-D225-4B71-9EA2-A61B29D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E5187-5959-4B40-9F50-8221DD7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F86A0-4963-4BA8-816B-9D3D767A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59874-EB65-4A7F-96A6-E0E11688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B8A-0269-4889-BA55-97610390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931C-DF23-42BB-97AA-2F87C601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C40-093A-4963-80CA-4F22AB1E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8BE0-3002-4AA0-85B9-0255ADD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261-D314-4B3E-BA89-69C4481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AFC7-7BD2-4E35-A9CB-F6CEB6C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ABBD-A1B1-48A8-91B1-0CA20E5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5125-98D2-4590-B96B-89977B6D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E530-96BD-4DB0-9763-2D9CF08E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147E-BD6E-4F07-936D-04B8DBE6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4562-0D06-4979-AF05-DD886E0C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1858-1C5B-4AC4-8C11-E1BB3EC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D999-941F-470F-9520-9BCA45D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05D1-BF8D-49C2-8BEC-454D84D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2E7B-4EEC-45E0-94F5-155D5DB5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F62-02AE-435B-ACC8-80E31C5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83A0-C536-4318-9973-AAB56F8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234B-2CE2-43C6-B27F-69BF837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1F55-B4D9-415B-B153-80C42F2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4437-E96F-4124-8590-02671A8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5957-BF5C-4B09-B7A1-8EE68B8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046B-98D4-444D-B22A-E1FBF562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00EC-5307-4C47-B416-6A94E84E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A827-5820-4956-A69B-773F7A32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2F81-96E4-46D4-BBF9-54D7983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09E9-D982-4157-AA7F-A0E8DD1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2D3-CF01-487D-B944-23A4F61B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21B8-90E4-4437-9AA9-F393799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D000-6D7D-4263-BC71-E804B7A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0346-163D-4970-AB7D-FDA30FF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CEF8-11CF-4BF0-B506-2AE1544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CDFA-13DA-4641-8DB6-BE850AF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06C5-9B95-4558-81BC-945293C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151C-5D22-46DD-BCA1-F4E77EF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4FF4-EB14-4667-BBB8-3F232596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BBB5-8CE0-4135-ABA2-0FA6A11F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B1189-8E4F-45DD-9791-9C56E382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656-C878-449D-AF7F-A21176E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A2CD-8E14-4CDE-8036-46F42A2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EDD41-5E9D-4DEF-9353-C0A2D1A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24E6-F6AB-4DC1-B958-CB25BEC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3E5E-95CF-4330-951E-9B82304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7704-1D13-4EF4-B170-147E55A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DAF8-9900-4C4A-A832-02865BA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44CE-4D62-40A0-9F17-3FD67EC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C8C9-6440-4CAF-8419-A5CF544F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D457-4DE4-461A-A015-42A62F9D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2A07-8902-42E7-AD47-EE782496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B44-A84B-42DF-86A9-5AE0CA82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1DF1-E898-455C-BD8F-34313C43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B780-3130-44E5-A014-9569001C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3BDA-9A3A-4403-B28D-3BC0D05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01F5-B549-40BE-B0B4-6F82CE0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6C0C-8B73-4817-94E5-6226854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2A6B-92D0-4FAB-ADA4-D29406C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DBDF-42E1-4E45-A434-DB3F3D74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07F1-69A8-426D-B3E8-EBDD6C0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C86A-35B5-40BE-A47C-47E4C1C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3D70-473D-4482-9F11-9979E08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C49-860A-487E-8AB6-8EC14E3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42A63-30B2-4FD9-81B5-F207FFB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33D3-CF20-433C-9681-FC2C3983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8F61-9AB1-4099-97FE-C6C5B5BC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7EF3-719D-4233-84EB-37FCBD5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28A8-6305-4F4D-8B1B-362AB31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C09F-6ADF-4A9F-8133-0F4821D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CEF5A-0738-4716-8D6E-AC1B316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B9D0-1D6D-443C-8ABE-899687F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685B6-8079-4BA3-9F52-D39A627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D74C-030B-4040-8416-B37B416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02F-0461-4D29-937E-33CCBCBF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3726-F7DF-4B54-B10F-DDBB32A0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CEBC-1AFE-411D-9054-CDB4B2CC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14A74-DF32-41D0-A1DC-ADE2488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C6583-04CD-4B1A-893E-FBD7F53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2514-0064-4B15-9D3A-42D07F44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D1BE-9D9A-4BC4-823F-1E8584D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2FE9A-6A58-4864-A487-5A75DAC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5E23E-79A3-4DD3-A107-CCE18E2F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4DC8C-E43F-4D97-A3B2-7556102C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A407-26DA-4390-A97B-63A6664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8DB-65BD-41B2-B565-910938D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C167-0B0B-4A23-A1AA-E9F7E48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817F-FB01-4782-9B3C-ED0D8BD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6E5C-88FC-4CC2-8E7D-3CD32A6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F1528-BBB4-4EC0-B261-2BC0CD1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09FA-88FB-42DB-ABDB-6D5C9FA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BCEA-2931-47BB-90DA-45F6731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3E44-A614-4CB6-8F41-D312848B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03EA9-7BE5-4780-89F9-663692D5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BBDA-B092-412D-9782-2B953C62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2F2AC-AB9B-414F-8A27-4C660EC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AA8-D59E-484F-B013-FEF16D7A97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28C0-181C-4FB8-95D4-29F9AC7310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F2E-F7F0-4313-81FF-14678B1DF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6AE-5AF0-4D21-9106-7200236AAC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BD8-6860-43F6-A4EB-1EC51886B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C7B2-5B18-452A-AF3A-ADD5505288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16A-7A1D-4FB3-BB4F-2E187C052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BAE1-691D-4E1C-A731-98FB571403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BA22-8B23-4266-A39B-3BDEF96EC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922-3332-4B97-912A-569D87C8F8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5F8-4CEA-4ED6-9698-395845E89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2B1-A8E7-43D9-834F-1CFE1474FE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66A-FC7A-4886-A67D-6A92A5F24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BB6-AA9E-461C-8EDC-417A98F6E6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27C-AE68-4760-96CB-A54DCBBB0A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B46-C96A-43A9-BCA2-8B66D3E322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79CF-2EA1-4D95-BBB9-AC7351BC7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764-4EA9-41DD-8DDA-FBB18E9B44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B43-FF8C-443F-8B5B-E4EF04090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BD71-D6A4-47C3-B5A0-DE14BACEB6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9214-FDE3-4AB8-BF3C-1048F1E45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5E0-830F-4195-9816-41942A9E2F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61BE-52D6-46A2-9751-BE106A510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93F-D1CD-456F-9912-E29A964436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A01-6CC5-4E75-8DA2-EA0F1A660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214800" y="17146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286080" y="2214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2" descr="2.png"/>
          <p:cNvPicPr/>
          <p:nvPr/>
        </p:nvPicPr>
        <p:blipFill>
          <a:blip r:embed="rId2"/>
          <a:stretch/>
        </p:blipFill>
        <p:spPr>
          <a:xfrm>
            <a:off x="2928960" y="164304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1" descr="1.png"/>
          <p:cNvPicPr/>
          <p:nvPr/>
        </p:nvPicPr>
        <p:blipFill>
          <a:blip r:embed="rId3"/>
          <a:stretch/>
        </p:blipFill>
        <p:spPr>
          <a:xfrm>
            <a:off x="2500200" y="142884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23" descr="2.png"/>
          <p:cNvPicPr/>
          <p:nvPr/>
        </p:nvPicPr>
        <p:blipFill>
          <a:blip r:embed="rId4"/>
          <a:stretch/>
        </p:blipFill>
        <p:spPr>
          <a:xfrm>
            <a:off x="2928960" y="250020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24" descr="1.png"/>
          <p:cNvPicPr/>
          <p:nvPr/>
        </p:nvPicPr>
        <p:blipFill>
          <a:blip r:embed="rId5"/>
          <a:stretch/>
        </p:blipFill>
        <p:spPr>
          <a:xfrm>
            <a:off x="2500200" y="228600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25" descr="2.png"/>
          <p:cNvPicPr/>
          <p:nvPr/>
        </p:nvPicPr>
        <p:blipFill>
          <a:blip r:embed="rId6"/>
          <a:stretch/>
        </p:blipFill>
        <p:spPr>
          <a:xfrm>
            <a:off x="2928960" y="3446640"/>
            <a:ext cx="4686120" cy="634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6" descr="1.png"/>
          <p:cNvPicPr/>
          <p:nvPr/>
        </p:nvPicPr>
        <p:blipFill>
          <a:blip r:embed="rId7"/>
          <a:stretch/>
        </p:blipFill>
        <p:spPr>
          <a:xfrm>
            <a:off x="2500200" y="323208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27" descr="2.png"/>
          <p:cNvPicPr/>
          <p:nvPr/>
        </p:nvPicPr>
        <p:blipFill>
          <a:blip r:embed="rId8"/>
          <a:stretch/>
        </p:blipFill>
        <p:spPr>
          <a:xfrm>
            <a:off x="2928960" y="430380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28" descr="1.png"/>
          <p:cNvPicPr/>
          <p:nvPr/>
        </p:nvPicPr>
        <p:blipFill>
          <a:blip r:embed="rId9"/>
          <a:stretch/>
        </p:blipFill>
        <p:spPr>
          <a:xfrm>
            <a:off x="2500200" y="4089240"/>
            <a:ext cx="1041480" cy="10544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0"/>
          <p:cNvSpPr/>
          <p:nvPr/>
        </p:nvSpPr>
        <p:spPr>
          <a:xfrm>
            <a:off x="4497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1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2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31" descr="4.png"/>
          <p:cNvPicPr/>
          <p:nvPr/>
        </p:nvPicPr>
        <p:blipFill>
          <a:blip r:embed="rId2"/>
          <a:stretch/>
        </p:blipFill>
        <p:spPr>
          <a:xfrm>
            <a:off x="4572000" y="2482920"/>
            <a:ext cx="2603520" cy="26924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30" descr="3.png"/>
          <p:cNvPicPr/>
          <p:nvPr/>
        </p:nvPicPr>
        <p:blipFill>
          <a:blip r:embed="rId3"/>
          <a:stretch/>
        </p:blipFill>
        <p:spPr>
          <a:xfrm>
            <a:off x="2724120" y="3460680"/>
            <a:ext cx="3276720" cy="19684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8" descr="1.png"/>
          <p:cNvPicPr/>
          <p:nvPr/>
        </p:nvPicPr>
        <p:blipFill>
          <a:blip r:embed="rId4"/>
          <a:stretch/>
        </p:blipFill>
        <p:spPr>
          <a:xfrm>
            <a:off x="2357280" y="1031760"/>
            <a:ext cx="3238560" cy="303552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9" descr="2.png"/>
          <p:cNvPicPr/>
          <p:nvPr/>
        </p:nvPicPr>
        <p:blipFill>
          <a:blip r:embed="rId5"/>
          <a:stretch/>
        </p:blipFill>
        <p:spPr>
          <a:xfrm>
            <a:off x="4929120" y="763560"/>
            <a:ext cx="2210040" cy="30225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2"/>
          <p:cNvSpPr/>
          <p:nvPr/>
        </p:nvSpPr>
        <p:spPr>
          <a:xfrm>
            <a:off x="5997960" y="404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3"/>
          <p:cNvSpPr/>
          <p:nvPr/>
        </p:nvSpPr>
        <p:spPr>
          <a:xfrm>
            <a:off x="3783600" y="433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4"/>
          <p:cNvSpPr/>
          <p:nvPr/>
        </p:nvSpPr>
        <p:spPr>
          <a:xfrm>
            <a:off x="3497760" y="233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5"/>
          <p:cNvSpPr/>
          <p:nvPr/>
        </p:nvSpPr>
        <p:spPr>
          <a:xfrm>
            <a:off x="5783760" y="2406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7" descr="1.png"/>
          <p:cNvPicPr/>
          <p:nvPr/>
        </p:nvPicPr>
        <p:blipFill>
          <a:blip r:embed="rId2"/>
          <a:stretch/>
        </p:blipFill>
        <p:spPr>
          <a:xfrm>
            <a:off x="5429160" y="857160"/>
            <a:ext cx="1895400" cy="355608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8" descr="2.png"/>
          <p:cNvPicPr/>
          <p:nvPr/>
        </p:nvPicPr>
        <p:blipFill>
          <a:blip r:embed="rId3"/>
          <a:stretch/>
        </p:blipFill>
        <p:spPr>
          <a:xfrm>
            <a:off x="2428920" y="857160"/>
            <a:ext cx="3584520" cy="20718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9" descr="3.png"/>
          <p:cNvPicPr/>
          <p:nvPr/>
        </p:nvPicPr>
        <p:blipFill>
          <a:blip r:embed="rId4"/>
          <a:stretch/>
        </p:blipFill>
        <p:spPr>
          <a:xfrm>
            <a:off x="3973680" y="2428920"/>
            <a:ext cx="1857240" cy="186696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20" descr="1.png"/>
          <p:cNvPicPr/>
          <p:nvPr/>
        </p:nvPicPr>
        <p:blipFill>
          <a:blip r:embed="rId5"/>
          <a:stretch/>
        </p:blipFill>
        <p:spPr>
          <a:xfrm>
            <a:off x="2643120" y="2214720"/>
            <a:ext cx="1895400" cy="35557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21" descr="2.png"/>
          <p:cNvPicPr/>
          <p:nvPr/>
        </p:nvPicPr>
        <p:blipFill>
          <a:blip r:embed="rId6"/>
          <a:stretch/>
        </p:blipFill>
        <p:spPr>
          <a:xfrm>
            <a:off x="3929040" y="3714840"/>
            <a:ext cx="3584520" cy="20714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0"/>
          <p:cNvSpPr/>
          <p:nvPr/>
        </p:nvSpPr>
        <p:spPr>
          <a:xfrm>
            <a:off x="2497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1"/>
          <p:cNvSpPr/>
          <p:nvPr/>
        </p:nvSpPr>
        <p:spPr>
          <a:xfrm>
            <a:off x="6212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5"/>
          <p:cNvSpPr/>
          <p:nvPr/>
        </p:nvSpPr>
        <p:spPr>
          <a:xfrm>
            <a:off x="5997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6"/>
          <p:cNvSpPr/>
          <p:nvPr/>
        </p:nvSpPr>
        <p:spPr>
          <a:xfrm>
            <a:off x="2783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22" descr="1.png"/>
          <p:cNvPicPr/>
          <p:nvPr/>
        </p:nvPicPr>
        <p:blipFill>
          <a:blip r:embed="rId2"/>
          <a:stretch/>
        </p:blipFill>
        <p:spPr>
          <a:xfrm>
            <a:off x="2711520" y="2400480"/>
            <a:ext cx="2038320" cy="173808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23" descr="2.png"/>
          <p:cNvPicPr/>
          <p:nvPr/>
        </p:nvPicPr>
        <p:blipFill>
          <a:blip r:embed="rId3"/>
          <a:stretch/>
        </p:blipFill>
        <p:spPr>
          <a:xfrm>
            <a:off x="642960" y="2394000"/>
            <a:ext cx="2178000" cy="17478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24" descr="1.png"/>
          <p:cNvPicPr/>
          <p:nvPr/>
        </p:nvPicPr>
        <p:blipFill>
          <a:blip r:embed="rId4"/>
          <a:stretch/>
        </p:blipFill>
        <p:spPr>
          <a:xfrm>
            <a:off x="6711840" y="2436840"/>
            <a:ext cx="2038320" cy="17384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25" descr="2.png"/>
          <p:cNvPicPr/>
          <p:nvPr/>
        </p:nvPicPr>
        <p:blipFill>
          <a:blip r:embed="rId5"/>
          <a:stretch/>
        </p:blipFill>
        <p:spPr>
          <a:xfrm>
            <a:off x="4643280" y="2430360"/>
            <a:ext cx="2178360" cy="1749600"/>
          </a:xfrm>
          <a:prstGeom prst="rect">
            <a:avLst/>
          </a:prstGeom>
          <a:ln w="0">
            <a:noFill/>
          </a:ln>
        </p:spPr>
      </p:pic>
      <p:sp>
        <p:nvSpPr>
          <p:cNvPr id="5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5212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7"/>
          <p:cNvSpPr/>
          <p:nvPr/>
        </p:nvSpPr>
        <p:spPr>
          <a:xfrm>
            <a:off x="1211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6"/>
          <p:cNvSpPr/>
          <p:nvPr/>
        </p:nvSpPr>
        <p:spPr>
          <a:xfrm>
            <a:off x="7212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7" descr="1.png"/>
          <p:cNvPicPr/>
          <p:nvPr/>
        </p:nvPicPr>
        <p:blipFill>
          <a:blip r:embed="rId2"/>
          <a:stretch/>
        </p:blipFill>
        <p:spPr>
          <a:xfrm>
            <a:off x="4857840" y="857160"/>
            <a:ext cx="2435040" cy="246564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8" descr="2.png"/>
          <p:cNvPicPr/>
          <p:nvPr/>
        </p:nvPicPr>
        <p:blipFill>
          <a:blip r:embed="rId3"/>
          <a:stretch/>
        </p:blipFill>
        <p:spPr>
          <a:xfrm>
            <a:off x="2571840" y="1031760"/>
            <a:ext cx="2435040" cy="22910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9" descr="1.png"/>
          <p:cNvPicPr/>
          <p:nvPr/>
        </p:nvPicPr>
        <p:blipFill>
          <a:blip r:embed="rId4"/>
          <a:stretch/>
        </p:blipFill>
        <p:spPr>
          <a:xfrm>
            <a:off x="2422440" y="3322800"/>
            <a:ext cx="2435400" cy="246672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20" descr="2.png"/>
          <p:cNvPicPr/>
          <p:nvPr/>
        </p:nvPicPr>
        <p:blipFill>
          <a:blip r:embed="rId5"/>
          <a:stretch/>
        </p:blipFill>
        <p:spPr>
          <a:xfrm>
            <a:off x="5065560" y="3497400"/>
            <a:ext cx="2435400" cy="229212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1"/>
          <p:cNvSpPr/>
          <p:nvPr/>
        </p:nvSpPr>
        <p:spPr>
          <a:xfrm>
            <a:off x="3211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3283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5783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4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8" descr="1.png"/>
          <p:cNvPicPr/>
          <p:nvPr/>
        </p:nvPicPr>
        <p:blipFill>
          <a:blip r:embed="rId2"/>
          <a:stretch/>
        </p:blipFill>
        <p:spPr>
          <a:xfrm>
            <a:off x="2286000" y="1862280"/>
            <a:ext cx="2676600" cy="29271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9" descr="2.png"/>
          <p:cNvPicPr/>
          <p:nvPr/>
        </p:nvPicPr>
        <p:blipFill>
          <a:blip r:embed="rId3"/>
          <a:stretch/>
        </p:blipFill>
        <p:spPr>
          <a:xfrm>
            <a:off x="3427560" y="647640"/>
            <a:ext cx="3093840" cy="278136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20" descr="1.png"/>
          <p:cNvPicPr/>
          <p:nvPr/>
        </p:nvPicPr>
        <p:blipFill>
          <a:blip r:embed="rId4"/>
          <a:stretch/>
        </p:blipFill>
        <p:spPr>
          <a:xfrm>
            <a:off x="4786200" y="1862280"/>
            <a:ext cx="2676600" cy="29271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1" descr="2.png"/>
          <p:cNvPicPr/>
          <p:nvPr/>
        </p:nvPicPr>
        <p:blipFill>
          <a:blip r:embed="rId5"/>
          <a:stretch/>
        </p:blipFill>
        <p:spPr>
          <a:xfrm>
            <a:off x="3440160" y="3219480"/>
            <a:ext cx="3093840" cy="2781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1"/>
          <p:cNvSpPr/>
          <p:nvPr/>
        </p:nvSpPr>
        <p:spPr>
          <a:xfrm>
            <a:off x="43549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3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7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2-10T11:16:24Z</dcterms:modified>
  <cp:revision>297</cp:revision>
  <dc:subject/>
  <dc:title>幻灯片 1</dc:title>
</cp:coreProperties>
</file>