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732-8328-473A-AE08-29F876C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296-BDE8-4A93-9CEB-507DB4B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A3D-2712-4F39-BE80-D15ACF27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00D-6B08-4FFF-A13A-0BEA63A8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8D01-D051-43BC-9FD2-397E5BD3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2071-BCAB-435A-A341-85AAE3B4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645E-1BF2-416B-9B27-345957D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5C23-1522-44F4-9CEB-CF37B7A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0EA2-3997-4B89-BA4B-6A5ED9E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9E9-45C1-4AEF-BEBB-522B31B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E7EE-6E46-4D0B-9DE2-8EC0781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06D-2CD8-4037-8459-9CBBC2D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984-1EB2-41C1-A42B-9FF1C96A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2499-7B0F-484B-A568-DDDD70A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4F1-CFD6-4B36-818C-5CAAD8B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0D63-FF23-4ED7-97A9-AD63AD8E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7866-6011-4366-97BD-ED81A264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C80-C0C7-41A3-AA05-2DB5B8E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F9E-9991-4F3A-A726-3B63C4A9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37E-277D-456A-9449-F89327F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02E-FF56-4204-A4C0-CA67B85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332-321B-44E6-A320-E70DD2C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E89-87F7-45ED-8506-CE8CFAA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98A-8E5D-4ABF-86C1-B221AEC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3"/>
          <a:srcRect l="7351" t="-3529" r="6161" b="0"/>
          <a:stretch/>
        </p:blipFill>
        <p:spPr>
          <a:xfrm>
            <a:off x="0" y="3573360"/>
            <a:ext cx="70167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466560" y="765000"/>
            <a:ext cx="8209080" cy="56167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183F5B3A-C268-4813-BA72-7F5A8519816A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4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"/>
          <p:cNvPicPr/>
          <p:nvPr/>
        </p:nvPicPr>
        <p:blipFill>
          <a:blip r:embed="rId5"/>
          <a:stretch/>
        </p:blipFill>
        <p:spPr>
          <a:xfrm>
            <a:off x="477720" y="765000"/>
            <a:ext cx="81885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F645-DD75-43CD-B99F-7FF2C44A0B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E1AD-2D2B-47C3-BE9F-470182974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nordridesign.com/" TargetMode="External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1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2"/>
          <a:srcRect l="7351" t="-3529" r="6161" b="0"/>
          <a:stretch/>
        </p:blipFill>
        <p:spPr>
          <a:xfrm>
            <a:off x="0" y="1930320"/>
            <a:ext cx="914400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63760" y="1333080"/>
            <a:ext cx="5639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绿色地球绿色环保</a:t>
            </a:r>
            <a:r>
              <a:rPr b="0" lang="en-US" sz="3200" spc="-1" strike="noStrike">
                <a:solidFill>
                  <a:srgbClr val="467908"/>
                </a:solidFill>
                <a:latin typeface="微软雅黑"/>
              </a:rPr>
              <a:t>PPT</a:t>
            </a: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EC115417-26BB-412A-AA50-858EA899F7EE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BDFCDC24-B758-478A-B380-FDCDDACB8124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03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dffbbf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9"/>
          <p:cNvSpPr/>
          <p:nvPr/>
        </p:nvSpPr>
        <p:spPr>
          <a:xfrm>
            <a:off x="1568520" y="3848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>
            <a:hlinkClick r:id="rId16"/>
          </p:cNvPr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e4f0e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18"/>
          <a:srcRect l="7351" t="-3529" r="6161" b="0"/>
          <a:stretch/>
        </p:blipFill>
        <p:spPr>
          <a:xfrm>
            <a:off x="0" y="2792520"/>
            <a:ext cx="5713560" cy="3093840"/>
          </a:xfrm>
          <a:prstGeom prst="rect">
            <a:avLst/>
          </a:prstGeom>
          <a:ln w="0">
            <a:noFill/>
          </a:ln>
        </p:spPr>
      </p:pic>
      <p:sp>
        <p:nvSpPr>
          <p:cNvPr id="152" name="标题 3"/>
          <p:cNvSpPr/>
          <p:nvPr/>
        </p:nvSpPr>
        <p:spPr>
          <a:xfrm>
            <a:off x="5003640" y="2714760"/>
            <a:ext cx="360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副标题 4"/>
          <p:cNvSpPr/>
          <p:nvPr/>
        </p:nvSpPr>
        <p:spPr>
          <a:xfrm>
            <a:off x="5003640" y="351792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7532640" y="981000"/>
            <a:ext cx="11098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826920" y="836640"/>
            <a:ext cx="309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第一PPT</dc:creator>
  <dc:description>www.1ppt.com</dc:description>
  <cp:keywords/>
  <dc:language>en-US</dc:language>
  <cp:lastModifiedBy>a</cp:lastModifiedBy>
  <dcterms:modified xsi:type="dcterms:W3CDTF">2015-02-09T02:41:32Z</dcterms:modified>
  <cp:revision>348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