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type.wav" ContentType="audio/x-wav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FD0B-152C-4E94-801B-0DBC8BB52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96BE-21D1-41D3-9A54-5D91AEBA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E90EE-BB38-46C6-8C86-ADD7FFD1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E48C1-0057-4C84-A926-A4744BAE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1D534-53B5-4CD4-B151-B160E09F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944EF-FA24-41D8-B008-BD870E6A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1BDB7-527F-458A-BFA2-C32DF453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CA7EA1-7BA7-4340-89D3-7095CE9E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7D7D1-D46A-4CEA-B318-DB732AE2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2B1ED-3B91-4C4C-BFD6-B272F0974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77A20-794C-4D9F-8791-FF18F3656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1703A-82D7-4B87-B3A1-D999A6572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E193-FF40-412A-89AF-D832C71DB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0F6804-3662-41FC-9184-78370EB7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07042-D87C-4EE8-9B73-E2232227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36F61-9302-429D-BC3D-4C948250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D09CF1-8027-44DE-8053-6B3527A0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B2B33-30C5-43E1-B2A7-7B5045D7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3E3C26-BCF5-45A3-B3D1-B644E912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3D3879-6C7A-4787-AB5D-5B8F0987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150B99-ABDF-45A6-9E25-839547B0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FD7638-B70C-41B0-9889-9C10101B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AB65A-A9EC-4EC6-AAB9-64C277CE8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7D55-61B2-45E2-9B93-09BB6E274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D2220-7964-4F3F-94B0-4F840D2AA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FA722-2762-4F61-934A-E21BF5B27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A406C-EB7F-4DFA-A07C-B4C8BE65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9869D-F44B-41A7-A480-3DBB9553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E516B-93D8-4721-8E3B-666C5F77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60C81-71CD-4B11-B74E-30A18007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FF9A5-4401-4CB4-836D-E0FCE4BD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82425-9BFB-4EB0-999F-505FA56C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856CF-5110-410E-9A2F-9082C49B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74040-ED9D-41FC-A42E-0ACC2D50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2AC5-7F46-4D46-A8C4-27494BBEB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5C981-1A61-40ED-B5EB-4B1FEE8F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D8388-9FDF-4D6C-A375-79B1E9910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B6358-CC78-4EC4-AAD8-F3BCD0846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471D0E-A163-4DAF-AFAD-B7CF6540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65ACBE-BC3C-47D7-9829-194FC259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9FD699-2AFF-4BA0-9EBB-8C10586A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98FAFC-9BFA-468D-BF73-F84C95EB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68C414-559B-4341-855C-86A3B048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17D42E-EEC6-470E-A874-8B029721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E8E838-2A63-4497-9216-C2700678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A2AE-1E07-4C93-B814-2BE63C2E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55ECB2-8F51-497F-8976-312E8EF3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6E56DC-883A-4029-A843-BB4A4240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DA2492-2576-4E9D-823C-1E9BC06A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E5B393-EB9F-43D1-9C05-2E52CA411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3F0DF2-EBAC-45CD-8E13-7B7DDBEA4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49CB8B-B642-437E-B9E9-C31069208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33EA2B-DBCD-461A-9D98-EA27164A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630A39-3A30-466D-8F83-8A40EF26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E3DBE6-D564-454B-8389-01F144C8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84FD16-AA43-4451-9684-1A9DB05E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6072-5E6F-430D-A926-B0F4CA3D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B3D332-369D-4ED2-B166-BE042018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7C8897-0585-4C95-818D-F6236DA1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610CC2-13A1-437D-8A8C-F21FA241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D4962A-54DF-45A8-8261-233FBB32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048963-D8D3-48C2-B39D-06245940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BA6920-EA1C-4A1D-ACD2-55C1F2363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849A1B-C7F9-4975-B208-153371D45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402E-C216-43F7-8060-4EFFE26C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024A-0B05-4E81-94B6-8915DF00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13E7-EE54-45D2-BDB2-7B73A08F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26A9-547D-4000-8EB7-482EE63B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01A6-E360-4E3F-B127-78C37DA2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22C6-A99F-4D40-8510-F2F0483B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2ECB-FAB6-461D-8A71-D65BFD6A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BFC1-6F70-45AC-B87B-70F9EBB0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4804-600D-45AC-A10D-8558B6E8A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3A9B-D0AB-4A88-9BF3-9249835B6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2FEBA-B3CC-4C46-B5B8-03FA5F764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9B1FA-2F10-416C-A495-9FA97E21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0E2FD-9C89-4C38-8052-A19D7BDC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201F3-67CD-499C-AB15-8E6BA76B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ACB2F-5C22-4F18-8A60-347F88E6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0892-369A-4314-A3D7-3A0AEC8C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0B94E-50C8-4181-8A1D-D941BDE8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C9C44-1A3F-4286-A9EC-ABE7BEC8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78C49-D04C-4A71-BAF2-0DD9C50E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F1F94-D83E-4C76-834C-BBD3F9AE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D6276-B133-46CB-ABDF-086A0FA3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53CD3-9BF4-4312-A347-97565315E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2443C-061C-440B-9858-FC12FDD3C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53E03-01BF-4F45-8C8B-9D0B169CA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55AD6-0522-41C1-95FC-A220F3AD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0A859-6A9C-4745-B0B7-FBFE43DB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1F2E-7799-4FBB-94E7-8BEA5DEC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E49AB-D5E4-4214-9795-3B169750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D2AAA-F3E7-4370-9C10-34F5CF9B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813FF-76DA-42FF-8E08-77CE8820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CFB76-E7FD-4D03-A3EB-6AB34128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59B93-B110-43AE-A224-1AE7CFE5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AF71E-7BF3-45CB-9270-7DA9A969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CE446-9EFC-4571-A8C8-EF54E355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52E3E-288B-462A-B0D4-A75254BD6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F0588-AFFA-4C15-A9AB-255F4612E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69469-BE9D-4BC8-A545-FEB8D2802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0A8E-10BD-4160-B3F4-5B291E0A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6D4C2-4207-49DB-BF89-3D1F1B68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49B5B-4F88-41A4-97E6-3F5DFAED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8A6D3-B86D-49D0-BAC5-2F7BF07C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35C62-32EC-4F1D-AC0B-6962A75A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07E1F-F5E3-4FB2-A459-765809F1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4B9CA-EE1B-4F54-98DD-90389FA1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CCD33-4712-4282-BFC3-A8F48F03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277D4-5737-4D57-99EA-2FACDE4E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83028-7199-4080-BF0D-491FF2A0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1349E-ACD8-4E65-88D6-5D52C258A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B9C9-E24B-4AA7-B5C6-A17DD4DA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99045-D060-4807-8835-B0E7B123F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3381D-120D-4F85-B0F6-3FB1F5701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B5736-818E-4CD9-83E0-9C9B0921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C9A9F-09C2-4C04-907A-2C2BC697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6E07C-62AD-4D87-914B-BED0CA99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6CDBE-5B4F-4D6D-901F-2280ADD9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86D08-6B8B-4FF1-A6AC-331A7611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42E99-07E0-4395-BE42-0D902509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B8541-7DB4-4247-98FE-0A97D593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EF66D-FDCA-46DC-B636-6F2C9E95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09E3-23CE-4695-AEDE-C378326B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F17A1-163E-467C-9745-F798200F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A4990-3538-45A8-97C8-C9AE0C6A2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C498A-DF56-495B-BA2C-CB06606D9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FC105-0786-45BC-AECE-2C68A8263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0C854-43B5-4342-B125-369AFD12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50EDD-B4AF-45A4-B17D-312FC9CD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C2C39-591C-4F78-9D94-6BE54817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6ED24-9CF1-409D-BDEA-5BFD58C3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C693F-E483-4B38-A2C1-35ED42D0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31FD7-F776-4C33-9E88-08F5DF87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7C0B-185A-4B81-AF4D-CB22D5E1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55233-262B-48E7-BD06-6056E9DB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371F3-29F8-4476-B4C0-28F16FE1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BF9B2-A59F-4E36-9F0D-41603B64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D295E-9462-43BA-B230-5B17BB15F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95EFB-A9BF-49F0-B0E4-F61282B88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2DB95-CFF8-49A0-BB3A-4245F9604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D6DF9-2E32-4B4E-BEC5-AC99EED0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9C06F-01EA-4080-9BC8-9B5E2D25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0A67A-B3F4-4FC5-82F2-9164C10B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4C608-B0E6-4EA0-BEA3-069299A4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20AC-7F41-4BC9-BD80-F23D3619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DF657-7D48-4095-90AF-5ABAF98B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6FD51-D256-4C7B-B3E6-12C21912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8AC69-A7DA-440C-8896-8ABE7843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75D4A-E095-4A11-9B20-30CDC1E8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E519D-C8E7-4B54-BCAA-D53E790C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7DAA5-5643-492F-93A1-7D975B9E1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4F664-5F74-4873-ABF8-11EDBA663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877C1F-440C-4284-8EA6-97A120450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8237E-DA1D-4699-BE9F-1F0E4045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1EE2A5-C205-4D02-BFEB-12F3648A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45E1-AE4A-4918-BCDF-2FF826F0F8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E2CD-E01C-44E2-9962-FB6716EA3AF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D7C7-7F6E-46A7-BA37-2120693856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D290-B63E-4D6B-8321-77A9FA2DFCB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2D6E-FE56-436D-B88F-975D6E3FCF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046F-5263-467B-AAC9-054472CCF4E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E3D8-944C-43B5-9076-CE6CBC0BD1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AB43-A20D-4EDA-9B23-13C4A6A658B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E7A6-FE01-4841-8D20-85181E03A7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02CA-9763-47C8-B1BD-BC1D464CF94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9E51-BCBE-48A4-8FE8-3DCE2675B1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D192-8869-4805-86F3-E53881D5A23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2A68-6FFD-4BDE-A6C8-1F312592E3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F3F7-C4DC-4D6B-A45B-C6B6F3A13F8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2EEF-4343-4EA7-A749-4972AAF214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E14D-9D3B-4455-B48F-FB38407E326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4D1B-B098-443D-AD8F-6CB4766833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9853-7435-4040-97EB-62287A6DF58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8C33-20E2-4CC1-A621-C84974ADDC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3768-12D6-4029-9A9D-278BF0F4363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34EF-0611-45AD-8F51-DCE149DD6E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5F27-9B40-4492-8FA8-57E37C566D3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C4AC-7B00-4C29-A554-CF77B78876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0D93-31AE-4D1F-A19F-824DFD46FAF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E19E-EF7D-442A-A351-6996F83CEA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11" descr="20098521443525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3" descr="未命名"/>
          <p:cNvPicPr/>
          <p:nvPr/>
        </p:nvPicPr>
        <p:blipFill>
          <a:blip r:embed="rId2"/>
          <a:stretch/>
        </p:blipFill>
        <p:spPr>
          <a:xfrm>
            <a:off x="0" y="0"/>
            <a:ext cx="4191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6" name="Group 4"/>
          <p:cNvGrpSpPr/>
          <p:nvPr/>
        </p:nvGrpSpPr>
        <p:grpSpPr>
          <a:xfrm>
            <a:off x="0" y="0"/>
            <a:ext cx="8457480" cy="519120"/>
            <a:chOff x="0" y="0"/>
            <a:chExt cx="8457480" cy="519120"/>
          </a:xfrm>
        </p:grpSpPr>
        <p:sp>
          <p:nvSpPr>
            <p:cNvPr id="537" name="Rectangle 5"/>
            <p:cNvSpPr/>
            <p:nvPr/>
          </p:nvSpPr>
          <p:spPr>
            <a:xfrm>
              <a:off x="0" y="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Rectangle 6"/>
            <p:cNvSpPr/>
            <p:nvPr/>
          </p:nvSpPr>
          <p:spPr>
            <a:xfrm>
              <a:off x="0" y="0"/>
              <a:ext cx="8457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Group 7"/>
          <p:cNvGrpSpPr/>
          <p:nvPr/>
        </p:nvGrpSpPr>
        <p:grpSpPr>
          <a:xfrm>
            <a:off x="0" y="5867280"/>
            <a:ext cx="5943240" cy="519120"/>
            <a:chOff x="0" y="5867280"/>
            <a:chExt cx="5943240" cy="519120"/>
          </a:xfrm>
        </p:grpSpPr>
        <p:sp>
          <p:nvSpPr>
            <p:cNvPr id="540" name="Rectangle 8"/>
            <p:cNvSpPr/>
            <p:nvPr/>
          </p:nvSpPr>
          <p:spPr>
            <a:xfrm>
              <a:off x="0" y="58672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Rectangle 9"/>
            <p:cNvSpPr/>
            <p:nvPr/>
          </p:nvSpPr>
          <p:spPr>
            <a:xfrm>
              <a:off x="0" y="5867280"/>
              <a:ext cx="594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WordArt 10"/>
          <p:cNvSpPr txBox="1"/>
          <p:nvPr/>
        </p:nvSpPr>
        <p:spPr>
          <a:xfrm>
            <a:off x="2095560" y="836640"/>
            <a:ext cx="6797520" cy="182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隶书"/>
              </a:rPr>
              <a:t>金钱的魔力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矩形 7"/>
          <p:cNvSpPr/>
          <p:nvPr/>
        </p:nvSpPr>
        <p:spPr>
          <a:xfrm>
            <a:off x="4241880" y="6095880"/>
            <a:ext cx="660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Picture 5" descr="20098173537302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6" name="Rectangle 2"/>
          <p:cNvSpPr/>
          <p:nvPr/>
        </p:nvSpPr>
        <p:spPr>
          <a:xfrm>
            <a:off x="164304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228600" y="1125360"/>
            <a:ext cx="83059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马克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·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吐温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83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0)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美国作家，本名塞谬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朗赫恩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克莱门斯。马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吐温是其笔名。出生于密西西比河畔小城汉尼拔的一个乡村律师家庭，从小出外拜师学徒。当过排字工人，密西西比河水手、南军士兵，还经营过木材业、矿业和出版业，但比较成功的工作是当记者和写作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Picture 5" descr="20095180749927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2"/>
          <p:cNvSpPr/>
          <p:nvPr/>
        </p:nvSpPr>
        <p:spPr>
          <a:xfrm>
            <a:off x="164304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1447920" y="2133720"/>
            <a:ext cx="64008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魔力  通融  刻薄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武断  熔岩  窘况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阔佬  撵跑  雅致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考究  妙不可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全十美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5" descr="20095220117585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4" name="Rectangle 2"/>
          <p:cNvSpPr/>
          <p:nvPr/>
        </p:nvSpPr>
        <p:spPr>
          <a:xfrm>
            <a:off x="1643040" y="195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3"/>
          <p:cNvSpPr/>
          <p:nvPr/>
        </p:nvSpPr>
        <p:spPr>
          <a:xfrm>
            <a:off x="22860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蹩脚：质量不好；本领不强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通融：变通办法，给人方便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刻薄：</a:t>
            </a: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待人、说话</a:t>
            </a: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冷酷无情，过分的苛求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武断：只凭主观判断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熔岩：从火山或地面的裂缝中喷出来或溢出来的高温岩浆，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冷却后凝固成岩石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窘况：非常困难又无法摆脱的境况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兴致勃勃：兴趣强烈的样子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阔佬：年纪较大的有钱的人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撵跑：驱逐；赶走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雅致：</a:t>
            </a: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服饰、器物、房屋等</a:t>
            </a: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美观而不落俗套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公爵：封建五等爵位的第一等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考究：这里是讲究、精美的意思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妙不可言：美妙得不能用语言形容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全十美：各方面都非常完美，毫无缺陷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晚礼服：在晚会时穿的服装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便装：便服，休闲服装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亲王：皇帝或国王的亲属中被封王的人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Picture 6" descr="2009419042622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2"/>
          <p:cNvSpPr/>
          <p:nvPr/>
        </p:nvSpPr>
        <p:spPr>
          <a:xfrm>
            <a:off x="164304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152280" y="1828800"/>
            <a:ext cx="8991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这是托德面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胆怯地请求通融时说的一句话。这句话比较集中地反映了托德起初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的态度。话说得很刻薄，充满了歧视与轻蔑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料到了你没有带零钱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只会带大票子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，说的是反话，意即你根本没有钱，挖苦、讽刺至极。透过这句话，一个藐视穷人，在穷人面前傲慢无礼的形象跃然纸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0" y="0"/>
            <a:ext cx="895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①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啊，是吗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哼，当然我也料到了你没有带零钱。我看像你这样的阔人是只会带大票子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Picture 6" descr="20091280922334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3" name="Rectangle 2"/>
          <p:cNvSpPr/>
          <p:nvPr/>
        </p:nvSpPr>
        <p:spPr>
          <a:xfrm>
            <a:off x="164304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228600" y="1828800"/>
            <a:ext cx="8915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这几句话主要描写的是托德见钱后的笑容。作家用夸张和辛辣的笔墨，先写托德见钱后的笑容，笑容遍布满脸，里面还有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纹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──折纹、皱纹、螺旋纹。好一个见钱眼开的家伙，托德见是大钱后的笑容，牢牢地凝结起来，像一片一片的熔岩。这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凝结起来的笑容里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有难堪，有窘迫，更多的还是对钱的贪恋，可能托德从未见过这么大的钞票，已呆若木鸡，不知所措。马克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·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吐温不愧为语言大师，简单几笔，则淋漓尽致地刻画出了托德这个势利的拜金主义者令人作呕的丑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152280" y="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②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他微笑着接了过去，那种笑容是遍布满脸的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……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满是蛆虫似的一片一片的熔岩一般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7" name="Picture 6" descr="20091214181340359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2"/>
          <p:cNvSpPr/>
          <p:nvPr/>
        </p:nvSpPr>
        <p:spPr>
          <a:xfrm>
            <a:off x="1643040" y="271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3"/>
          <p:cNvSpPr/>
          <p:nvPr/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这是本文的结尾，当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离店时老板说的话。老板要表达的意思其实很简单，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您说得对，我送您，再见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。但由于此时站在老板面前的是位百万富翁，见钱眼开的老板已语无伦次，极尽奉承之能事，反反复复，啰啰唆唆，透过这言语，不难看出老板那副奴才相。同时，这一结尾与文章开头形成了鲜明的对比，开头，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遭遇的是那般冷落；结尾，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受到的是这般热情，为什么会发生这样大的变化，自然会引起读者的深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0" y="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③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您说得很对，先生，您说得很对。您请稍等一会儿──我送您出去，先生。好吧──再见，先生，再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5" descr="20094701839448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2"/>
          <p:cNvSpPr/>
          <p:nvPr/>
        </p:nvSpPr>
        <p:spPr>
          <a:xfrm>
            <a:off x="164304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3"/>
          <p:cNvSpPr/>
          <p:nvPr/>
        </p:nvSpPr>
        <p:spPr>
          <a:xfrm>
            <a:off x="0" y="457200"/>
            <a:ext cx="914400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百万英镑》内容简介　讲一个贫穷、诚实的人，也就是这个故事的主人公收到了一对兄弟的信，信里面送给了他一百万英镑。原来这对兄弟打了一个赌，赌如果一个贫穷、诚实的人收到天上掉下的一百万英镑，他会有怎样的结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哥哥认为他会饿死，因为他无法证明这些钱是他自己的，会受到别人的怀疑，连银行都不会让他存钱。弟弟则认为他会过得很好，于是兄弟俩将一百万英镑的支票借给了这个贫穷的人，并出国呆了三十天。没想到在这段时间内，人们对这位突然暴富的罕见富翁，竟拼命地拉拢他，从免费吃饭，买衣服，到免费住宿，一个个讨好他，并不断提高他的社会地位，一直到了除王室外地位最高的公爵之上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!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光如此，他还得到了一位好妻子和三万英镑的银行利息，最后还从两兄弟那儿得到了一份很好的工作，过着非常舒适的生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3-17T05:59:11Z</dcterms:modified>
  <cp:revision>13</cp:revision>
  <dc:subject>第一PPT模板网-WWW.1PPT.COM</dc:subject>
  <dc:title>第一PPT模板网-WWW.1PPT.COM</dc:title>
</cp:coreProperties>
</file>