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7473-0848-4F6D-BB60-C2C8EA68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9F20-8EF8-453C-8839-B3B75CA7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58073-C3B7-408B-BC9F-5F99A210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7CE3C-0389-4A71-94D0-7AEE6311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4A9AE-DB48-470E-8828-1EC704EA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72AC0-6992-4CDE-BF2D-5EE15990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3A448-A7BD-4098-84A6-EE220E1B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4FCB7-0BD4-4F69-A6E6-6BD50A4A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40E48-B9F5-4E83-9EE2-80DC386E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EB02C-ADC9-40C9-8DD0-E444DD86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15676-D9CD-44DD-93B4-7B1C0B9EB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39D3F-DFAD-4FB0-A667-C246FF25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6BEC-A417-41E7-B1D0-3F0A0A21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9F653-7A52-45C1-B5D1-CBCD9DA6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4FC8F-FAEC-4B20-AD41-0EE3F510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2D08F-3C27-4553-84E5-76AF1812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93C2C-AC01-49A7-AA9B-2BDBB6CE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B8181-14B3-4A66-B54F-D077E749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69809-1D8C-44AC-AA6F-0857EE60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13B39-1F83-4538-BF85-309E2A03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AF23F-8369-4C27-8B13-CF7EE06C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33E33-4DD7-4763-A647-E84CE2F5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BF930-C366-4E88-9DE8-BB951604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F6CF-2AC4-4921-9C0D-6D63C5E5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BFF80-927E-4E96-870A-E63232C3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BF04D-F1F0-437D-B8C6-3EFBF4B3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BD7A9-EC42-435F-87FB-15BDADB5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5AD02-98CE-483A-A32C-F10C12ED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76355-839B-42DA-AFD7-ABC410A8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1F9AD-7F7B-4F97-A557-9C8F3359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4383A-D7E9-479E-88E1-E393E22E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FA8DA-E34B-4135-96F8-516350E6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2586F-655A-4BE3-B3E6-87852250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E17C3-7A7D-4C58-A323-5FC415E6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7E83-152C-4083-85ED-EFB22E80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C52D3-0173-4C3C-AEFE-D2F34CE8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940D3-A4FD-428A-A60E-DBE63EFD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08911-D451-429A-9B02-1F2577C7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8A319-80F6-4FF3-96C6-B6C9B4B2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FA76E-C0E4-4186-A3C9-966B06A4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5B215-7175-4874-9D38-4E168E7D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497F6-CBCD-4049-B472-CBB88C50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C963A4-1B9E-4E29-9FE5-969764D7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20FDF-B89F-481B-8B88-50FB0803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2064E-775B-40BE-8C11-C996B922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B92F-2C3B-4DDF-AD44-697D7D9C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2FB81-BEC8-4E6D-B026-EF3AE78D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E86C6-C4BE-410A-9A77-27935928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7DD21-A625-466D-BA30-B2AB6DD5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DB6CD-2783-40DD-B926-9E0C0D15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86BFC-2291-48F8-87AD-226E8A34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038943-E7A8-4CC3-BC5B-974589D4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D09F72-4416-4A53-BEA4-BAE0217A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626F0-199B-461B-AE3A-DFC77332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854342-68BA-44C8-9154-0B0011F5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CE86CA-7294-432D-B1B2-6D24A04A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8DB8-B461-4BD5-BA7F-20840D5D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88E33B-079C-45C0-BFC1-9B31533A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E09C84-8445-46A4-AF77-C8E4A078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3C367D-55CF-4688-B319-F2C60A5C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87EC51-368F-45FF-904C-348DF865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12517D-068D-4DF9-BA50-FB70B337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DC45AE-C3D6-45E9-B0F1-409143BF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E0A202-ABD3-4829-8E68-DA2BE562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FD50-D570-4E97-9EE6-9D2ABC76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5673-5DEE-4E7C-B3E4-A343496B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4374-E1D1-424F-95A3-08686521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6F82-22E7-4715-AA3A-53F95614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511B-3702-465A-9A8F-9547E8B1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39E2-EABD-4F51-896A-FD332033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E3C8-8746-4322-8F7D-A59687CF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CEEE-42CD-497B-B3C2-AD11976F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6F0C-8CF9-4B8B-8EF2-7BF2B937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5BE3-58DF-48AD-B2D5-920BC3C4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84BDB-B7B6-4DAB-8450-4CC2EC38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9D87A-ABEB-4237-A729-4167EB8B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4B9DB-8F00-43A8-BB8D-F603B420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D12A4-C7F9-4C7A-A27B-2124D417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C1D97-7C7B-479D-83CD-62609F7F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7135-00BF-4489-B719-EEEAFB8F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8E6F4-0EA8-4DAD-8E18-E066D9E3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21724-F4AA-42A0-AA78-80BF5F54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6D881-AB83-4663-8FB5-C0913419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6E19B-E2BF-4393-AB45-19EEC23D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D005A-C60E-4837-96A8-22899833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764A4-B864-4CF5-B56B-B61C9D89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92318-A856-41B8-8EFE-E73118D6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E9E24-3F00-442A-BDB1-449281BA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85C70-F5BE-4E08-A8D7-3D303E65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B9452-3267-4162-B6C3-643D63B9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4709-226A-43FA-A337-FF7397BA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F89CE-04B4-4D55-9648-70B6207D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B1430-0B33-455B-8476-5B8EBE88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365D2-18A4-4840-AC43-F51EE18A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D1DBF-7BC5-4271-B17C-1C1AE690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FB5B4-6BFD-4FAD-B345-741F745B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ECF0C-A0F6-491F-8689-EEFD918E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95F5A-6F2F-43BB-A5A0-79499DB4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19183-950D-4960-B153-BA21AA80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45B56-837B-4376-BE78-DE6270EC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40198-0D5C-437C-BDD1-71EECD13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E8F-4EEF-4C26-9C32-41D5D798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52E88-D9B8-4A2E-9BC2-F530FC64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A69BC-F4F0-4267-85DF-690ADC02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B0D37-C4E6-4DE0-96E6-29EEDF5F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2B7E7-C1F1-41F6-AE62-EEBF749E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8664C-9266-41E8-88D1-4ED54196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573FA-B6E5-4A6B-8BDB-71E10994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E3906-6681-4461-BC1B-375FBF46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4390C-9A85-4C7B-9A55-1CA88C31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BFEFD-5A34-4A45-AFCA-9791B665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65C3E-918A-491A-A123-B0FEB253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F6F0-7C5E-4DFD-BC7D-25293B9A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CA85C-8EEF-47AE-97AC-441D2905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681B5-0C79-4B28-8B5A-835E0B0B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4AEC4-16BC-4D20-8612-4AA7B124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30020-E65B-4076-BC0F-C3FF773B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FC6EE-BED3-4AFF-8B20-3B5B928A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1E40A-86BC-4AB2-8AC5-44105961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E3D9F-AE98-4F47-9BC2-58F15FEA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FBE30-2E60-421D-9AFE-80D309EE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6662C-9FE1-44F8-8D7C-6DF4615C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E44A7-63FB-409C-B2EF-A9A7D5C0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B809-72A9-42D0-AD48-D1749759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8F598-523A-4DE3-8FCE-4903B131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8EA1A-DCEC-45F1-95B8-E119EF65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FA4B4-B509-4BE8-8926-4C917739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26292-D642-4162-8DD1-D17919E8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8EDCA-6CDB-4538-A7D6-956FBCED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1FF22-7F1C-4FC0-8425-9B931736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F3E6B-F05A-4D16-89D1-89D2C543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C2712-BD82-4EA2-BB2B-80E90D96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EEF5E-E68A-4CF3-8E89-E6F883D3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8C396-8ADC-459B-9FCE-283D1A55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79CC-BD4F-4986-8CB8-1BF15744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90808-B6AB-4DAE-AF9A-4D290A56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45D4B-6823-42AF-87F1-DB0C345D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32ECD-E9F5-477A-BF56-DEE69C55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0C8C8-ADA5-4AA1-8B9A-12BF53F25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83CC3-9E2C-4F1B-8F56-D0F6F0D2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B1B15-4AEB-469B-9B8D-60CDA839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F3281-D975-4FFF-8161-921907FC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39F18-63B3-49B3-AE6B-9846D56B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91828-A1AE-4BCB-86D7-7D6A0084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9AB54-E967-49BF-8B6A-AE1170B8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925A-AB5F-4090-A307-7D11146B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A4469-4D20-4499-A935-E0EA4C54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2C9BB-A3D7-44DF-8F5A-B3B9F49F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2AF58-CB0F-4C34-BD48-19ED90FB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05382-3809-485F-9E9D-4ECD5218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DE12C-C75C-4F33-A8FC-E429A855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FFFE0-A0EA-47D1-9107-149B9425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21D34-6203-4134-9D3E-AB169E47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B7653-E908-476C-9F68-2E707B20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FBC08-5DE9-47FD-9CF1-526A609B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EB10B-8C75-4B49-9838-2C80D494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3746-0FA4-4210-9FDD-7541A4282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5BF5-E340-43C4-8D38-763673E8793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34BD-4DD0-4404-B1D5-450CB8107C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15F0-C295-4282-99DF-346FD38385A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7028-0E1A-4148-B9C6-2707611382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0CBE-FAD6-466A-96FA-8F1742F5EAE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EF60-FE8B-4376-AE23-D0319678A3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9B50-528B-48D6-BD2A-C9A26BD1B89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E60C-677E-4174-A47D-61E05457D0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1E5C-AFA1-41CC-BDDD-78C8E5A4A6A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246D-E15C-4A92-8A24-98D8F9DA3A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FA75-6657-401B-9D81-AB39D3B388D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6670-A77A-430D-B11F-771C056A88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3AD5-1FB5-44F9-A90F-83E500A9451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751C-AD20-427C-BA70-27C47C5C3B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467F-4A33-40D2-BAE8-B1ED27DE3C2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3688-65DE-48CB-98DD-DA12B5E105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2D96-629C-417E-8945-B13F6E1C9D2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04EC-1CEF-4841-845C-4CEEFDA67F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F7CB-5FC7-49FE-A243-5FCA764087F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02E8-E1E6-4BD6-8B4F-DF66355692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A953-655A-40C2-AED3-3AA8C815059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B7BF-319B-47CD-AC64-5AAE31E52D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C757-6AFE-4021-9985-14BF2C44247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8DD1-8887-45E6-BE46-A1104CD7E3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609480" y="60948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引入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张敏同学在三次测试中的成绩分别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6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那么张敏同学这三次测验的平均成绩是多少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3"/>
          <p:cNvSpPr/>
          <p:nvPr/>
        </p:nvSpPr>
        <p:spPr>
          <a:xfrm>
            <a:off x="685800" y="6858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市三个郊县的人数及人均耕地面积如下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914400" y="1828800"/>
          <a:ext cx="6095880" cy="2119320"/>
        </p:xfrm>
        <a:graphic>
          <a:graphicData uri="http://schemas.openxmlformats.org/drawingml/2006/table">
            <a:tbl>
              <a:tblPr/>
              <a:tblGrid>
                <a:gridCol w="1143000"/>
                <a:gridCol w="1447920"/>
                <a:gridCol w="3504960"/>
              </a:tblGrid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郊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均耕地面积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公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6" name="Text Box 44"/>
          <p:cNvSpPr/>
          <p:nvPr/>
        </p:nvSpPr>
        <p:spPr>
          <a:xfrm>
            <a:off x="380880" y="3962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个市郊县的人均耕地面积是多少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精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45"/>
          <p:cNvSpPr/>
          <p:nvPr/>
        </p:nvSpPr>
        <p:spPr>
          <a:xfrm>
            <a:off x="609480" y="4876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在实际问题中，一组数据里的各个数据的“重要程度”未必相同。因而，在计算这组数据时，往往给每个数据一个“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权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304920" y="2286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家公司打算招聘一名英文翻译，对甲、乙两名应试者进行了听、说、读、写的英语水平测试，他们各项的成绩（百分制）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457200" y="1447920"/>
          <a:ext cx="6858000" cy="15937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应试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0" name="Text Box 37"/>
          <p:cNvSpPr/>
          <p:nvPr/>
        </p:nvSpPr>
        <p:spPr>
          <a:xfrm>
            <a:off x="304920" y="312408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如果这家公司想招一名口语能力较强的翻译，听、说、读、写成绩按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比确定，计算两名应试者的平均成绩（百分制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他们的成绩看应该录取谁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39"/>
          <p:cNvSpPr/>
          <p:nvPr/>
        </p:nvSpPr>
        <p:spPr>
          <a:xfrm>
            <a:off x="457200" y="4724280"/>
            <a:ext cx="8077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这家公司想招一名笔译能力较强的翻译，听、说、读、写成绩按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比确定，计算两名应试者的平均成绩（百分制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他们的成绩看应该录取谁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0" y="228600"/>
            <a:ext cx="89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次演讲比赛中，评委将从演讲内容、演讲能力、演讲效果三个方面为选手打分，各项成绩均按百分制，然后再按演讲内容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演讲能力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演讲效果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比例，计算选手的综合成绩（百分制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决赛的前两名选手的单项成绩如下表所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380880" y="2819520"/>
          <a:ext cx="7010640" cy="1554120"/>
        </p:xfrm>
        <a:graphic>
          <a:graphicData uri="http://schemas.openxmlformats.org/drawingml/2006/table">
            <a:tbl>
              <a:tblPr/>
              <a:tblGrid>
                <a:gridCol w="1752840"/>
                <a:gridCol w="1752480"/>
                <a:gridCol w="1752480"/>
                <a:gridCol w="1752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选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演讲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演讲能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演讲效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Text Box 35"/>
          <p:cNvSpPr/>
          <p:nvPr/>
        </p:nvSpPr>
        <p:spPr>
          <a:xfrm>
            <a:off x="228600" y="46483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决出两人的名次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巩固练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60948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、数据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的平均数是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________,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这个平均数叫做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平均数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5486400" y="2209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2.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5638680" y="320040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算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某市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月下旬最高气温统计如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-360" y="2971440"/>
            <a:ext cx="8839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在这十个数据中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的权是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_____,3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的权是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457200" y="1676520"/>
          <a:ext cx="7848720" cy="103644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  <a:gridCol w="1307880"/>
                <a:gridCol w="1308240"/>
                <a:gridCol w="1308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气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天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2" name="Text Box 27"/>
          <p:cNvSpPr/>
          <p:nvPr/>
        </p:nvSpPr>
        <p:spPr>
          <a:xfrm>
            <a:off x="6553080" y="28954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28"/>
          <p:cNvSpPr/>
          <p:nvPr/>
        </p:nvSpPr>
        <p:spPr>
          <a:xfrm>
            <a:off x="1371600" y="342900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30"/>
          <p:cNvSpPr/>
          <p:nvPr/>
        </p:nvSpPr>
        <p:spPr>
          <a:xfrm>
            <a:off x="304920" y="4343400"/>
            <a:ext cx="85341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该市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月中旬最高气温的平均数是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_____,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这个平均数是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_________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平均数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1"/>
          <p:cNvSpPr/>
          <p:nvPr/>
        </p:nvSpPr>
        <p:spPr>
          <a:xfrm>
            <a:off x="762120" y="4876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32"/>
          <p:cNvSpPr/>
          <p:nvPr/>
        </p:nvSpPr>
        <p:spPr>
          <a:xfrm>
            <a:off x="5410080" y="4952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3"/>
          <p:cNvSpPr/>
          <p:nvPr/>
        </p:nvSpPr>
        <p:spPr>
          <a:xfrm>
            <a:off x="0" y="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探究  为了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路公共汽车的运营情况，公交部门统计了某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路公共汽车每个运行班次的载客量，得到下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1447920" y="1066680"/>
          <a:ext cx="6019560" cy="3264120"/>
        </p:xfrm>
        <a:graphic>
          <a:graphicData uri="http://schemas.openxmlformats.org/drawingml/2006/table">
            <a:tbl>
              <a:tblPr/>
              <a:tblGrid>
                <a:gridCol w="2209680"/>
                <a:gridCol w="1371600"/>
                <a:gridCol w="2438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载客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组中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频数（班次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≤x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≤x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≤x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≤x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≤x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≤x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Text Box 56"/>
          <p:cNvSpPr/>
          <p:nvPr/>
        </p:nvSpPr>
        <p:spPr>
          <a:xfrm>
            <a:off x="304920" y="4495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路公共汽车平均每班的载客量是多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57"/>
          <p:cNvSpPr/>
          <p:nvPr/>
        </p:nvSpPr>
        <p:spPr>
          <a:xfrm>
            <a:off x="457200" y="5105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统计中，常用各组的组中值代表各组的实际数据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58"/>
          <p:cNvSpPr/>
          <p:nvPr/>
        </p:nvSpPr>
        <p:spPr>
          <a:xfrm>
            <a:off x="533520" y="5638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把各组的频数看作相应组中值的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灯泡厂为测量一批灯泡的使用寿命，从中抽查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灯泡，它们的寿命如下表所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380880" y="1752480"/>
          <a:ext cx="8534520" cy="1524240"/>
        </p:xfrm>
        <a:graphic>
          <a:graphicData uri="http://schemas.openxmlformats.org/drawingml/2006/table">
            <a:tbl>
              <a:tblPr/>
              <a:tblGrid>
                <a:gridCol w="1384560"/>
                <a:gridCol w="1382400"/>
                <a:gridCol w="1382760"/>
                <a:gridCol w="1382760"/>
                <a:gridCol w="1384200"/>
                <a:gridCol w="16178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用寿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≤x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≤x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≤x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≤x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0≤x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灯泡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4" name="Text Box 45"/>
          <p:cNvSpPr/>
          <p:nvPr/>
        </p:nvSpPr>
        <p:spPr>
          <a:xfrm>
            <a:off x="457200" y="3429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这个问题中的总体、个体、样本、样本容量各指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8"/>
          <p:cNvSpPr/>
          <p:nvPr/>
        </p:nvSpPr>
        <p:spPr>
          <a:xfrm>
            <a:off x="533520" y="45720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这批灯泡的平均使用寿命是多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12:27:42Z</dcterms:created>
  <dc:creator>weichuanyi</dc:creator>
  <dc:description/>
  <dc:language>en-US</dc:language>
  <cp:lastModifiedBy>a</cp:lastModifiedBy>
  <dcterms:modified xsi:type="dcterms:W3CDTF">2015-03-17T06:13:20Z</dcterms:modified>
  <cp:revision>30</cp:revision>
  <dc:subject/>
  <dc:title>PowerPoint 演示文稿</dc:title>
</cp:coreProperties>
</file>