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2FD-6202-4F08-B6D9-F0581EE2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F8C-DF32-4EC1-BA37-84DC0530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286-62ED-4758-908F-BD7815B0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D48-48B7-4D42-BF9C-606F2992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ACE8-4F4B-4674-A5DD-9F8E5827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FB50-C670-4741-BD2A-4B14EEA3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9A06-2024-42EE-A958-8E3E9054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77AD-CA6E-46D8-A8A0-58B80409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536D-D8A7-4406-ADEB-278199A0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3D42-113A-4362-A192-09F3FCDA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3C50-1277-4773-A503-D1A0882B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E0B6-D62F-4BF2-AA9B-EE0EE0BA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69A3-AC3F-4095-84E6-AFEA8DF6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A8CC-349D-45DB-8541-4029BEA8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CF31-E824-4690-B3B2-C9302C89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F8E4-2EA9-47D7-B107-252A6BF0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5220-B1B2-4C5C-B711-7D14E428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B3C-A4D7-432C-81A6-7EEE39AF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A505-CF77-4AC8-A346-6370F662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8F8-0C11-4B26-9E17-C91F97B9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8D2-6FEB-45AF-9755-34934D45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5F4-04D9-42C4-95A2-B299375D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F1C-29AA-4BFE-8332-0847A547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CB1C-E386-4F19-B16F-F5200495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1EA4-D384-413D-ABCC-1D0134E566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0B3C-D1EC-495A-9B4F-8F21C547C2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8138-80AE-409A-8FCC-4CB7CCF136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724360" y="3414600"/>
            <a:ext cx="42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2555640" y="0"/>
            <a:ext cx="1421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7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700" spc="-1" strike="noStrike">
                <a:solidFill>
                  <a:srgbClr val="ffffff"/>
                </a:solidFill>
                <a:latin typeface="Calibri"/>
              </a:rPr>
              <a:t>www.1ppt.com/jier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071720" y="2565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16440" y="2805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21520" y="2276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375680" y="2781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03280" y="17002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62120" y="318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769760" y="4627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77000" y="2755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55480" y="42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816520" y="5734080"/>
            <a:ext cx="9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5364000" y="1413000"/>
            <a:ext cx="34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588000" y="4076640"/>
            <a:ext cx="22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8000" y="3502080"/>
            <a:ext cx="23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39800" y="5780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372360" y="59500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a</cp:lastModifiedBy>
  <cp:lastPrinted>1899-12-30T00:00:00Z</cp:lastPrinted>
  <dcterms:modified xsi:type="dcterms:W3CDTF">2015-03-18T05:51:49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