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F6B6-135A-493F-8129-27EABD9F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535-C698-4B75-9A6E-D510A9A0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E702-20BB-4867-B469-749780A7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6E6-84B8-4F2B-8B22-01E86B6B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7269-8DE9-40D4-99C2-C196E2E3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8AD0-8892-4C08-9023-F8BEA873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DA6D-51EC-4EB4-ACFF-C9B25834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720C-4CD9-4B7C-98F5-A1661868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39FF-1C9A-460A-A895-394B9719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C61B-44DF-4AD0-BEAA-518EA2C6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691B-52B4-4B24-852F-1674715B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59B-ACFE-462D-B490-6E151AFA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C016-2304-4D18-9C69-4FACE5C1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4341-C5A3-4DC8-AA04-CBE421C5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DFEE-4E03-4846-82D8-C7744675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8D98-70EB-48C1-ACE0-D4B2856D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89BD-DA41-438F-A828-D47A0AC7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8F32-32D5-490E-8B7F-84262695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8A7-A412-4B04-93A5-6D9F89FC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C59-FA42-48D6-BB76-679E8743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1138-2966-4146-A200-E3371B57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6AE-ECF5-4E85-85DB-6D5D73BB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3592-B6F1-4548-AAE3-F72E6FA8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0CF-9215-4EE8-9973-4E5D3800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E656-6236-43CB-869C-7F3741D77C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B46E-1F12-486B-9399-CB478872704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F7CD-AF82-464E-90DD-C2DD653C67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410080" y="2306520"/>
            <a:ext cx="398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Arial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580000" y="2960640"/>
            <a:ext cx="475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教师节、感恩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135240" y="3213000"/>
            <a:ext cx="5461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064760" y="3213000"/>
            <a:ext cx="9118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217480" y="3213000"/>
            <a:ext cx="91188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514560" y="3213000"/>
            <a:ext cx="91188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995640" y="141300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362120" y="313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290840" y="4581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877000" y="2755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554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816520" y="57340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4068720" y="1123920"/>
            <a:ext cx="47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924360" y="249228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556000" y="386064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332000" y="515772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>a</cp:lastModifiedBy>
  <cp:lastPrinted>1899-12-30T00:00:00Z</cp:lastPrinted>
  <dcterms:modified xsi:type="dcterms:W3CDTF">2015-03-18T05:52:07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