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13.jpeg" ContentType="image/jpeg"/>
  <Override PartName="/ppt/media/image18.gif" ContentType="image/gif"/>
  <Override PartName="/ppt/media/image23.png" ContentType="image/png"/>
  <Override PartName="/ppt/media/image4.png" ContentType="image/png"/>
  <Override PartName="/ppt/media/TYPE.WAV" ContentType="audio/x-wav"/>
  <Override PartName="/ppt/media/image25.jpeg" ContentType="image/jpeg"/>
  <Override PartName="/ppt/media/image2.jpeg" ContentType="image/jpeg"/>
  <Override PartName="/ppt/media/image22.wmf" ContentType="image/x-wmf"/>
  <Override PartName="/ppt/media/image21.wmf" ContentType="image/x-wmf"/>
  <Override PartName="/ppt/media/image19.jpeg" ContentType="image/jpeg"/>
  <Override PartName="/ppt/media/CAMERA.WAV" ContentType="audio/x-wav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552-734A-4485-BA0C-5B85531C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479-EF44-4EEA-BB9B-7E81816D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46C55-C36F-4E65-800F-CD778094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BDC3B-595F-4EF4-9933-D148463C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EA046-BBB0-4C88-8CE9-99990183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F1EAE-B4CF-4044-A06A-39A61309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82D49-326C-4166-A62A-B405C5F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72833-CAD7-459A-92DA-0C93FA85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0B12C-970B-468C-91FB-53F0CE27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79843-A2DE-44C2-97D0-19EFB159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8287D-0D67-4A2A-812A-C59CB36A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59EAC-01CE-49BA-80F8-F2D5ECE8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EF4-5AF6-4F29-9A85-751E2AEA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991DA-9F76-4710-AC10-48C3ED73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DA8FE-7AD5-49B0-8E2A-99F57B43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1D68F-0BCE-4BBA-80CF-C5F3DE90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CAF53-ECD7-4F7C-8994-456F8A24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102F6-CCA9-4069-B0DD-79A5EE48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F58ED-79C7-4EFE-804F-655DE927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447C1-4A92-431D-9EEC-F55960A9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F06B9-4B04-42A1-9757-B9499F0F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EA4A6-86C2-4C59-83C2-82D45B50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ABB08-390B-4862-828E-4B9DD712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A53-1C65-470B-9762-2534A952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72E74-32F6-4D67-82FD-ABA5C10C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98FA4-1D2C-4824-B0E0-C294B1F8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A5B17-4D6D-4836-8DF3-DD042E26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3EDB1-E0EA-416E-8A29-152D1CAC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AE3D3-3DD7-4E69-AD99-E1F81481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2063F-4D00-49EA-95A2-85136DA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50B6C-37C7-45D7-8E34-CE08DAF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68E11-3201-457C-B6B5-F31BE1FA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812EF-7F05-4C2E-9688-DAE65E22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943BD-9503-4C56-824B-A46A9C83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B435-D897-4E2D-9DC7-6A430CA1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22886-E1BF-4448-8D86-E4A10E8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54618-FF71-4AE9-BE72-E3045C90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AF703-C6FF-480F-9319-54439370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81FE0-3B86-4F00-B9DB-FBA6F30B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4646C-C3B8-4EB1-BDD8-87C45CCE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855EB-540B-42E4-9F04-FF6C517F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6B9A1-1ABE-46F0-AF9D-FDCFC69A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5E12B-0C77-4C43-95BC-E5CB7EAA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EF43C-0AFD-47E2-9E5E-6955C7D5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9D119-3EE1-47E3-A576-5CBDAC17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5561-66AE-4EC2-847D-4EA85117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95FBA-61B6-4C3F-BB07-D0EA1C5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B8FFA-2DA7-451F-9226-53DBB8B0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36A45-5B76-4D02-8FC5-EE4EDF89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544F0-DD2A-413C-92BC-16D7AF43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52284-749C-4221-BFAD-56F6D974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65773-ED31-4822-B4F5-E3D542C8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E545E-3A50-4F88-8E59-46509E9E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B46BD-5A08-4F1A-BC0D-CD71F96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3CC54-932D-4D03-A4E1-406A4F39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38224-E703-4148-9D08-9FAC7635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D33E-EB79-4CE0-BB91-7F992A1B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A23A3-293F-4C0F-AE37-8BE6D9EC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357E4-125C-443D-8E38-3273127C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7BD93-B06C-43D0-B27A-2D9BA43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7A594-B6E1-4BC5-8217-7C777EDF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5B2E5-9E35-4A52-8A5D-1C600785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F13C2-6079-4844-9D15-F9AF7AC5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12930-E758-4464-AF65-FA375B76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036A5-D947-45CF-B4AC-F2739E76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7CCA4-F093-415E-93C6-B707A3C2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0CA8A-8544-4377-8C1D-B808CC7A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36F9-35F5-4B53-84F2-FDED1482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32847-640C-4094-B26C-B8E6B5AD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9CAC4-3CBD-42B3-9F16-FF135094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744CB-7ADA-430D-9F9C-51AE72E5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8D577-84DB-45EB-A70B-8A45C3C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3DBB4-C202-4F8B-AE05-71BA8A9E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ECFDA-8893-4B5E-91B2-183ECC31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CE9CF-9627-4F0D-801F-A30863EB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990EB-5770-4128-9EED-5CF6D0E6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5C605-683F-49D1-ABB5-CC98CCE0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0DBC-75EE-4533-8753-840FBE0A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BA0B-3369-4433-8FE7-D136C31A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E5F8-8E0B-4964-9BC6-EEA28DD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399-7960-43B4-855A-A70F0AC0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B47D-5180-4C5B-8A3D-4506EE09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B10F-1CBF-4BA0-9B0B-E15FCCF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5D0D-EC18-4871-A6B8-E8BF0B2A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690E-04E6-42F2-9ED8-2DE5CAD7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0031-97F9-4EE7-938E-CA6FCF15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336B-9A82-4E65-821E-4B8C9736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3A81-10D3-4398-9BC5-1C91DB4A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7601-3F27-4933-9104-E9750196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A304-30BC-4645-92EE-0920874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26EC-B101-4FF1-A1D6-2C93CA0B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A0B-F841-4205-8ABC-AD106910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41C0-7CAA-4CD9-9CFA-048B640E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6AAC-7282-4609-A304-7743F60F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E3CC-CB32-4BD5-9968-DE41F4A7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1B11-C9E7-4901-AC0C-9B321FDD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7F2DA-66D5-4806-B5EF-E19DC0DA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7F06-3CDB-4C50-ABB3-0AE3E48C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B69B-76BA-460B-B266-7E637F8E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49BA6-3481-41A4-B475-9040C03B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227A-1D97-475F-AA7A-2BBFA00F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35BE-3F26-4783-AFB5-43D06A0E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58C-E306-4014-912F-0F67165A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70000-3D61-4E16-9DF0-1E0631C1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A792A-74D1-47E3-B9DA-A4E9FB7F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15C0-FF21-4EBF-8AFC-0884F022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627A-80AC-4448-AA3B-8E15D32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4335-34D3-4FE1-8700-CECAC4C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659BC-2267-4DBD-AC81-44C32CE2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10369-2164-4DD7-9533-D4F61E1E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9326C-C616-49B8-8198-8479CE64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A0965-0D90-49A5-A5B4-CB090079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5457A-EE43-4A3D-B10D-F06F09F2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809-3E02-431A-8CAA-42F28499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EF43-5EF0-4249-BB8A-1D38284C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8346-70F2-4D3F-B71C-28293F33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E239-86C2-4E2D-9E08-E6B701B0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4071-279A-4851-8B93-E2B178F5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7B50F-448D-42B5-9B5E-66024898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20C08-CEF1-436D-A164-100D0E8A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653A-6B9E-4E7A-B6C9-CB111C61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8B64-7B89-4FC3-B48C-45E8F2B6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1040F-DB56-448A-B230-030D1EE8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A2C01-0337-4F76-BD13-AE7B62D9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F14-80D9-4475-AF6D-7B049507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BF78B-2238-4D3F-91E7-B752B86C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B0C76-9967-46D7-8668-9A72AA60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61E1B-C16C-4EB9-83BD-DD21F78B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F73E5-9DBC-4A80-BBEF-127376F1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0E57-7F70-4564-A649-6F9FB8D9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9D7F-DD19-47AE-B447-299CD406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73287-2787-4097-B989-6278F6D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79EE8-738B-4E00-BEDA-D3F2F642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1F05F-F039-46CB-BB6A-5895EF5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0FECC-402C-4351-A8BD-B16B9E84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97D-73B1-4B25-B12F-67B3D718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7FC65-924F-4B52-B4FD-2358C06B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7EA06-BD6B-44EA-92B5-3C6F136A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F7CA2-3507-43B8-8E73-9ADFFAC7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93283-9D0C-4137-BCB3-90F10B17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D8D03-33FD-4AC7-888D-FDFB2612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1152F-DE87-4D65-A62A-412F6B13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D4840-7F47-4181-AD46-99337140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5989C-8430-4433-B492-3F1D7C46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B16FF-A2CB-45CF-B379-B193A225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141BA-6B22-4D20-B697-E7476469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C46-0A07-4973-8AC2-AA537922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E300A-7A5A-4814-A95F-DC88C3D3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9E927-9817-4AC3-9CCD-E4D4F5ED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4026A-565F-45B3-8BFF-66AF05F0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6632C-9228-467D-B373-0EC9135C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92F1D-8B79-4424-B490-BA2DE687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8195B-FFD4-4DAB-9791-911D642B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EF145-619D-4F6C-AA95-C2AE748C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0BAF2-7358-4DD9-8451-A9A433F4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2E038-9C0D-4E71-8062-06562A94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D1212-B4E2-4313-A17C-76888561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627-EB23-4F0D-88AD-3449EAB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C1CEA-AABA-465D-92EB-2583E089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CBC74-632E-404C-912C-C24265A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C60B7-72C3-4E18-B57D-0BDAF81C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68188-5594-4CD0-8CDB-18FF5C25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2A1D8-8EED-4F7F-AC35-E4D6B0E9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721A1-7C29-4E71-8B37-A30E6C5B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5835F-A901-4C80-9F01-4BD38B68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6310D-1436-4586-AAEA-16D4F0E0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BBA4A-5011-4C68-865D-B0062116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9CB63-8B81-4826-AE08-10373868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7D4F-212D-46B9-A5FF-02D56E4FDEF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B0BF-49FA-4339-94DF-C89ABA020B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2225-33C7-4F1B-BB7A-328E4A38A1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1529-F3D8-4450-8B19-4686D468BE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4029-144D-4A4C-B0C8-815343B30B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4C37-37FD-402A-B011-B257E3F1F6E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A2B9-4D9B-464B-AB8E-22C139A150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88C-1A16-4822-8A54-EE7DE31511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1637-7108-4C66-81C0-162A925D2F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59B5-10E7-4494-811F-C2BAB5E829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2DB7-204B-411E-963A-AE8CDCA781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B74A-B4E7-47C8-BDAD-E6FEDE20E2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1E16-6E60-417E-8AC6-CE070ED1C3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87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88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3E81-5F2A-4EA7-AB05-D681594B3D2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849-DE20-43B4-99EE-9A861012F3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3601-D9A8-4D67-A1B3-F165D0BF3B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889A-D2C9-4BBE-82A0-F89E59883C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A1D-E4CB-444B-868F-B46BBD2067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0353-C486-48AB-B514-1887FC73D6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6B61-4A04-4B2C-90C0-0D1DDF7ACF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0A95-9105-4628-B3E5-430D407D25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E227-F5D3-4D45-98F4-E6321A46CD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B84C-9C5B-4E9F-ADBA-0259261B28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5D84-93D9-49A4-A067-E2AD45B46D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DD19-7406-4F85-8B16-2F279C1ADD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4968-654A-453C-B5E0-D10061601C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054" descr="C:\My Documents\李良义文件\课件素材\课件图片素材\画框造型\FR_055.BMP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2051"/>
          <p:cNvSpPr/>
          <p:nvPr/>
        </p:nvSpPr>
        <p:spPr>
          <a:xfrm>
            <a:off x="2057400" y="10666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Text Box 2052"/>
          <p:cNvSpPr/>
          <p:nvPr/>
        </p:nvSpPr>
        <p:spPr>
          <a:xfrm>
            <a:off x="1676520" y="21337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00ff"/>
                </a:solidFill>
                <a:latin typeface="Times New Roman"/>
              </a:rPr>
              <a:t>多媒体课件</a:t>
            </a:r>
            <a:endParaRPr b="0" lang="en-US" sz="8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Text Box 2053"/>
          <p:cNvSpPr/>
          <p:nvPr/>
        </p:nvSpPr>
        <p:spPr>
          <a:xfrm>
            <a:off x="1219320" y="5943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制作    卢文芳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AutoShape 2055"/>
          <p:cNvSpPr/>
          <p:nvPr/>
        </p:nvSpPr>
        <p:spPr>
          <a:xfrm>
            <a:off x="8305920" y="6172200"/>
            <a:ext cx="363240" cy="306360"/>
          </a:xfrm>
          <a:prstGeom prst="rightArrow">
            <a:avLst>
              <a:gd name="adj1" fmla="val 50000"/>
              <a:gd name="adj2" fmla="val 2964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586" name="a.mid" descr=""/>
          <p:cNvPicPr/>
          <p:nvPr/>
        </p:nvPicPr>
        <p:blipFill>
          <a:blip r:embed="rId2"/>
          <a:stretch/>
        </p:blipFill>
        <p:spPr>
          <a:xfrm>
            <a:off x="609588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3" descr="E:\tupian\历史图片\中国历史第三册\12\甲午海戰歷史人物.files\cyh3.gif"/>
          <p:cNvPicPr/>
          <p:nvPr/>
        </p:nvPicPr>
        <p:blipFill>
          <a:blip r:embed="rId1"/>
          <a:stretch/>
        </p:blipFill>
        <p:spPr>
          <a:xfrm>
            <a:off x="5715000" y="1905120"/>
            <a:ext cx="2516040" cy="37335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E:\tupian\历史图片\中国历史第三册\12\甲午海戰北洋軍艦.files\cyh6.gif"/>
          <p:cNvPicPr/>
          <p:nvPr/>
        </p:nvPicPr>
        <p:blipFill>
          <a:blip r:embed="rId2"/>
          <a:stretch/>
        </p:blipFill>
        <p:spPr>
          <a:xfrm>
            <a:off x="1143000" y="19051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6"/>
          <p:cNvSpPr/>
          <p:nvPr/>
        </p:nvSpPr>
        <p:spPr>
          <a:xfrm>
            <a:off x="3315960" y="7621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定远舰及管带刘步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AutoShape 7"/>
          <p:cNvSpPr/>
          <p:nvPr/>
        </p:nvSpPr>
        <p:spPr>
          <a:xfrm>
            <a:off x="8001000" y="60958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3" descr="E:\tupian\历史图片\中国历史第三册\12\mgty.BMP"/>
          <p:cNvPicPr/>
          <p:nvPr/>
        </p:nvPicPr>
        <p:blipFill>
          <a:blip r:embed="rId1"/>
          <a:stretch/>
        </p:blipFill>
        <p:spPr>
          <a:xfrm>
            <a:off x="1066680" y="1752480"/>
            <a:ext cx="4419720" cy="40388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4"/>
          <p:cNvSpPr/>
          <p:nvPr/>
        </p:nvSpPr>
        <p:spPr>
          <a:xfrm>
            <a:off x="5791320" y="1828800"/>
            <a:ext cx="291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895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月，李鸿章和日本首相伊藤博文，在日本马关签定了中日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马关条约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，大大加深了中国的半殖民地化程度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8458200" y="63244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3" descr="E:\tupian\历史图片\中国历史第三册\12\mda045p.BMP"/>
          <p:cNvPicPr/>
          <p:nvPr/>
        </p:nvPicPr>
        <p:blipFill>
          <a:blip r:embed="rId1"/>
          <a:srcRect l="0" t="0" r="68" b="-53"/>
          <a:stretch/>
        </p:blipFill>
        <p:spPr>
          <a:xfrm>
            <a:off x="990720" y="533520"/>
            <a:ext cx="7010280" cy="571500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4"/>
          <p:cNvSpPr/>
          <p:nvPr/>
        </p:nvSpPr>
        <p:spPr>
          <a:xfrm>
            <a:off x="8458200" y="63244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WordArt 2" descr=""/>
          <p:cNvPicPr/>
          <p:nvPr/>
        </p:nvPicPr>
        <p:blipFill>
          <a:blip r:embed="rId2"/>
          <a:stretch/>
        </p:blipFill>
        <p:spPr>
          <a:xfrm>
            <a:off x="517680" y="285840"/>
            <a:ext cx="2670120" cy="799920"/>
          </a:xfrm>
          <a:prstGeom prst="rect">
            <a:avLst/>
          </a:prstGeom>
          <a:ln w="0">
            <a:noFill/>
          </a:ln>
        </p:spPr>
      </p:pic>
      <p:sp>
        <p:nvSpPr>
          <p:cNvPr id="628" name="WordArt 3"/>
          <p:cNvSpPr txBox="1"/>
          <p:nvPr/>
        </p:nvSpPr>
        <p:spPr>
          <a:xfrm>
            <a:off x="3581280" y="380880"/>
            <a:ext cx="838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宋体"/>
              </a:rPr>
              <a:t>割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宋体"/>
              <a:ea typeface="宋体"/>
            </a:endParaRPr>
          </a:p>
        </p:txBody>
      </p:sp>
      <p:sp>
        <p:nvSpPr>
          <p:cNvPr id="629" name="WordArt 4"/>
          <p:cNvSpPr txBox="1"/>
          <p:nvPr/>
        </p:nvSpPr>
        <p:spPr>
          <a:xfrm>
            <a:off x="4952880" y="380880"/>
            <a:ext cx="762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宋体"/>
              </a:rPr>
              <a:t>赔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宋体"/>
              <a:ea typeface="宋体"/>
            </a:endParaRPr>
          </a:p>
        </p:txBody>
      </p:sp>
      <p:sp>
        <p:nvSpPr>
          <p:cNvPr id="630" name="WordArt 5"/>
          <p:cNvSpPr txBox="1"/>
          <p:nvPr/>
        </p:nvSpPr>
        <p:spPr>
          <a:xfrm>
            <a:off x="7315200" y="438120"/>
            <a:ext cx="83808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宋体"/>
              </a:rPr>
              <a:t>设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宋体"/>
              <a:ea typeface="宋体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6248520" y="399960"/>
            <a:ext cx="60948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宋体"/>
              </a:rPr>
              <a:t>开埠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宋体"/>
              <a:ea typeface="宋体"/>
            </a:endParaRPr>
          </a:p>
        </p:txBody>
      </p:sp>
      <p:sp>
        <p:nvSpPr>
          <p:cNvPr id="632" name="WordArt 7"/>
          <p:cNvSpPr txBox="1"/>
          <p:nvPr/>
        </p:nvSpPr>
        <p:spPr>
          <a:xfrm>
            <a:off x="457200" y="5457960"/>
            <a:ext cx="2286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分组讨论：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33" name="WordArt 8"/>
          <p:cNvSpPr txBox="1"/>
          <p:nvPr/>
        </p:nvSpPr>
        <p:spPr>
          <a:xfrm>
            <a:off x="3352680" y="54100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条约给中国社会造成的严重危害</a:t>
            </a:r>
            <a:endParaRPr b="0" lang="en-US" sz="32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4" name="WordArt 9"/>
          <p:cNvSpPr txBox="1"/>
          <p:nvPr/>
        </p:nvSpPr>
        <p:spPr>
          <a:xfrm>
            <a:off x="380880" y="129528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请思考：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2209680" y="1981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马关条约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开放的口岸在地理位置上有何变化？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2209680" y="2971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③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过去的不平等条约有过允许外国开设工厂的规定吗？这一变化反映了什么问题？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22096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④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俄、德、法三国干涉还辽，是在保护中国的权益吗？为什么？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2209680" y="1447920"/>
            <a:ext cx="693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①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马关条约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隶书"/>
              </a:rPr>
              <a:t>中赔款数额较前有何变化？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39" name="Picture 14" descr="C:\Program Files\Microsoft Office\Clipart\HOMEANIM\AG00218_.GIF"/>
          <p:cNvPicPr/>
          <p:nvPr/>
        </p:nvPicPr>
        <p:blipFill>
          <a:blip r:embed="rId3"/>
          <a:stretch/>
        </p:blipFill>
        <p:spPr>
          <a:xfrm>
            <a:off x="457200" y="3429000"/>
            <a:ext cx="1417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3061800" y="7300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二、民族危机的加强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3147480" y="2048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帝国主义经济侵略的加剧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981080" y="2590920"/>
            <a:ext cx="51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开设银行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强迫贷款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俄、法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投资铁路、开采矿山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法国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开矿设厂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日本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AutoShape 8"/>
          <p:cNvSpPr/>
          <p:nvPr/>
        </p:nvSpPr>
        <p:spPr>
          <a:xfrm>
            <a:off x="8458200" y="63244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15"/>
          <p:cNvSpPr/>
          <p:nvPr/>
        </p:nvSpPr>
        <p:spPr>
          <a:xfrm>
            <a:off x="1371600" y="457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家看时局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45" name="Picture 16" descr="C:\My Documents\李良义文件\李良义\时局图.jpg"/>
          <p:cNvPicPr/>
          <p:nvPr/>
        </p:nvPicPr>
        <p:blipFill>
          <a:blip r:embed="rId1"/>
          <a:stretch/>
        </p:blipFill>
        <p:spPr>
          <a:xfrm>
            <a:off x="3962520" y="228600"/>
            <a:ext cx="4876560" cy="64008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17"/>
          <p:cNvSpPr/>
          <p:nvPr/>
        </p:nvSpPr>
        <p:spPr>
          <a:xfrm>
            <a:off x="1143000" y="1066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划分“势力范围”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AutoShape 18"/>
          <p:cNvSpPr/>
          <p:nvPr/>
        </p:nvSpPr>
        <p:spPr>
          <a:xfrm>
            <a:off x="8458200" y="647712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838080" y="1981080"/>
            <a:ext cx="8534520" cy="3047760"/>
            <a:chOff x="838080" y="1981080"/>
            <a:chExt cx="8534520" cy="3047760"/>
          </a:xfrm>
        </p:grpSpPr>
        <p:pic>
          <p:nvPicPr>
            <p:cNvPr id="649" name="Object 3" descr=""/>
            <p:cNvPicPr/>
            <p:nvPr/>
          </p:nvPicPr>
          <p:blipFill>
            <a:blip r:embed="rId1"/>
            <a:stretch/>
          </p:blipFill>
          <p:spPr>
            <a:xfrm>
              <a:off x="838080" y="1981080"/>
              <a:ext cx="85345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Line 4"/>
            <p:cNvSpPr/>
            <p:nvPr/>
          </p:nvSpPr>
          <p:spPr>
            <a:xfrm>
              <a:off x="5389920" y="1981080"/>
              <a:ext cx="0" cy="275904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1" name="Line 5"/>
            <p:cNvSpPr/>
            <p:nvPr/>
          </p:nvSpPr>
          <p:spPr>
            <a:xfrm flipV="1">
              <a:off x="1833480" y="1981080"/>
              <a:ext cx="0" cy="27590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52" name="Text Box 6"/>
          <p:cNvSpPr/>
          <p:nvPr/>
        </p:nvSpPr>
        <p:spPr>
          <a:xfrm>
            <a:off x="2514600" y="228600"/>
            <a:ext cx="53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隶书"/>
                <a:ea typeface="隶书"/>
              </a:rPr>
              <a:t>19</a:t>
            </a:r>
            <a:r>
              <a:rPr b="0" lang="zh-CN" sz="4000" spc="-1" strike="noStrike">
                <a:solidFill>
                  <a:srgbClr val="6600cc"/>
                </a:solidFill>
                <a:latin typeface="隶书"/>
                <a:ea typeface="隶书"/>
              </a:rPr>
              <a:t>世纪末帝国主义瓜分中国简表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53" name="Picture 8" descr="C:\Program Files\Microsoft Office\Clipart\Popular\lion.wmf"/>
          <p:cNvPicPr/>
          <p:nvPr/>
        </p:nvPicPr>
        <p:blipFill>
          <a:blip r:embed="rId2"/>
          <a:stretch/>
        </p:blipFill>
        <p:spPr>
          <a:xfrm>
            <a:off x="5486400" y="518148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C:\Program Files\Common Files\Microsoft Shared\Clipart\cagcat50\AN01124_.wmf"/>
          <p:cNvPicPr/>
          <p:nvPr/>
        </p:nvPicPr>
        <p:blipFill>
          <a:blip r:embed="rId3"/>
          <a:stretch/>
        </p:blipFill>
        <p:spPr>
          <a:xfrm>
            <a:off x="380880" y="57240"/>
            <a:ext cx="1409760" cy="17161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4" name="CAMERA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600200" y="838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“门户开放”政策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828800" y="182880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时间：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899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年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意义：是美国侵略中国新阶段的标志；使帝国主义掀起瓜分中国的狂潮，暂时取得表面上的一致；帝国主义宰割中国的同盟在一定程度上形成了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AutoShape 4"/>
          <p:cNvSpPr/>
          <p:nvPr/>
        </p:nvSpPr>
        <p:spPr>
          <a:xfrm>
            <a:off x="8458200" y="624852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1371600" y="1066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三、巩固练习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523880" y="1828800"/>
            <a:ext cx="6934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选择题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）、平壤战役中牺牲的中国将领是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左宝贵  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刘步蟾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邓世昌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6705720" y="3809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1295280" y="4419720"/>
            <a:ext cx="723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）、标志北洋舰队全军覆灭的事件是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黄海战役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辽东战役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威海卫之战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6781680" y="57913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AutoShape 7"/>
          <p:cNvSpPr/>
          <p:nvPr/>
        </p:nvSpPr>
        <p:spPr>
          <a:xfrm>
            <a:off x="8381880" y="63244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3"/>
          <p:cNvSpPr/>
          <p:nvPr/>
        </p:nvSpPr>
        <p:spPr>
          <a:xfrm>
            <a:off x="1066680" y="1143000"/>
            <a:ext cx="7391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）下列哪一项是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马关条约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的内容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开放广州、厦门、福州、宁波、上海为通商口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开放重庆、沙市、苏州、杭州为通商口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开放烟台、琼州等到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处为通商口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开放天律为通商口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6095880" y="5105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答案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8229600" y="617220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" descr="C:\My Documents\李良义文件\课件素材\课件图片素材\底纹素材库\火与光\GH_001.jpg"/>
          <p:cNvPicPr/>
          <p:nvPr/>
        </p:nvPicPr>
        <p:blipFill>
          <a:blip r:embed="rId1"/>
          <a:stretch/>
        </p:blipFill>
        <p:spPr>
          <a:xfrm>
            <a:off x="533520" y="228600"/>
            <a:ext cx="8381880" cy="64008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2"/>
          <p:cNvSpPr/>
          <p:nvPr/>
        </p:nvSpPr>
        <p:spPr>
          <a:xfrm>
            <a:off x="1676520" y="236232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Times New Roman"/>
              </a:rPr>
              <a:t>甲午中日战争和民族危机的加深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8229600" y="617220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3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295280" y="1066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小结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1066680" y="1676520"/>
            <a:ext cx="73915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一、甲午中日战争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原因：日本为了掠夺市场和原料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经过：平壤战役、黄海战役、辽东战役、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威海卫战役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马关条约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的签定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、民族危机的进一步加深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贷款、修路、开矿、开工厂、势力范围 、 门户开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AutoShape 4"/>
          <p:cNvSpPr/>
          <p:nvPr/>
        </p:nvSpPr>
        <p:spPr>
          <a:xfrm>
            <a:off x="8305920" y="6248520"/>
            <a:ext cx="363240" cy="306360"/>
          </a:xfrm>
          <a:prstGeom prst="rightArrow">
            <a:avLst>
              <a:gd name="adj1" fmla="val 50000"/>
              <a:gd name="adj2" fmla="val 296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1026"/>
          <p:cNvSpPr/>
          <p:nvPr/>
        </p:nvSpPr>
        <p:spPr>
          <a:xfrm>
            <a:off x="152388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甲午战争的惨败，除了暴露清政府的腐败可欺之外，这场战争对中国、日本，对世界其他帝国主义还会造成什么影响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71" name="WordArt 1027" descr=""/>
          <p:cNvPicPr/>
          <p:nvPr/>
        </p:nvPicPr>
        <p:blipFill>
          <a:blip r:embed="rId1"/>
          <a:stretch/>
        </p:blipFill>
        <p:spPr>
          <a:xfrm>
            <a:off x="371520" y="304920"/>
            <a:ext cx="1085760" cy="6094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1028"/>
          <p:cNvSpPr/>
          <p:nvPr/>
        </p:nvSpPr>
        <p:spPr>
          <a:xfrm>
            <a:off x="914400" y="19051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  <a:ea typeface="隶书"/>
              </a:rPr>
              <a:t>A. 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  <a:ea typeface="隶书"/>
              </a:rPr>
              <a:t>甲午战争的惨败，为中国人民敲响了警钟，有识之士普遍认识到亡国之祸近在眼前。但是深重的民族灾难反而可以促成一个民族的觉醒和奋起，中华民族必然将战争失败带来的耻辱转化成奋进的动力，中国人民决不会长期沉默下去！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Text Box 1029"/>
          <p:cNvSpPr/>
          <p:nvPr/>
        </p:nvSpPr>
        <p:spPr>
          <a:xfrm>
            <a:off x="914400" y="4038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对日本来说战争的胜利提高了它的国际地位</a:t>
            </a:r>
            <a:r>
              <a:rPr b="0" lang="en-US" sz="2800" spc="-1" strike="noStrike">
                <a:solidFill>
                  <a:srgbClr val="6600cc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日本凭借这笔不义之财疯狂扩军备战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Text Box 1030"/>
          <p:cNvSpPr/>
          <p:nvPr/>
        </p:nvSpPr>
        <p:spPr>
          <a:xfrm>
            <a:off x="914400" y="510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对其他帝国主义来说，中国就像一个奄奄一息的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病人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，甲午战后帝国主义掀起瓜分中国的狂潮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AutoShape 1035"/>
          <p:cNvSpPr/>
          <p:nvPr/>
        </p:nvSpPr>
        <p:spPr>
          <a:xfrm>
            <a:off x="7238880" y="601992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Text Box 1036"/>
          <p:cNvSpPr/>
          <p:nvPr/>
        </p:nvSpPr>
        <p:spPr>
          <a:xfrm>
            <a:off x="6351480" y="6095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下一页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1931400" y="1162080"/>
            <a:ext cx="13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思考题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682000" y="2209680"/>
            <a:ext cx="47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甲午战争以后，清政府向列强大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外债同今天资本主义国家贷款给我们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二者有何不同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2818440" y="4362480"/>
            <a:ext cx="477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列强的租借地和今天外资企业在我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国租用土地有何不同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600200" y="2286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81" name="Picture 5" descr="D:\李良义文件夹\李良义图3.jpg"/>
          <p:cNvPicPr/>
          <p:nvPr/>
        </p:nvPicPr>
        <p:blipFill>
          <a:blip r:embed="rId1"/>
          <a:stretch/>
        </p:blipFill>
        <p:spPr>
          <a:xfrm>
            <a:off x="533520" y="228600"/>
            <a:ext cx="8305560" cy="6400800"/>
          </a:xfrm>
          <a:prstGeom prst="rect">
            <a:avLst/>
          </a:prstGeom>
          <a:ln w="0">
            <a:noFill/>
          </a:ln>
        </p:spPr>
      </p:pic>
      <p:sp>
        <p:nvSpPr>
          <p:cNvPr id="682" name="WordArt 3"/>
          <p:cNvSpPr txBox="1"/>
          <p:nvPr/>
        </p:nvSpPr>
        <p:spPr>
          <a:xfrm>
            <a:off x="1981080" y="2133720"/>
            <a:ext cx="53596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同学们，再见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83" name="01.MP3" descr=""/>
          <p:cNvPicPr/>
          <p:nvPr/>
        </p:nvPicPr>
        <p:blipFill>
          <a:blip r:embed="rId2"/>
          <a:stretch/>
        </p:blipFill>
        <p:spPr>
          <a:xfrm>
            <a:off x="73915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68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3"/>
          <p:cNvSpPr/>
          <p:nvPr/>
        </p:nvSpPr>
        <p:spPr>
          <a:xfrm>
            <a:off x="1522080" y="1828800"/>
            <a:ext cx="1978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一、</a:t>
            </a:r>
            <a:r>
              <a:rPr b="0" lang="zh-CN" sz="2800" spc="-1" strike="noStrike" u="sng">
                <a:solidFill>
                  <a:srgbClr val="9a7f32"/>
                </a:solidFill>
                <a:uFillTx/>
                <a:latin typeface="Times New Roman"/>
                <a:hlinkClick r:id="rId1" action="ppaction://hlinksldjump"/>
              </a:rPr>
              <a:t>甲午中日战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4539600" y="2514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战争的原因：日本为了掠夺市场和原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2575080" y="33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战争的经过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2627280" y="4038480"/>
            <a:ext cx="4897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</a:t>
            </a:r>
            <a:r>
              <a:rPr b="0" lang="zh-CN" sz="28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丰岛之战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战争开始（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894.7.25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3029400" y="50292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平壤战役       左宝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AutoShape 14"/>
          <p:cNvSpPr/>
          <p:nvPr/>
        </p:nvSpPr>
        <p:spPr>
          <a:xfrm>
            <a:off x="8229600" y="624852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3" descr="E:\tupian\历史图片\中国历史第三册\12\gaosheng.BMP"/>
          <p:cNvPicPr/>
          <p:nvPr/>
        </p:nvPicPr>
        <p:blipFill>
          <a:blip r:embed="rId1"/>
          <a:stretch/>
        </p:blipFill>
        <p:spPr>
          <a:xfrm>
            <a:off x="1447920" y="1447920"/>
            <a:ext cx="6476760" cy="50292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4"/>
          <p:cNvSpPr/>
          <p:nvPr/>
        </p:nvSpPr>
        <p:spPr>
          <a:xfrm>
            <a:off x="3078720" y="838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丰岛之战中高升号被击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8153280" y="617220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371600" y="19810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黄海海战      邓世昌        </a:t>
            </a:r>
            <a:r>
              <a:rPr b="1" lang="zh-CN" sz="2800" spc="-1" strike="noStrike" u="sng">
                <a:solidFill>
                  <a:srgbClr val="402000"/>
                </a:solidFill>
                <a:uFillTx/>
                <a:latin typeface="Times New Roman"/>
              </a:rPr>
              <a:t>林永升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1371600" y="30481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旅顺陷落        旅顺大屠杀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1371600" y="40384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威海卫战役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1143000" y="49528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马关条约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的签订     （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895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年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8077320" y="6095880"/>
            <a:ext cx="363240" cy="306360"/>
          </a:xfrm>
          <a:prstGeom prst="rightArrow">
            <a:avLst>
              <a:gd name="adj1" fmla="val 50000"/>
              <a:gd name="adj2" fmla="val 296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419720" y="40384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a7f32"/>
                </a:solidFill>
                <a:latin typeface="Times New Roman"/>
              </a:rPr>
              <a:t>北洋舰队全军覆灭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3" descr="E:\tupian\历史图片\中国历史第三册\12\甲午海戰歷史人物.files\cyh4.gif"/>
          <p:cNvPicPr/>
          <p:nvPr/>
        </p:nvPicPr>
        <p:blipFill>
          <a:blip r:embed="rId1"/>
          <a:stretch/>
        </p:blipFill>
        <p:spPr>
          <a:xfrm>
            <a:off x="1371600" y="1752480"/>
            <a:ext cx="2844720" cy="41148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4"/>
          <p:cNvSpPr/>
          <p:nvPr/>
        </p:nvSpPr>
        <p:spPr>
          <a:xfrm>
            <a:off x="5029200" y="2057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威海卫战役中，提督丁汝昌宁死不降，最后，自杀殉国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AutoShape 5"/>
          <p:cNvSpPr/>
          <p:nvPr/>
        </p:nvSpPr>
        <p:spPr>
          <a:xfrm>
            <a:off x="8458200" y="617220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27" descr="C:\My Documents\李良义文件\李良义\00.jpg"/>
          <p:cNvPicPr/>
          <p:nvPr/>
        </p:nvPicPr>
        <p:blipFill>
          <a:blip r:embed="rId1"/>
          <a:stretch/>
        </p:blipFill>
        <p:spPr>
          <a:xfrm>
            <a:off x="2743200" y="762120"/>
            <a:ext cx="5562720" cy="54864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28"/>
          <p:cNvSpPr/>
          <p:nvPr/>
        </p:nvSpPr>
        <p:spPr>
          <a:xfrm>
            <a:off x="1313280" y="2057400"/>
            <a:ext cx="667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日军侵略中国一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AutoShape 1029"/>
          <p:cNvSpPr/>
          <p:nvPr/>
        </p:nvSpPr>
        <p:spPr>
          <a:xfrm>
            <a:off x="8381880" y="624852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026" descr="E:\tupian\历史图片\中国历史第三册\12\mda044p.JPG"/>
          <p:cNvPicPr/>
          <p:nvPr/>
        </p:nvPicPr>
        <p:blipFill>
          <a:blip r:embed="rId1"/>
          <a:srcRect l="0" t="0" r="12" b="0"/>
          <a:stretch/>
        </p:blipFill>
        <p:spPr>
          <a:xfrm>
            <a:off x="1143000" y="1066680"/>
            <a:ext cx="7391520" cy="47577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1027"/>
          <p:cNvSpPr/>
          <p:nvPr/>
        </p:nvSpPr>
        <p:spPr>
          <a:xfrm>
            <a:off x="3248280" y="380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甲午战争形势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AutoShape 1029"/>
          <p:cNvSpPr/>
          <p:nvPr/>
        </p:nvSpPr>
        <p:spPr>
          <a:xfrm>
            <a:off x="8229600" y="617220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3" descr="E:\tupian\历史图片\中国历史第三册\12\致远舰.files\ziyuan.jpeg"/>
          <p:cNvPicPr/>
          <p:nvPr/>
        </p:nvPicPr>
        <p:blipFill>
          <a:blip r:embed="rId1"/>
          <a:stretch/>
        </p:blipFill>
        <p:spPr>
          <a:xfrm>
            <a:off x="1143000" y="2133720"/>
            <a:ext cx="4114800" cy="3581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E:\tupian\历史图片\中国历史第三册\12\PDA037P.bmp"/>
          <p:cNvPicPr/>
          <p:nvPr/>
        </p:nvPicPr>
        <p:blipFill>
          <a:blip r:embed="rId2"/>
          <a:stretch/>
        </p:blipFill>
        <p:spPr>
          <a:xfrm>
            <a:off x="5715000" y="2133720"/>
            <a:ext cx="2335320" cy="350496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5"/>
          <p:cNvSpPr/>
          <p:nvPr/>
        </p:nvSpPr>
        <p:spPr>
          <a:xfrm>
            <a:off x="3391920" y="838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致远舰及管带邓世昌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AutoShape 6"/>
          <p:cNvSpPr/>
          <p:nvPr/>
        </p:nvSpPr>
        <p:spPr>
          <a:xfrm>
            <a:off x="8381880" y="6095880"/>
            <a:ext cx="363600" cy="306360"/>
          </a:xfrm>
          <a:prstGeom prst="rightArrow">
            <a:avLst>
              <a:gd name="adj1" fmla="val 50000"/>
              <a:gd name="adj2" fmla="val 2967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2T02:36:23Z</dcterms:created>
  <dc:creator>xzj</dc:creator>
  <dc:description/>
  <dc:language>en-US</dc:language>
  <cp:lastModifiedBy>a</cp:lastModifiedBy>
  <dcterms:modified xsi:type="dcterms:W3CDTF">2015-03-17T07:11:01Z</dcterms:modified>
  <cp:revision>72</cp:revision>
  <dc:subject/>
  <dc:title>没有幻灯片标题</dc:title>
</cp:coreProperties>
</file>