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chimes.wav" ContentType="audio/x-wav"/>
  <Override PartName="/ppt/media/image8.gif" ContentType="image/gif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D2CF-B80F-4C01-B94E-EC25932C8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5B8C-85F5-4A66-8FD5-92EDFFB8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82AEE1-D902-4FCA-9FB8-404CEEB8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5365A-9DAF-4E2E-843A-B1559568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20F86-A94E-46F2-AAE1-2449AF8F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098C0-D40E-44D6-B30D-7DADE540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9D69F-63B0-4790-89F2-0F66EF23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60F69-298C-4FE2-A1E3-B57D6493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72E1B2-350D-4308-805C-27E741B6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EBC20-AB82-4AE2-9591-E8E7E0997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07EF1-B9EE-4CCD-A9C1-1FFBF8A57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3E19DC-443C-4811-A6A3-7C577EF60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8615-4BBD-434A-9510-5862AB800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B83DC-B35E-4CC8-89DC-FD16B600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EB2A6C-E904-44BF-B66D-52F9DC93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28F22F-3584-4823-B8E7-6102C025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471D04-740B-4D4E-95E3-6B905036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8ED55-B5D8-4EA5-9B09-6AD5AB77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5CE32-C07D-468A-9469-144E549E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9A316-4BAA-4C9F-9472-D5EC0F0E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A8BE8-71D6-4921-95CA-F0D19FDB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33208-25D0-42DB-BDAB-FB7039BF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7B16A-3035-4098-8CF4-330FE521F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9D51-E731-4D5C-9A8F-9AC2B359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343CFE-F84F-4113-AF81-A5D21E8E8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87EF8-1100-4472-9486-6DBD3B514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409E1-6292-4CBF-8955-87AF7FC8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91E82-036F-4DDD-8D47-BC7C6EAC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8C030-DD25-4E51-A8B4-73881D74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2BD69-FA59-4C93-81DB-816E3FAE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2390F-24BC-4B90-BF31-DE6CEF0A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604646-AA92-4E9E-9198-2F4F957C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4C799-8F21-4745-8F11-D6160E40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E5816-9516-4231-9166-D968148A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3313-4D84-4F2A-8491-649D17820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3EE1E-92FB-4C7F-9665-C811EBF2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A9822-932D-4BF1-BCD3-EDE8274DB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A183E-EFBC-4571-A598-FACDD7FD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5869C2-8CD9-461A-9A62-A14A03FB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D56D29-F31B-4197-86A7-BD4E1481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75B0F5-B4A3-4870-A47C-F82A0BA0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6E7B5F-E56A-446B-A766-340F1622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385E0E-38E5-46C3-AE60-B068BFF1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55A304-07A2-4DF7-8F0F-DD6CC412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4FA361-9209-4908-A56D-03DEAA6D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3D82-0F29-4B0B-8853-F48415BE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4CBD58-A91B-4402-A02E-1BC7A82F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17406-654E-4743-95F5-109373A5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54F3DA-A0CB-45BD-B07E-6D68B765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72806C-6CE8-495C-BC0E-009F3F28F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519C96-4990-4747-B8CA-9F2DF2EB4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FA88A2-05FA-4EBF-B2F1-CF674BCB3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08B3CA-158A-4E0A-80C1-90A0570C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D1D0C5-24C0-4694-82AB-924BA06B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FCFB9F-39E8-4DF4-B5E8-2ECAF294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9853BC-4BDF-4D69-8D10-4FA52964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E928-3F26-4530-B3EB-B48C0C43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EA8B7D-BFFF-46B0-8931-4A10E2F8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FEB3D1-A19F-41FD-9A7C-EEB26A5A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8A6D7A-2186-4FE7-BCF6-441D540D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871F1D-21E2-4509-AF40-91264B77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0A4488-B732-4045-AE50-98E44950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1D208C-9A92-45F8-A3D4-5FC8B99D2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94CD10-B663-4070-B39B-632447AC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850E85-8E0A-471C-879F-39F9C50E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0C9345-D408-4DDB-BF62-14168CD0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275BE1-57DF-45BB-B524-F7AC9ED2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0194-0DEA-4FE6-A3F3-75826A28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3CC750-70F5-469F-A626-D9E4793A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DB30A5-B6F0-49A7-862A-8FC39240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9489F1-3BC5-4E62-BB83-CA432067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D96B0A-060B-45B1-B711-CD22A7C6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FE452E-F56F-4131-8005-3072FB8B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CD3999-6024-4448-BCF1-4B926020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5DD33A-4A5E-4F76-ACB4-B90B17A5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E2D72E-8A9E-4D4C-9189-B42C3D88A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6F23A7-5E18-426C-974C-7EA9F5CFB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2A5147-1B36-4174-8FF1-06DBB703C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7D62-C082-47EB-8F33-AC90BF77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D23179-5581-4724-A870-AC558E27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E835EF-442C-4013-A038-69E29DA9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6552D0-DFEE-4074-8844-2473DEF3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C03728-21A3-4083-B356-8D957E1D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1386BA-1651-4542-A0F0-3F1FCD3D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0940A5-A787-4510-BA4C-CEEE8224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FE4320-9CC0-43D0-8335-A62B2A9D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4CC174-3F27-4DA3-B50E-0AEBA50C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211B73-E809-48D9-97F6-E4948F17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7FE217-8C96-4A3F-B432-3E48F1212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70F9-B532-4086-A665-57AD2539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D2AA2A-F932-43EE-AC2C-C244AC0EF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A7D4-5D6F-42D1-871E-CACE8EE0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E063-F389-4C9E-B400-C643622E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713F-0DA9-467A-A8B3-5077D128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65C0-8BE0-4926-B2D9-B604FA1D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C796-579E-4B0C-B057-192AC7D0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D2F6-52A6-41F3-BE76-140CD2296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7426-20B6-449A-AEB4-3F66803C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6728C-06D7-4F18-BF0A-768F6B9C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A2517-7256-4D8E-AFA5-E253B3A9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B264B-421D-4131-9C98-1CC03445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2B49F-B450-4EBE-9A03-9AB6C562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2DBB8-2692-4971-A009-9C5B0CA3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EA7A-EF01-4ABA-92E4-900EC10E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FAB79-B569-40F9-BCB7-C9CE2F1B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742A7-E311-4EE2-98CD-26D066A2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888A2-E57A-4B34-BB82-B0B8E01E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412AE-DAD9-4F30-AE80-D8FECFF3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A7FA7-225E-44DE-8928-F6AAA441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4C757-BEBE-4E8B-9D07-9ACECAB48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D1B04-143C-44D0-86B3-75EC538F9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6E08A-E5FD-433B-BB39-B47CB605C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FB739-8460-4781-9DD3-21A2D0CF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CEC6D-1BEC-41FA-84D4-3E029821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36A4-971C-4F83-98D0-5D3FB6F9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7020D-1C96-4CF6-B952-2617FCF7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4F0AD-8805-453B-9CF1-E836C553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2103E-51D9-4DFF-BC98-B569DD0E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765DF-807B-42B4-B073-1C7E4AE2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D2E2D-E2E9-4EEF-86E5-42FFADAC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CF6BD-ADE3-408B-9DB6-DB8A5709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9F2E9-058B-43D9-B23A-9AF950D6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DB83D-8E35-428D-B9BD-49F457904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A0DB6-026D-4176-A2A2-407E7ED35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C72BF-C5E9-4DDB-81F5-31427DE3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9535-90D7-4975-8C0A-85D5F16B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FF1C0-753C-4D17-871D-11ABE680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7E35F-199F-4B08-9D93-96437145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6B89C-8DFA-4060-BE0C-87300B3F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58F5B-DB3B-40E3-928C-66B17655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59794-0303-4EFD-9F6C-2EA3E05A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2B9E6-3D65-481D-9EC0-D604B8D2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84803-EC37-4B36-A651-BA6CE212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110B6-FA8E-465E-8519-1AD47CCA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C82B6-3DD2-44E8-BD8C-AA3B5F0D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3A154-4505-413F-9F02-276E79B0D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C783-E11C-4A75-A922-87B45E34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C9F47-11B9-470B-9E0A-1654BE36B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B0936-99C8-4884-ACCB-760F173D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F2C75-117C-4A00-972A-421B74D0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53E07-4603-4E9C-AC82-4DB35677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5658B-0D36-4FCD-9A25-D3EF097A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CC6ED-313C-4973-9CF2-918C9E9B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AF96A-2BB1-432F-A6B3-408A401D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72A18-4538-4B77-8B3B-A61A8DC8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4FE58-5A78-4FC4-AE44-8C84EEFA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2F73A-0BBB-4833-BA32-B032B81D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A469-FA28-4464-A8E6-73CB7CA6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5C985-676F-4162-AD40-78142824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6E35E-7F97-4090-B378-06E2D2D2A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7DC46-8E63-4360-A91A-15288451A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984F7-C441-427D-95D2-ABB8B0F06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519DE-964F-45C2-9AB6-A4B9A004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0B262-75A5-4E11-A6E1-4DB0311B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324F8-6BCB-4859-949F-DD42D5E8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38DB3-52B6-493D-8FE1-DC38E676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EB691-D320-4555-B0A6-9CFA4C54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5BA2D-5B02-42E1-B61E-89FB9268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A705-F246-48A5-B8AE-310DF3BD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9D819-AB55-4E2C-92E4-AEA91D45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0FE79-B8AC-483F-9560-B1C4B487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1A399-4184-49A0-92B0-C93A6087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E0D82-5DF9-4B0F-A09E-4621F55FC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642C9-73E7-444B-8583-ABB505F79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261F4-C11D-4523-84BB-D8AB5722C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7D1D8-467F-4BD2-BC3F-39461915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259C7-5BBD-4B75-9589-B192D6AF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9278C-D8B6-46CC-92D4-00C304D0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12EA8-C27D-4708-B585-D70EE802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1A2C-30AC-48FA-A95D-2D261278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82DFB-F805-4D80-B5E1-47ED4A88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C97B2-1898-4FF0-8FE2-DD30F6B1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9B3BA-89DB-4A40-8695-34DF612C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DB4E1-FDC3-4B37-BFA0-842750C5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008DE-C782-473D-87A5-32C7933C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809E4-AF97-45B2-BC96-8D4B111F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D77A1-FC6D-45AE-BF9C-515E97E32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1539C-235F-48BB-8820-D7AA93C2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6A05B-ED7B-4C5A-AFA3-2D9DB76C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98B3C-B965-43A7-BD2C-BDE23D94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E2D2-64A6-4D9C-8A16-D5566BD17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F6D8-5784-4E11-B02E-A7F1197C14D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8F77-2E23-434D-9FD1-F43E91ADE0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FACF-D55F-4A3F-A441-4D977BAB04D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B8F0-FA42-41DB-98B3-6A3AEC9417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2D41-06ED-45FF-AC0D-92088B273F2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EC89-3588-4E27-B742-02E016C1B3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9456-E34F-448B-9A44-3BFCCD6BC68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7EE7-BF1B-4A4D-B541-ECDDAF6F5C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5EF6-B09D-46E6-8E97-3425F567A41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E50F-4A7B-42E0-B410-D8198D2327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DA33-C301-41E1-9F97-542B4BD2A57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4DFD-E158-48D5-AFB4-07FE6E93D1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42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65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4D80-904C-437C-A335-0B53BB7D8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3AE5-6C8D-4EA0-BBAA-0ED11CC4E06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39F7-A2FE-4C5B-A025-AD57777073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151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174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0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1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2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23BB-860D-4122-A34E-72C23CB03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6E5D-37FC-412C-A93A-293E280C62A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9EF8-DEF9-488E-8324-E37EDB40CB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A513-C33A-4070-8BA8-993FA047104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1A3D-9DCF-4717-BE1D-8F06D56B32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EE9A-5880-4551-ABC1-1996E5C9673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19EB-79FE-443A-9749-BD64CEBC60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4164-8A10-4BAD-A7E6-A0BA37D24AF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8EDD-B04A-491F-AE0E-F9C16DDFE6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A3B1-6433-4E50-9D50-FA4994AAA8C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4BEA-C32C-4B42-9D7B-F2E8D0A248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2"/>
          <p:cNvSpPr/>
          <p:nvPr/>
        </p:nvSpPr>
        <p:spPr>
          <a:xfrm>
            <a:off x="611280" y="1125360"/>
            <a:ext cx="61056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将心比心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ea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2" descr="20051118145001827"/>
          <p:cNvPicPr/>
          <p:nvPr/>
        </p:nvPicPr>
        <p:blipFill>
          <a:blip r:embed="rId1"/>
          <a:stretch/>
        </p:blipFill>
        <p:spPr>
          <a:xfrm>
            <a:off x="304920" y="177840"/>
            <a:ext cx="8458200" cy="645156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3"/>
          <p:cNvSpPr/>
          <p:nvPr/>
        </p:nvSpPr>
        <p:spPr>
          <a:xfrm>
            <a:off x="1371600" y="1447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台湾的作家罗兰曾经这样说：“如果每一个人在与别人相处的时候，都能先想到别人，后想到自己，多想到别人，少想到自己，那么世界上不但可以增加很多欢乐与和气，而且可以减少很多悲剧和烦恼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Tahoma"/>
              </a:rPr>
              <a:t>课外作业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257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以日记的形式写一段话，以生活中的一个事例来说明“将心比心”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80880" y="1295280"/>
            <a:ext cx="5943600" cy="1067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9157c"/>
                </a:solidFill>
                <a:latin typeface="Tahoma"/>
              </a:rPr>
              <a:t>将心比心</a:t>
            </a:r>
            <a:endParaRPr b="0" lang="en-US" sz="6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380520" y="34290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       </a:t>
            </a:r>
            <a:r>
              <a:rPr b="0" lang="zh-CN" sz="4000" spc="-1" strike="noStrike">
                <a:solidFill>
                  <a:srgbClr val="0000cc"/>
                </a:solidFill>
                <a:latin typeface="Tahoma"/>
              </a:rPr>
              <a:t>将心比心：</a:t>
            </a:r>
            <a:r>
              <a:rPr b="0" lang="en-US" sz="4000" spc="-1" strike="noStrike">
                <a:solidFill>
                  <a:srgbClr val="0000cc"/>
                </a:solidFill>
                <a:latin typeface="Tahoma"/>
              </a:rPr>
              <a:t>《</a:t>
            </a:r>
            <a:r>
              <a:rPr b="0" lang="zh-CN" sz="4000" spc="-1" strike="noStrike">
                <a:solidFill>
                  <a:srgbClr val="0000cc"/>
                </a:solidFill>
                <a:latin typeface="Tahoma"/>
              </a:rPr>
              <a:t>现代汉语词典</a:t>
            </a:r>
            <a:r>
              <a:rPr b="0" lang="en-US" sz="4000" spc="-1" strike="noStrike">
                <a:solidFill>
                  <a:srgbClr val="0000cc"/>
                </a:solidFill>
                <a:latin typeface="Tahoma"/>
              </a:rPr>
              <a:t>》</a:t>
            </a:r>
            <a:r>
              <a:rPr b="0" lang="zh-CN" sz="4000" spc="-1" strike="noStrike">
                <a:solidFill>
                  <a:srgbClr val="0000cc"/>
                </a:solidFill>
                <a:latin typeface="Tahoma"/>
              </a:rPr>
              <a:t>上解释为拿自己的心比照别人的心，指遇事设身处地为别人着想。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440" y="1980720"/>
            <a:ext cx="1219320" cy="273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Tahoma"/>
              </a:rPr>
              <a:t>自学提示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2362320" y="114264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Tahoma"/>
              </a:rPr>
              <a:t>自由朗读全文，同桌之间进行朗读检查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Tahoma"/>
              </a:rPr>
              <a:t>想一想，课文写了几件将心比心的事情？是哪几件？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400" y="1447920"/>
            <a:ext cx="7315200" cy="25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       </a:t>
            </a:r>
            <a:r>
              <a:rPr b="0" lang="zh-CN" sz="3600" spc="-1" strike="noStrike">
                <a:solidFill>
                  <a:srgbClr val="003300"/>
                </a:solidFill>
                <a:latin typeface="Tahoma"/>
              </a:rPr>
              <a:t>当奶奶向她道谢时，那位阿姨轻轻地说：“我的妈妈和您的年龄差不多，我希望她遇到这种时候，也有人为她开门。</a:t>
            </a:r>
            <a:r>
              <a:rPr b="0" lang="zh-CN" sz="3200" spc="-1" strike="noStrike">
                <a:solidFill>
                  <a:srgbClr val="003300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14400" y="1447920"/>
            <a:ext cx="7315200" cy="25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       </a:t>
            </a:r>
            <a:r>
              <a:rPr b="0" lang="zh-CN" sz="3600" spc="-1" strike="noStrike">
                <a:solidFill>
                  <a:srgbClr val="003300"/>
                </a:solidFill>
                <a:latin typeface="Tahoma"/>
              </a:rPr>
              <a:t>当奶奶向她道谢时，那位阿姨轻轻地说：“</a:t>
            </a:r>
            <a:r>
              <a:rPr b="0" lang="zh-CN" sz="3600" spc="-1" strike="noStrike">
                <a:solidFill>
                  <a:srgbClr val="0000cc"/>
                </a:solidFill>
                <a:latin typeface="Tahoma"/>
              </a:rPr>
              <a:t>我的妈妈和您的年龄差不多，我希望她遇到这种时候，也有人为她开门</a:t>
            </a:r>
            <a:r>
              <a:rPr b="0" lang="zh-CN" sz="3600" spc="-1" strike="noStrike">
                <a:solidFill>
                  <a:srgbClr val="0033cc"/>
                </a:solidFill>
                <a:latin typeface="Tahoma"/>
              </a:rPr>
              <a:t>。</a:t>
            </a:r>
            <a:r>
              <a:rPr b="0" lang="zh-CN" sz="3600" spc="-1" strike="noStrike">
                <a:solidFill>
                  <a:srgbClr val="003300"/>
                </a:solidFill>
                <a:latin typeface="Tahoma"/>
              </a:rPr>
              <a:t>”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 Box 2"/>
          <p:cNvSpPr/>
          <p:nvPr/>
        </p:nvSpPr>
        <p:spPr>
          <a:xfrm>
            <a:off x="838080" y="35053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0" lang="zh-CN" sz="3600" spc="-1" strike="noStrike">
                <a:solidFill>
                  <a:srgbClr val="545472"/>
                </a:solidFill>
                <a:latin typeface="Tahoma"/>
              </a:rPr>
              <a:t>母亲用另一只手拉着我，平静地对护士说：</a:t>
            </a:r>
            <a:r>
              <a:rPr b="0" lang="zh-CN" sz="3600" spc="-1" strike="noStrike">
                <a:solidFill>
                  <a:srgbClr val="545472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545472"/>
                </a:solidFill>
                <a:latin typeface="Tahoma"/>
              </a:rPr>
              <a:t>这是我的女儿，和你差不多大小，正在医科大学读书，她也将面对自己的第一个患者。我真希望她第一次扎针的时候，也能得到患者的宽容和鼓励。</a:t>
            </a:r>
            <a:r>
              <a:rPr b="0" lang="zh-CN" sz="3600" spc="-1" strike="noStrike">
                <a:solidFill>
                  <a:srgbClr val="545472"/>
                </a:solidFill>
                <a:latin typeface="Arial"/>
              </a:rPr>
              <a:t>”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2"/>
          <p:cNvSpPr/>
          <p:nvPr/>
        </p:nvSpPr>
        <p:spPr>
          <a:xfrm>
            <a:off x="838080" y="35053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0" lang="zh-CN" sz="3600" spc="-1" strike="noStrike">
                <a:solidFill>
                  <a:srgbClr val="545472"/>
                </a:solidFill>
                <a:latin typeface="Tahoma"/>
              </a:rPr>
              <a:t>母亲用另一只手拉着我，平静地对护士说：</a:t>
            </a:r>
            <a:r>
              <a:rPr b="0" lang="zh-CN" sz="3600" spc="-1" strike="noStrike">
                <a:solidFill>
                  <a:srgbClr val="545472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0000cc"/>
                </a:solidFill>
                <a:latin typeface="Tahoma"/>
              </a:rPr>
              <a:t>这是我的女儿，和你差不多大小，正在医科大学读书，她也将面对自己的第一个患者。我真希望她第一次扎针的时候，也能得到患者的宽容和鼓励</a:t>
            </a:r>
            <a:r>
              <a:rPr b="0" lang="zh-CN" sz="3600" spc="-1" strike="noStrike">
                <a:solidFill>
                  <a:srgbClr val="545472"/>
                </a:solidFill>
                <a:latin typeface="Tahoma"/>
              </a:rPr>
              <a:t>。</a:t>
            </a:r>
            <a:r>
              <a:rPr b="0" lang="zh-CN" sz="3600" spc="-1" strike="noStrike">
                <a:solidFill>
                  <a:srgbClr val="545472"/>
                </a:solidFill>
                <a:latin typeface="Arial"/>
              </a:rPr>
              <a:t>”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80520" y="3962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     </a:t>
            </a:r>
            <a:r>
              <a:rPr b="0" lang="zh-CN" sz="4400" spc="-1" strike="noStrike">
                <a:solidFill>
                  <a:srgbClr val="0000cc"/>
                </a:solidFill>
                <a:latin typeface="Tahoma"/>
              </a:rPr>
              <a:t>是啊，如果我们在生活中能将心比心，就会对老人生出一份尊重，对孩子增加一份关爱，就会使人与人之间多一些宽容和理解。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/>
          </p:nvPr>
        </p:nvSpPr>
        <p:spPr>
          <a:xfrm>
            <a:off x="2742840" y="16002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ahoma"/>
              </a:rPr>
              <a:t>在公共汽车上，一位红领巾给一个老大爷让座。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</a:rPr>
              <a:t>教室里，一位同学不小心把钢笔墨甩到了别人身上。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82" name="Text Box 3"/>
          <p:cNvSpPr/>
          <p:nvPr/>
        </p:nvSpPr>
        <p:spPr>
          <a:xfrm>
            <a:off x="533520" y="1828800"/>
            <a:ext cx="1676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zh-CN" sz="2800" spc="-1" strike="noStrike">
                <a:solidFill>
                  <a:srgbClr val="0000cc"/>
                </a:solidFill>
                <a:latin typeface="Tahoma"/>
              </a:rPr>
              <a:t>展开想象，模仿课文中的语言描写，写几句人物的对话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13:33:02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7T07:11:34Z</dcterms:modified>
  <cp:revision>4</cp:revision>
  <dc:subject>第一PPT模板网-WWW.1PPT.COM</dc:subject>
  <dc:title>第一PPT模板网-WWW.1PPT.COM</dc:title>
</cp:coreProperties>
</file>