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A215-31B5-4F6D-A762-C15570DF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E66D-9526-49CF-A2F0-087A3246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D606A-043C-480A-9073-67BA0E7F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34E07-3730-478A-A104-8F0B7A8A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1547F-EE61-400B-BAE6-1EE79C1A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4391D-21B2-4BC7-ADDD-EECF979C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0601A-D7CF-47A7-8ED1-CF3E1808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0814B-4DE4-4B52-BF1D-B62087A8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05A7D-4D10-4AD5-86D4-B24BDC71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77EDA-2DF1-4E73-9A2D-F1EF0A70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C8561-0083-4C89-AEAD-1FFC0537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DA8E6-44B4-49CC-8D10-76BE7410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CEC6-69CF-4C62-BA8C-977388AC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4042B-A094-4022-8AED-061E34F6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1EB54-EBAC-4C42-9E33-4D33E749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4C125-E863-4DE8-82AD-E4533405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08CDF-F6E7-4AF5-86CD-86861E58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E4103-2879-4146-803B-3E31A741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338FD-D046-429E-AD14-75500C61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E0E57-7E7E-4F01-BC3F-F10C6B61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C3393-7B32-4548-8CEB-7EA5F826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B8811-1332-43A3-AC2F-08CFDC5F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D7DE8-FDA1-4D81-94A7-C570AE4A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E34A-FE16-436C-95BC-7525C2599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6A721-E677-4A9E-A241-ABF3148F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4D2CF-D087-4389-8B9F-C03AD794B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63147-DAFE-43C6-AB92-914B4D2D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06F6E-BC33-4D7F-B1B7-403B6771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6E15E-3D4E-434C-AB0E-61D3C176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51FD5-6A87-4A9E-BCF3-50FAA606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5B5FE-990C-433C-A4FA-B15ED867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430C5-A890-43DB-9A46-3C331068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C1E1F-10DB-4388-B49D-6742DD14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0E37E-7215-40C0-8C7B-D60B5285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476B-0C3C-4A60-9F8C-14198D9D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68E60-A8ED-4E53-BA1E-CA7C1DFB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279CD-2B57-4C46-B259-20A68645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1EA70-749D-42F0-9C06-7CA2506B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54E2E-33BC-4915-B961-2BB61E47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D91CA-F338-4901-8901-0793FCAB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6A739-5338-4EDB-879C-A337E653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F70B50-B767-4083-B43E-28CE49D0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A0114-32A9-4B3B-9013-72074FD3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BE0FD-F4E7-4F11-A4F7-EED7F61D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D55E82-1EA3-4C46-B947-BDB56535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C451-233A-4C81-88F9-2E28FF67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4F0C0-9E8B-4092-8F98-CE63BEBC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F10E2-E19F-4F2B-8D7D-E9D0F273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5871B9-5346-42B3-9D51-9FDE963B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58B32-6593-402E-BB20-995290DA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C410C-1A62-4FB3-A3C0-CE30789C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7EBFF4-9069-4384-B01E-7BCE734E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941897-6A0A-49CA-9964-06673CA7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8DE302-59E8-40D9-B8FD-D34C3CBD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FBBF24-552D-4E8B-9E78-5AD88168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B4E7E4-073E-4791-B502-A4D03FD0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1B03-604B-45FC-BE33-1865507A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42EE8A-32F2-46F2-8793-0882317A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D2FC4C-9669-4DF5-9517-B75BD6F1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A5B778-9C50-4425-9CAC-76B1B7C1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6BB70A-7232-4767-A4ED-85E94216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E07552-856C-4D58-8276-44FAE260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5292E8-BA0E-4F73-B8A1-7E512207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2577D0-BBBF-463E-A5E4-3D5703BF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9AD4-11B3-4474-8E1E-EA872A48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BD02-B689-486D-9090-9C9AE6B5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3E30-8516-4BFB-BAED-B38A2ACA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F132-4899-4EAE-87C6-F3F157A7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1E7-7246-4765-A591-96EA445A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8081-496A-4614-A87E-6DF4C519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4D9F-B802-4328-A264-C245FEFF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ABAB-74B6-4217-89B7-E70E6809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C72D-7F18-496C-8A2D-1FD6B531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FBA7-DD4A-43F5-B924-0C94C99E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E16C5-A877-4FF0-B56B-43A4F3A19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358D1-A3BD-42A9-A7A6-E20745DD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4E2D8-FE60-4F38-BB20-4C5F96FF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593E9-0A35-42A9-95C9-0ADF0B47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BBCC1-BDA2-4E38-8F24-5320A48F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8B4B-13AA-44F9-B3B2-8EB50D26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84BDE-E87A-46A9-83BB-132462E6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49BD4-FE74-4695-BF6A-6909F2A2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39EE5-6808-4921-8334-C0BA7704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71707-937A-445F-AD88-9254B0D3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8C35A-1482-4911-8E89-DE79DAC1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5E4DD-FF19-4F50-8D87-6F847B8B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DDF26-41F5-4D2C-840A-74CDDDDB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DDFE7-DED7-40F6-AFA7-737FD73C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D36A5-13E9-49E2-9DDE-2C4CCEFD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3A929-E9F2-44E4-A964-EE9B8AB7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478C-9F07-4987-BD0B-55C0FB38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C9D9B-0125-446B-9D09-E3006E28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8667E-8529-4F55-A8DE-A87BA73A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DF248-C678-4CB0-9B33-9CB435E7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BCA14-5FAE-4185-8E0D-C13CBE40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1B4DD-1097-4112-859A-2192F777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49B1B-0BD0-4075-BB07-DF336992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E048C-DD40-42E3-989A-1A0FB2DE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3C9C4-E70B-47B8-B22A-3349CAC7F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89449-7104-4AF4-8AF9-829AA231C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09C03-34C9-43E8-A02D-6CAF4F04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6E38-788A-4C92-9B70-E6EEEF2C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9E272-ED52-42A3-B853-6C924A0F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3ECE3-34AE-4660-813B-CD66C1BF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3BDCB-B6F7-4FD7-A64F-1A1CBFB5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32CAA-3D04-43EB-9927-23C8A6A0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C2E98-02AF-46E0-A143-332F186B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7050A-3396-4707-9357-B8C2D790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4B818-706C-40F1-B2B9-2D1DB400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6EB4B-DA64-480D-A923-40A018E8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45810-CF75-4FD1-972C-F6E6B28F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68771-6945-4A5D-AEDA-DB6A48DA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61E0-6CEF-4E2A-BAB5-F8203870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0D1E0-D96C-4E0E-A63C-F7486172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43CE2-A708-446A-AE3C-EF7D3ED9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19176-DC7C-4E95-BDBC-FBE4D3C2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EE567-A1B1-40C6-B5B9-F1482E92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B9F77-3F7C-43A5-8D6C-EA4DE3C2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E18D2-7145-4A70-88DA-A5F74EBE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655A8-3ACA-4DD4-B926-F49A0581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069F0-037C-4335-9DD3-779B2B24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C5E60-0562-4146-AD6F-815075DB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D2387-6FD0-4652-A54E-8262EF7B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EF14-2B0E-4BC8-958E-674E8EBA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012CE-EA25-40FB-B543-9E4B30AA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05424-99D4-4207-8089-4A2621C9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AD0C0-E80B-48E2-98F7-BF41D8A9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8BFE2-F8C8-46AD-A81C-DAB9EDAC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4EC88-92C9-4E62-B632-E6AC2D21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DB518-F44F-4E78-B9B0-34AD34FB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5E2D9-1F1F-455B-B521-D2B006EA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73D65-EF61-453F-9597-DF2FE294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9AD4B-EBD6-4246-BE58-26423CA4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6C7A1-C023-4A0A-B778-C4FAF213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6969-F870-44BB-943D-4328C742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1D1D9-A15C-48E3-B88C-C64A6DE7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9B34C-A1BD-444C-8F13-7B76654F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2125D-F4D9-48C1-8CB1-7DEFA340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97D5D-6580-4A4E-9F67-397B6169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23F70-2884-4632-B572-F9EB2ABB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83E5B-D4CC-4596-A291-23AF5EC5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F808A-A85A-4F26-A14F-E5A96168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A47B2-865E-4187-90E2-A4B314D5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7BFE0-A65C-47B3-A321-DF977A1E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D305A-6D1D-4409-BBE9-8BCD61C5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362D-0F3A-445A-8E08-F0D7B7EB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857F2-DF75-4563-AA46-CA65161F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EA43A-2ACA-46EA-8F39-8F8F91E3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2F438-0228-4CE1-855B-40F6649C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4D184-79AA-407A-A1BB-C260DA9F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2A4BA-5D62-4EA9-A0AB-B8A50E6B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EAAEA-0BED-4CBD-B816-8AE1F5C3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DF5BA-9E7B-410E-B135-36AECF97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4AFCC-3CEA-4F7E-B0A6-0816FD93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24440-7EBA-4B26-B538-F0EB5AE1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AF081-74BA-4AC6-94C5-70FD6B89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9EA7-FA5B-4F2E-A2C4-3958368656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758E-F51E-4600-B41E-05CD5BF3F95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E146-E0E9-417C-B435-7775E2738B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718C-688F-464E-9ADE-326588B9C7B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18A5-2F08-472D-AFA8-EA6FF6363A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6D3C-9841-469D-8FE8-471EAAEB49B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85F0-502E-4386-AE03-306588048A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C1DB-56B9-4868-9080-D5BFC0DEECA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4FEC-2CBA-4B5F-8468-8E14598218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43E2-254B-4B0C-A029-AECC49ED1DA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01C2-5B76-45FF-AF34-24E39B75F9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43E7-7487-481B-8B22-CC52630AAE8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3F35-5A44-43C4-ADB8-19A3CDAF2C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3B09-1328-451F-95DC-29E30042A91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EBC3-0871-4192-AAA1-38C0DFA4F8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5DBC-3E09-4B62-B667-CE2346EDDEF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BA7F-1DFE-4FAB-A8A2-C5F6B809AA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78C2-4C61-4DF4-B285-E9C46583952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4FEB-C531-4E15-BF4B-BB40FBF088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E2BB-913A-4D99-B385-47C809E5D6C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673F-05D3-4600-ACB7-37126F6ADC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6B3F-39A0-41D1-A65A-3B613D4BD92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C454-7C1B-48A6-99DD-F74C0D91D0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E557-A917-4A2C-8A1D-6A0EF3FC20B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2032-3012-4AFF-8D0C-DAD55C2D58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6"/>
          <p:cNvSpPr/>
          <p:nvPr/>
        </p:nvSpPr>
        <p:spPr>
          <a:xfrm>
            <a:off x="2714760" y="4000680"/>
            <a:ext cx="48574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2"/>
          <p:cNvSpPr/>
          <p:nvPr/>
        </p:nvSpPr>
        <p:spPr>
          <a:xfrm>
            <a:off x="5286240" y="712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直接连接符 6"/>
          <p:cNvSpPr/>
          <p:nvPr/>
        </p:nvSpPr>
        <p:spPr>
          <a:xfrm>
            <a:off x="2786040" y="450072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图片 10" descr="1.png"/>
          <p:cNvPicPr/>
          <p:nvPr/>
        </p:nvPicPr>
        <p:blipFill>
          <a:blip r:embed="rId2"/>
          <a:stretch/>
        </p:blipFill>
        <p:spPr>
          <a:xfrm>
            <a:off x="2000160" y="1147680"/>
            <a:ext cx="2743200" cy="2819520"/>
          </a:xfrm>
          <a:prstGeom prst="rect">
            <a:avLst/>
          </a:prstGeom>
          <a:ln w="0">
            <a:noFill/>
          </a:ln>
        </p:spPr>
      </p:pic>
      <p:pic>
        <p:nvPicPr>
          <p:cNvPr id="636" name="图片 11" descr="2.png"/>
          <p:cNvPicPr/>
          <p:nvPr/>
        </p:nvPicPr>
        <p:blipFill>
          <a:blip r:embed="rId3"/>
          <a:stretch/>
        </p:blipFill>
        <p:spPr>
          <a:xfrm>
            <a:off x="4500720" y="1147680"/>
            <a:ext cx="2374920" cy="2819520"/>
          </a:xfrm>
          <a:prstGeom prst="rect">
            <a:avLst/>
          </a:prstGeom>
          <a:ln w="0">
            <a:noFill/>
          </a:ln>
        </p:spPr>
      </p:pic>
      <p:pic>
        <p:nvPicPr>
          <p:cNvPr id="637" name="图片 12" descr="1.png"/>
          <p:cNvPicPr/>
          <p:nvPr/>
        </p:nvPicPr>
        <p:blipFill>
          <a:blip r:embed="rId4"/>
          <a:stretch/>
        </p:blipFill>
        <p:spPr>
          <a:xfrm>
            <a:off x="4375080" y="3610080"/>
            <a:ext cx="2743200" cy="2819160"/>
          </a:xfrm>
          <a:prstGeom prst="rect">
            <a:avLst/>
          </a:prstGeom>
          <a:ln w="0">
            <a:noFill/>
          </a:ln>
        </p:spPr>
      </p:pic>
      <p:pic>
        <p:nvPicPr>
          <p:cNvPr id="638" name="图片 13" descr="2.png"/>
          <p:cNvPicPr/>
          <p:nvPr/>
        </p:nvPicPr>
        <p:blipFill>
          <a:blip r:embed="rId5"/>
          <a:stretch/>
        </p:blipFill>
        <p:spPr>
          <a:xfrm>
            <a:off x="2286000" y="3610080"/>
            <a:ext cx="2374920" cy="2819160"/>
          </a:xfrm>
          <a:prstGeom prst="rect">
            <a:avLst/>
          </a:prstGeom>
          <a:ln w="0">
            <a:noFill/>
          </a:ln>
        </p:spPr>
      </p:pic>
      <p:sp>
        <p:nvSpPr>
          <p:cNvPr id="63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12"/>
          <p:cNvSpPr/>
          <p:nvPr/>
        </p:nvSpPr>
        <p:spPr>
          <a:xfrm>
            <a:off x="292608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15"/>
          <p:cNvSpPr/>
          <p:nvPr/>
        </p:nvSpPr>
        <p:spPr>
          <a:xfrm>
            <a:off x="54266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21"/>
          <p:cNvSpPr/>
          <p:nvPr/>
        </p:nvSpPr>
        <p:spPr>
          <a:xfrm>
            <a:off x="521208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矩形 25"/>
          <p:cNvSpPr/>
          <p:nvPr/>
        </p:nvSpPr>
        <p:spPr>
          <a:xfrm>
            <a:off x="28548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4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33" descr="1.png"/>
          <p:cNvPicPr/>
          <p:nvPr/>
        </p:nvPicPr>
        <p:blipFill>
          <a:blip r:embed="rId2"/>
          <a:stretch/>
        </p:blipFill>
        <p:spPr>
          <a:xfrm>
            <a:off x="2773440" y="1512720"/>
            <a:ext cx="1360440" cy="125424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34" descr="2.png"/>
          <p:cNvPicPr/>
          <p:nvPr/>
        </p:nvPicPr>
        <p:blipFill>
          <a:blip r:embed="rId3"/>
          <a:stretch/>
        </p:blipFill>
        <p:spPr>
          <a:xfrm>
            <a:off x="4143240" y="1674720"/>
            <a:ext cx="2438640" cy="98928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36" descr="3.png"/>
          <p:cNvPicPr/>
          <p:nvPr/>
        </p:nvPicPr>
        <p:blipFill>
          <a:blip r:embed="rId4"/>
          <a:stretch/>
        </p:blipFill>
        <p:spPr>
          <a:xfrm>
            <a:off x="2879640" y="2575080"/>
            <a:ext cx="1182600" cy="145728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37" descr="2.png"/>
          <p:cNvPicPr/>
          <p:nvPr/>
        </p:nvPicPr>
        <p:blipFill>
          <a:blip r:embed="rId5"/>
          <a:stretch/>
        </p:blipFill>
        <p:spPr>
          <a:xfrm>
            <a:off x="4133880" y="2746440"/>
            <a:ext cx="2438280" cy="98892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38" descr="1.png"/>
          <p:cNvPicPr/>
          <p:nvPr/>
        </p:nvPicPr>
        <p:blipFill>
          <a:blip r:embed="rId6"/>
          <a:stretch/>
        </p:blipFill>
        <p:spPr>
          <a:xfrm>
            <a:off x="2773440" y="3746520"/>
            <a:ext cx="1360440" cy="125424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39" descr="2.png"/>
          <p:cNvPicPr/>
          <p:nvPr/>
        </p:nvPicPr>
        <p:blipFill>
          <a:blip r:embed="rId7"/>
          <a:stretch/>
        </p:blipFill>
        <p:spPr>
          <a:xfrm>
            <a:off x="4143240" y="3960720"/>
            <a:ext cx="2438640" cy="989280"/>
          </a:xfrm>
          <a:prstGeom prst="rect">
            <a:avLst/>
          </a:prstGeom>
          <a:ln w="0">
            <a:noFill/>
          </a:ln>
        </p:spPr>
      </p:pic>
      <p:sp>
        <p:nvSpPr>
          <p:cNvPr id="54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2"/>
          <p:cNvSpPr/>
          <p:nvPr/>
        </p:nvSpPr>
        <p:spPr>
          <a:xfrm>
            <a:off x="4000680" y="40464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21"/>
          <p:cNvSpPr/>
          <p:nvPr/>
        </p:nvSpPr>
        <p:spPr>
          <a:xfrm flipH="1">
            <a:off x="4357080" y="42148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22"/>
          <p:cNvSpPr/>
          <p:nvPr/>
        </p:nvSpPr>
        <p:spPr>
          <a:xfrm>
            <a:off x="4429080" y="192888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21"/>
          <p:cNvSpPr/>
          <p:nvPr/>
        </p:nvSpPr>
        <p:spPr>
          <a:xfrm flipH="1">
            <a:off x="4500720" y="292896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图片 26" descr="1.png"/>
          <p:cNvPicPr/>
          <p:nvPr/>
        </p:nvPicPr>
        <p:blipFill>
          <a:blip r:embed="rId2"/>
          <a:stretch/>
        </p:blipFill>
        <p:spPr>
          <a:xfrm>
            <a:off x="4635360" y="2260440"/>
            <a:ext cx="2079720" cy="231156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27" descr="2.png"/>
          <p:cNvPicPr/>
          <p:nvPr/>
        </p:nvPicPr>
        <p:blipFill>
          <a:blip r:embed="rId3"/>
          <a:stretch/>
        </p:blipFill>
        <p:spPr>
          <a:xfrm>
            <a:off x="3643200" y="142884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28" descr="1.png"/>
          <p:cNvPicPr/>
          <p:nvPr/>
        </p:nvPicPr>
        <p:blipFill>
          <a:blip r:embed="rId4"/>
          <a:stretch/>
        </p:blipFill>
        <p:spPr>
          <a:xfrm>
            <a:off x="2571840" y="2371680"/>
            <a:ext cx="2079360" cy="231156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29" descr="2.png"/>
          <p:cNvPicPr/>
          <p:nvPr/>
        </p:nvPicPr>
        <p:blipFill>
          <a:blip r:embed="rId5"/>
          <a:stretch/>
        </p:blipFill>
        <p:spPr>
          <a:xfrm>
            <a:off x="3556080" y="341316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55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12"/>
          <p:cNvSpPr/>
          <p:nvPr/>
        </p:nvSpPr>
        <p:spPr>
          <a:xfrm>
            <a:off x="2568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15"/>
          <p:cNvSpPr/>
          <p:nvPr/>
        </p:nvSpPr>
        <p:spPr>
          <a:xfrm>
            <a:off x="55695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21"/>
          <p:cNvSpPr/>
          <p:nvPr/>
        </p:nvSpPr>
        <p:spPr>
          <a:xfrm>
            <a:off x="42836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25"/>
          <p:cNvSpPr/>
          <p:nvPr/>
        </p:nvSpPr>
        <p:spPr>
          <a:xfrm>
            <a:off x="40690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图片 10" descr="1.png"/>
          <p:cNvPicPr/>
          <p:nvPr/>
        </p:nvPicPr>
        <p:blipFill>
          <a:blip r:embed="rId2"/>
          <a:stretch/>
        </p:blipFill>
        <p:spPr>
          <a:xfrm>
            <a:off x="3603600" y="3763800"/>
            <a:ext cx="2090880" cy="259416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11" descr="2.png"/>
          <p:cNvPicPr/>
          <p:nvPr/>
        </p:nvPicPr>
        <p:blipFill>
          <a:blip r:embed="rId3"/>
          <a:stretch/>
        </p:blipFill>
        <p:spPr>
          <a:xfrm>
            <a:off x="2071800" y="2708280"/>
            <a:ext cx="2336760" cy="191304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12" descr="3.png"/>
          <p:cNvPicPr/>
          <p:nvPr/>
        </p:nvPicPr>
        <p:blipFill>
          <a:blip r:embed="rId4"/>
          <a:stretch/>
        </p:blipFill>
        <p:spPr>
          <a:xfrm>
            <a:off x="3746520" y="1270080"/>
            <a:ext cx="1795320" cy="220824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13" descr="4.png"/>
          <p:cNvPicPr/>
          <p:nvPr/>
        </p:nvPicPr>
        <p:blipFill>
          <a:blip r:embed="rId5"/>
          <a:stretch/>
        </p:blipFill>
        <p:spPr>
          <a:xfrm>
            <a:off x="4960800" y="2573280"/>
            <a:ext cx="2376720" cy="2071800"/>
          </a:xfrm>
          <a:prstGeom prst="rect">
            <a:avLst/>
          </a:prstGeom>
          <a:ln w="0">
            <a:noFill/>
          </a:ln>
        </p:spPr>
      </p:pic>
      <p:sp>
        <p:nvSpPr>
          <p:cNvPr id="56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12"/>
          <p:cNvSpPr/>
          <p:nvPr/>
        </p:nvSpPr>
        <p:spPr>
          <a:xfrm>
            <a:off x="41407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15"/>
          <p:cNvSpPr/>
          <p:nvPr/>
        </p:nvSpPr>
        <p:spPr>
          <a:xfrm>
            <a:off x="59266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21"/>
          <p:cNvSpPr/>
          <p:nvPr/>
        </p:nvSpPr>
        <p:spPr>
          <a:xfrm>
            <a:off x="42120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25"/>
          <p:cNvSpPr/>
          <p:nvPr/>
        </p:nvSpPr>
        <p:spPr>
          <a:xfrm>
            <a:off x="23547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图片 10" descr="1.png"/>
          <p:cNvPicPr/>
          <p:nvPr/>
        </p:nvPicPr>
        <p:blipFill>
          <a:blip r:embed="rId2"/>
          <a:stretch/>
        </p:blipFill>
        <p:spPr>
          <a:xfrm>
            <a:off x="1857240" y="2714760"/>
            <a:ext cx="6755040" cy="2095200"/>
          </a:xfrm>
          <a:prstGeom prst="rect">
            <a:avLst/>
          </a:prstGeom>
          <a:ln w="0">
            <a:noFill/>
          </a:ln>
        </p:spPr>
      </p:pic>
      <p:pic>
        <p:nvPicPr>
          <p:cNvPr id="577" name="图片 11" descr="2.png"/>
          <p:cNvPicPr/>
          <p:nvPr/>
        </p:nvPicPr>
        <p:blipFill>
          <a:blip r:embed="rId3"/>
          <a:stretch/>
        </p:blipFill>
        <p:spPr>
          <a:xfrm>
            <a:off x="1357200" y="3897360"/>
            <a:ext cx="6247080" cy="2031840"/>
          </a:xfrm>
          <a:prstGeom prst="rect">
            <a:avLst/>
          </a:prstGeom>
          <a:ln w="0">
            <a:noFill/>
          </a:ln>
        </p:spPr>
      </p:pic>
      <p:pic>
        <p:nvPicPr>
          <p:cNvPr id="578" name="图片 12" descr="2.png"/>
          <p:cNvPicPr/>
          <p:nvPr/>
        </p:nvPicPr>
        <p:blipFill>
          <a:blip r:embed="rId4"/>
          <a:stretch/>
        </p:blipFill>
        <p:spPr>
          <a:xfrm>
            <a:off x="1357200" y="1611360"/>
            <a:ext cx="6247080" cy="2031840"/>
          </a:xfrm>
          <a:prstGeom prst="rect">
            <a:avLst/>
          </a:prstGeom>
          <a:ln w="0">
            <a:noFill/>
          </a:ln>
        </p:spPr>
      </p:pic>
      <p:sp>
        <p:nvSpPr>
          <p:cNvPr id="57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15"/>
          <p:cNvSpPr/>
          <p:nvPr/>
        </p:nvSpPr>
        <p:spPr>
          <a:xfrm>
            <a:off x="51408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21"/>
          <p:cNvSpPr/>
          <p:nvPr/>
        </p:nvSpPr>
        <p:spPr>
          <a:xfrm>
            <a:off x="32119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25"/>
          <p:cNvSpPr/>
          <p:nvPr/>
        </p:nvSpPr>
        <p:spPr>
          <a:xfrm>
            <a:off x="35690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图片 10" descr="1.png"/>
          <p:cNvPicPr/>
          <p:nvPr/>
        </p:nvPicPr>
        <p:blipFill>
          <a:blip r:embed="rId2"/>
          <a:stretch/>
        </p:blipFill>
        <p:spPr>
          <a:xfrm>
            <a:off x="2286000" y="1000080"/>
            <a:ext cx="5129280" cy="5005440"/>
          </a:xfrm>
          <a:prstGeom prst="rect">
            <a:avLst/>
          </a:prstGeom>
          <a:ln w="0">
            <a:noFill/>
          </a:ln>
        </p:spPr>
      </p:pic>
      <p:pic>
        <p:nvPicPr>
          <p:cNvPr id="588" name="图片 11" descr="2.png"/>
          <p:cNvPicPr/>
          <p:nvPr/>
        </p:nvPicPr>
        <p:blipFill>
          <a:blip r:embed="rId3"/>
          <a:stretch/>
        </p:blipFill>
        <p:spPr>
          <a:xfrm>
            <a:off x="3929040" y="2571840"/>
            <a:ext cx="1879560" cy="1676160"/>
          </a:xfrm>
          <a:prstGeom prst="rect">
            <a:avLst/>
          </a:prstGeom>
          <a:ln w="0">
            <a:noFill/>
          </a:ln>
        </p:spPr>
      </p:pic>
      <p:sp>
        <p:nvSpPr>
          <p:cNvPr id="58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12"/>
          <p:cNvSpPr/>
          <p:nvPr/>
        </p:nvSpPr>
        <p:spPr>
          <a:xfrm>
            <a:off x="44265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15"/>
          <p:cNvSpPr/>
          <p:nvPr/>
        </p:nvSpPr>
        <p:spPr>
          <a:xfrm>
            <a:off x="54979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21"/>
          <p:cNvSpPr/>
          <p:nvPr/>
        </p:nvSpPr>
        <p:spPr>
          <a:xfrm>
            <a:off x="556956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25"/>
          <p:cNvSpPr/>
          <p:nvPr/>
        </p:nvSpPr>
        <p:spPr>
          <a:xfrm>
            <a:off x="256896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图片 10" descr="1.png"/>
          <p:cNvPicPr/>
          <p:nvPr/>
        </p:nvPicPr>
        <p:blipFill>
          <a:blip r:embed="rId2"/>
          <a:stretch/>
        </p:blipFill>
        <p:spPr>
          <a:xfrm>
            <a:off x="4545000" y="2282760"/>
            <a:ext cx="2455920" cy="314640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11" descr="2.png"/>
          <p:cNvPicPr/>
          <p:nvPr/>
        </p:nvPicPr>
        <p:blipFill>
          <a:blip r:embed="rId3"/>
          <a:stretch/>
        </p:blipFill>
        <p:spPr>
          <a:xfrm>
            <a:off x="2844720" y="3500280"/>
            <a:ext cx="2766960" cy="247824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12" descr="1.png"/>
          <p:cNvPicPr/>
          <p:nvPr/>
        </p:nvPicPr>
        <p:blipFill>
          <a:blip r:embed="rId4"/>
          <a:stretch/>
        </p:blipFill>
        <p:spPr>
          <a:xfrm>
            <a:off x="2300400" y="1568520"/>
            <a:ext cx="2454120" cy="3146400"/>
          </a:xfrm>
          <a:prstGeom prst="rect">
            <a:avLst/>
          </a:prstGeom>
          <a:ln w="0">
            <a:noFill/>
          </a:ln>
        </p:spPr>
      </p:pic>
      <p:pic>
        <p:nvPicPr>
          <p:cNvPr id="601" name="图片 13" descr="2.png"/>
          <p:cNvPicPr/>
          <p:nvPr/>
        </p:nvPicPr>
        <p:blipFill>
          <a:blip r:embed="rId5"/>
          <a:stretch/>
        </p:blipFill>
        <p:spPr>
          <a:xfrm>
            <a:off x="3683160" y="1071720"/>
            <a:ext cx="2766960" cy="2477880"/>
          </a:xfrm>
          <a:prstGeom prst="rect">
            <a:avLst/>
          </a:prstGeom>
          <a:ln w="0">
            <a:noFill/>
          </a:ln>
        </p:spPr>
      </p:pic>
      <p:sp>
        <p:nvSpPr>
          <p:cNvPr id="60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12"/>
          <p:cNvSpPr/>
          <p:nvPr/>
        </p:nvSpPr>
        <p:spPr>
          <a:xfrm>
            <a:off x="34261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15"/>
          <p:cNvSpPr/>
          <p:nvPr/>
        </p:nvSpPr>
        <p:spPr>
          <a:xfrm>
            <a:off x="50695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21"/>
          <p:cNvSpPr/>
          <p:nvPr/>
        </p:nvSpPr>
        <p:spPr>
          <a:xfrm>
            <a:off x="56408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25"/>
          <p:cNvSpPr/>
          <p:nvPr/>
        </p:nvSpPr>
        <p:spPr>
          <a:xfrm>
            <a:off x="25689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图片 10" descr="1.png"/>
          <p:cNvPicPr/>
          <p:nvPr/>
        </p:nvPicPr>
        <p:blipFill>
          <a:blip r:embed="rId2"/>
          <a:stretch/>
        </p:blipFill>
        <p:spPr>
          <a:xfrm>
            <a:off x="3081240" y="1357200"/>
            <a:ext cx="2990880" cy="4419720"/>
          </a:xfrm>
          <a:prstGeom prst="rect">
            <a:avLst/>
          </a:prstGeom>
          <a:ln w="0">
            <a:noFill/>
          </a:ln>
        </p:spPr>
      </p:pic>
      <p:pic>
        <p:nvPicPr>
          <p:cNvPr id="612" name="图片 11" descr="2.png"/>
          <p:cNvPicPr/>
          <p:nvPr/>
        </p:nvPicPr>
        <p:blipFill>
          <a:blip r:embed="rId3"/>
          <a:stretch/>
        </p:blipFill>
        <p:spPr>
          <a:xfrm>
            <a:off x="2394000" y="1935000"/>
            <a:ext cx="4464000" cy="3137040"/>
          </a:xfrm>
          <a:prstGeom prst="rect">
            <a:avLst/>
          </a:prstGeom>
          <a:ln w="0">
            <a:noFill/>
          </a:ln>
        </p:spPr>
      </p:pic>
      <p:sp>
        <p:nvSpPr>
          <p:cNvPr id="61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12"/>
          <p:cNvSpPr/>
          <p:nvPr/>
        </p:nvSpPr>
        <p:spPr>
          <a:xfrm>
            <a:off x="22831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15"/>
          <p:cNvSpPr/>
          <p:nvPr/>
        </p:nvSpPr>
        <p:spPr>
          <a:xfrm>
            <a:off x="421380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21"/>
          <p:cNvSpPr/>
          <p:nvPr/>
        </p:nvSpPr>
        <p:spPr>
          <a:xfrm>
            <a:off x="428364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25"/>
          <p:cNvSpPr/>
          <p:nvPr/>
        </p:nvSpPr>
        <p:spPr>
          <a:xfrm>
            <a:off x="59266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图片 10" descr="1.png"/>
          <p:cNvPicPr/>
          <p:nvPr/>
        </p:nvPicPr>
        <p:blipFill>
          <a:blip r:embed="rId2"/>
          <a:stretch/>
        </p:blipFill>
        <p:spPr>
          <a:xfrm>
            <a:off x="2738520" y="3417840"/>
            <a:ext cx="3678120" cy="265428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11" descr="2.png"/>
          <p:cNvPicPr/>
          <p:nvPr/>
        </p:nvPicPr>
        <p:blipFill>
          <a:blip r:embed="rId3"/>
          <a:stretch/>
        </p:blipFill>
        <p:spPr>
          <a:xfrm>
            <a:off x="2071800" y="1679400"/>
            <a:ext cx="2665440" cy="3678480"/>
          </a:xfrm>
          <a:prstGeom prst="rect">
            <a:avLst/>
          </a:prstGeom>
          <a:ln w="0">
            <a:noFill/>
          </a:ln>
        </p:spPr>
      </p:pic>
      <p:pic>
        <p:nvPicPr>
          <p:cNvPr id="624" name="图片 12" descr="1.png"/>
          <p:cNvPicPr/>
          <p:nvPr/>
        </p:nvPicPr>
        <p:blipFill>
          <a:blip r:embed="rId4"/>
          <a:stretch/>
        </p:blipFill>
        <p:spPr>
          <a:xfrm>
            <a:off x="2773440" y="1131840"/>
            <a:ext cx="3679920" cy="265428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13" descr="2.png"/>
          <p:cNvPicPr/>
          <p:nvPr/>
        </p:nvPicPr>
        <p:blipFill>
          <a:blip r:embed="rId5"/>
          <a:stretch/>
        </p:blipFill>
        <p:spPr>
          <a:xfrm>
            <a:off x="4452840" y="1822320"/>
            <a:ext cx="2665440" cy="3678480"/>
          </a:xfrm>
          <a:prstGeom prst="rect">
            <a:avLst/>
          </a:prstGeom>
          <a:ln w="0">
            <a:noFill/>
          </a:ln>
        </p:spPr>
      </p:pic>
      <p:sp>
        <p:nvSpPr>
          <p:cNvPr id="62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12"/>
          <p:cNvSpPr/>
          <p:nvPr/>
        </p:nvSpPr>
        <p:spPr>
          <a:xfrm>
            <a:off x="4283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15"/>
          <p:cNvSpPr/>
          <p:nvPr/>
        </p:nvSpPr>
        <p:spPr>
          <a:xfrm>
            <a:off x="59266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21"/>
          <p:cNvSpPr/>
          <p:nvPr/>
        </p:nvSpPr>
        <p:spPr>
          <a:xfrm>
            <a:off x="406908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25"/>
          <p:cNvSpPr/>
          <p:nvPr/>
        </p:nvSpPr>
        <p:spPr>
          <a:xfrm>
            <a:off x="22831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5-03-16T09:43:58Z</dcterms:modified>
  <cp:revision>320</cp:revision>
  <dc:subject/>
  <dc:title>幻灯片 1</dc:title>
</cp:coreProperties>
</file>