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DB4-9319-4A54-A1DC-66CD573A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BA1-F915-4442-A466-45F4AA2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1156E-2600-44D7-A722-A6BB4B8E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7E9B4-9C26-4976-99FE-0C19A68E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3FE53-7071-412F-94B1-B39DF8AF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ECA5D-90A6-4BBD-9550-9039F8F8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9BDA7-85A1-4459-8EB8-57E04F4E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E8942-ADC1-4552-B3AB-6E6AB6E5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B12DF-D2F2-43A6-8430-8095A40E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F5024-80D9-45AB-8A1F-D0FA4DF5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6C389-EFA3-4788-AD9C-C4173CEB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6723D-C357-44DF-AFA9-60FCD88C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3D7-30E3-4B8E-92CA-CB2A37DD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635A2-821B-4525-8A00-2CEC7383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502B1-8349-4C50-8A14-AC1BC7E3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63BF4-24E4-4418-A31C-38B3761C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079D7-1574-493D-A669-A5C1F796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ADE1E-A2C5-4E85-8B7F-EDA0EC5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A5669-1B6E-4A24-AA88-3A5937E0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7702D-40FD-4F4E-80F1-71A4C93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308F8-5392-4082-9883-37E2D513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01A23-FE43-4258-BE55-26843545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B2573-6B82-47D1-8866-5678D891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501-1376-4E21-AFC2-A805168D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A148-9559-4416-8D6D-58426103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A57BD-6D11-4B93-B6B3-F17D9A78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B41FE-A4BC-491D-A799-1D60AD68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9D782-6EB7-4758-AE33-2D50D1E2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75B64-4462-4106-9B8C-6E8FA0F8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4A0FE-3E70-46AD-9EFE-7FCA04D2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C76B3-2571-450E-8AC1-03135647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D7130-3203-4395-8F09-91F4C7F4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674B5-C7A9-400F-A09D-D7EDD74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71750-C013-46EB-BF5C-0951DB14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DC9B-F87F-4720-8B7E-E1E86E30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54F0C-92CD-43F3-8E5D-48962DAF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BAFF7-7FC2-4694-9DFC-46F32B80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A9E66-31F5-412E-B78D-3FA9BD79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34A4A-1DF8-451D-9F7B-F7AB387E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6C7AE-4604-4074-94A4-365970A0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81C42-3996-4C57-8FC2-70F04581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C5AAE-C69B-448B-9D40-30456EFB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56693-BB0F-48F7-9FD4-354C13E4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9BBD6-4506-487F-BD8A-D7C1BA88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FD40E-3790-44EA-9EB9-F408988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C2C0-7048-4E03-8E6F-D3A679B6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55CA5-00A7-4B7D-98DE-41E7162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800ED-8888-4682-B30F-27B9747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6210D-EC71-4236-9EE0-435B62B1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985C1-B6AA-4DC3-A5D2-59406737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4C225-C9A4-4F96-853D-7B5EF51A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C8212-3157-484D-B5D3-C0CAFB53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9D226-26AE-4E72-867B-AE8057B1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FE443-D37F-49AF-9A63-288CAA39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921F7-5DA9-4175-B4F3-0F00D63B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FCFE8-FA62-4868-9ECA-28ADE300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F0AA-7265-4C30-A4BA-C7C2F71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B8B27-5793-4192-9874-0EB619BC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747E3-991D-4E3C-95C0-62AC4B6C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3C60D-F549-4884-B60B-65A21BA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FEFB3-3CA4-4B33-BCE7-0ECDB8C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08D06-EF98-4047-AA9A-FC316CE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3B7F8-955A-4C51-989D-E0329D6B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1BFE7-01A1-45F6-B2A2-0D1BAD9D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FC6A-B38C-4EE6-A16D-A1FA8A63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30B3-E4BF-4C4F-B584-1D60F7BD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E761-8801-4E09-9AE4-5C85517B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2369-CC9E-449A-AA94-7B25A6B1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0B2-5E62-4DD6-9AC4-A49C09CF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646A-070B-4A7D-AD48-5FF916A8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6CBB-570D-4136-8841-879CA3B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4886-17F2-4CC6-BCF1-E1E60686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AD44-4E7D-4843-A053-827C0EC9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8D93-23D6-43EF-AFA6-48A5E374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277F-D8C4-40AB-8E9C-F2F88883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1F35-13F1-4954-BFFE-128CFD9D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5771-C398-4B64-A17B-D5DA698D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F503-4B46-4C6C-898D-B5C58A3B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7AE6-C08C-40FC-9F13-0779822F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1BB-022D-48B8-85C7-36AA50DC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EF41-67B7-45DE-88CC-3676603A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1299-1C8A-4F56-90C0-8C7B28F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7299-B67F-4BAB-9818-99C8E2A6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5B0B-5869-4191-BC77-46EDEAF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5B8F-332D-447F-83C8-C7EBA98B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426B-2306-43AC-9DE4-29334CE3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0104-9C21-4426-A14B-5236CCD9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3B16-4896-46F7-8EDC-4075833E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81113-B02D-4F38-8813-B5036810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5E63-EC80-46FC-82EC-F3B77FD3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630-53F7-4DB1-A067-7AF27AD1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3F61-DCC8-4762-ABAA-2459B8FD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38D4E-9A3E-447A-915B-03CA5769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72C9-5673-4C95-B2D2-AFB728FE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54B4-44FC-4434-BF11-45B1E926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11EE-297C-4C1B-8947-77E6DC38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2E881-156C-4F15-A41A-720E41F1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D141-B108-470E-8736-9B366BD5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9DC3-0E45-48E9-8DA6-35F09828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ED12-5DEF-471F-9193-2A84128A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653D-ACA9-4FDB-96DD-F5B5D763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A04-F49C-4D77-B010-85899169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222E-564B-4D65-B9E3-20247598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B79F-D0A4-491E-B2E3-C036573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8FE3-31AE-41AB-A30E-E85F49F9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2A7AC-85EC-4BA1-9C53-F99CC39A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1FB6-3391-4929-AEBA-99FB353B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6D04C-DA21-4753-A4F8-3A69EA8D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7A728-079A-4489-965E-B7DC00B4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91AAD-A4F6-4445-97AD-44E512E9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5C502-26F5-41D4-BED6-E14909A6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3B64-BD52-4543-8A58-38656DC7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9BA-FC66-46D0-9E20-621EA1DE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5BC4-18C8-469B-9098-2DD789B8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5B7FB-F09C-44A3-A657-EF0DFF8A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BA199-59A3-473F-A75E-912E9996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DFF2-DC65-4D7E-B088-7D7EA7CD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9ED14-B040-46CF-A748-3E86DC7B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6E30-62D7-4AB5-BC9D-464FCDB2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48EFD-1381-4920-9486-30706838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566E-46EE-49D3-8886-A35759AC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5A444-7253-4158-8A4D-EA471C0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9C8C3-76DE-409E-B96D-AEB19AD8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4C5-86D1-4F79-A34F-B325CAE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FAF37-EB18-4FE6-B184-AD38C7DE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2215F-58BD-4550-A756-858D89B3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F8AA8-D30F-4004-B511-B22093A1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9454-420B-4D13-A988-2784E99F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7B06-611B-4B52-9F1C-B9790C04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F5FDA-9E7E-4AF7-B79A-21193F2B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6A5F9-1488-486F-9666-216FA6B1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AD79-D7C3-4C0B-92B0-24BAA39C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FE4B3-FD8D-480F-9D07-5734B316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9F211-7E8A-4B5F-ABF9-84D51BA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09B-6BFD-4157-82D6-8DD7B52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ADC28-57A9-4139-B410-24F67F38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FFC06-43B3-4E9A-9E76-659C787B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5C90-F4C3-4693-B23A-033B9634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DD514-ECAE-4DA7-AD85-5D99A459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DA6A-AB0C-4F9C-AA94-66895566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5F53D-6FA9-4D16-ADE6-9FE06FAF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8F688-5AD1-4B44-86AE-E91611B7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36D08-C4BB-4239-907E-928F6A71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1FA22-499C-45BB-9EC7-15B9DBD9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4A88F-86E9-45FE-A31E-816A26B1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A51-0151-4B76-84D6-9A995196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AB574-F5FB-4AED-AA18-03D252FA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612D4-C88D-4676-9E3C-2154E8E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D5F45-AD9E-4295-BC9A-BAA7CDD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9589-FF4E-40FD-AC91-06C44B9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9A2D7-ED38-442B-B7EE-877B5CB9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2C36C-B54B-4D90-9246-4F7E6DE7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96F0-7839-49A7-BA37-C876B75B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CB11D-8DA4-41B2-AE3C-38976E9C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B9092-CE58-4974-BC32-C9E08B1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A8CB1-1677-4250-94D1-D6777840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668B-B885-4191-B17C-8B1DCE8FFA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D585-D344-4B55-A3F3-2C78CBD21D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E87A-EDA5-4E4A-B642-0067545C3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EA01-FA3E-48CD-AEBF-DBE29AD179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94B1-2A7D-48EE-A929-1868211A73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8B2C-0940-4D58-B2B3-CC89CF2C93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BDBF-7593-44F8-ADF8-07956ECCB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4250-557E-4E6A-89EE-B4B4B0474A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0218-4D02-47F2-B153-2F88F3777C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28F1-CCEB-48AA-A327-5EB1649649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78D5-FF0A-49D5-83F9-B3705DD4A5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7CFD-A5CE-442B-B776-FF7595B863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5111-C606-4234-8E50-7446A6153C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3D9D-CD13-4FE6-B4D6-2FBCA9464F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76EF-3037-45C6-AC92-D0CE3D064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DA4B-02FD-424E-9054-D1142FEBB4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0338-8084-45C1-ACF1-FBCCB82F1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3FDB-2508-481C-AB1F-BBBAF3187D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24DF-B573-48E2-BCCA-6E8EBE31EA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1FEC-5E73-410C-93B2-A38EE423E6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871A-E422-42F5-A42E-7F12801E24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1081-DE88-4D25-A087-E3F4344672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21C6-6BF9-40D8-95DC-91CE52B8EB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2F60-7568-4F12-938C-66A77E3847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1A2E-2715-4C32-B886-5FDE760C2C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000240" y="185724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429000" y="26924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3-16T09:46:11Z</dcterms:modified>
  <cp:revision>80</cp:revision>
  <dc:subject/>
  <dc:title>幻灯片 1</dc:title>
</cp:coreProperties>
</file>