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37F-33AD-4C6A-9492-8B4C1526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20C-BE61-409B-8EB9-84EB8B34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DCAC-DC98-4921-80BD-C556C4D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2CBA-F210-42A2-9691-F2CF7D6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6AF68-9948-4437-A90F-F7C18556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CD2FC-98CF-4AA3-BD4D-F213915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1FA87-9280-4765-98CF-FD011DE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2DA30-1057-4059-9D3E-83403BA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AE979-D87F-457A-894A-5312778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A26B8-1F2A-488A-BC7B-32BDB97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529C6-033A-4454-9CCF-A3BA9D03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71F54-2AB9-4A42-ACFC-3B444792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F8D-DC50-4486-9829-68B002D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3CBEE-9F2A-49EC-BB73-4B93B4C0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2B613-713D-4948-AA5D-880EFAA4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A11C4-A10C-4B55-80C4-E415330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4488-1489-457E-A6F2-AD66946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F523C-6C31-4E18-945F-F4A3B1EB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29F77-C4E8-4B9E-9BE1-405046A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184FD-D5D8-4022-9DE8-5E0B1A6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EB8F1-05EF-4235-A723-2E8AB4D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4EA02-703C-4A1E-A48D-F792EE7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915CE-1450-4EF6-8ACD-6E75CE8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34A-1307-4121-B952-FADBAF12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622F-5D97-450A-815B-1EE4787C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3B66A-4CB3-4573-9979-51DA90C1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2A85-65EC-451E-AE90-B86D039E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4685C-8F90-40A8-828C-4DDB8A0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4CA4-1586-4362-B1BB-01A58AA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A2C7E-B534-4C45-A17A-49B8875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F6A06-B282-4678-9D11-5DEFD6C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FE5BE-F474-4978-A8B9-DCA4A94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902CE-7CE2-4367-B945-19D12A4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20899-6279-4151-A590-20C647E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D89D-CBEE-447C-9165-900E0FB9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28594-1FAC-452D-9749-D48BE55C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F7BC6-A8F1-4348-9890-21EA6EA0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946C-E016-4685-A56F-37DF596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4242F-58EE-4289-86E5-0A9D1190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EB22A-17EB-4B81-A1EB-49E0AB9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84667-38B8-4FEB-B29F-789D636D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6A15-ABD9-42FE-84F3-B747644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6F419-9E75-4708-908E-F1D64EE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D9A19-100B-4A88-B769-D05DD025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3721F-AD93-410A-91E4-2B847BDA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AFF-29CF-4912-8D23-0141D0D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D7D89-8DEC-48F6-A614-7C0EF062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771CC-9A92-456D-95DC-EEFFC70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F06B5-1198-4856-84B9-7383C4B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3AE5-A3F8-47AE-9DCD-16CA652A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709E4-6774-4CB3-9A74-0189FA4E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6D674-EE25-4DC7-8DA1-D302E72D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0E438-9CCF-4AD1-A1FE-59D54F3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4E212-A493-4FD0-9835-A1CF859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3767B-F951-42CE-B2B2-3D3F5D8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0EACE-39F3-46AE-BDB3-59EE6BD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A75D-61C8-47DA-8B48-D0B07366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9EE2E-90F2-4039-BC35-19D46DE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147FB-D3A5-4EFA-B895-E25A66F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1D567-844F-423F-B455-2A601BA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5F01A-D2C2-4F92-A516-E1BE31F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F0FD5-C2FE-4E80-87CD-D079F868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F916A-4510-4A02-B3C5-70DF80B3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30CA0-5DAA-4EF1-B294-7764E585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1AD-375B-4409-AC03-813FA048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F32-15E5-42DE-B3E3-DC33947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75EF-E116-4196-AC50-2DDCC2F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990-7BA7-460F-B61D-445E2D1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54D-9F95-4200-97FD-9328BFA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285-680A-4AF8-BC2B-12C021E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FF77-790F-47EA-9CD5-133E1AE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FEBF-71CE-4EC7-B318-0B56D09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A1D7-1797-4F26-8DF3-AA459968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A3B-18EA-46F2-AFEA-DC5650AB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0F17-9093-4CD8-8126-E833949F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6C74-199F-4F8B-99A4-0992DBBD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FADB-9E80-4D7F-A469-95409646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B9EE-937F-44A9-9BC4-9F2DD3C7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5E62-D246-451D-B583-35BD2997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EA7-715E-408B-AFDF-F79C375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DBAF-0689-4B49-B24B-3B0D25CE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08A5-EE98-470F-AC9A-FDDF95E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ABD3-681F-48F1-B6A6-B0F7EF2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EC7F-916B-44DD-AC8D-B325CC3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D885-CA4D-47DA-9452-1EFB487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5921-0565-4C14-BB7C-9CF2B874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E9DB-4D73-42E3-9ECD-BEAB1BF3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0628-09FE-4427-8287-EDD8299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C0B3-D242-4A36-B3EF-924A5CC5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E0A2-3245-4F24-8596-A1C039E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470-DACB-4CF8-9AC3-8754449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A83B-CE32-4685-851A-DF9489B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8DAE-17B8-458E-81AD-BA6099C3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AA5C-5966-47B8-A5F5-33EB14C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0A68-8084-4734-A6E2-74B620B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D48B-11FF-42C3-B824-91DE5E6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7723-3590-434D-B207-A0E8815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005D-7B12-4AC4-A21A-50382EB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C76B-3410-4ABC-A4CB-0C8E433F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456F-366E-4E92-943F-52EDF595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128C-F468-467A-B363-1D25ECC5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8E4-F115-4AA1-8DB5-2D981FB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2E4B-1414-4BF2-8764-8D428E54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A65C-DE00-466A-A94C-776F72C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8998-296D-4C17-8B2C-2BEBE64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BDF0-5FB3-437F-85AC-E537A61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6A5D-475A-47A4-B665-A7319B3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9ACF-FA94-4C49-B9D9-505A666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962F-CDA5-4EAA-B9C2-FD16C71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18F6-BF99-4CE8-9CA2-939D7C6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8D4B4-DD3F-4405-A952-C824CBB3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5DA1-0414-4F6D-B662-87C4E529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194-F6D7-4C5C-9704-C7AE483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9B66-8D57-4846-9FC2-8E1DD5D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9129-D091-4C7A-8AA3-CAC0E25D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A2AE-A9A2-4916-9BC4-12512AB0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81128-56FA-427E-B527-30D3418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B5E0-1EE3-443E-B402-0AA616ED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1BCF-E520-4F80-98A4-80AB68C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27DBE-E31F-4771-81E2-90E76CF0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C3CC-1088-41EE-8785-7548A15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4ADD-23A3-437F-A0C4-AC253F2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8F46-5509-40B3-B94F-3E1882C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588-3C3D-4CE4-A7AD-BD8BE7D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679B-7F1A-4AAB-965D-8768CC39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9AC6-E203-4114-A87A-55BD19D0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CCD2-7F7E-4B71-A71D-63AA227E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528E8-13FE-4DBE-8E40-DAEC4A82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84D3B-C449-4487-BD3F-A84FD3B9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2039-2971-4A29-A3A9-FCC4817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8C1A-201D-4D7A-9D76-B9A8B96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4B81-A01B-47E0-910F-405CC088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7C875-FC30-4998-83A9-BA7DC35A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93B5-8CC6-468E-880F-28767FE0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774-84AF-42BF-9EDB-AC041C4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C102-FB65-467B-9072-1F939B4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599B-3461-455A-8AF5-9D294589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C271-CF3A-4FAE-9959-47A6134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03F1-6AEB-451C-B861-D0472B18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A337-0D3D-45CB-84E7-1544D35C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788A8-977A-4455-A36A-D0334F5F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42D2-F60D-4250-A5E7-F8257152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FB008-AF15-4A2C-BFE2-5DCA64E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469A-7753-4499-A83B-1822096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DF66A-7575-40C3-B31B-77D953D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874-C8CE-414A-9E1D-0C2B35E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231C-E2D6-4D10-AAC0-838EF00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71A64-3BD8-4B60-AC20-02B0B6D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A1CF5-C685-4109-A86E-675F595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F81E-3BEB-4B27-BA5E-71B5D05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A3C9-A84A-4A93-BB3A-18D18614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7191-6B7E-4DC4-A26E-AAFDA7F1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51F9-4758-4B74-9CE5-70A2625A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44E93-F29A-4E36-873B-7959C998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6DBDD-F924-4FB5-8863-42ECEE73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FE26-E9B7-4332-BD8F-8D7A333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DB5E-D818-4781-B4CE-4C978C30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483-A550-4A43-ADE4-D539D99B6B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9CEA-9164-4762-BA97-2F3ACE8527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C0B-12C7-4F37-B6F8-618460C0BF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C30-A96C-4134-8501-D22D8594D3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72DE-A3A3-4D0B-909B-34A6E5E288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CE56-8E4F-4D63-9429-E543DABF2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0F1A-EFDA-43E6-9DE8-C4B1C0BEC8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E00-6771-4A34-AE55-92F512A8E3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AC5-5336-4DF3-B4F3-186EBE14CC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9AF-FC8B-4715-AF9C-E63D9C74C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92E-436F-4C7D-ACA9-5021FF07E5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B08-FE97-4F48-B619-71F34AC1E2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43B-14A5-4A5C-9948-5002B2A1E8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45D-1193-4B5F-B61E-E8C8A2F013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2BE-E5D2-4C86-8C43-51A73D8141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0E2-B9B9-4145-B71B-E0A4A6E791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F9B-BB18-4E39-967C-462579B1A6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7C0-1978-4052-8E61-B0C36301A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1E3-EC33-4D73-AC81-D6EC78951D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A0A-C083-492A-BEF6-B8FF3E448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9D68-21C7-4796-93F2-9BCD1034DB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275-8DBB-4A8B-8C8D-0E3C5BDED5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34D-1960-4526-BC97-39DA07CEBF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129-11A7-4821-8EE8-8BADA20E9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Object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982080" cy="74818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16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景阳冈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执教 朱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单元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要提高速度，一是要看得快、从一眼看一个字一个词，变为一眼看一句或者几句；二是要想得快，脑子跟着眼睛的扫视迅速思考，弄清楚看到的文字说的是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默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，只看几秒钟就把书合起来，你能说说这一自然段告诉我们什么吗？我们可以试着用这样的方法提高默读的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本文是根据我国著名古典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２３回改写的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描写北宋末年山东农民起义的长篇小说，作者施耐庵。这部小说写宋江等１０８条好汉，在封建统治者残酷压迫下，被迫在梁山泊聚义反抗的故事，武松是这部书中的英雄人物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景阳冈，在山东阳谷县城东１７公里处，传说这里古木参天，荒草无涯，是虎狼藏身，野兽出没的地方。清代末年在山冈修建了“山神庙”，庙内有武松大虎的塑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课文给课文列小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（晌午时候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路至阳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进店喝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店家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三碗不过冈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不听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酒后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５（红日落下山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（红日坠下去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睡觉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跳出大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打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梢棒打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１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奄奄一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打死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３（天色已黑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下冈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事情发展顺序将课文分四段，说说段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进店喝酒，不听店家劝告，执意要过景阳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—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上冈，见到庙门上有官司的榜文，才知有虎，但怕回去被店家耻笑，决定继续上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—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赤手空拳与虎搏斗，终于打死了猛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打死老虎以后，一步步挨下冈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-686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主要讲了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在酒店喝了几碗酒？我们可以看出武松怎样的性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靠什么打死了老虎？这反映了武松的什么精神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6:13:34Z</dcterms:modified>
  <cp:revision>5</cp:revision>
  <dc:subject/>
  <dc:title>　　　　１６景阳冈</dc:title>
</cp:coreProperties>
</file>