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F6C-FDD6-4986-A025-20510640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F53-BA88-42D8-B6D4-9C6BE8D9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ACE15-173E-4C05-ACFC-7308C8A0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36997-E807-4B1E-906D-51ACCF4A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07D40-1051-4C25-B37D-99D2A8F4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A7C0D-591F-415E-BE9D-692DAD7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7BB1D-B7DF-4311-8808-D2FB014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A5CAB-9EA7-4248-B0B9-3C49A87A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D26B8-FFAD-46BC-8FD1-FAEC5397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2506D-1955-4F5B-BD93-A8468656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73765-A96F-47F2-B04B-A7D5E28F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2096E-0726-4848-8ADC-D234214B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CF1-92AC-4D43-923B-C82014FB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BD279-246C-40F0-8BC6-F52F4719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48275-FB0F-45B4-A3EC-720284E2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447E3-F227-4B2A-9A98-E50B2A26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2B7BD-214C-4610-A288-C738156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89EF8-B382-44AD-95C6-A9E0BAE9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8D15D-8EE9-4202-91AC-DEB9794C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679AF-8776-45CE-98C0-1BB67CB5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241E0-3EC9-4277-BBE0-6A67BA89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1E04D-2073-4A0C-A28C-682C5DD7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A1B92-C218-4C92-AB10-10B0DF8F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CDA-F7A7-4A99-BFDF-289BA504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72615-3E6A-4A49-8A40-3E5C3AEA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008CC-685F-4CEE-AA68-AF04505B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8B2FB-3930-4E2E-B2D4-7F1BE4CA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3F363-A348-46A1-9CE2-5C742B86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621ED-166E-47EE-9864-35671CEC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4D02A-74E2-4F5D-AFF9-E7250495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BAEF3-7FAB-446A-ADBF-8C2F9185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A4575-0A04-4D6D-BB66-C786EF4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270E0-EC57-4F42-9BAC-EF44FE1F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48292-237E-4C0D-805D-F34A252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40F8-DC55-4EF9-8786-C4B1594B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0B840-15AA-4609-91E9-9EF7D234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0FA83-A1CB-4396-AED0-B8CA7F9E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ACDE6-2645-44D2-BBE3-2AFFE2DD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16D85-A454-4426-8DA7-CEACEB6F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D3CEC-A731-40A4-8FCF-B6F2FBD9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366D8-7E3E-4A0A-B6ED-F37D6D5F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ED6F4-7096-47FD-976C-67B96613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35DF5-9648-4813-980F-57451EB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01565-D6B0-48F9-8848-58483A6A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BEC65-FD23-4312-BA04-D1F5D6D5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D8DD-85F7-4395-830C-B5FC9DA3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2FD16-73BA-4FAF-9EE9-CA497934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CA382-BF65-4E45-92A4-3B966663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92A43-B0FA-4F7E-905C-7C0C26FF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145C8-FE1C-4C94-938A-26D8ABED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2F199-723F-465F-BF44-023A5EA9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38078-96C6-4E54-A860-D7B073A1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D2139-F636-4AE4-9579-EFF2597A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4797C-44AB-444D-8EE5-89DA3014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6BD02-218B-4DF7-A85A-2BA6E647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70E82-4522-418A-981C-7664E8FD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C043-A1AE-4D02-BEA8-4CC0E52F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798C2-FE78-40DD-B55B-43FDA2B1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43A88-CAC6-4605-9E82-0CFCED1F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7D4F5-7269-4675-9902-65E701AF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5E190-A9D8-41C8-A47A-864EAC89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6AF58-7D90-491B-B1C6-E4527B92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CCFC3-F2BF-45A7-82DE-A32FA6B6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201C2-DAE2-42F0-9214-09762B6D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40276-79C8-46ED-AFEB-C332E3C7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AB8AF-3277-4DDF-AEFF-D82F0B4E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5167D-0AE2-4E55-8D01-CC862C0A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47C5-5FD7-4D7F-91B2-44D18305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ED533-68C2-4CBF-9C35-7C1657BA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32C0C-C6D2-4009-B018-05EF87E1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20EAB-11FF-482D-ADCC-1FCD0BCB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C4464-7A59-4468-91E8-1DC3E645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080F5-7F65-4663-A4C1-685CAFAB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9EB5E-A422-493A-A27F-B3A6C680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4D93E-2EDD-489A-87A3-01541133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38A3D-767B-427A-8C0B-2127479B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B9212-B9C6-4E5D-B0E0-704D4EB1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6655-3975-43FF-837A-C2DDBA8B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E6C5-0D05-4786-B86E-CC3BD0C0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6E82-AD62-4F92-B67D-BD2A2127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1A4-14EA-49EE-9479-CCA02145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DAE5-AC90-490B-BAFF-25F2CCB3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0351-3C2F-4B07-B80A-2BC1D516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DAA6-E171-4DF0-84B1-D7FBB19C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A8A0-AB39-469A-9040-95D8C3A2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A99D-176B-444F-BCB3-D1149717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24D56-D2AD-49EC-9CE9-8B493796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4DD90-4DBD-4CE0-A5D2-34579BA4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71462-15C2-41E2-BAE9-013EECA0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B6B6A-F845-4BE9-86EF-B9B4F831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3B72E-F6D7-4815-A387-8E4CBFAD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B5E-556D-4EA6-A7C1-FA53C408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71442-D38C-4C20-9A39-55C33538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DDF06-993F-47D5-81CD-5021C6E3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17C9E-5F56-4158-8297-B70952F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2A993-A575-4A34-A06B-7D4D5128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5DF6F-D6D6-43C2-BB17-8E9FC8FA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84D45-0AEB-413C-A130-6B983308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DA9AE-09E6-40B9-B8BB-5629B1B4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82755-A8FF-47D2-862C-B99B6EF9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8FB5-A68B-4EB6-B870-2393AB5D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33CD8-9A08-4EE8-A3CB-20AA8949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0FA-0ED3-4BD9-9F18-64B184FF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F6AF2-F439-4B50-A07A-F1A4F87A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86549-C4C1-4A8B-8435-22C495A7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74929-A6EC-4BC9-9CBE-3DBE599D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64664-B61B-470E-ADBE-589905D7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EA8F-28FD-45D9-8A7D-DE61060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31335-5152-4136-836F-5FC66282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D2A97-E0DA-4E57-87D0-EAC52A91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F9418-C177-44C0-84CE-8247F79B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6598A-8973-4CA4-8EEA-97CC688F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1E834-D472-48D0-8E7F-F310B53D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C5E-4B40-4895-92B2-2C98287C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D358-CC1C-43C0-9E46-6A2AF0C3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5818-FFE9-418D-A5EA-BB4A5428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CD179-832F-4960-8D3F-F6EE428B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BEE44-81FB-4421-9272-4912CD7A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950EE-6B87-405B-AC20-EB5C955F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B339-FB82-479E-A856-9A1847CF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88B29-CB5C-450B-A0C3-84910148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EF9E5-241A-4841-AFBD-82D0E781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DB87C-A958-4EDC-89A9-5B03A222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7C6D0-3D5E-46E3-B958-A91F53A2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654-FF67-48C0-A178-B0E96262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E93FC-224E-4D0B-9298-C3355D6A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1B5BF-60F6-436A-AEA8-854EF3D5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DA05-2A72-43DB-A09D-C6999133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42E04-1488-4A8F-8B0D-E95B7702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C8D5D-07F1-4F8F-8BF5-6D103DC5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658EE-E580-42AD-9C77-42B4989D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3F9AC-3693-4A76-9874-C7ED68B0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0DDFF-40F7-469B-AF08-296DADE7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3F575-30FC-4730-AF97-07F6C51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20110-A7CD-4887-BFB7-D6156004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5BB-7897-4E05-A40B-4C2B3DE1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2B23B-08B3-4AB9-A091-400DE933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B1129-2EE4-4F05-AB3B-18C638BC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E013-2936-4FF2-AED1-9D8AAC56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5C880-31FE-483B-840A-410175BB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04BAD-AC50-4A05-85D4-1EED821D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0D1C5-C2B1-4DED-B1EB-52877C6F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70403-77FE-4E84-9A67-C49E5B63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65632-091C-41B4-8FDB-50DE26FA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BE615-A42F-49BA-9BBF-52A0021D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77836-CB8A-409E-80C9-0BF9B6AC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A4E-CB81-4709-AC43-5C18ABEF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D271D-AEC7-4DC9-98F0-37CD4DEB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BBE56-575F-45DE-9554-BC7075EC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89FAC-8989-4476-BA2F-75797F70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27BDD-8DB3-42BA-BDE2-F438785A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9BF70-77FA-4707-AEC4-4A9CE0D9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E1768-BA3A-471D-944B-DC60912B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DA77A-2DB9-41F2-840D-61BA5204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2C27F-E87E-40E6-B37A-6154952A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8BAAD-523F-4156-9CA7-D810F796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A32B9-BD2D-4AC7-BEE2-7FCE183C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769-EBE2-489C-BCF4-70DD173E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A95B1-1DB0-4CE0-8AE1-6978B41D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B0BE2-E1F6-4ED9-B149-9090EBC3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94D1A-CD9B-4DFC-A70A-4C5104E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46838-BE32-45F9-BA7E-0EA804C7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3A374-57D1-4DF6-A1C0-B538CA3D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3768A-9B40-43D4-8B28-F6B9DD74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3A6DA-DD5F-43C7-9CC1-BC8B8A36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C19A7-E67E-4862-ABFD-41696A98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B4182-EC60-40E5-8976-FF0038AA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7E441-E3C2-49BC-82C5-C8DDA5C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5D64-47B4-4A10-A0CE-154D523DE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1F92-9D78-47E3-A46F-F5F0826D66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7E7E-50D9-4C55-AE0C-2A46EA8C67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2417-6ABF-4F2C-BD7F-2FC2C97104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845A-419F-4E84-AD1D-3DE401A331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772B-44FA-4264-A17F-584391718C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51C3-AF43-4CF3-826F-CA582EFCCA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5C1F-E722-402F-A7F9-37D3EA5AEE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7691-7E2F-4407-AB39-79EFDC8196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8DA8-3DC6-4668-9AE2-5BDF3A4B28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1C5E-9AC0-4C1D-BB57-FB6EDAD95D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1FF9-C773-41CE-84C2-72B9A0D9E4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20B5-71F7-4DDD-8103-8B3A2C06E6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5FD5-FD6C-4D3F-A808-6B8248047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97FA-0C29-433B-BC17-EDE6B47029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9AF1-A705-42AC-92DF-D4F36339C7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CFAA-7E7E-4B04-A3D7-9F1C909881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B632-4078-4EA5-93B6-2FF0690D5B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847B-DFE8-48D4-A995-29FD3573DEE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795B-C7B6-46A2-B879-8A9C5E43F3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5CA7-7025-46BC-BB83-620781D2264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E753-4E0E-43BC-A473-20A00CD597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5AE8-A7BD-4215-9F27-8B60B4B4A6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A62E-1EA3-4A43-9B4F-E5E7E56D89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C914-AE19-4EA2-9C65-AEBA7212BE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D2C9-1D05-4338-BFAF-834FB6D884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ahoma"/>
                <a:ea typeface="楷体_GB2312"/>
              </a:rPr>
              <a:t>敬业与乐业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梁启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作者简介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梁启超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1873-1929)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中国近代维新派领袖，学者。字卓如，号任公，又号饮冰室主人。广东新会人。清光绪举人。和其师康有为一起，倡导变法维新，并称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康梁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著述涉及政治、经济、哲学、历史、语言、宗教及文化艺术、文字音韵等。其著作编为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冰室全集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敬业乐群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) 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断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取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不二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法门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      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旁骛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承蜩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     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佝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偻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渎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  骈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进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聒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    )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不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2411280" y="2349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5508720" y="2276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zhā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Text Box 20"/>
          <p:cNvSpPr/>
          <p:nvPr/>
        </p:nvSpPr>
        <p:spPr>
          <a:xfrm>
            <a:off x="1476360" y="3068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è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3132000" y="47628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22"/>
          <p:cNvSpPr/>
          <p:nvPr/>
        </p:nvSpPr>
        <p:spPr>
          <a:xfrm>
            <a:off x="5651640" y="3068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23"/>
          <p:cNvSpPr/>
          <p:nvPr/>
        </p:nvSpPr>
        <p:spPr>
          <a:xfrm>
            <a:off x="1332000" y="3860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Text Box 24"/>
          <p:cNvSpPr/>
          <p:nvPr/>
        </p:nvSpPr>
        <p:spPr>
          <a:xfrm>
            <a:off x="4859280" y="3860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ō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Text Box 25"/>
          <p:cNvSpPr/>
          <p:nvPr/>
        </p:nvSpPr>
        <p:spPr>
          <a:xfrm>
            <a:off x="6659640" y="3860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26"/>
          <p:cNvSpPr/>
          <p:nvPr/>
        </p:nvSpPr>
        <p:spPr>
          <a:xfrm>
            <a:off x="75564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x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27"/>
          <p:cNvSpPr/>
          <p:nvPr/>
        </p:nvSpPr>
        <p:spPr>
          <a:xfrm>
            <a:off x="4788000" y="4653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28"/>
          <p:cNvSpPr/>
          <p:nvPr/>
        </p:nvSpPr>
        <p:spPr>
          <a:xfrm>
            <a:off x="826920" y="5516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uō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29"/>
          <p:cNvSpPr/>
          <p:nvPr/>
        </p:nvSpPr>
        <p:spPr>
          <a:xfrm>
            <a:off x="0" y="692280"/>
            <a:ext cx="77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读准字音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阅读课文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．把不理解的字词，难懂的语句做上记号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．试把每一段的段意归纳出来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97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课文共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七段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，总体结构是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式：开头              ；再分别论述              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两个分论点平行并列；最后                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条理清晰，纲举目张。全文可分为三个部分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第一部分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1)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：揭示全篇论述中心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第二部分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)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：论述敬业和乐业的重要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第三部分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9)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：总结全篇，勉励人敬业乐业。</a:t>
            </a: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5724360" y="170028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"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总一分一总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1835280" y="234936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总起全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5796000" y="306864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总结全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6588000" y="234936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敬业和乐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学习第一部分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讲演词开头交代题目的来源其用意是什么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哪句话揭示了全篇论述的中心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6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3:12:51Z</dcterms:created>
  <dc:creator>user</dc:creator>
  <dc:description/>
  <dc:language>en-US</dc:language>
  <cp:lastModifiedBy>a</cp:lastModifiedBy>
  <dcterms:modified xsi:type="dcterms:W3CDTF">2015-02-10T11:30:40Z</dcterms:modified>
  <cp:revision>3</cp:revision>
  <dc:subject/>
  <dc:title>敬业与乐业</dc:title>
</cp:coreProperties>
</file>