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3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10.png" ContentType="image/png"/>
  <Override PartName="/ppt/media/applause.wav" ContentType="audio/x-wav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DC5-2849-4497-B6DA-3B82DD7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BE1-3D7F-40E1-A184-70D7E82A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A4C81-96EE-4C19-BE31-AE43294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AD674-AF45-4C30-A15B-95B77F4F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CFBDB-FCFA-49FB-9E9D-3448885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796B-79B2-4B34-A915-9B1F7D7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59AB5-C9A7-430E-AADA-35EE827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9248F-F295-468F-8AF7-66ED8C8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844B0-7AD1-4F79-98C4-84249C0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62C2E-6395-4887-897F-9EB94071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D357-C0A4-4802-A698-C07AC61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C1039-F0F2-4F7F-BA27-69A2AF7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0F8-2DCA-4C2A-9DE7-F6D596DA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E9313-F6F4-4416-B69F-30FB8944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9C08-17D9-488C-A6DF-EF2DA32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903A-EEE0-45CE-B3A2-90C8EAE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D5078-2496-4AA9-B684-AEF5A031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B6E6-2F95-4558-B753-FC258ED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3D05E-701A-40B7-AE3F-94285F6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A984F-A546-4EA9-B22D-6CE0B2D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8C70-BE8D-4006-A30D-BEACAB8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0713F-21E2-4F00-B5B7-B324A3E6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53636-E20A-4312-BC5D-4BA55F6E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226-DC69-4198-900C-8F8C9E0A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6FCA-6222-4883-BBC0-30B7594D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7295-8B79-4EC5-BDC7-E26BF38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D714E-01F1-4A79-94E1-6A1571B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A1AD1-7498-4C19-9E15-5C9EA68C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7250D-F2BF-497D-BB50-14A40C9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6AC5D-19DE-4A2D-A18A-9858952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3E04-8DBA-48C5-8800-A72FDE3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39F61-40A4-4C55-8736-E335EBB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983C0-8A7C-475C-9DBE-D1249EC4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E504D-E65F-41D9-A72C-53A3CC9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8FF0-C6FF-41E1-AD78-42595212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659E7-4DEB-486A-A614-7184F0F4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95BBC-25D5-40AB-9518-497D579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3770-D6ED-4DDE-83DC-6BCC8D7D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17D50-18D7-4F96-84F1-9EB34576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8F1E7-7A20-4275-8B33-8893A1D7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060EF-E9B6-4E95-86C6-103A638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2F60E-1B7A-4841-A2B4-B695EFD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065E4-DEAF-4EFE-9E9B-1FEC9AC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E784-8C72-48C3-9553-951BB1A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F16C8-F4E4-41BA-8BE7-27512A5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0D8-DE70-4F38-B7FB-B716A75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61EE-C1D6-4E47-BBB1-901CC4F6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CEB0B-7F9D-47F4-8F37-69F161C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68AF5-FD0E-47B1-86B9-525FE53B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1949B-38A6-4240-B603-84E1C84E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DC603-B035-4E58-B166-E5CB8B56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D00AB-F0A7-44E3-8201-8DD0B5B7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9FEBF-D482-4229-BDC3-D5D6A4D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76899-FA54-49A4-B886-DF86B65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3348A-DA72-41C3-8521-CAB87AE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FD6A0-949F-4481-9EAF-B514A07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3AB-6926-4831-BE86-E9FD1F0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8BCB6-541E-4AC6-B120-77891EE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4CCE6-3C3F-47FD-B14D-C8CA887E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13A22-9D33-4B97-A51A-F34B97C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31460-B526-4C7B-993F-227B916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8266C-449D-4A08-9F33-F8A911E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C73D5-F02F-4A56-B340-684D3D4F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A0A33-135D-45C4-A818-283ED4E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B7C8-7B3F-40DC-BEB1-1D207E6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DEB3-A954-4015-8E77-699CD2C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372D-55BF-4CCF-ABA3-083D36C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C25B-3416-48D2-9365-73B71CD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736-C373-4C8A-9746-3430CA0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BE7C-CFE1-49F6-AB08-FB99BE8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63A-A271-4BDE-823D-46441FA2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7425-A32B-4A7B-925B-68E9912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6D47-EF40-438B-AC56-802F0C1E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9FE4-88AB-45D9-9522-0900420A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5FA4-CBDA-4F35-BF8F-BD954482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6548-B9DD-4A0A-BE89-0B13834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3D2D-B8E6-4A82-84F8-A720CDCB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8F03-1A97-41DA-896B-3C12C8A0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8CB6-4E7A-4E45-BD94-10A9A3A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885-7647-4963-A042-A8E8F69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45B9-7D70-450A-9B20-449357C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40ED-FF93-49BD-BDC9-687F54A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5B1A-E678-4495-B307-692848D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4245-23F8-4C1F-931E-C0B8838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6E25-9A0C-4ABF-BB60-61BFB32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1CA4-C87A-409D-A491-B55A2655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2D45-E011-4FCE-8ADA-8085A7F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48C2-97C8-4A27-BDAE-6825AF3E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9CCB-8008-4020-B99C-983503D5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8A9A-0CC9-488D-B566-22602B1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BFB-B424-470B-95ED-6ABD1EF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93FF-A1CB-4C84-AD5C-BEBCD577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FF31-D086-421B-B320-4B1E0E4A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6D093-5C11-4E7A-9DAD-C75933F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987EE-C857-4A6F-BCBA-D227992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58E2-0EB1-4FEC-A295-426681C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3BF5-3256-429C-9C9F-C5EA2CE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DAC6-EFD5-4228-BCC9-966D7E6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C000-0D2E-4B39-915B-A7A8A714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4BE9-8022-46DC-80DA-B1DDFD0C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ABDA-E511-476E-9512-7AA4747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440-5D0C-47EE-B980-39CF713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2977-CD5F-46A1-A129-32ECA55F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5AEFE-ADF8-4E7C-9CA9-76B22FC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C08C-007F-4C11-BDDB-D6DCCCA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E2579-70B2-41FC-B2B1-31A5DBF4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B017-3612-46FA-937E-D550347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A7D9-26B2-4995-A68F-C1BCF45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0347-26F3-42BF-8B0B-87193F7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5885-C1D3-4449-85EA-FAFF073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F2BF3-F86D-408D-BDC8-437683C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C1BD-264F-4AE4-87A8-E9961FD6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AAB-95A6-4623-A11D-7ECBB41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851C-9374-48C5-B05E-58884E18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52C7-8904-45E3-BDAD-89066EE2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9EC17-2B98-4395-915B-C843F0B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BD0D1-8A68-4B15-AC94-D6ECA71D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7DA1-07F3-470A-913A-E029348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0BD2-BF8E-4674-AC0F-D13989F7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87C69-0E3D-4DA4-B993-02BE13A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3181-8757-4EE1-ADEF-FD2A8AC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1CBE-3D33-4E46-8650-581420F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A9CBA-27CC-4BB4-8EB0-D6EC53F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F55-5668-47B6-80E8-01C160E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A19D-E379-49D9-B49F-5EECE01F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E1F0-B4A3-43DE-9586-F354384D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89FA-76A7-4066-A5AE-A4D8AFF9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A71A-A2B6-4C15-AEFE-0B4FF83C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5454-4A1C-4C8D-B9C0-D7B2B6C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1C1F6-A04C-46CC-BB82-91639351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ECCE0-7861-441D-BABF-D083EDF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97F3-AC33-4FBC-8663-3B7039EB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2447-DD30-4ACC-976B-B035E773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DC0F3-10A9-4D80-B52B-DD72DC54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AC3-06F2-4898-B1AB-D063286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4D4ED-A25F-4FBF-8001-CF5AE92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6457-2C69-4AB8-8EF0-7C8D848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6188-1E18-46E3-9787-7D781E32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05D1-133F-41A1-9840-86EA6D0C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6D3F1-6CA0-4367-A510-7F1F234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80AD-12B5-44F1-9603-8816BBA9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215D-060A-4255-882A-13CA732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5625-5F65-42EF-9995-442A848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3ECC9-3212-4C10-A9D9-C1D4567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E0971-2400-4590-BB70-3826F1E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2DE-A044-4260-A70F-983030C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D492-23FE-47CD-B555-D909C8C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03547-6840-417A-BEC8-4EF9656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555D-224F-4523-B613-EBCC6FC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4CAE-656F-4106-9BF8-B070A2C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7A81-88AC-4006-A8B9-4C1EF54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E140D-436C-4D63-A3B8-78699BFF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DC0D-53E6-412A-B2E8-A06E9653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8CDBC-6980-4AB8-B01A-D0A0B6B3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6A2B4-1FF8-4F66-8D9E-9C5D42E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D2C8C-92E9-4AA7-89EF-6AE24E8D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C555-6CDE-4556-88EA-55A42FC169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F67-E7BD-43E9-8FD1-32A4D69E01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B0E6-6FD5-4B5B-93D3-EF4201F022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7A6-9EFC-44E3-AE3C-D6A33D1DF3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7B2C-4D5B-4966-91F0-5A6DE48A49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4C4-2565-4973-B69F-5520D8E297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4B4-D941-42FA-AE75-185FFED34C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84C-A930-46FD-95D2-63DDDDFBF0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CCD-ADE8-4547-A876-4607B53E0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EBB-748D-43B0-BB95-E85BA473D9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FBD-5A2D-4230-99FE-6358CB9CB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CB3-2402-4E48-A880-BBFF3EBB94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829-9D10-4DE8-9402-8814897E4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B47-9068-4671-8F08-BB9203EC84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871-2511-4DC4-8DD6-96473411B3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B3F-6630-4BBF-9361-7A2B03CE2E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CE7-C819-4441-BFCB-462C95F4A0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04B8-B746-4C9D-A8EB-B75A5ECCB4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76A0-15F0-40E9-BD88-7C2E446AF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0D80-BEBB-49CB-AA01-D58AC308CA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4F4F-DBA8-4C79-9588-3A1728AAB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FA96-D7F3-4C46-80C8-FD69FCDAB8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3C4-2755-41C8-9B52-5A1CD113E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186-BECB-447F-A701-EF6C48CD4F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3ED2-A2B7-44EE-A0BD-F9BA55AC6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2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5835600" y="1203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04920" y="99072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20968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华文细黑"/>
                <a:ea typeface="华文细黑"/>
              </a:rPr>
              <a:t>小小一间房，只有一扇窗。唱歌又演戏，天天翻花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aaangle"/>
          <p:cNvPicPr/>
          <p:nvPr/>
        </p:nvPicPr>
        <p:blipFill>
          <a:blip r:embed="rId1"/>
          <a:stretch/>
        </p:blipFill>
        <p:spPr>
          <a:xfrm>
            <a:off x="457200" y="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1817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Object 25" descr=""/>
          <p:cNvPicPr/>
          <p:nvPr/>
        </p:nvPicPr>
        <p:blipFill>
          <a:blip r:embed="rId1"/>
          <a:stretch/>
        </p:blipFill>
        <p:spPr>
          <a:xfrm>
            <a:off x="98280" y="453960"/>
            <a:ext cx="9144000" cy="55706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1219320" y="0"/>
            <a:ext cx="6476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cc3300"/>
                </a:solidFill>
                <a:latin typeface="隶书"/>
                <a:ea typeface="隶书"/>
              </a:rPr>
              <a:t>  </a:t>
            </a:r>
            <a:r>
              <a:rPr b="0" lang="zh-CN" sz="6800" spc="-1" strike="noStrike">
                <a:solidFill>
                  <a:srgbClr val="cc3300"/>
                </a:solidFill>
                <a:latin typeface="华文细黑"/>
                <a:ea typeface="华文细黑"/>
              </a:rPr>
              <a:t>5</a:t>
            </a:r>
            <a:r>
              <a:rPr b="0" lang="zh-CN" sz="6800" spc="-1" strike="noStrike">
                <a:solidFill>
                  <a:srgbClr val="cc3300"/>
                </a:solidFill>
                <a:latin typeface="华文细黑"/>
                <a:ea typeface="华文细黑"/>
              </a:rPr>
              <a:t>、看 电 视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4197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我会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8380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15238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一五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30481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三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23623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二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733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四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525780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我会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Object 17" descr=""/>
          <p:cNvPicPr/>
          <p:nvPr/>
        </p:nvPicPr>
        <p:blipFill>
          <a:blip r:embed="rId9"/>
          <a:stretch/>
        </p:blipFill>
        <p:spPr>
          <a:xfrm>
            <a:off x="2514600" y="266688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18" descr=""/>
          <p:cNvPicPr/>
          <p:nvPr/>
        </p:nvPicPr>
        <p:blipFill>
          <a:blip r:embed="rId10"/>
          <a:stretch/>
        </p:blipFill>
        <p:spPr>
          <a:xfrm>
            <a:off x="3581280" y="2209680"/>
            <a:ext cx="1660680" cy="297180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9" descr=""/>
          <p:cNvPicPr/>
          <p:nvPr/>
        </p:nvPicPr>
        <p:blipFill>
          <a:blip r:embed="rId11"/>
          <a:stretch/>
        </p:blipFill>
        <p:spPr>
          <a:xfrm>
            <a:off x="4670280" y="2197080"/>
            <a:ext cx="1173240" cy="28195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6"/>
          <p:cNvSpPr/>
          <p:nvPr/>
        </p:nvSpPr>
        <p:spPr>
          <a:xfrm>
            <a:off x="6019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我会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26" descr="京剧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29" descr="妈妈"/>
          <p:cNvPicPr/>
          <p:nvPr/>
        </p:nvPicPr>
        <p:blipFill>
          <a:blip r:embed="rId3"/>
          <a:stretch/>
        </p:blipFill>
        <p:spPr>
          <a:xfrm>
            <a:off x="1000080" y="502920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31" descr="足球"/>
          <p:cNvPicPr/>
          <p:nvPr/>
        </p:nvPicPr>
        <p:blipFill>
          <a:blip r:embed="rId4"/>
          <a:stretch/>
        </p:blipFill>
        <p:spPr>
          <a:xfrm>
            <a:off x="6248520" y="2514600"/>
            <a:ext cx="2895480" cy="1828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32" descr="舞蹈"/>
          <p:cNvPicPr/>
          <p:nvPr/>
        </p:nvPicPr>
        <p:blipFill>
          <a:blip r:embed="rId5"/>
          <a:stretch/>
        </p:blipFill>
        <p:spPr>
          <a:xfrm>
            <a:off x="6248520" y="0"/>
            <a:ext cx="2895480" cy="1889280"/>
          </a:xfrm>
          <a:prstGeom prst="rect">
            <a:avLst/>
          </a:prstGeom>
          <a:ln w="0">
            <a:noFill/>
          </a:ln>
        </p:spPr>
      </p:pic>
      <p:sp>
        <p:nvSpPr>
          <p:cNvPr id="555" name="Line 1034"/>
          <p:cNvSpPr/>
          <p:nvPr/>
        </p:nvSpPr>
        <p:spPr>
          <a:xfrm>
            <a:off x="2895480" y="1828800"/>
            <a:ext cx="2819520" cy="1600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035"/>
          <p:cNvSpPr/>
          <p:nvPr/>
        </p:nvSpPr>
        <p:spPr>
          <a:xfrm>
            <a:off x="2895480" y="3733920"/>
            <a:ext cx="2819520" cy="1600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036"/>
          <p:cNvSpPr/>
          <p:nvPr/>
        </p:nvSpPr>
        <p:spPr>
          <a:xfrm flipV="1">
            <a:off x="2971800" y="1752480"/>
            <a:ext cx="2819520" cy="3657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039">
            <a:hlinkClick r:id="rId6" action="ppaction://hlinksldjump"/>
          </p:cNvPr>
          <p:cNvSpPr/>
          <p:nvPr/>
        </p:nvSpPr>
        <p:spPr>
          <a:xfrm>
            <a:off x="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Object 1040" descr=""/>
          <p:cNvPicPr/>
          <p:nvPr/>
        </p:nvPicPr>
        <p:blipFill>
          <a:blip r:embed="rId7"/>
          <a:stretch/>
        </p:blipFill>
        <p:spPr>
          <a:xfrm>
            <a:off x="549360" y="685800"/>
            <a:ext cx="1077840" cy="137160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1043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143000" cy="200952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1044" descr=""/>
          <p:cNvPicPr/>
          <p:nvPr/>
        </p:nvPicPr>
        <p:blipFill>
          <a:blip r:embed="rId9"/>
          <a:stretch/>
        </p:blipFill>
        <p:spPr>
          <a:xfrm>
            <a:off x="990720" y="2514600"/>
            <a:ext cx="1006200" cy="20527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046"/>
          <p:cNvSpPr/>
          <p:nvPr/>
        </p:nvSpPr>
        <p:spPr>
          <a:xfrm>
            <a:off x="3048120" y="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25560" y="2608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可真有些奇妙！每个人心里都装着一个秘密，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9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127080" y="48848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每个人心里都装着一个秘密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81532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家人都看电视，我家看电视，真有些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Object 16" descr=""/>
          <p:cNvPicPr/>
          <p:nvPr/>
        </p:nvPicPr>
        <p:blipFill>
          <a:blip r:embed="rId1"/>
          <a:stretch/>
        </p:blipFill>
        <p:spPr>
          <a:xfrm>
            <a:off x="0" y="4648320"/>
            <a:ext cx="5029200" cy="3052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457200" y="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却把一场精彩的球赛关掉，不知为啥换成了京剧，       伊咿呀呀的，唱个没完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3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Object 14" descr=""/>
          <p:cNvPicPr/>
          <p:nvPr/>
        </p:nvPicPr>
        <p:blipFill>
          <a:blip r:embed="rId3"/>
          <a:stretch/>
        </p:blipFill>
        <p:spPr>
          <a:xfrm>
            <a:off x="1295280" y="548640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15" descr=""/>
          <p:cNvPicPr/>
          <p:nvPr/>
        </p:nvPicPr>
        <p:blipFill>
          <a:blip r:embed="rId4"/>
          <a:stretch/>
        </p:blipFill>
        <p:spPr>
          <a:xfrm>
            <a:off x="1981080" y="4952880"/>
            <a:ext cx="1278000" cy="2286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7"/>
          <p:cNvSpPr/>
          <p:nvPr/>
        </p:nvSpPr>
        <p:spPr>
          <a:xfrm>
            <a:off x="457200" y="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却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把一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精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彩的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赛关掉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，不知为啥换成了京剧，       伊咿呀呀的，唱个没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完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3" descr=""/>
          <p:cNvPicPr/>
          <p:nvPr/>
        </p:nvPicPr>
        <p:blipFill>
          <a:blip r:embed="rId1"/>
          <a:stretch/>
        </p:blipFill>
        <p:spPr>
          <a:xfrm>
            <a:off x="-457200" y="3749760"/>
            <a:ext cx="5119560" cy="31082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换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员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1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Object 12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046160" cy="25146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4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换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员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027" descr="妈妈"/>
          <p:cNvPicPr/>
          <p:nvPr/>
        </p:nvPicPr>
        <p:blipFill>
          <a:blip r:embed="rId1"/>
          <a:stretch/>
        </p:blipFill>
        <p:spPr>
          <a:xfrm>
            <a:off x="1143000" y="3962520"/>
            <a:ext cx="1415880" cy="1636560"/>
          </a:xfrm>
          <a:prstGeom prst="rect">
            <a:avLst/>
          </a:prstGeom>
          <a:ln w="0">
            <a:noFill/>
          </a:ln>
        </p:spPr>
      </p:pic>
      <p:pic>
        <p:nvPicPr>
          <p:cNvPr id="583" name="Object 1029" descr=""/>
          <p:cNvPicPr/>
          <p:nvPr/>
        </p:nvPicPr>
        <p:blipFill>
          <a:blip r:embed="rId2"/>
          <a:stretch/>
        </p:blipFill>
        <p:spPr>
          <a:xfrm>
            <a:off x="0" y="4406760"/>
            <a:ext cx="4038480" cy="24512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026"/>
          <p:cNvSpPr/>
          <p:nvPr/>
        </p:nvSpPr>
        <p:spPr>
          <a:xfrm>
            <a:off x="304920" y="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写的文稿。      看着妈妈一脸的疲劳，         我们都提议不再看球赛，     让妈妈听听音乐，看看舞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028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30"/>
          <p:cNvSpPr/>
          <p:nvPr/>
        </p:nvSpPr>
        <p:spPr>
          <a:xfrm>
            <a:off x="304920" y="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写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的文稿。      看着妈妈一脸的疲劳，         我们都提议不再看球赛，     让妈妈听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音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乐，看看舞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蹈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395280" y="117324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王头上有一人，大哥压着可弟身。宝贝小口头上开，大米青草一起吞。一个少女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7010280" y="1219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70102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01028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70102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828800" y="0"/>
            <a:ext cx="259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7010280" y="4952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2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7010280" y="58514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7324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有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人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哥压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可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弟身。宝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口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开，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米青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草一起吞。一个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少女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a</cp:lastModifiedBy>
  <dcterms:modified xsi:type="dcterms:W3CDTF">2015-03-16T14:55:00Z</dcterms:modified>
  <cp:revision>31</cp:revision>
  <dc:subject/>
  <dc:title>第一PPT模板网-WWW.1PPT.COM</dc:title>
</cp:coreProperties>
</file>