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.jpeg" ContentType="image/jpeg"/>
  <Override PartName="/ppt/media/image2.png" ContentType="image/png"/>
  <Override PartName="/ppt/media/image5.gif" ContentType="image/gif"/>
  <Override PartName="/ppt/media/image14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51E9-AE51-49BB-991F-1AC959E3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374-92CB-4E28-B6BE-B05A4C84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B0C33-5195-4F1F-ADB8-BA361E17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8920A-EC3A-4F2A-8F0D-D4C5BE9B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4121D9-43F4-4BCE-997D-17CCD90C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B513C8-7B08-4DF1-B68F-33938CB6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11388-EDB1-49A1-A40E-755B3150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34889-BC6F-4F4A-8E66-DF6CAE2B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16D73-225A-4A01-8DC0-55231789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60975C-FF8A-489E-8258-3D7CA101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F6929-E0E4-429F-80B1-8E983BAF0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8032C-3BB7-4CF3-99B2-21A926D5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0655-2AD6-4534-8FFA-FCB87F5A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E9D8F-E5EA-4D66-AD80-87F5594B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588AA-89A3-4087-AFFE-261B3C8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97FA3-7D36-46D7-B982-DF99F59E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86001-4D6A-4408-897A-28924FD1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A539A-B1A8-4A3E-96D3-9E5D3F32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A8796-6FBA-440A-91D1-AB1CD586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9C1041-C5E7-482B-97FB-7DBFD6C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9B803-DD39-4B49-BEB2-3B4AE46B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BA67AC-1414-4027-9B85-B9A598D0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53D67-F33C-457B-BD8D-510EC118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F69-8AE4-454D-9198-4E4D8482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FEDDD-181A-4166-AEE4-E2B28C1B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505E5-5796-4AD2-A5AB-F945504E5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461DA4-2FB2-4B94-9B22-385C04C6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62609-E017-439E-990C-F47A1D8D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19BDD-27BB-4790-8FDC-B3B1D2C4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88407-0D7A-4821-BA9B-D77D6202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323DD-83D1-4223-ACAC-8A031504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3A515-DCAE-4C40-B7EF-91D66844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BA901-79E1-4188-A718-10D6575D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BB65A-5A52-4B67-B118-16B6AA2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081D-49C8-4738-92CA-70ADF127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C3CE6-912A-4DE4-BC55-7CDD70C7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270FC-FD07-4991-942E-373B9D34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14788-A693-4EE6-B1E7-E79F6F20B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9FD2E-201E-4CDB-9026-1BDD2E237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6F047-379F-44DE-BF52-98899ED6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DA86C-1BFB-4086-BA7C-3AB6BB1B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97B4F-800C-46A2-98E6-ED54DC153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EAF425-AA44-4491-81DB-828A5F59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FE6E0-FA7B-4EC5-8983-1F9A854E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D1FC8-F8FD-4631-AF3F-092C37C2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2C03-A93A-4FFB-8F0B-EFB7875F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7FA23-B63B-4E2F-966F-E81BF6D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E8AE3-CD4A-4B6B-A8A5-726ECB9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3DB8E-5897-412E-87D2-A48F6147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F435B-7B12-41E0-AC7B-6EFFDBF7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5D9E7-A530-4425-8723-74C0D929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48717-BE89-4268-8565-0AD8FD06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16FB4-944E-4FE5-86FE-8CD5340A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A6856-0E95-4F11-A0E0-FC52DE37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7D4C2-371C-447B-864B-47EFE9F3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CBC130-79FA-4639-879C-69833C5E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9CCE-BE94-4263-B9A4-68FDBAD1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864F5-FB24-4781-AB2A-AF14EBE2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5BE93-6B17-4F67-8737-A66E9FA9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DE586-1663-44F8-B98E-0F35DCCE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1B9507-753C-4B88-97A7-8B59F7B7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6DA78-6D79-4C23-84BB-26367E12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B66FE5-2E35-4B68-8243-93A3AF79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3318AD-40D0-409C-92C5-E17AF039D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34A9-A8D1-40CC-8127-D3F8A63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4515-4E97-4440-AD89-83DEA629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BB2-F16D-48A3-88E4-A31DBB7C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BB8DE-762A-44C1-BCC2-ACAA3949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1ED-1A78-44CE-B77C-EE90FCDB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63EF-7975-4AEF-92B6-F2CDED46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F7AF-046C-4DC3-A4FF-7A087136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5C71-A3B6-4D4C-AB2F-5FA86F3E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7CB3-67E7-40D0-8B92-25CF98DC0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36582-554E-47D0-9CC0-409C7C0B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814D9-7A84-4AF7-8CA1-A51403ABD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2DBD6-6BB6-47D5-AB4D-17D8F414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428CA-F531-4618-992D-75C8108E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43DB-ACCF-4687-8810-1C1806AD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047D-D7F0-4266-8633-AD95519E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4D1-E4C9-4D3C-8604-A13E097B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2CC6-F4CE-490C-BCB9-51E04FD9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F59F7-469F-4288-AD1B-64ABFA5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32A60-8CC1-49F7-95D8-960CD4CA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37199-31B1-4585-AC5E-A7CB2ECA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02FA8-0EEE-4C09-9A00-B137511C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92E0-1C8D-4550-AB66-FE48FC0C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5446E-5997-48EC-9EA6-9691AD07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3009E-3416-47AB-BB24-5A4DF825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D5003-D345-435F-9685-50274B15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D14D5-A6EB-43AC-B917-D23FB030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52E3-EEF3-407B-853A-DD559EB2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DD5B8-D258-4A0E-850B-E7733AF5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787A2-7C1A-44A7-B333-207DB6E6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6CC09-36BA-4DA6-8FB5-1460859B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4CB4A-5E33-48CA-9538-0348E371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9AE7F-76D0-4DCB-A60B-EED3AEB9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15540-7C41-4541-A3F0-784862BE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FD62-1EB2-409D-86F2-7F39D635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39FA3-08C8-4D95-91DB-8183EEA3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098EE-9CA3-4A2E-BD05-2049E46E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0F6CA-CF4B-472F-A60B-7ACB0F131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91E-70A4-4255-924B-82CD8A91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6AD9-764C-482C-81F2-4C3894CA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9ABC5-514F-4218-BCE4-637D4621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A648-10D1-46EF-868C-AEC5A2C6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8428F-39F2-4DD6-B83B-9D5815FA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DDB7A-2DB0-4657-BBCC-99CE5E0E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A4AD6-C233-4047-8CDF-EAE58A0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74FBF-87C0-45D1-BC7B-2A5AE2B1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F499F-F4DE-442F-947C-0BEF6AF8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2B351-91AC-42CB-B939-21084D8F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8F673-25B7-40CE-A48B-CE51E1F5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5434-9067-411B-AC72-3B225DE0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C0A29-49FD-4AD0-920F-500FF73D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C694-519A-4A13-B48D-1C8F48D5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C70BB-1295-49EE-B920-203CD97A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D4616-41A7-45C9-8C5D-A75E8757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459FA-6FFF-42C9-B39A-EDECB6D2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B20F2-4178-4AF2-85D3-6AD6AF75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48EA4-71BB-417E-A8E5-A53215E61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A3D94-9D51-4846-ACA7-EA5EFEFA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2C63-42BA-47FF-96B2-531D18E5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F04E4-4AFF-4542-B26C-3B5F3A30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0255-B2A5-4A4D-AF45-39C196C6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2057A-E7CF-4B23-9039-6F239C40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B426B-6335-4613-9A4A-67F8E93F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83ABB-BFA6-4DFC-B2D6-F1ABF97D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0F389-4E04-4CE6-A144-87F8415F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F6F48-DE99-4981-92AC-8EEC3D29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4A8C3-C086-4B4A-947D-F375E5B2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3F41D-8BB3-4837-B267-096E73D3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2A53E-AD14-4D8C-9E98-9C750FFD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2107D-D97C-4DFD-B0B1-EBC3ED02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4305F-C226-4C65-996C-D93579F1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1F5-35A6-440E-9884-27FA49C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46CCF-096F-4BF3-8ED9-92955BC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E8186-0BB5-47FA-B4F4-7764F3E5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13A35-FF81-4690-9EC1-5871D71F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A350F-B60F-4D24-9EAE-EB122213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0584B-85F0-4889-A9A7-A85C85949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A8804-FC64-439D-8D1A-3ECDB47C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94531-20D1-471D-8079-00E8E8A6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35440-F3CD-4B4B-AFD5-87021453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20228-C51E-4157-8724-F9F3E65E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CACD5-482B-4EC1-B144-5EBC56F6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FF6-2AF6-48E3-A9F0-DF99C135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4296A-4CB7-4F01-A08C-EF120D5D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A041C-4FF3-46B4-B2AE-6BEE25D2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8CE77-7199-4F63-9FBE-60C15AC8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77CA9-097B-4FDB-A281-4A03AD5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76E3C-557A-4ECC-9666-5191C3E4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84A7C-7683-4574-BAE4-9A978E1BD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E6E9A-87C2-44A4-9AD5-B9FBFAAF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06B89-025D-4A11-9A69-6BAF3B6D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FB2F1-D7AD-4226-8423-66B68ED0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C3291-D915-4E96-8B97-422209BB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A447-AC8A-42FE-9A06-3E158A394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604B-9AB8-4248-9CFA-C6B38E1BA2E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8AA9-48A5-4C7F-B935-1EDE1D4554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BE81-1015-4451-BC63-81E63A43C36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CEE8-A0E1-4D55-8B9D-DE65645BC9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A02A-EE71-497E-8483-A9D2C53D94B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4909-72CB-45AA-9131-48E179F2FA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65FA-F17E-41CA-B738-FB865ECE0E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D30C-B513-4054-83AD-9B133522AC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1376-C677-4EA4-8304-7ED75816A2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BB35-EEF3-4708-9A58-6395D1704B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AA52-184E-4ED8-A314-DD379B3FC8D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5E32-72D3-4F89-B521-26A768372B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B501-867F-4654-AB3E-02472BDAFD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66B0-FB11-43A4-973D-13A1BCF5D9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93798-6B2F-4E8D-BF56-6271670DFA9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FCF3-6390-4F47-9307-60F4E79FA8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DCF6-2E27-44EC-A641-57E67275459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D74F-22F8-4AE1-B051-3156BE1544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5B23-4A5F-45F9-9A8A-CB88CB6FA33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3DCA-C747-4804-8373-2CBA1BB8E3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5D23-49F8-4E97-A597-CD8939085B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B212-0BDA-41B4-A391-0327AD30B9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4800-1354-4D49-8125-8F0440D478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19A0-D605-4B1B-980B-63F1790A47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slide" Target="slide3.xml"/><Relationship Id="rId18" Type="http://schemas.openxmlformats.org/officeDocument/2006/relationships/slide" Target="slide4.xml"/><Relationship Id="rId19" Type="http://schemas.openxmlformats.org/officeDocument/2006/relationships/slide" Target="slide11.xml"/><Relationship Id="rId20" Type="http://schemas.openxmlformats.org/officeDocument/2006/relationships/slide" Target="slide6.xml"/><Relationship Id="rId21" Type="http://schemas.openxmlformats.org/officeDocument/2006/relationships/slide" Target="slide12.xml"/><Relationship Id="rId22" Type="http://schemas.openxmlformats.org/officeDocument/2006/relationships/slide" Target="slide11.xml"/><Relationship Id="rId23" Type="http://schemas.openxmlformats.org/officeDocument/2006/relationships/image" Target="../media/image4.png"/><Relationship Id="rId24" Type="http://schemas.openxmlformats.org/officeDocument/2006/relationships/image" Target="../media/image5.gif"/><Relationship Id="rId25" Type="http://schemas.openxmlformats.org/officeDocument/2006/relationships/slide" Target="slide13.xml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1" descr=""/>
          <p:cNvPicPr/>
          <p:nvPr/>
        </p:nvPicPr>
        <p:blipFill>
          <a:blip r:embed="rId1"/>
          <a:srcRect l="0" t="0" r="248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Text Box 4" descr=""/>
          <p:cNvPicPr/>
          <p:nvPr/>
        </p:nvPicPr>
        <p:blipFill>
          <a:blip r:embed="rId2"/>
          <a:stretch/>
        </p:blipFill>
        <p:spPr>
          <a:xfrm>
            <a:off x="1695600" y="858960"/>
            <a:ext cx="5181480" cy="155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1027" descr="《开国大典》插图"/>
          <p:cNvPicPr/>
          <p:nvPr/>
        </p:nvPicPr>
        <p:blipFill>
          <a:blip r:embed="rId1"/>
          <a:stretch/>
        </p:blipFill>
        <p:spPr>
          <a:xfrm>
            <a:off x="0" y="0"/>
            <a:ext cx="9144000" cy="5030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028"/>
          <p:cNvSpPr/>
          <p:nvPr/>
        </p:nvSpPr>
        <p:spPr>
          <a:xfrm>
            <a:off x="1523880" y="55627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董希文美术作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开国大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7" name="Picture 1029" descr="DOORIN"/>
          <p:cNvPicPr/>
          <p:nvPr/>
        </p:nvPicPr>
        <p:blipFill>
          <a:blip r:embed="rId2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PPW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Rectangle 4"/>
          <p:cNvSpPr/>
          <p:nvPr/>
        </p:nvSpPr>
        <p:spPr>
          <a:xfrm>
            <a:off x="364824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5" descr="DOORIN"/>
          <p:cNvPicPr/>
          <p:nvPr/>
        </p:nvPicPr>
        <p:blipFill>
          <a:blip r:embed="rId2"/>
          <a:stretch/>
        </p:blipFill>
        <p:spPr>
          <a:xfrm>
            <a:off x="8458200" y="6167520"/>
            <a:ext cx="533520" cy="517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6"/>
          <p:cNvSpPr/>
          <p:nvPr/>
        </p:nvSpPr>
        <p:spPr>
          <a:xfrm>
            <a:off x="685800" y="3124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国大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7"/>
          <p:cNvSpPr/>
          <p:nvPr/>
        </p:nvSpPr>
        <p:spPr>
          <a:xfrm>
            <a:off x="5029200" y="1447920"/>
            <a:ext cx="152280" cy="1447560"/>
          </a:xfrm>
          <a:custGeom>
            <a:avLst/>
            <a:gdLst>
              <a:gd name="textAreaLeft" fmla="*/ 97200 w 152280"/>
              <a:gd name="textAreaRight" fmla="*/ 152640 w 1522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8"/>
          <p:cNvSpPr/>
          <p:nvPr/>
        </p:nvSpPr>
        <p:spPr>
          <a:xfrm>
            <a:off x="5257800" y="10666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宣布开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9"/>
          <p:cNvSpPr/>
          <p:nvPr/>
        </p:nvSpPr>
        <p:spPr>
          <a:xfrm>
            <a:off x="5257800" y="18288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升旗鸣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0"/>
          <p:cNvSpPr/>
          <p:nvPr/>
        </p:nvSpPr>
        <p:spPr>
          <a:xfrm>
            <a:off x="5257800" y="2558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宣读公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1"/>
          <p:cNvSpPr/>
          <p:nvPr/>
        </p:nvSpPr>
        <p:spPr>
          <a:xfrm>
            <a:off x="3809880" y="1828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2"/>
          <p:cNvSpPr/>
          <p:nvPr/>
        </p:nvSpPr>
        <p:spPr>
          <a:xfrm>
            <a:off x="3809880" y="3321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阅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3"/>
          <p:cNvSpPr/>
          <p:nvPr/>
        </p:nvSpPr>
        <p:spPr>
          <a:xfrm>
            <a:off x="3809880" y="43876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游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3429000" y="2133720"/>
            <a:ext cx="304920" cy="2666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6"/>
          <p:cNvSpPr/>
          <p:nvPr/>
        </p:nvSpPr>
        <p:spPr>
          <a:xfrm>
            <a:off x="5105520" y="3397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检阅   欢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7"/>
          <p:cNvSpPr/>
          <p:nvPr/>
        </p:nvSpPr>
        <p:spPr>
          <a:xfrm>
            <a:off x="5105520" y="4464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天上    地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PPW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DOORIN"/>
          <p:cNvPicPr/>
          <p:nvPr/>
        </p:nvPicPr>
        <p:blipFill>
          <a:blip r:embed="rId2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  <p:pic>
        <p:nvPicPr>
          <p:cNvPr id="614" name="开国大典资料片1.mpg" descr=""/>
          <p:cNvPicPr/>
          <p:nvPr/>
        </p:nvPicPr>
        <p:blipFill>
          <a:blip r:embed="rId3"/>
          <a:stretch/>
        </p:blipFill>
        <p:spPr>
          <a:xfrm>
            <a:off x="1066680" y="882720"/>
            <a:ext cx="6934320" cy="472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3" descr="PPW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DOORIN"/>
          <p:cNvPicPr/>
          <p:nvPr/>
        </p:nvPicPr>
        <p:blipFill>
          <a:blip r:embed="rId2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  <p:pic>
        <p:nvPicPr>
          <p:cNvPr id="617" name="开国大典资料片2.asf" descr=""/>
          <p:cNvPicPr/>
          <p:nvPr/>
        </p:nvPicPr>
        <p:blipFill>
          <a:blip r:embed="rId3"/>
          <a:stretch/>
        </p:blipFill>
        <p:spPr>
          <a:xfrm>
            <a:off x="1676520" y="1073160"/>
            <a:ext cx="5715000" cy="467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6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1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0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1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2" descr="PPW004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3"/>
          <p:cNvSpPr/>
          <p:nvPr/>
        </p:nvSpPr>
        <p:spPr>
          <a:xfrm>
            <a:off x="914400" y="685800"/>
            <a:ext cx="3429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7" action="ppaction://hlinksldjump"/>
              </a:rPr>
              <a:t>生字学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914400" y="2117880"/>
            <a:ext cx="3429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8" action="ppaction://hlinksldjump"/>
              </a:rPr>
              <a:t>组词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914400" y="3505320"/>
            <a:ext cx="3429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9" action="ppaction://hlinksldjump"/>
              </a:rPr>
              <a:t>情景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914400" y="493704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课文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4952880" y="685800"/>
            <a:ext cx="3429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0" action="ppaction://hlinksldjump"/>
              </a:rPr>
              <a:t>图片资料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4952880" y="2117880"/>
            <a:ext cx="3429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1" action="ppaction://hlinksldjump"/>
              </a:rPr>
              <a:t>资料片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4952880" y="4937040"/>
            <a:ext cx="3429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2" action="ppaction://hlinksldjump"/>
              </a:rPr>
              <a:t>板书设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《开国大典》课文朗读.wav" descr=""/>
          <p:cNvPicPr/>
          <p:nvPr/>
        </p:nvPicPr>
        <p:blipFill>
          <a:blip r:embed="rId23"/>
          <a:stretch/>
        </p:blipFill>
        <p:spPr>
          <a:xfrm>
            <a:off x="4191120" y="5257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1" descr="DOORIN">
            <a:hlinkClick r:id="" action="ppaction://hlinkshowjump?jump=endshow"/>
          </p:cNvPr>
          <p:cNvPicPr/>
          <p:nvPr/>
        </p:nvPicPr>
        <p:blipFill>
          <a:blip r:embed="rId24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2"/>
          <p:cNvSpPr/>
          <p:nvPr/>
        </p:nvSpPr>
        <p:spPr>
          <a:xfrm>
            <a:off x="4952880" y="3489480"/>
            <a:ext cx="34290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5" action="ppaction://hlinksldjump"/>
              </a:rPr>
              <a:t>资料片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PPW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3"/>
          <p:cNvSpPr/>
          <p:nvPr/>
        </p:nvSpPr>
        <p:spPr>
          <a:xfrm>
            <a:off x="533520" y="99072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协商  汇集  宣布  电钮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533520" y="252900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瞻仰  旗帜  领袖  毛泽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533520" y="397656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城楼檐  徐徐上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533520" y="5424480"/>
            <a:ext cx="807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诞生   聂荣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1066680" y="53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xi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2895480" y="5335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hu@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0"/>
          <p:cNvSpPr/>
          <p:nvPr/>
        </p:nvSpPr>
        <p:spPr>
          <a:xfrm>
            <a:off x="4572000" y="5014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xu1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7162920" y="533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ni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609480" y="20574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zh1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3200400" y="20257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zh@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5029200" y="20574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x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7010280" y="20257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z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6"/>
          <p:cNvSpPr/>
          <p:nvPr/>
        </p:nvSpPr>
        <p:spPr>
          <a:xfrm>
            <a:off x="3200400" y="3473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y2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7"/>
          <p:cNvSpPr/>
          <p:nvPr/>
        </p:nvSpPr>
        <p:spPr>
          <a:xfrm>
            <a:off x="4572000" y="3473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x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8"/>
          <p:cNvSpPr/>
          <p:nvPr/>
        </p:nvSpPr>
        <p:spPr>
          <a:xfrm>
            <a:off x="2438280" y="49975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d4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9"/>
          <p:cNvSpPr/>
          <p:nvPr/>
        </p:nvSpPr>
        <p:spPr>
          <a:xfrm>
            <a:off x="4495680" y="4997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ni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5715000" y="49975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zypyyb"/>
                <a:ea typeface="zypyyb"/>
              </a:rPr>
              <a:t>zh5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21" descr="DOORIN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2" descr="PPW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380880" y="16398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协（    ） 檐（    ） 钮（    ） 泽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胁（    ） 瞻（    ） 扭（    ） 择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宣（    ） 帜（    ） 袖（    ） 徐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喧（    ） 织（    ） 抽（    ） 除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PPW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DOORIN"/>
          <p:cNvPicPr/>
          <p:nvPr/>
        </p:nvPicPr>
        <p:blipFill>
          <a:blip r:embed="rId2"/>
          <a:stretch/>
        </p:blipFill>
        <p:spPr>
          <a:xfrm>
            <a:off x="8534520" y="6262560"/>
            <a:ext cx="457200" cy="44316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"/>
          <p:cNvSpPr/>
          <p:nvPr/>
        </p:nvSpPr>
        <p:spPr>
          <a:xfrm>
            <a:off x="457200" y="1639800"/>
            <a:ext cx="83818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协（    ） 檐（    ） 钮（    ） 泽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胁（    ） 瞻（    ） 扭（    ） 择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宣（    ） 帜（    ） 袖（    ） 徐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喧（    ） 织（    ） 抽（    ） 除（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1219320" y="161460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协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威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1219320" y="356400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宣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喧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7"/>
          <p:cNvSpPr/>
          <p:nvPr/>
        </p:nvSpPr>
        <p:spPr>
          <a:xfrm>
            <a:off x="3124080" y="165888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屋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瞻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8"/>
          <p:cNvSpPr/>
          <p:nvPr/>
        </p:nvSpPr>
        <p:spPr>
          <a:xfrm>
            <a:off x="5105520" y="165888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按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扭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9"/>
          <p:cNvSpPr/>
          <p:nvPr/>
        </p:nvSpPr>
        <p:spPr>
          <a:xfrm>
            <a:off x="7086600" y="165888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润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选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10"/>
          <p:cNvSpPr/>
          <p:nvPr/>
        </p:nvSpPr>
        <p:spPr>
          <a:xfrm>
            <a:off x="3124080" y="356400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旗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纺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105520" y="3564000"/>
            <a:ext cx="99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衣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抽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086600" y="3564000"/>
            <a:ext cx="99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徐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解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3" descr="1949年10月1日开国大典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" descr="党和国家领导人在天安门城楼上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5" descr="开国大典毛主席等党和国家领导人在天安门城楼上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6" descr="毛主席和朱德总司令等领导人在天安门城楼上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8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党和国家领导人参加开国大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毛主席在宣读公告1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" descr="毛主席在宣读公告2"/>
          <p:cNvPicPr/>
          <p:nvPr/>
        </p:nvPicPr>
        <p:blipFill>
          <a:blip r:embed="rId2"/>
          <a:stretch/>
        </p:blipFill>
        <p:spPr>
          <a:xfrm>
            <a:off x="4572000" y="0"/>
            <a:ext cx="4546440" cy="6858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毛主席在宣读公告3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6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宣读公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3" descr="阅兵1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阅兵2"/>
          <p:cNvPicPr/>
          <p:nvPr/>
        </p:nvPicPr>
        <p:blipFill>
          <a:blip r:embed="rId2"/>
          <a:stretch/>
        </p:blipFill>
        <p:spPr>
          <a:xfrm>
            <a:off x="4572000" y="3429000"/>
            <a:ext cx="4648320" cy="35053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阅兵5"/>
          <p:cNvPicPr/>
          <p:nvPr/>
        </p:nvPicPr>
        <p:blipFill>
          <a:blip r:embed="rId3"/>
          <a:stretch/>
        </p:blipFill>
        <p:spPr>
          <a:xfrm>
            <a:off x="0" y="0"/>
            <a:ext cx="4572000" cy="34592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阅兵4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阅兵游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026" descr="北京四中的师生们参加开国大典"/>
          <p:cNvPicPr/>
          <p:nvPr/>
        </p:nvPicPr>
        <p:blipFill>
          <a:blip r:embed="rId1"/>
          <a:stretch/>
        </p:blipFill>
        <p:spPr>
          <a:xfrm>
            <a:off x="0" y="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1027"/>
          <p:cNvSpPr/>
          <p:nvPr/>
        </p:nvSpPr>
        <p:spPr>
          <a:xfrm>
            <a:off x="1981080" y="6095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北京四中的学生参加开国大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00:48:48Z</dcterms:created>
  <dc:creator>第一PPT模板网-WWW.1PPT.COM</dc:creator>
  <dc:description>第一PPT模板网-WWW.1PPT.COM
</dc:description>
  <dc:language>en-US</dc:language>
  <cp:lastModifiedBy>a</cp:lastModifiedBy>
  <dcterms:modified xsi:type="dcterms:W3CDTF">2015-02-09T02:17:16Z</dcterms:modified>
  <cp:revision>13</cp:revision>
  <dc:subject/>
  <dc:title>第一PPT模板网-WWW.1PPT.COM</dc:title>
</cp:coreProperties>
</file>