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BF6-8AB5-46D1-8B33-DCF3D440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A75-16A3-4F7F-A2D1-FA87DC4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F149A-37CF-44A8-A8DC-72240515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AD1E5-C9FE-4CA8-B323-2D8589F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77D1-502D-4652-B2E5-027B3A99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97DF2-E9C3-44CB-911B-300E6901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7B43C-D608-430A-9458-D6EAA15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D739A-0AE7-4119-A647-4641CD5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2BAB5-7D72-4710-916D-3AD08332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63FB8-0C90-4AFC-988C-F448EC3E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8ADFF-DCA7-45AF-BCF9-CCEAFB33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35069-3B7C-4FEA-BD03-AC507894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2AF-EC6A-4685-B7E9-6494BADC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A1B4B-9348-4DF7-B17C-0BE54C2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BBF0E-BBE6-4558-A5D0-DF3B2F48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F1EE2-9A9C-4DDF-927E-1B2514BC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B570-BA6B-4C06-90EE-5962AB06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84A50-7E25-4678-A4F1-22533C2B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87215-601A-443B-AF8B-78C66465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05959-93C5-4224-9434-0439CD0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ABB05-B64D-45D6-A80B-1DE5818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698C5-A2CB-4133-91A3-EC5A5B9A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E2BE-7EA8-4DC0-A702-2CD44291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2D2-5922-4FEB-BAAE-4D3283A6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9975E-52E8-4DC1-933A-25836090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24FB-9012-45ED-97C8-0F00E7A0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070DD-295D-4136-A5EB-DCD3960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14527-A103-457A-AF35-B8313425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DCAD5-C29D-466D-9D01-2331AF9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1FBC1-2C75-4AF1-AA77-804D977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A004D-006B-4D66-8B8B-999EFCE9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4B74F-4FAA-4976-A78E-BFED772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83BA-0EAD-42BC-842A-60B235B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1466A-679B-4E30-9799-0FCD843A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BB84-BA01-4651-BABB-31B05042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DFD1E-9B11-4829-8E35-4701D99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C9A43-DCDF-4777-A5A5-B17D8C7E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9E6E3-7779-4767-A50F-49132850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4C748-5A41-4D75-9BDC-0EC458F4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A19D3-4A18-47B7-839D-7B08C828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6F586-5BFF-43A9-BA7F-115294A9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ACCAD-BC46-47FA-A57F-0F86F8F0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DE7F9-76EC-40FF-BBBB-6AA17CBF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CA02-199B-4E81-AD08-2DE60C2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4176E-0FEF-43AE-B55E-1501961C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5782-9350-4F7B-9200-30D640E3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C15D6-2633-4292-A67B-F40A03F6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D0129-CA7A-4BAF-A1C8-5340637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F0E8E-25D1-4335-A597-C4AB85B3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7941-1E6D-49DB-8832-714983C1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F41E2-F7BD-4061-995C-83114449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93C90-6FE8-40EE-992F-D0E4D3B0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E928F-459E-4B7D-8621-F9FA287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6BD5C-2524-4085-AA53-D75067F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05E19-A6A8-4CA5-935E-EFB09730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ABEAF-84F0-4E4E-83C1-94468894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7840-C039-4049-810A-C94FE24D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6198C-2A5D-4FAF-A6BD-2CA6C3CA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8096E-5CBD-4D33-BA29-7588839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52692-3647-4BFA-BD39-4D9333F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54BC1-16E2-498B-A756-8CE8E7F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F3C14-BA55-477B-BA0E-448DAEBD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7FA4E-86A6-4641-B310-45A7608C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90B27-2470-4464-B4F7-48972152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FE4C-2B0F-462B-9742-DE490E9F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A70-7ECF-4851-9831-C01324F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E928-49A4-4787-9F5C-2F88D498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2806-7EBD-47B4-9978-7057B894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C34-8837-4B47-B493-F2BC73FC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71E0-7BD3-490B-A89C-B7D7818F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2D4F-ADAE-49D0-ABF5-9019F6E1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40EB-F9F0-495E-AE69-59B381CB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5CF9-D632-43A4-AB4B-203AA865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140-B7BD-499D-BC68-81F93D3E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9526-0FB2-410E-A922-0D03546D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77F73-D7B0-4CEF-9BD6-15A4BDB2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A4924-1BA0-4BB9-BC4E-A4BBAC8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3075E-E51B-49BC-9EFB-3571FA1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FA410-54BB-4E21-AA14-245EF088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C85-A4A5-45E1-9467-629E835E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55CB-AD0A-4EBA-8916-55E87A3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B9D0-642F-494D-8E5B-110E7A2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9750A-B106-4BC4-AE25-F6BA463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E72A-D25E-4F4E-BCB1-8DA5E91A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1ABB-2E36-4C01-92F3-392D79BB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73CC-D593-4D01-9DD8-C6A1608B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FD6B-039F-4CE2-A3DE-429C1B32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B4EB-0393-402F-B837-ECF71440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4DC0-24BC-4D97-8A9C-3EE3B90C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F0E62-CC5E-4E8F-9A56-7F195DFC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54B-BDF6-448B-8C90-6D722452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E3EAD-D5FF-43A5-A97D-3300F49E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C837E-894A-4A87-BB9B-EF8C3C76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4C7D-1A8E-4143-BB3C-3B92A81F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BDE72-F312-41BF-B72C-7C6EEA4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FA92-CF9D-4E75-8342-CCB5BECE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C547F-BC03-41C1-BD0E-77ACDB9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1885-3318-4EA5-9BAC-134D1411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ECDE-DD01-4D1A-99CD-56639A46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4FAF-24D5-41D1-AE25-B1A64468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29A07-4D4E-4464-8773-97AE19A2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464-C2F1-4EBA-AE7B-F1E1D839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94DA-DDEE-415E-87A0-C1E413E5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6D91A-657C-4631-B705-C0CE7F95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B817-A9DF-4091-B099-B065C1C5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A5BC-7AFE-4B06-B96C-927D838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D4678-5439-434D-BEEF-90C71817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DD07-8D11-4B46-841B-29F3A2E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A0843-A68D-425B-8C9C-B4D29E6C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59A5-411F-4B36-B5B4-6E7143F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A9D9-AC6E-4BFF-ACB9-4F398FCD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D6350-3D99-4D30-A5E6-C2FC77D3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E5F-C8A4-4F3F-9F13-A278AD23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DA1FF-6184-4B3F-BE91-FF7EEE70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917B5-486E-4868-8C33-C7F82E23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5AF8C-55FB-43F2-8FCA-FBD1D378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CA31-23E4-418C-A774-39B6B208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10D9-D4BF-4ECB-B25B-BA887203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40DD-4548-45FF-B1F9-BD5CAC54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A22FE-7B8D-472D-946A-5CACE67D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085A6-C62E-4C49-8F83-5C209E0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D253-CFBE-4BB2-A5A1-61429386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2D798-FC65-45FE-838C-359C98DD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369-E73E-41B2-8BF8-904C801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DC94-03F0-4382-B13C-CD26D69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AD3AF-3FBC-45B0-9929-40969364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5AC6-3265-4294-B2D1-91C7FA7C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C74C7-07A0-47CD-898C-661D73C9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6BD3-5501-49DE-8712-B1D84375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8BFF-4C6F-49B7-9AE0-0056EA1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9EDC3-864A-48CA-B183-2165C712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1ECD-5186-4DF3-9B3D-D742D3ED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8211-68F7-42AB-ADF0-1E0C9019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B054B-3130-44C1-AB08-8FD1934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701-E722-4F3E-A54D-7735C6D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EB349-AB68-4110-8C15-D2EFC855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5688-E322-4007-AF23-41570C2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47DBE-AFE0-4037-9091-1BB749E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194E-7B6F-4672-9B2E-7F78646D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21F66-9962-403C-A5D3-8DE8FA9F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0A189-E414-4C2F-AF36-68B4469B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7A6B-D23C-46CB-8A4F-F31275B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3C85-267C-4350-997D-41D38B08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3B861-DDE3-43A8-8A14-F16F05D6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581E-699E-4B3E-87FD-B30FAFA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944-50FF-4D5B-B024-EAA3E35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292D2-DEE6-4B11-AB8E-0F2F7FBD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C2B49-245B-438C-BECA-FC02E29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29C4D-BF85-40AB-B89C-CC4BC35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BF5E4-3887-4AB2-A0EA-1E95B16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8ADA0-9E2A-4548-9DB9-0829D20E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547C-8BE7-4F3C-86BA-9361FB10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F309-71A9-46E2-8A2B-44817A7F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F0F42-5498-4095-9410-5441A4FE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BAC8C-CB70-48D9-B4B4-1E0C728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C5447-8A3F-4410-B33F-E86CDE4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6B6-99D2-4659-A853-3FE758D4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2A47-BA59-4E8D-9E06-E80D88465D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B0A4-DE13-4713-A1B5-873528A564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504-547F-42A9-9CAC-E7C6BCBC29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99ED-06A2-48F4-9E41-6CACF4FD6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55AA-6361-4D2F-A1CA-6F542EFD39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9C8-AD81-4D88-A968-2F3D2673FA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7795-BBAE-4481-8A09-33C8454731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99E6-C2E2-4BF6-9309-DFCAF3688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334-9EA1-4F9C-86A1-C9EA2D1139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06A-00F0-43CB-ADFE-75B5D2FBA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C4B-0C99-4330-B6E9-EB8C937A96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EBAD-9A20-4BFC-9ED4-6F1620F3AD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E7C0-7E51-431A-9ACE-E62787C738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0EEE-5649-46E3-8FD5-979C5ECC0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F17-223D-4DD7-8A3C-A0DB7E360B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A68C-B148-4F48-9485-8E00E7AD73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BF5-6CD4-4016-BAA5-EECE4F8174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FE79-70BE-4282-A737-D8FD3CD27F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6A03-B908-413A-A7B3-C3D2A7F95B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E63-D059-4A57-A7BA-A1D03CDEC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4CC2-8539-4E28-9831-B5152B6AD6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3A31-40FC-4C6B-9B84-B71D7A1D98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0674-CA6E-42D4-8D66-9C9C54CA757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113-7828-4E54-8289-1DC39E039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352320" y="1600200"/>
            <a:ext cx="26672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99"/>
                </a:solidFill>
                <a:latin typeface="方正舒体"/>
                <a:ea typeface="方正舒体"/>
              </a:rPr>
              <a:t>看 雪</a:t>
            </a:r>
            <a:r>
              <a:rPr b="0" lang="zh-CN" sz="7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8050e"/>
                </a:solidFill>
                <a:latin typeface="Arial"/>
                <a:ea typeface="华文行楷"/>
              </a:rPr>
              <a:t>跟 我 一 起 来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76212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chinamap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8458200" y="1219320"/>
            <a:ext cx="69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哪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7620120" y="4648320"/>
            <a:ext cx="1523880" cy="1371600"/>
          </a:xfrm>
          <a:custGeom>
            <a:avLst/>
            <a:gdLst>
              <a:gd name="textAreaLeft" fmla="*/ 217440 w 1523880"/>
              <a:gd name="textAreaRight" fmla="*/ 1306440 w 1523880"/>
              <a:gd name="textAreaTop" fmla="*/ 783720 h 1371600"/>
              <a:gd name="textAreaBottom" fmla="*/ 1175760 h 13716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143000" y="242244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台湾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200400" y="24224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商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143000" y="432756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堆雪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876920" y="242244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洁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1143000" y="34131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惊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276720" y="34131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4876920" y="34131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打雪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352680" y="432756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银装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47" name="Picture 10" descr="SO01380_"/>
          <p:cNvPicPr/>
          <p:nvPr/>
        </p:nvPicPr>
        <p:blipFill>
          <a:blip r:embed="rId1"/>
          <a:stretch/>
        </p:blipFill>
        <p:spPr>
          <a:xfrm>
            <a:off x="6362640" y="396252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11"/>
          <p:cNvSpPr/>
          <p:nvPr/>
        </p:nvSpPr>
        <p:spPr>
          <a:xfrm>
            <a:off x="1779480" y="13557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读读下面的词语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P144"/>
          <p:cNvPicPr/>
          <p:nvPr/>
        </p:nvPicPr>
        <p:blipFill>
          <a:blip r:embed="rId1"/>
          <a:stretch/>
        </p:blipFill>
        <p:spPr>
          <a:xfrm>
            <a:off x="0" y="-735120"/>
            <a:ext cx="9144000" cy="75931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838080" y="5791320"/>
            <a:ext cx="7696440" cy="10688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孩子们在干什么？商店橱窗里的雪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什么做成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P1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1371600" y="5867280"/>
            <a:ext cx="6019920" cy="5814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京的小朋友是怎样玩雪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2133720" y="8380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填空，再读一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838080" y="2209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老师（    ）起童年玩雪的（      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685800" y="3276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小伙伴们在雪地上</a:t>
            </a: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(        </a:t>
            </a:r>
            <a:r>
              <a:rPr b="1" lang="zh-CN" sz="3200" spc="-1" strike="noStrike">
                <a:solidFill>
                  <a:srgbClr val="990033"/>
                </a:solidFill>
                <a:latin typeface="宋体"/>
              </a:rPr>
              <a:t>）、（         ），玩得可（       ）了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4451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626148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510552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堆雪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543320" y="3886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打雪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5956920" y="3809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050e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78050e"/>
                </a:solidFill>
                <a:latin typeface="宋体"/>
              </a:rPr>
              <a:t>天上飘着（       ），地上铺着（      ），树上披着</a:t>
            </a:r>
            <a:r>
              <a:rPr b="1" lang="en-US" sz="3600" spc="-1" strike="noStrike">
                <a:solidFill>
                  <a:srgbClr val="78050e"/>
                </a:solidFill>
                <a:latin typeface="宋体"/>
              </a:rPr>
              <a:t>(       </a:t>
            </a:r>
            <a:r>
              <a:rPr b="1" lang="zh-CN" sz="3600" spc="-1" strike="noStrike">
                <a:solidFill>
                  <a:srgbClr val="78050e"/>
                </a:solidFill>
                <a:latin typeface="宋体"/>
              </a:rPr>
              <a:t>），到处一片</a:t>
            </a:r>
            <a:r>
              <a:rPr b="1" lang="zh-CN" sz="3200" spc="-1" strike="noStrike">
                <a:solidFill>
                  <a:srgbClr val="78050e"/>
                </a:solidFill>
                <a:latin typeface="Arial"/>
              </a:rPr>
              <a:t>（           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6576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160020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雪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172200" y="2590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银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352680" y="3124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洁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752480" y="838080"/>
            <a:ext cx="59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</a:rPr>
              <a:t>读一读，注意问话的语气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481040" y="1855800"/>
            <a:ext cx="48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看见过真的雪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488960" y="2743200"/>
            <a:ext cx="47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您是在哪儿见过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1492200" y="3657600"/>
            <a:ext cx="46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京离这儿很远吧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219320" y="43434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时候能带我们到北京去看看真的雪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5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dc:language>en-US</dc:language>
  <cp:lastModifiedBy>a</cp:lastModifiedBy>
  <dcterms:modified xsi:type="dcterms:W3CDTF">2015-03-18T05:54:04Z</dcterms:modified>
  <cp:revision>3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