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  <p:custShowLst>
    <p:custShow name="自定义放映 1" id="0">
      <p:sldLst>
        <p:sld r:id="rId1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CD2E-F3D8-4A17-9158-A7D7D77B9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A112-1544-4452-A2BA-3E6A6604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747EC7-0B38-4F30-A216-6A37C946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A94A97-6491-4196-8FB3-31056252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183CCD-EFFB-4C53-8DB4-6C268131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7FC85D-181F-4CF1-A75A-31B112DC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5DDD18-1E86-42FA-BEC8-22269441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BB2E85-497E-4B01-A71E-9EDB2007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5A9D60-01A2-455B-8830-F63DA5C1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75F069-BDDE-4BE4-924F-ABC16E5C1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B99DC2-D769-47A9-8C01-245A2E30F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A621E8-AC04-498B-95FB-05CB878E0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B5BB-7A3B-46D8-A7C7-4CB57F871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A9A646-771B-48BE-87F2-A311B211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215E72-2676-41AA-B824-56128975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57DBFE-D4CE-471C-BEB1-60F64B03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328BD7-B587-44B1-807F-1F40FBD5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BD6F22-7724-408B-BBD1-C48AFE10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BEFEE8-A7B5-4507-911C-B686F33B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B39EEB-9342-4B54-BC80-A13334F8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3B958F-D68E-4983-8201-BF97C065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6C4F60-FBD6-437B-AEF7-46E0625E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674C58-267E-4171-A23F-AACB579A8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0EE9-744C-4325-996F-8614D18B7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A89B27-98E0-4C21-BDB9-5B1FFE214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254FD-5CC2-40BC-A957-6452D3D7F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78E49-383B-4700-9381-C6AC2872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572994-51DC-4C73-9209-B48EA3AC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C8CF48-CF30-4975-851C-B85D9398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BC76E4-364C-43A8-8B8B-677D5BD8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5DF2D7-1336-4DDB-8FED-2A27F2AA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9AF9D-6688-40DF-B5C5-EDF1DF3E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68DA2-9118-4124-83AB-43E5948C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BB63C8-932C-4C3E-9373-48C92121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5150C-CC36-49E9-96BE-57B1A3551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A43DF8-C413-418A-8C72-8EB0A359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8905D-9644-47C8-9FBC-E463DEB5F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307FDA-FB76-4110-BB20-36BE8B327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71FF86-50AC-4991-AE2D-4BAAD4F6F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D8F857-9A74-4C36-8931-0288D245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8A8F7A-6C68-4A8E-96A4-CD79F19F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6FBB76-1FA8-469B-BB74-1DCD5B15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FB4D23-5C9E-4A9B-9E83-CF1BCC79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0A6D62-FFFD-4F89-A661-32085C6B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55CC65-4FB8-4C6F-9048-5990601E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C9C2-59F1-401B-ADD9-B3405EB9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E734DD-5EF1-4367-B1A2-5876FE3F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E7E742-CE91-49A0-875F-AF82E6A5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0A2F92-A9FA-4A15-BDA8-E8A7F522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79C491-659C-4B1A-A102-D2AA7C2B8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97AB88-051C-43DA-A6D8-1138AED12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BA075D-4311-4CBF-B851-0F0018583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345441-378B-4B0F-A125-9BEAC7A3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C343CE-D18E-4FD3-8B23-D60A9B23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E06792-E9DB-41EE-9A13-98A91A4E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A782F6-60CF-4C4E-9179-08C67864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BCEB-6695-4777-8340-5EE02036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069926-8BAC-4D70-ACFF-FC23CC1B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26D5C4-680F-4233-A1CD-153BC8EF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B770F8-FEB2-4537-8822-72BCDE3A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1631FF-288B-4AD2-A57B-FC750DD3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8F60EE-495D-4D39-BDF4-3C4C7806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86F159-5212-4F99-926C-8DE30B332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52FF0A-1D88-4FCE-B8BD-B1C2C20A8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66E7-E459-455E-B82A-2AF80334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14FE-05C1-48F7-8099-338475EB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34ED9-C422-458B-B137-2FD3E10E6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CB649-520A-406E-8E93-24B0CF84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14DC-C2FF-4346-AEF9-EF1EB2C2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8D4D-C3FB-40BF-8A1B-A401EB2E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0B41-3D27-450C-A620-D654AD01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2A50-5BF2-4310-B607-623B4650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A69B1-DAB9-4358-B20D-B97657EFD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FC8B5-2ED6-4453-A5F0-B7B88F6D7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C0067-DEBE-4513-A2D7-BEC87780F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BD202-6556-44B1-9870-FD1D68C9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5FED7-753F-4924-B5B3-69D55C3C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59060-0390-44B4-966D-06FFD9D0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4135A-3A52-4798-B14A-B93E9D56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97C9-7B42-48B1-9005-FC794E18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1A101-A67D-4252-8DC7-7D994A04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46777-B8BE-4B13-8DCF-7A95048B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6DDA3-AAA1-436D-99FC-27CBF49D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AACA6-5E7F-48F8-9CB5-FF98BC92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1E870-B40B-4F78-8997-E8F05A49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282EF-19B2-4C0C-9166-1B398CC48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4B919-FED8-4A1A-900F-37E7D8253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EB739-7B8F-4D50-A468-8B042866F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3FD4F-B04B-4857-9B61-754DC805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10374-E409-4703-85A7-18B81BB4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766C-204C-4AA8-A8D7-1823CEA9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9ED89-F4B2-432C-AE58-EFDBF824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B0DF8-3867-4B08-9600-BDABBF5E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3C538-CB54-4340-98EA-E7F30714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4117B-A22D-4DE6-8051-916F9504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81230-C93A-4AAC-98F0-9519A6BE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65BA7-34B3-491F-A14F-73681AB8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75B67-149D-4326-AFA4-B6BD19B4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EBE02-2070-42AE-8ADF-F1A504946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F42C8-66FD-4D9A-B309-2000AF8B3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A4486-0983-4DA4-B2A0-121AA9CB2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52DE-5CEA-40AA-92C7-12F14F4A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0095B-C742-4A20-8C40-4B812E18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E553B-5F83-488D-A831-E1D8F381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6624A-1B1E-4439-B77F-97EEE46B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C6179-510C-4F60-BBAD-35A0C2D4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C87E5-DA82-454E-B824-66954E0B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DF496-47AB-4DC4-94D5-62BED7E6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5AB55-7000-4B0F-8736-A8975C69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0609A-A62C-412C-93E8-0074F260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0A0B7-D07D-475C-875C-27775A38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1C850-D6A0-492A-9A33-090CEA1AF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8FAD-B3B1-4B65-819F-A7613C6F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8292F-87F2-408F-ABB9-54AF2B2E4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24333-EEE1-4F6F-80AD-C1FC21E4F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96A57-D7F3-4811-BCE4-79E024A8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BE260-D359-45D3-ADB1-E95D8E07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BAF45-7679-4095-9D06-8004413A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34BF2-B7BD-4613-AD48-952D23FA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5DE0B-94FF-4A01-AC8C-720FAE2D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22AB9-DA2E-4CF7-8227-DB1208A8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B5A29-FFE4-42A6-8401-91C5EBD4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231EA-2E71-4679-BA35-561228D5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D052-45F3-49AF-A619-8571DA76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F639B-A429-40DC-A5A4-529F6482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07B7B-6EF4-44B3-8C1D-FD5F5A88D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4BD2B-8DA0-426D-BC0F-4FE495021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E597A-EA1A-4061-B1E9-B40E52A3D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B8F09-3593-4EE4-BF5F-C3627205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80C9D-FDD8-49DB-A0CD-BE1AEDA8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51698-47D3-4AD8-BDA9-C6E35A24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1957F-2FDF-4CFD-9DA3-9358C7B6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3A9AE-6429-407D-A5D2-524D90D5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2027F-716C-40B5-93B4-FAB44A11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100D-59E3-4D55-B8E1-004D0C96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18E4B-987C-4E9F-88D0-0E857B77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9D3E2-187A-4FED-9491-9A685FBE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D92B9-A79E-4BC5-AE8F-841BA9A9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6BBB9-C2C2-429A-9777-CA93A77B1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394B1-6F04-48A7-AE27-024399EE4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DC941-3E43-4A5C-92CA-AA9B74A39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4BC7B-FBA4-48C5-949D-4B844442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1EC92-92C2-434C-A063-24796A36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21720-AE29-43BB-BE3A-D8FF9433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94067-B9B9-4DC2-8893-E52E8E72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5343-8746-4ABF-804B-632B9B6F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7C1B0-ACDB-418A-A721-E61B843C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A17DE-8DA2-4D93-8CD2-D5A669C4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21A79-F7D5-4EAD-A715-0FD21DCA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38DE0-95AA-4D9F-B9AE-82E940FB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C9770-ECEC-4479-8A0E-FDCAC12B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663FC-0461-40A3-A93D-6A3860F88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6DD22-2659-4AAD-AB37-7CFB92C84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645C4-DA30-4C80-9A8D-2A5D34418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FD67B9-6B4B-4F42-9A0B-924CAD6F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D6C01C-810E-4ECA-BD07-F8C1605C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843A-5AD5-465E-A0FD-7B2AFADE5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7B4E-4FD6-4883-858E-EE993530914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20B0-8B8F-48A3-A21D-24131D76D7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AA8F-F02D-4079-8F95-C747B81FB24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6FD5-EF26-43EF-B170-D8C369754F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1357-B11C-4C4C-A27A-B152CAAB58D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D88A-55EC-497D-A7C0-59793F74F2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B3E4-481E-49EF-A72A-1A471CBDC8B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D2C9-45A4-45BF-A7B9-64F93E6886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F709-9004-47F1-869F-B64D29A64F0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9EA0-C577-4921-9598-7164CDABAA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ED61-6FE3-4867-BB77-8692A70609A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FD46-CDFE-4F7F-841D-B14E94EE2E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6F48-C4FC-429F-8526-B312FE279D2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CEF2-47DC-4CDE-B5A5-F3281CDFE8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7868-709F-427B-AE22-5FAA0C3032A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408C-6479-48C2-A675-6EA82B0059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146A-BF4F-44C4-B20D-F7F1F2055A5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E939-D9A6-4FFC-AF49-2AE2D8A7D4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CA48-7A1D-4F92-A65B-B142D90110E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B210-2952-4D5C-9E67-B25DBB6222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A415-EE67-4C69-B58C-299733889F8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F3F5-DA15-4DD5-B1DD-EF388D7663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DFB2-7D42-42FC-99A7-4BE6EA72E5F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DA9B-BC85-4564-B9DA-D2C70BCB73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3" descr="插图"/>
          <p:cNvPicPr/>
          <p:nvPr/>
        </p:nvPicPr>
        <p:blipFill>
          <a:blip r:embed="rId2"/>
          <a:stretch/>
        </p:blipFill>
        <p:spPr>
          <a:xfrm>
            <a:off x="3693960" y="0"/>
            <a:ext cx="552636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4"/>
          <p:cNvSpPr/>
          <p:nvPr/>
        </p:nvSpPr>
        <p:spPr>
          <a:xfrm>
            <a:off x="79920" y="457200"/>
            <a:ext cx="20091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鲁滨孙漂流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1481400" y="4724280"/>
            <a:ext cx="1642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笛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4" descr="JSK16-3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Rectangle 5"/>
          <p:cNvSpPr/>
          <p:nvPr/>
        </p:nvSpPr>
        <p:spPr>
          <a:xfrm>
            <a:off x="1619280" y="1484280"/>
            <a:ext cx="7273800" cy="9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宋体-方正超大字符集"/>
              </a:rPr>
              <a:t>笛福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是英国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8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世纪启蒙文学的重要作家，他的代表作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《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鲁滨孙飘流记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》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是一部流传很广、影响很大的文学名著，这部小说是笛福受当时一个真实故事的启发而创作的。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704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年苏格兰水手赛尔科克在海上与船长发生争吵，被船长遗弃在荒岛上，四年后被救回英国。赛尔科克在荒岛上并没有作出什么值得颂扬的英雄事迹。但笛福塑造的鲁滨孙却完全是个新人，成了当时中小资产阶级心目中的英雄人物，是西方文学中第一个理想化的新兴资产者形象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4"/>
          <p:cNvSpPr/>
          <p:nvPr/>
        </p:nvSpPr>
        <p:spPr>
          <a:xfrm>
            <a:off x="914400" y="9907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自读课文，思考：课文讲了一件什么事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914400" y="29527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本文写的是一位叫鲁滨孙的英国人，在一次航海中船翻漂流到一座荒无人烟的小岛上，战胜种种困难，历尽磨难，生活了二十多年之久，最后终于获救回到英国的一件事。</a:t>
            </a: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《鲁滨孙漂流记》朗读.MP3" descr=""/>
          <p:cNvPicPr/>
          <p:nvPr/>
        </p:nvPicPr>
        <p:blipFill>
          <a:blip r:embed="rId2"/>
          <a:stretch/>
        </p:blipFill>
        <p:spPr>
          <a:xfrm>
            <a:off x="1258920" y="9079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540"/>
                    </p:tgtEl>
                  </p:cond>
                </p:stCondLst>
                <p:childTnLst>
                  <p:par>
                    <p:cTn id="17" nodeType="clickEffect" fill="hold">
                      <p:stCondLst>
                        <p:cond evt="onClick">
                          <p:tgtEl>
                            <p:spTgt spid="540"/>
                          </p:tgtEl>
                        </p:cond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367387" fill="hold"/>
                                        <p:tgtEl>
                                          <p:spTgt spid="5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课文按什么顺序写的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写了哪几件事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按时间顺序写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写了遇险上岛、建房定居、养牧种植、救“星期五”、回到英国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5"/>
          <p:cNvSpPr/>
          <p:nvPr/>
        </p:nvSpPr>
        <p:spPr>
          <a:xfrm>
            <a:off x="304920" y="68580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</a:t>
            </a:r>
            <a:r>
              <a:rPr b="1" lang="zh-CN" sz="3600" spc="-1" strike="noStrike">
                <a:solidFill>
                  <a:srgbClr val="3333cc"/>
                </a:solidFill>
                <a:latin typeface="华文行楷"/>
                <a:ea typeface="华文行楷"/>
              </a:rPr>
              <a:t>默读课文，思考：鲁滨孙漂流到荒岛，遇到了什么困难？他是怎么解决的？从中你体会到什么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8"/>
          <p:cNvSpPr/>
          <p:nvPr/>
        </p:nvSpPr>
        <p:spPr>
          <a:xfrm>
            <a:off x="6443640" y="2997360"/>
            <a:ext cx="1371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13"/>
          <p:cNvSpPr/>
          <p:nvPr/>
        </p:nvSpPr>
        <p:spPr>
          <a:xfrm>
            <a:off x="1979640" y="27082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食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14"/>
          <p:cNvSpPr/>
          <p:nvPr/>
        </p:nvSpPr>
        <p:spPr>
          <a:xfrm>
            <a:off x="4716360" y="2708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住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15"/>
          <p:cNvSpPr/>
          <p:nvPr/>
        </p:nvSpPr>
        <p:spPr>
          <a:xfrm>
            <a:off x="1979640" y="386064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安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16"/>
          <p:cNvSpPr/>
          <p:nvPr/>
        </p:nvSpPr>
        <p:spPr>
          <a:xfrm>
            <a:off x="4788000" y="378936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孤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19"/>
          <p:cNvSpPr/>
          <p:nvPr/>
        </p:nvSpPr>
        <p:spPr>
          <a:xfrm>
            <a:off x="826920" y="544500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不畏艰险　机智坚强　聪明能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4"/>
          <p:cNvSpPr/>
          <p:nvPr/>
        </p:nvSpPr>
        <p:spPr>
          <a:xfrm>
            <a:off x="2057400" y="165744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鲁滨孙的经历给了我们什么启发？在学习和生活当中遇到困难时，你是怎样做的？应该怎样做？联系实际谈一谈。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4"/>
          <p:cNvSpPr/>
          <p:nvPr/>
        </p:nvSpPr>
        <p:spPr>
          <a:xfrm>
            <a:off x="1752480" y="457200"/>
            <a:ext cx="586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郑和出使西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AutoShape 5">
            <a:hlinkClick r:id="" action="ppaction://hlinkshowjump?jump=endshow"/>
          </p:cNvPr>
          <p:cNvSpPr/>
          <p:nvPr/>
        </p:nvSpPr>
        <p:spPr>
          <a:xfrm>
            <a:off x="8458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郑和出使西洋.asf" descr=""/>
          <p:cNvPicPr/>
          <p:nvPr/>
        </p:nvPicPr>
        <p:blipFill>
          <a:blip r:embed="rId2"/>
          <a:stretch/>
        </p:blipFill>
        <p:spPr>
          <a:xfrm>
            <a:off x="1828800" y="1752480"/>
            <a:ext cx="5715000" cy="467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restart="whenNotActive" nodeType="interactiveSeq" fill="hold">
                <p:stCondLst>
                  <p:cond evt="onClick">
                    <p:tgtEl>
                      <p:spTgt spid="553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553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5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5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02:03:50Z</dcterms:created>
  <dc:creator>wangliping</dc:creator>
  <dc:description/>
  <dc:language>en-US</dc:language>
  <cp:lastModifiedBy>a</cp:lastModifiedBy>
  <dcterms:modified xsi:type="dcterms:W3CDTF">2015-03-17T05:43:35Z</dcterms:modified>
  <cp:revision>9</cp:revision>
  <dc:subject/>
  <dc:title>PowerPoint 演示文稿</dc:title>
</cp:coreProperties>
</file>