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E0F-C32D-4A57-A892-4045FDD5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E7B-E4EC-43CB-A413-BD62B79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18B5-7B75-47B6-A745-2930A86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06A26-1570-403F-B657-D177C76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CD0B7-53A3-4127-8EC4-51C0041F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EE7D1-CFB6-4BE2-95F2-2A239EF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7EF15-9791-48F4-885F-B07B171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BC113-DEC5-422A-88D2-D2E57AE5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96684-F658-4B90-B62C-F54332A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F12BB-0DF1-45DC-95A8-DCDF31A9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EA6CF-AD66-4001-AF14-F5AE0DE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DF86E-6318-47F6-8E81-3922FD20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AEF-08A2-41DB-97B6-19A62069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AB698-2755-4133-884F-589A5CB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EAB7A-179B-4632-9C57-A092587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51413-AE49-4B19-8389-60DC4FBA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C885B-FA02-4103-81AB-C191EEB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44C28-0A32-4D7D-918C-64E0AE64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AA846-4305-4DC0-A734-DFD73A3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C6C22-1A8A-41F9-BD12-AD9DE334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2018C-1B05-4863-B0A4-45CBD07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9D793-B86C-4E56-B690-3C815FFD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1730B-AD10-460F-97F7-985AF722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B6B-4660-4433-95FE-D9E8B59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DFD46-A853-49D2-9B53-3886B276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B2200-84DA-4429-87C6-F950469B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B812A-66C4-42F4-BF08-3069498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EF5CA-3D27-484B-8BCF-8FBF45D4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6C61F-E768-4907-9523-202A8990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D31E-AE1F-4271-9969-6975100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88B2A-18F4-474A-A75E-3DC4D4B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96C4-1EE9-4B30-968A-26FC26F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1318F-E61F-412C-90F8-36DC6A4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5F2C5-E05E-4622-9338-841E29E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7A43-7FB5-4074-9A9F-77CEA220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F5398-CA24-49B7-BDA7-2E4B56D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640B6-FF5D-4CDE-A7A9-B366BC43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60D48-A300-4E47-90A7-0EDA2B3D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61C43-8AFF-47DB-B703-F5AAC510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57E1F-EEA6-4B3D-AFE5-C93E6FA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C4DB8-D0C2-4776-A6FB-1342AEA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45D30-1C9D-420A-B3EA-3401A4E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C8BBC-CA19-4AE8-874D-3795DE21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23C93-6711-421D-A112-6646DBB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AEE0-0A34-4BB2-B4B6-D68C054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C9F-CCA0-4535-A9CE-DA0EC61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54A7E-2928-4BF8-A947-1F36213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FE723-A8CE-4916-A4A9-037746F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F09D-CECE-4F27-813D-FEFCD3A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BDDED-05EB-4606-88BE-DF96492D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1AE72-3C9A-49DF-81EA-898001FA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181E3-4AD2-427C-98D4-E92A60E9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214A8-D4FE-47E2-BD20-E508691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71E04-2939-49E5-A8D9-869099D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4E25B-86F1-4991-9E21-D85C02C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8FD73-EB89-41E5-AA87-D6209E9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B62F-3156-4662-9B27-71C29E5F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19361-97D7-4470-A7C9-94A95C4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447F4-61FC-47D6-BD27-F22D42A5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13E5B-9484-47D7-8322-5EBAF5C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5E027-3AED-4EB4-A9FB-9F56D93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F0CC6-105C-4E5F-9564-B2BFADB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E0C0E-24E8-4878-983C-2913FA3D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5F134-4CC0-4820-891B-3F534759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41101-A38E-4650-836A-7B8A739A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EEF9E-BE90-43DB-8C41-BB55B81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5D581-CC81-4395-B982-34217A9A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0EF4-65D1-4E9E-94B2-7DDA2ED3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C21AB-817C-4275-9379-35388607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8DD0D-3416-4C15-A6E6-52AFC24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5C6FA-1DBF-45F4-BF23-4E41AE6E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16FA8-18A3-4B59-A52D-10F6110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5D98F-765D-432C-84A8-E71E705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3B0ED-73CE-4AAD-9905-91FD2461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CF40C-C01C-481B-B2B1-4BE116A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A4098-254A-4D13-BBA6-B0738E25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38619-0886-43FA-8C65-BB7CD9E7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ADD4-0809-4CD2-97B3-482C605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40E0-92C5-4EF4-83D3-E9A6395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735-E178-4DB8-B1B6-634E5453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A46-2305-44BE-9E00-8CBA3EA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1419-E775-46BB-8C07-7F87EA2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ECE7-8592-4154-AC7B-A522E38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E6F-BCF1-4C84-9DB6-AF0AFA81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5D7D-645E-4CAE-9377-8370D5F0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5589-68E4-4ED6-A6CC-2AA4BC95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08BA-BBA5-4A56-BFD0-5E2559B8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35A1-D153-4EA3-9AE8-4D9E78F2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73E2-6EA4-4D52-919D-B9C2139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54DA-AD64-4C70-9031-33A1074E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61DF-3C97-42BD-8B5F-AB6BBD13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101-9478-422A-96D0-CEAA340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7111-D98E-4CCE-A990-9F38F3F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5C9B-9EE3-4C88-AE16-A20CEA62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5269-A6B9-4747-BCC2-FFFA818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3B81-4B20-4A48-A11C-8DFAE66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02FA-D252-4A22-9132-747DAE9A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4E50-54DA-4501-8D3A-9A40F205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9602-40B2-43A4-82AA-7654233D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8FC2-0877-4163-BFF1-5369151B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10FA-18B8-4934-A2B0-9C54042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28BE-A782-473C-9D0A-00D3162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FEB-3C14-42FE-9963-0255771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AA36-88BA-4F78-B535-98E57FD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8601-0023-42AD-8173-0874B6D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DAFF-7969-4CED-9877-F3498A8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DCD9-11F3-44D4-89C2-2F56A02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80AD-8502-4D3A-B2AE-DE549C2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A121-14C6-46EE-85BD-C808731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8BD24-BF67-4FE3-AF92-2427A45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AF3E-3338-46D1-B562-6CD18D4D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476F-B078-49BB-B129-422779B4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D8F55-361A-4B47-A52F-937450C5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5E5-FF5A-41D3-B088-F21037A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8982-CE18-4983-A8CC-09B3C67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A1B2-1EF7-45D0-8120-D097AE1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2722E-E1A6-413A-8276-4039448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09B2-5135-4CFE-8997-D47C7F9F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15DF-E9DA-4EFA-8110-5923EA2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6032-E2B7-4580-8FDE-BE501B4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054A-710D-42D9-9177-32DBA39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015D-6C84-4642-9C91-1874667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3F30-7C12-4D57-9C74-55698A0F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45D2-2499-4100-8195-859EDD8A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033-31CB-4745-8713-80A761A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D8F2A-0371-4FBA-B0F3-DAFA169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8E69-97A3-4F08-81D5-45C8E3B9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2BE8-FF72-4918-8C7A-A04EBF3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BCED-7EE1-4D90-8B8E-B9CB3D99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36F4-2CB9-4789-B150-FFA87CC5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8EED7-3E80-47CC-9F37-194047E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0232-4E88-4207-B38B-26817AC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BCC9-4599-48EE-BDB2-C9A7E6E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804C-0A3E-4AD8-9814-7EA1DD1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66F1-BE63-43A7-A043-8B8DDE4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33C-7D34-43AB-A9E4-1769111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415B3-FDDF-43C3-8204-1E335B01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2F26-CC52-418B-BF1C-664916D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229E-2A6C-46DD-9599-B4813412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6CC7-DEB7-4204-952C-946B9D65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41BC-B3AA-4E58-964E-C1D4F7B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35F5-DB3C-4BED-A5BB-7135678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EC0C-8783-43F0-A422-AA917AE6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F7F8F-25DA-4787-A5AF-BA3D5ABB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DC79-9AB5-4C2D-9379-FAADFE6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90F6-41DF-44B0-BB92-AEB0212C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0DF-AF48-4E62-A50E-6295DF3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1F65-0FE6-4052-8E3E-56C966F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A7DE8-B796-41E9-BF44-87DC707E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9B37-4C43-407E-B40D-78A5869E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E4B67-1B82-4239-8D60-517A1C71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9C234-6900-43D3-8264-C69E2539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90E6-50D3-4BBB-A382-874EF13F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8F9F-E1F8-4E72-BCA4-DB63D8A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9762-EBFF-4DE3-BD9E-8D5CCBE3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1DD0-976E-4363-97FC-767BE48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86DE-B313-400A-B5FE-E41DE70C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43E-615F-44B1-86EA-80811AB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1274C-0547-4A33-959B-AF266D0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BF4A0-5281-4ABD-93B8-C062F675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248A-AB35-4DA4-A39E-23EEAA4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5DDD-37E3-4F96-920E-4CD2EA2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CFD4-B99D-493C-9AC0-8851FF5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68B18-82AB-4626-A261-65EC8D60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889E-9494-4348-BEB0-27A4663B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9E261-D43D-465B-9E87-C97F2CC6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5360-1463-48A8-8431-05E1A07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6CF2E-A909-441D-9B94-60AF03C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Freeform 3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2A80-EE77-48AE-818F-97A94F76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B7B-199A-409D-9C3A-F58F9F40F4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6EC-509E-4B54-AEDD-1EF7E3253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F2BE-ED6B-4480-B1AE-2C5F57DB61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0463-8600-4BB8-9786-7635133E6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4D1D-BEC2-4475-9BB4-9D4706BCB5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058-3DA4-48AC-A385-2CFD819EC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C8C8-F01A-40BC-9D9F-38A4AA70F2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D6A1-FE44-407B-B8B2-969A145FD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D52D-F090-4002-A69B-83B5E72F22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E0A-3D05-4BAF-8E98-1B30EA2B9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2A1-1412-4268-B892-3BA2B75219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B54-3142-4B57-9645-EE9B007A8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Freeform 3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1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7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7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8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2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3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7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8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2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3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0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1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2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3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4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5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6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7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8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9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0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1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2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7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88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9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0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91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2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3" y="21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7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03" name="Freeform 98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3" y="21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20C-732E-4B29-9BF8-EFA836E4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5C8-5335-4892-AAEA-5A3F8DC363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5A1-3ED1-4B3D-A750-CAE8769F0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5AF-18D6-406E-8667-F94F45A8D0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8E2-810D-4D62-9839-697A327A8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22A5-7303-4A57-A9BC-205F897BB3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D3A3-B959-4F7F-A704-90F3CB017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3722-9810-47F1-AD09-C73CBF9662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9144-337C-4C37-8A82-808C9F7DB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19CB-BA29-4526-B747-AF01F3FA0E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787-D154-4ECE-8364-37EF502BD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9A79-DB1D-4F20-ACFE-9D10ECB928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093-D55F-41D5-8DB6-A525B0EFB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7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WordArt 4"/>
          <p:cNvSpPr txBox="1"/>
          <p:nvPr/>
        </p:nvSpPr>
        <p:spPr>
          <a:xfrm>
            <a:off x="468360" y="549360"/>
            <a:ext cx="61196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林冲棒打洪教头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2806560" y="4941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13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75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11"/>
          <p:cNvGrpSpPr/>
          <p:nvPr/>
        </p:nvGrpSpPr>
        <p:grpSpPr>
          <a:xfrm>
            <a:off x="2268360" y="620640"/>
            <a:ext cx="6696360" cy="822600"/>
            <a:chOff x="2268360" y="620640"/>
            <a:chExt cx="6696360" cy="822600"/>
          </a:xfrm>
        </p:grpSpPr>
        <p:sp>
          <p:nvSpPr>
            <p:cNvPr id="761" name="Rectangle 2"/>
            <p:cNvSpPr/>
            <p:nvPr/>
          </p:nvSpPr>
          <p:spPr>
            <a:xfrm>
              <a:off x="2268360" y="620640"/>
              <a:ext cx="66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两个差人     押解     好习枪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"/>
            <p:cNvGrpSpPr/>
            <p:nvPr/>
          </p:nvGrpSpPr>
          <p:grpSpPr>
            <a:xfrm>
              <a:off x="3492360" y="1197000"/>
              <a:ext cx="3743640" cy="246240"/>
              <a:chOff x="3492360" y="1197000"/>
              <a:chExt cx="3743640" cy="246240"/>
            </a:xfrm>
          </p:grpSpPr>
          <p:sp>
            <p:nvSpPr>
              <p:cNvPr id="763" name="Text Box 4"/>
              <p:cNvSpPr/>
              <p:nvPr/>
            </p:nvSpPr>
            <p:spPr>
              <a:xfrm>
                <a:off x="3492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5"/>
              <p:cNvSpPr/>
              <p:nvPr/>
            </p:nvSpPr>
            <p:spPr>
              <a:xfrm>
                <a:off x="687708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6"/>
              <p:cNvSpPr/>
              <p:nvPr/>
            </p:nvSpPr>
            <p:spPr>
              <a:xfrm>
                <a:off x="5724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6" name="Picture 7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8"/>
          <p:cNvGrpSpPr/>
          <p:nvPr/>
        </p:nvGrpSpPr>
        <p:grpSpPr>
          <a:xfrm>
            <a:off x="2484360" y="2060640"/>
            <a:ext cx="6335640" cy="2622600"/>
            <a:chOff x="2484360" y="2060640"/>
            <a:chExt cx="6335640" cy="2622600"/>
          </a:xfrm>
        </p:grpSpPr>
        <p:sp>
          <p:nvSpPr>
            <p:cNvPr id="768" name="Text Box 9"/>
            <p:cNvSpPr/>
            <p:nvPr/>
          </p:nvSpPr>
          <p:spPr>
            <a:xfrm>
              <a:off x="2484360" y="2060640"/>
              <a:ext cx="6335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洪教头恼恨林冲，又想赢得这锭银子，便用了浑身的功夫，使出个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把火烧天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”的招式。林冲把棒一横，还了个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拨草寻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”的招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"/>
            <p:cNvSpPr/>
            <p:nvPr/>
          </p:nvSpPr>
          <p:spPr>
            <a:xfrm>
              <a:off x="8317080" y="443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70517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585000" y="260280"/>
            <a:ext cx="1826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拨草寻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4"/>
          <p:cNvSpPr/>
          <p:nvPr/>
        </p:nvSpPr>
        <p:spPr>
          <a:xfrm>
            <a:off x="4951800" y="83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官人今天何故厚待一个犯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3695040" y="234936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位林武师非比他人，乃是东京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军教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2592360" y="4292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位教头比试，不同一般，这锭银子权且作为彩头，谁赢谁就将这银子拿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4572000" y="119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4932360" y="1197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"/>
          <p:cNvSpPr/>
          <p:nvPr/>
        </p:nvSpPr>
        <p:spPr>
          <a:xfrm flipV="1">
            <a:off x="6443640" y="27792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1"/>
          <p:cNvSpPr/>
          <p:nvPr/>
        </p:nvSpPr>
        <p:spPr>
          <a:xfrm>
            <a:off x="478800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442764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2700360" y="50846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4"/>
          <p:cNvSpPr/>
          <p:nvPr/>
        </p:nvSpPr>
        <p:spPr>
          <a:xfrm>
            <a:off x="8532720" y="4653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6227640" y="278136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70517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4"/>
          <p:cNvSpPr/>
          <p:nvPr/>
        </p:nvSpPr>
        <p:spPr>
          <a:xfrm>
            <a:off x="3780000" y="2133720"/>
            <a:ext cx="53640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原因），林冲棒打洪教头，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结果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Line 6"/>
          <p:cNvSpPr/>
          <p:nvPr/>
        </p:nvSpPr>
        <p:spPr>
          <a:xfrm>
            <a:off x="3995640" y="270828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6588000" y="321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3995640" y="2349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圣叹：“水浒所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人有其性情，人有其气质，人有其形状，人有其声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"/>
          <p:cNvSpPr/>
          <p:nvPr/>
        </p:nvSpPr>
        <p:spPr>
          <a:xfrm>
            <a:off x="3780000" y="2781360"/>
            <a:ext cx="53640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）的林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3" descr="linchong"/>
          <p:cNvPicPr/>
          <p:nvPr/>
        </p:nvPicPr>
        <p:blipFill>
          <a:blip r:embed="rId1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6">
            <a:hlinkClick r:id="rId2" action="ppaction://hlinksldjump"/>
          </p:cNvPr>
          <p:cNvSpPr/>
          <p:nvPr/>
        </p:nvSpPr>
        <p:spPr>
          <a:xfrm>
            <a:off x="7812000" y="616572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7">
            <a:hlinkClick r:id="rId3" action="ppaction://hlinksldjump"/>
          </p:cNvPr>
          <p:cNvSpPr/>
          <p:nvPr/>
        </p:nvSpPr>
        <p:spPr>
          <a:xfrm>
            <a:off x="8604360" y="6165720"/>
            <a:ext cx="288720" cy="358920"/>
          </a:xfrm>
          <a:custGeom>
            <a:avLst/>
            <a:gdLst>
              <a:gd name="textAreaLeft" fmla="*/ 67320 w 288720"/>
              <a:gd name="textAreaRight" fmla="*/ 221400 w 288720"/>
              <a:gd name="textAreaTop" fmla="*/ 37800 h 358920"/>
              <a:gd name="textAreaBottom" fmla="*/ 227160 h 358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11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5" name="Picture 8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9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AutoShape 12">
            <a:hlinkClick r:id="rId3" action="ppaction://hlinksldjump"/>
          </p:cNvPr>
          <p:cNvSpPr/>
          <p:nvPr/>
        </p:nvSpPr>
        <p:spPr>
          <a:xfrm>
            <a:off x="8604360" y="6453360"/>
            <a:ext cx="250560" cy="260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6012000" y="17002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●     ●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3708360" y="5445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●        ●         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0"/>
          <p:cNvGrpSpPr/>
          <p:nvPr/>
        </p:nvGrpSpPr>
        <p:grpSpPr>
          <a:xfrm>
            <a:off x="1258920" y="981000"/>
            <a:ext cx="6842160" cy="606600"/>
            <a:chOff x="1258920" y="981000"/>
            <a:chExt cx="6842160" cy="606600"/>
          </a:xfrm>
        </p:grpSpPr>
        <p:sp>
          <p:nvSpPr>
            <p:cNvPr id="801" name="Text Box 18"/>
            <p:cNvSpPr/>
            <p:nvPr/>
          </p:nvSpPr>
          <p:spPr>
            <a:xfrm>
              <a:off x="7093080" y="9810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   ●     ●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9"/>
            <p:cNvSpPr/>
            <p:nvPr/>
          </p:nvSpPr>
          <p:spPr>
            <a:xfrm>
              <a:off x="1258920" y="1341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21"/>
          <p:cNvSpPr/>
          <p:nvPr/>
        </p:nvSpPr>
        <p:spPr>
          <a:xfrm>
            <a:off x="6588000" y="6381720"/>
            <a:ext cx="28908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7020000" y="6381720"/>
            <a:ext cx="28872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3"/>
          <p:cNvSpPr/>
          <p:nvPr/>
        </p:nvSpPr>
        <p:spPr>
          <a:xfrm>
            <a:off x="7524720" y="6381720"/>
            <a:ext cx="289080" cy="260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7" name="Picture 5" descr="第七（2）"/>
            <p:cNvPicPr/>
            <p:nvPr/>
          </p:nvPicPr>
          <p:blipFill>
            <a:blip r:embed="rId1"/>
            <a:stretch/>
          </p:blipFill>
          <p:spPr>
            <a:xfrm>
              <a:off x="0" y="568440"/>
              <a:ext cx="9143640" cy="62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6" descr="diqi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Text Box 9"/>
          <p:cNvSpPr/>
          <p:nvPr/>
        </p:nvSpPr>
        <p:spPr>
          <a:xfrm>
            <a:off x="2843280" y="17622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4643280" y="29973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4356000" y="4797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●       ●       ●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AutoShape 3"/>
          <p:cNvSpPr/>
          <p:nvPr/>
        </p:nvSpPr>
        <p:spPr>
          <a:xfrm>
            <a:off x="8604360" y="6453360"/>
            <a:ext cx="215640" cy="215640"/>
          </a:xfrm>
          <a:custGeom>
            <a:avLst/>
            <a:gdLst>
              <a:gd name="textAreaLeft" fmla="*/ 50040 w 215640"/>
              <a:gd name="textAreaRight" fmla="*/ 165240 w 215640"/>
              <a:gd name="textAreaTop" fmla="*/ 22680 h 215640"/>
              <a:gd name="textAreaBottom" fmla="*/ 136440 h 21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9e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14" name="Picture 5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6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Group 7"/>
          <p:cNvGrpSpPr/>
          <p:nvPr/>
        </p:nvGrpSpPr>
        <p:grpSpPr>
          <a:xfrm>
            <a:off x="1258920" y="981000"/>
            <a:ext cx="6842160" cy="606600"/>
            <a:chOff x="1258920" y="981000"/>
            <a:chExt cx="6842160" cy="606600"/>
          </a:xfrm>
        </p:grpSpPr>
        <p:sp>
          <p:nvSpPr>
            <p:cNvPr id="817" name="Text Box 8"/>
            <p:cNvSpPr/>
            <p:nvPr/>
          </p:nvSpPr>
          <p:spPr>
            <a:xfrm>
              <a:off x="7093080" y="9810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   ●     ●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9"/>
            <p:cNvSpPr/>
            <p:nvPr/>
          </p:nvSpPr>
          <p:spPr>
            <a:xfrm>
              <a:off x="1258920" y="13413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●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AutoShape 12"/>
          <p:cNvSpPr/>
          <p:nvPr/>
        </p:nvSpPr>
        <p:spPr>
          <a:xfrm>
            <a:off x="838836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3794" y="12530"/>
                </a:moveTo>
                <a:lnTo>
                  <a:pt x="17806" y="5524"/>
                </a:lnTo>
                <a:lnTo>
                  <a:pt x="17806" y="1953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719280" y="260280"/>
            <a:ext cx="7885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名子安，字耐庵，姑苏（现苏州）人，生于元贞丙申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。少年聪慧，写得一手好文章，后为至顺辛未科进士。他也曾在钱塘做官两年，但由于不合于当道权贵，弃官归隐，闭门著述。与元末农民起义领袖张士诚结交。后来张士诚兵败，施耐庵为避祸，举家迁徙到淮安，继续著述以自娱。明朝建立之初，朱元璋也曾下诏书请他出来做官，但他仍然坚持不出仕，在当地积德累行，名声极佳。他写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没过几年，就病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22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8"/>
          <p:cNvSpPr/>
          <p:nvPr/>
        </p:nvSpPr>
        <p:spPr>
          <a:xfrm>
            <a:off x="5940360" y="1700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●       ●       ●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0"/>
          <p:cNvSpPr/>
          <p:nvPr/>
        </p:nvSpPr>
        <p:spPr>
          <a:xfrm>
            <a:off x="8388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17806" y="11916"/>
                </a:lnTo>
                <a:lnTo>
                  <a:pt x="3794" y="1892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28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Text Box 9"/>
          <p:cNvSpPr/>
          <p:nvPr/>
        </p:nvSpPr>
        <p:spPr>
          <a:xfrm>
            <a:off x="3708360" y="54450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●        ●               ●        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0"/>
          <p:cNvSpPr/>
          <p:nvPr/>
        </p:nvSpPr>
        <p:spPr>
          <a:xfrm>
            <a:off x="8388360" y="6165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17806" y="11916"/>
                </a:lnTo>
                <a:lnTo>
                  <a:pt x="3794" y="1892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468360" y="1413000"/>
            <a:ext cx="7991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林冲：   武艺高强  忠厚淳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谦逊有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洪教头：自以为是  跋扈嚣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5">
            <a:hlinkClick r:id="" action="ppaction://hlinkshowjump?jump=nextslide"/>
          </p:cNvPr>
          <p:cNvSpPr/>
          <p:nvPr/>
        </p:nvSpPr>
        <p:spPr>
          <a:xfrm>
            <a:off x="5003640" y="5084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3794" y="5574"/>
                </a:moveTo>
                <a:lnTo>
                  <a:pt x="17806" y="12581"/>
                </a:lnTo>
                <a:lnTo>
                  <a:pt x="3794" y="195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5940360" y="5084640"/>
            <a:ext cx="360360" cy="5050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5080"/>
              <a:gd name="textAreaBottom" fmla="*/ 482040 h 505080"/>
            </a:gdLst>
            <a:ahLst/>
            <a:rect l="textAreaLeft" t="textAreaTop" r="textAreaRight" b="textAreaBottom"/>
            <a:pathLst>
              <a:path w="21600" h="30266">
                <a:moveTo>
                  <a:pt x="0" y="0"/>
                </a:moveTo>
                <a:lnTo>
                  <a:pt x="21600" y="0"/>
                </a:lnTo>
                <a:lnTo>
                  <a:pt x="21600" y="30266"/>
                </a:lnTo>
                <a:lnTo>
                  <a:pt x="0" y="30266"/>
                </a:lnTo>
                <a:close/>
              </a:path>
              <a:path fill="lightenLess" w="21600" h="30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66">
                <a:moveTo>
                  <a:pt x="21600" y="0"/>
                </a:moveTo>
                <a:lnTo>
                  <a:pt x="21600" y="30266"/>
                </a:lnTo>
                <a:lnTo>
                  <a:pt x="20200" y="28866"/>
                </a:lnTo>
                <a:lnTo>
                  <a:pt x="20200" y="1400"/>
                </a:lnTo>
                <a:close/>
              </a:path>
              <a:path fill="darkenLess" w="21600" h="30266">
                <a:moveTo>
                  <a:pt x="21600" y="30266"/>
                </a:moveTo>
                <a:lnTo>
                  <a:pt x="0" y="30266"/>
                </a:lnTo>
                <a:lnTo>
                  <a:pt x="1400" y="28866"/>
                </a:lnTo>
                <a:lnTo>
                  <a:pt x="20200" y="28866"/>
                </a:lnTo>
                <a:close/>
              </a:path>
              <a:path fill="lighten" w="21600" h="30266">
                <a:moveTo>
                  <a:pt x="0" y="30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66"/>
                </a:lnTo>
                <a:close/>
              </a:path>
              <a:path fill="darken" w="21600" h="30266">
                <a:moveTo>
                  <a:pt x="3794" y="8126"/>
                </a:moveTo>
                <a:lnTo>
                  <a:pt x="17806" y="15133"/>
                </a:lnTo>
                <a:lnTo>
                  <a:pt x="3794" y="2213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38" name="Picture 3" descr="第三（1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4" descr="第三（2）"/>
            <p:cNvPicPr/>
            <p:nvPr/>
          </p:nvPicPr>
          <p:blipFill>
            <a:blip r:embed="rId2"/>
            <a:stretch/>
          </p:blipFill>
          <p:spPr>
            <a:xfrm>
              <a:off x="0" y="3314880"/>
              <a:ext cx="9143640" cy="354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Line 14"/>
          <p:cNvSpPr/>
          <p:nvPr/>
        </p:nvSpPr>
        <p:spPr>
          <a:xfrm>
            <a:off x="4500720" y="333360"/>
            <a:ext cx="352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5"/>
          <p:cNvSpPr/>
          <p:nvPr/>
        </p:nvSpPr>
        <p:spPr>
          <a:xfrm>
            <a:off x="1258920" y="76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1979640" y="1484280"/>
            <a:ext cx="252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7740720" y="184464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1332000" y="2205000"/>
            <a:ext cx="20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9"/>
          <p:cNvSpPr/>
          <p:nvPr/>
        </p:nvSpPr>
        <p:spPr>
          <a:xfrm>
            <a:off x="558000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0"/>
          <p:cNvSpPr/>
          <p:nvPr/>
        </p:nvSpPr>
        <p:spPr>
          <a:xfrm>
            <a:off x="1187280" y="3716280"/>
            <a:ext cx="66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1187280" y="4076640"/>
            <a:ext cx="655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2"/>
          <p:cNvSpPr/>
          <p:nvPr/>
        </p:nvSpPr>
        <p:spPr>
          <a:xfrm>
            <a:off x="1187280" y="4437000"/>
            <a:ext cx="324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6156360" y="551664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1187280" y="5950080"/>
            <a:ext cx="648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1187280" y="6308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549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49360"/>
              <a:gd name="textAreaBottom" fmla="*/ 521640 h 549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3794" y="13743"/>
                </a:moveTo>
                <a:lnTo>
                  <a:pt x="17806" y="6737"/>
                </a:lnTo>
                <a:lnTo>
                  <a:pt x="17806" y="2074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4" descr="130_jpg"/>
          <p:cNvPicPr/>
          <p:nvPr/>
        </p:nvPicPr>
        <p:blipFill>
          <a:blip r:embed="rId1">
            <a:lum contrast="12000"/>
          </a:blip>
          <a:srcRect l="9188" t="11401" r="7057" b="52967"/>
          <a:stretch/>
        </p:blipFill>
        <p:spPr>
          <a:xfrm>
            <a:off x="539640" y="1052640"/>
            <a:ext cx="7777440" cy="4781520"/>
          </a:xfrm>
          <a:prstGeom prst="rect">
            <a:avLst/>
          </a:prstGeom>
          <a:ln w="0">
            <a:noFill/>
          </a:ln>
        </p:spPr>
      </p:pic>
      <p:sp>
        <p:nvSpPr>
          <p:cNvPr id="855" name="Line 5"/>
          <p:cNvSpPr/>
          <p:nvPr/>
        </p:nvSpPr>
        <p:spPr>
          <a:xfrm>
            <a:off x="5364000" y="234936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6"/>
          <p:cNvSpPr/>
          <p:nvPr/>
        </p:nvSpPr>
        <p:spPr>
          <a:xfrm>
            <a:off x="1042920" y="2924280"/>
            <a:ext cx="66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7"/>
          <p:cNvSpPr/>
          <p:nvPr/>
        </p:nvSpPr>
        <p:spPr>
          <a:xfrm>
            <a:off x="1042920" y="3500280"/>
            <a:ext cx="324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8"/>
          <p:cNvSpPr/>
          <p:nvPr/>
        </p:nvSpPr>
        <p:spPr>
          <a:xfrm>
            <a:off x="1763640" y="4581360"/>
            <a:ext cx="597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9"/>
          <p:cNvSpPr/>
          <p:nvPr/>
        </p:nvSpPr>
        <p:spPr>
          <a:xfrm>
            <a:off x="1116000" y="5157720"/>
            <a:ext cx="38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130_jpg"/>
          <p:cNvPicPr/>
          <p:nvPr/>
        </p:nvPicPr>
        <p:blipFill>
          <a:blip r:embed="rId1"/>
          <a:srcRect l="10748" t="45564" r="5491" b="15470"/>
          <a:stretch/>
        </p:blipFill>
        <p:spPr>
          <a:xfrm>
            <a:off x="539640" y="1268280"/>
            <a:ext cx="7993080" cy="395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" descr="130_jpg"/>
          <p:cNvPicPr/>
          <p:nvPr/>
        </p:nvPicPr>
        <p:blipFill>
          <a:blip r:embed="rId1"/>
          <a:srcRect l="13496" t="84183" r="7057" b="9860"/>
          <a:stretch/>
        </p:blipFill>
        <p:spPr>
          <a:xfrm>
            <a:off x="826920" y="692280"/>
            <a:ext cx="7561440" cy="7668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4" descr="131_jpg"/>
          <p:cNvPicPr/>
          <p:nvPr/>
        </p:nvPicPr>
        <p:blipFill>
          <a:blip r:embed="rId2"/>
          <a:srcRect l="10157" t="10383" r="10823" b="41076"/>
          <a:stretch/>
        </p:blipFill>
        <p:spPr>
          <a:xfrm>
            <a:off x="755640" y="1197000"/>
            <a:ext cx="77770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755640" y="692280"/>
            <a:ext cx="7993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浒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是明代长篇小说，是我国文学史上第一部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农民起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题材的长篇小说。作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施耐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以北宋宋江起义的史料为依据，成功塑造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位英雄好汉的形象，如宋江、林冲、李逵、武松、鲁智深等。它的主要倾向是“官逼民反”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局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只反贪官，不反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9640" y="1844640"/>
            <a:ext cx="835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林教头刺配沧州道   鲁智深大闹野猪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  柴进门招天下客     林冲棒打洪教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林教头风雪山神庙   陆虞候火烧草料场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  朱贵水亭施号箭     林冲雪夜上梁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90000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āng   diān    jiā    dìng   l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826920" y="1484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沧       掂      枷    锭     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971640" y="242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沧州       掂量     枷锁    一锭    抡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1979640" y="3860640"/>
            <a:ext cx="230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  解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押解  起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1042920" y="378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1042920" y="4724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6012000" y="3860640"/>
            <a:ext cx="244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有   还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归还   交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1"/>
          <p:cNvSpPr/>
          <p:nvPr/>
        </p:nvSpPr>
        <p:spPr>
          <a:xfrm>
            <a:off x="4859280" y="3789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471636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900000" y="404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àng     yā      cǎi       piàn     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97164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棒      押      睬      骗      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1258920" y="198900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棒      押运     理睬      骗人      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棒子      押解                  欺骗      白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116000" y="34290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ɑng     xiū       l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1332000" y="4149720"/>
            <a:ext cx="50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裳          羞         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1332000" y="4941720"/>
            <a:ext cx="58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裳          羞愧         溜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霓裳          害羞         滴溜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4"/>
          <p:cNvSpPr/>
          <p:nvPr/>
        </p:nvSpPr>
        <p:spPr>
          <a:xfrm>
            <a:off x="1619280" y="1052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4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5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4284720" y="1773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睬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6" descr="linchong"/>
          <p:cNvPicPr/>
          <p:nvPr/>
        </p:nvPicPr>
        <p:blipFill>
          <a:blip r:embed="rId16"/>
          <a:stretch/>
        </p:blipFill>
        <p:spPr>
          <a:xfrm>
            <a:off x="0" y="0"/>
            <a:ext cx="3643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页脚占位符 2"/>
          <p:cNvSpPr/>
          <p:nvPr/>
        </p:nvSpPr>
        <p:spPr>
          <a:xfrm>
            <a:off x="3124080" y="6168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755640" y="90792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枪棒      款待      衣裳       理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辞      较量      白昼       羞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配      禁军      陷害       押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掂量      踉跄     灰溜溜    非比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依草附木     气势汹汹      措手不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6"/>
          <p:cNvGrpSpPr/>
          <p:nvPr/>
        </p:nvGrpSpPr>
        <p:grpSpPr>
          <a:xfrm>
            <a:off x="2268360" y="620640"/>
            <a:ext cx="6696360" cy="822600"/>
            <a:chOff x="2268360" y="620640"/>
            <a:chExt cx="6696360" cy="822600"/>
          </a:xfrm>
        </p:grpSpPr>
        <p:sp>
          <p:nvSpPr>
            <p:cNvPr id="751" name="Rectangle 4"/>
            <p:cNvSpPr/>
            <p:nvPr/>
          </p:nvSpPr>
          <p:spPr>
            <a:xfrm>
              <a:off x="2268360" y="620640"/>
              <a:ext cx="66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两个差人     押解     好习枪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9"/>
            <p:cNvGrpSpPr/>
            <p:nvPr/>
          </p:nvGrpSpPr>
          <p:grpSpPr>
            <a:xfrm>
              <a:off x="3492360" y="1197000"/>
              <a:ext cx="3743640" cy="246240"/>
              <a:chOff x="3492360" y="1197000"/>
              <a:chExt cx="3743640" cy="246240"/>
            </a:xfrm>
          </p:grpSpPr>
          <p:sp>
            <p:nvSpPr>
              <p:cNvPr id="753" name="Text Box 5"/>
              <p:cNvSpPr/>
              <p:nvPr/>
            </p:nvSpPr>
            <p:spPr>
              <a:xfrm>
                <a:off x="3492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6"/>
              <p:cNvSpPr/>
              <p:nvPr/>
            </p:nvSpPr>
            <p:spPr>
              <a:xfrm>
                <a:off x="687708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Text Box 7"/>
              <p:cNvSpPr/>
              <p:nvPr/>
            </p:nvSpPr>
            <p:spPr>
              <a:xfrm>
                <a:off x="5724360" y="1197000"/>
                <a:ext cx="35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70517"/>
                    </a:solidFill>
                    <a:latin typeface="Arial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6" name="Picture 19" descr="linchong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21"/>
          <p:cNvGrpSpPr/>
          <p:nvPr/>
        </p:nvGrpSpPr>
        <p:grpSpPr>
          <a:xfrm>
            <a:off x="2484360" y="2060640"/>
            <a:ext cx="6335640" cy="2622600"/>
            <a:chOff x="2484360" y="2060640"/>
            <a:chExt cx="6335640" cy="2622600"/>
          </a:xfrm>
        </p:grpSpPr>
        <p:sp>
          <p:nvSpPr>
            <p:cNvPr id="758" name="Text Box 10"/>
            <p:cNvSpPr/>
            <p:nvPr/>
          </p:nvSpPr>
          <p:spPr>
            <a:xfrm>
              <a:off x="2484360" y="2060640"/>
              <a:ext cx="6335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洪教头恼恨林冲，又想赢得这锭银子，便用了浑身的功夫，使出个“把火烧天”的招式。林冲把棒一横，还了个“拨草寻蛇”的招式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0"/>
            <p:cNvSpPr/>
            <p:nvPr/>
          </p:nvSpPr>
          <p:spPr>
            <a:xfrm>
              <a:off x="8317080" y="4437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70517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9:00:36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3:02:06Z</dcterms:modified>
  <cp:revision>42</cp:revision>
  <dc:subject>第一PPT模板网-WWW.1PPT.COM</dc:subject>
  <dc:title>第一PPT模板网-WWW.1PPT.COM</dc:title>
</cp:coreProperties>
</file>