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wmf" ContentType="image/x-wmf"/>
  <Override PartName="/ppt/media/image7.jpeg" ContentType="image/jpeg"/>
  <Override PartName="/ppt/media/image6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226EE-76B7-4A26-A14C-B79F9D48C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325C6-D1D2-4432-A600-86A625838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FD940B-07AE-4567-BB59-E86519C1E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3E4569-6AF8-41C7-8E29-F33FCB093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869414-2533-41CF-8629-B345D5B36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50BD8B-CA9F-4376-A59F-DD370E157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4DC4D3-8F9E-445C-83AD-FD16DE258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F8231D-BF0A-4499-BA57-3214ABF32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C305AB-75B2-4C5B-B649-338317526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5A98B3-5187-43DB-B320-E04D283E6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B5AF4C-4CD3-4867-83A3-7E2CD4221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87CC5C-8B88-4CFD-9FFF-2A7517D1E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0D68D-4BBF-4954-BC57-C703B4BCA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1A5F43-BD28-46EF-BE94-2D69BB894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09629D-C148-4E21-A986-F5254EFA6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07661D-A37A-4436-A0A8-45995F85E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B1BFCE-29DB-4B34-B809-72C069A24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B89DA5-5A57-4E9F-B21C-7186D9E9D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C26180-F7F5-48A4-B516-6047279A1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7357A7-0977-4AE2-87C2-DE464FA95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D22B9E-99AE-40C0-8C89-0695FAC3B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F64373-3891-4972-B0C6-B9206E6AD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493F0B-C831-487C-8A05-FB524A3F9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76366-D086-49B8-842E-259BC6430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C8999D-DCDD-423E-A63F-01D76EDF6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4A9FD7-F8E8-47A1-B514-A3CFFC57B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3AD066-5FB6-4F03-AD85-DA7AAFEFF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4FE312-880C-4F27-99B4-282B6828A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7AF522-9C41-4277-8754-06BE23750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54DDB5-5F85-4CCD-9331-AEB43650B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65E46E-3A60-4218-BF0B-ACA5F87CA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22B5AC-123E-4361-8807-034408731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10598A-7BB1-4348-A3B4-3F3CE7A7B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F7FF0C-EA92-4E4E-9753-A6A914D9C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62629-8D97-4A1D-AF0F-455EA429F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A2C052-7DC7-4A16-A802-AE037FF01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670926-1AD7-48AD-B68D-459F0BEE1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FD7B43-06C3-4AA8-974E-20E4D87BD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13084C-EE9A-4D18-9F3F-5CF89190B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C4110A-DCF0-476A-A9D7-940E72445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0BE1FE-87B4-470A-81E1-14A77878B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4E43EE-9AE8-41D6-B6D8-961264260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AE6894-759D-4507-8E17-9802175B3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2D8E3D-8D1C-4821-B13F-21B13D60F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00ED7E-1885-4E62-AB24-9A2AF5338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494F2-422A-4BC8-AFBE-561794E88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A0248D-3348-4462-BFB2-235C6DCF5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4F5381-DC38-4D4B-8535-67A6A3A4A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E38DEB-F542-4A2E-8F00-95D50241D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C6C90C-22C2-4E23-903E-06F7369E7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8E7062-2A0C-4F60-BBA7-2308A18D8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6A7A5F5-66DE-425D-825A-92CE7F21E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E9BC9BC-C627-414E-BEAB-B72726DAA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EF521E5-3F0C-41B7-B365-D4052958A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0BF52C2-B4ED-4D4E-AA55-90C4AD548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E877420-259C-49E2-AA8F-40CD8037B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944E0-3649-441B-A558-B3F5DD306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FD955FD-2388-4A34-BB11-1E960FA39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2E9E111-0A34-4326-9F46-88ADE1A3B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3FC0E5E-BFA1-4E68-BEC5-D983BC868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FFF1C56-6D61-4D2E-8303-EC6C63E14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1A0B5AB-89B6-4A8C-B4A1-D58ACE012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E86EC74-6EC9-4B13-9AFA-E9BC59633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24389A5-F83E-4902-8DD5-329D96E2C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7725A-FF56-4C93-A66A-05CFE51B7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DB0D5-74D2-4069-AC1B-D529DE03F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D650B-B460-4277-860D-244584215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2F9D7-8D82-4197-A648-51816ECA1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3D6CB-BBCF-4669-BE9B-059041CF0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F8A54-2EFB-4147-A9CA-229089F1B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28704-5739-4C24-BEC5-DACAF6683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A6A7F-7077-43B2-AA9E-808A9817A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82BDD-A237-4AAA-A316-627388D32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51BE0-65E2-4B08-8809-E067F6C67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0C6308-9C25-4751-884D-8BEE650F1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95E29C-473B-418C-AFF4-111D38DF2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08348D-2C06-4B9F-97A2-116D33004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502F4B-1A56-4FA8-B1A6-368E9CCE7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22938F-820B-4195-B646-95A62D357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7EF73-0629-4847-921D-8BA3BB14E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B6C208-46B3-412D-9DB0-063FCCA86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5069B8-911D-416D-A588-B804EBE98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77BF3F-87E2-4DDC-A05B-F3E6300EA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219FE0-83D0-4837-BD90-08CAFFF31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1FE16D-329C-4FC9-AED4-AF0359E15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2A79E2-B1E6-4F76-B38D-B6FA99A60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BA7F14-76CB-4638-A8DE-E957513C3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CE6BCA-7734-4F1C-8BFF-43AE761C7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F717BC-3B8D-4E39-ACC4-5C1C7B1E8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54EA57-361B-4D74-BDAF-EC9670B5B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D4161-9891-47B0-8483-908EED10D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929F20-4C23-4959-B5B0-5A809E1D3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BD25FC-9937-43E4-8E85-2F461E132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1D2BC8-EAEE-4A8E-A151-9F2802273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3F35E4-809C-4079-ABD3-DA0923B59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7E9AF3-9901-4BF7-830B-F93E3E2A1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33E84F-1E39-4C80-8D47-A745E3AF6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B8A363-794B-4805-AB24-D315C4EFD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0070B2-8AEC-472C-8A30-D7227764F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9C1E88-AB1E-479B-A137-248CD430E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E7591C-9D03-4BB7-B1EC-08114DEEB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209CD-9924-42CC-8B03-68A9CBC5E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303A25-3A6A-4606-B978-B9A203824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837038-9FED-4CD0-AEAC-C2439D5E7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C94A8F-2280-4F15-BBC2-E7D1DBCEF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0F29BA-D59F-4BE5-A98D-86C46178D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7D5C8F-3786-45D1-89E7-4F0D51C3B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D27B88-9F68-4F69-B62A-69AE69DE9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CC897A-4C7E-4AE7-9BF3-12AE81922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571453-0618-41DE-B408-8768EE559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14C670-87D0-4820-8228-DEE8BDB93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73398B-6F2C-4025-B3DE-84DC40BDB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EE06D-C2FE-4DFC-97D5-1C67DBE5D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5F0607-EB06-4745-B21A-621493D98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9EA6FA-2E40-4D6D-8458-5015905A0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35A166-1754-4825-826C-0B1B61852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7B08D8-0458-42D2-BD6A-4BB2984CE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A7E891-CF34-429F-B7CF-26785F810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671754-D606-4257-A62C-67E83AED2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FC8CAB-F288-49CA-BEBF-BCE43CDC1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53481F-A936-4362-8CC0-D2749B794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F21CD3-4A9B-4946-ABC9-96B86B9E4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C3E4ED-6FC8-4275-BC38-FCEE5609B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BCFCB-524C-4779-938F-42972810A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F894C8-6C40-408E-91C7-40D821218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3B49AB-90CB-4B89-BDC5-E33758AAB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91E9F7-E01B-4063-880C-22FD8CF76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2C6F92-DA8D-413A-A9DC-37CA2E2B1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70126D-863E-44F5-A323-3D4DAF3D5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3D9913-7011-4679-8B66-42EB48AD5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9A222C-7253-4790-A09C-16A721591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6E588B-3774-4518-B0F8-BEA76E1DA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C78EA3-BA9B-4370-BA9F-68C523C65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83AE8E-B6F0-4769-8A66-14AA58F54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D95A2-0863-4C6B-B4E5-6502226BA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48DCAB-E159-43C1-B755-65AE10039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BFB568-FDD0-4B3C-BB57-D56BA3A3A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0FD9BB-852E-4AAD-871B-38CDECDF6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969AD5-7319-4124-965B-0D8CF96AB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B952A0-1607-4C2E-9A93-B378AC0F0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2E7614-ABF9-4B92-BE29-126F10F52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B44810-26CB-45B5-BBBE-21CD4008E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1ACB14-9323-43A5-9235-7424481D8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CA18A2-5C1F-47F8-BAF5-FAD4E9168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A77839-E05E-43C4-BB8F-664E9BCD2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539F5-E9ED-4EB6-8005-475203849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99D0D8-62D8-4F5E-A473-312F505D0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2C71A9-7046-4230-8B0E-D953549D2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7F42B2-9C06-493E-A4A0-F0FD0CFA7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52F36F-B94E-45D2-8797-00C19A26B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C6862F-B121-4B20-88D6-7CB8AC475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FCF1C6-F3B7-4C70-8DBD-BF3E639B5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DDA650-B4F0-4F4F-84E7-49E8433DD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2B176A-DA4A-4BFE-8F3D-EAAB3DD53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511F3D-018E-4462-B207-69C3DE8DA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125A0A-157A-4D51-9F2F-0917EE683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86F4B-1A3E-4A5F-9A9C-E8E13AFE0A5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506C4-1539-4186-BDB8-23715DE2D55F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8769F-7FF3-401C-88F3-54C665BB8F0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FFD52-F015-40FD-A1CB-39E2779C489E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12C77-281E-481E-9FB4-5F79299F617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3A2A7-6E7E-4962-8E5E-56463B14A422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D0828-93E8-4C01-BB1B-121EC101A66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F06E1-0339-488C-9197-61D92C6616DB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D9B9F-752B-4435-BA02-3927BCD1E5B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1D6BD-CBC3-4F72-A5A1-F49A5B2DF483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9E2F7-6AD1-44BE-B5DD-12B42BD30A0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11F1A-CA24-4EF2-B0EB-668A3C7E57B9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CB187-665A-43E3-BC3F-F335DC04B1D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50469-2BAE-484B-8CE8-DB71F66D9951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31DFB-A842-4540-9DFD-DB07ED5217D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69AE7-F70C-4DA1-8C8C-31D3357AE9AA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B1573-D635-4C30-BE48-6FA56F785FB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AD2DB-58DB-4530-88EE-100AD9028546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86B1D-FA77-4AFF-B198-B8FAF1C84E6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9E9D6-D7A5-42C6-AA8A-B37F143EB0A2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776C1-A787-4CB2-B8C2-2201ABF33E5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82773-9467-47A9-B18B-2FFB3770A096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F0E99-8EB1-4EDB-9743-B1B35E53D03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181F6-5CBC-4AD2-BA5A-6AC9D4650695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D2FA6-BF7D-4779-96F9-A5ADD60E443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9.jpeg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Picture 3" descr="D:\huaniao\23.JPG"/>
          <p:cNvPicPr/>
          <p:nvPr/>
        </p:nvPicPr>
        <p:blipFill>
          <a:blip r:embed="rId1"/>
          <a:stretch/>
        </p:blipFill>
        <p:spPr>
          <a:xfrm>
            <a:off x="0" y="6553080"/>
            <a:ext cx="9144000" cy="304920"/>
          </a:xfrm>
          <a:prstGeom prst="rect">
            <a:avLst/>
          </a:prstGeom>
          <a:ln w="0">
            <a:noFill/>
          </a:ln>
        </p:spPr>
      </p:pic>
      <p:pic>
        <p:nvPicPr>
          <p:cNvPr id="534" name="Picture 10" descr="D:\板书演示\同一直线上二力的合成\二力的合成.jpg"/>
          <p:cNvPicPr/>
          <p:nvPr/>
        </p:nvPicPr>
        <p:blipFill>
          <a:blip r:embed="rId2"/>
          <a:stretch/>
        </p:blipFill>
        <p:spPr>
          <a:xfrm>
            <a:off x="533520" y="1066680"/>
            <a:ext cx="4381560" cy="2667240"/>
          </a:xfrm>
          <a:prstGeom prst="rect">
            <a:avLst/>
          </a:prstGeom>
          <a:ln w="0">
            <a:noFill/>
          </a:ln>
        </p:spPr>
      </p:pic>
      <p:grpSp>
        <p:nvGrpSpPr>
          <p:cNvPr id="535" name="Group 13"/>
          <p:cNvGrpSpPr/>
          <p:nvPr/>
        </p:nvGrpSpPr>
        <p:grpSpPr>
          <a:xfrm>
            <a:off x="609480" y="4114800"/>
            <a:ext cx="7620120" cy="2109960"/>
            <a:chOff x="609480" y="4114800"/>
            <a:chExt cx="7620120" cy="2109960"/>
          </a:xfrm>
        </p:grpSpPr>
        <p:pic>
          <p:nvPicPr>
            <p:cNvPr id="536" name="Picture 2" descr="\\Data_server\共享资源\mandy\自然探胜\绿色使者\0050.jpg"/>
            <p:cNvPicPr/>
            <p:nvPr/>
          </p:nvPicPr>
          <p:blipFill>
            <a:blip r:embed="rId3"/>
            <a:stretch/>
          </p:blipFill>
          <p:spPr>
            <a:xfrm>
              <a:off x="6400800" y="5181480"/>
              <a:ext cx="1828800" cy="10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7" name="WordArt 11"/>
            <p:cNvSpPr txBox="1"/>
            <p:nvPr/>
          </p:nvSpPr>
          <p:spPr>
            <a:xfrm>
              <a:off x="762120" y="4724280"/>
              <a:ext cx="5715000" cy="561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1" strike="noStrike">
                  <a:ln w="0">
                    <a:noFill/>
                  </a:ln>
                  <a:solidFill>
                    <a:srgbClr val="336699"/>
                  </a:solidFill>
                  <a:effectLst>
                    <a:outerShdw dist="40186" dir="1096358" blurRad="0" rotWithShape="0">
                      <a:srgbClr val="c0c0c0"/>
                    </a:outerShdw>
                  </a:effectLst>
                  <a:latin typeface="隶书"/>
                </a:rPr>
                <a:t>同一直线上二力的合成</a:t>
              </a:r>
              <a:endParaRPr b="0" lang="en-US" sz="4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隶书"/>
                <a:ea typeface="隶书"/>
              </a:endParaRPr>
            </a:p>
          </p:txBody>
        </p:sp>
        <p:sp>
          <p:nvSpPr>
            <p:cNvPr id="538" name="Text Box 12"/>
            <p:cNvSpPr/>
            <p:nvPr/>
          </p:nvSpPr>
          <p:spPr>
            <a:xfrm>
              <a:off x="609480" y="4114800"/>
              <a:ext cx="4191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初中物理第一册第八章第五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9" name="Picture 2" descr="D:\huaniao\23.JPG"/>
          <p:cNvPicPr/>
          <p:nvPr/>
        </p:nvPicPr>
        <p:blipFill>
          <a:blip r:embed="rId1"/>
          <a:stretch/>
        </p:blipFill>
        <p:spPr>
          <a:xfrm>
            <a:off x="0" y="6553080"/>
            <a:ext cx="9144000" cy="304920"/>
          </a:xfrm>
          <a:prstGeom prst="rect">
            <a:avLst/>
          </a:prstGeom>
          <a:ln w="0">
            <a:noFill/>
          </a:ln>
        </p:spPr>
      </p:pic>
      <p:pic>
        <p:nvPicPr>
          <p:cNvPr id="540" name="Picture 3" descr="D:\板书演示\同一直线上二力的合成\二力的合成.jpg"/>
          <p:cNvPicPr/>
          <p:nvPr/>
        </p:nvPicPr>
        <p:blipFill>
          <a:blip r:embed="rId2"/>
          <a:stretch/>
        </p:blipFill>
        <p:spPr>
          <a:xfrm>
            <a:off x="457200" y="304920"/>
            <a:ext cx="4381560" cy="2666880"/>
          </a:xfrm>
          <a:prstGeom prst="rect">
            <a:avLst/>
          </a:prstGeom>
          <a:ln w="0">
            <a:noFill/>
          </a:ln>
        </p:spPr>
      </p:pic>
      <p:sp>
        <p:nvSpPr>
          <p:cNvPr id="541" name="Text Box 4"/>
          <p:cNvSpPr/>
          <p:nvPr/>
        </p:nvSpPr>
        <p:spPr>
          <a:xfrm>
            <a:off x="457200" y="3200400"/>
            <a:ext cx="63244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很多人才能拖动的物体，一头大象就能拖动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力的作用效果是相同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Text Box 5"/>
          <p:cNvSpPr/>
          <p:nvPr/>
        </p:nvSpPr>
        <p:spPr>
          <a:xfrm>
            <a:off x="304920" y="480060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　如果一个力产生的效果跟两个力共同作用产生的效果相同，这个力就叫做那两个力的合力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3" name="Picture 2" descr="D:\huaniao\23.JPG"/>
          <p:cNvPicPr/>
          <p:nvPr/>
        </p:nvPicPr>
        <p:blipFill>
          <a:blip r:embed="rId1"/>
          <a:stretch/>
        </p:blipFill>
        <p:spPr>
          <a:xfrm>
            <a:off x="0" y="6543720"/>
            <a:ext cx="9144000" cy="304920"/>
          </a:xfrm>
          <a:prstGeom prst="rect">
            <a:avLst/>
          </a:prstGeom>
          <a:ln w="0">
            <a:noFill/>
          </a:ln>
        </p:spPr>
      </p:pic>
      <p:grpSp>
        <p:nvGrpSpPr>
          <p:cNvPr id="544" name="Group 21"/>
          <p:cNvGrpSpPr/>
          <p:nvPr/>
        </p:nvGrpSpPr>
        <p:grpSpPr>
          <a:xfrm>
            <a:off x="304920" y="228600"/>
            <a:ext cx="3733560" cy="1219320"/>
            <a:chOff x="304920" y="228600"/>
            <a:chExt cx="3733560" cy="1219320"/>
          </a:xfrm>
        </p:grpSpPr>
        <p:pic>
          <p:nvPicPr>
            <p:cNvPr id="545" name="Picture 3" descr="D:\huaniao\23.JPG"/>
            <p:cNvPicPr/>
            <p:nvPr/>
          </p:nvPicPr>
          <p:blipFill>
            <a:blip r:embed="rId2"/>
            <a:stretch/>
          </p:blipFill>
          <p:spPr>
            <a:xfrm>
              <a:off x="304920" y="762120"/>
              <a:ext cx="3733560" cy="12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6" name="WordArt 4"/>
            <p:cNvSpPr txBox="1"/>
            <p:nvPr/>
          </p:nvSpPr>
          <p:spPr>
            <a:xfrm>
              <a:off x="1371600" y="228600"/>
              <a:ext cx="1676520" cy="1219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1" strike="noStrike">
                  <a:ln w="0">
                    <a:noFill/>
                  </a:ln>
                  <a:solidFill>
                    <a:srgbClr val="336699"/>
                  </a:solidFill>
                  <a:effectLst>
                    <a:outerShdw dist="40186" dir="1096358" blurRad="0" rotWithShape="0">
                      <a:srgbClr val="c0c0c0"/>
                    </a:outerShdw>
                  </a:effectLst>
                  <a:latin typeface="宋体"/>
                </a:rPr>
                <a:t>实验</a:t>
              </a:r>
              <a:endPara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宋体"/>
                <a:ea typeface="宋体"/>
              </a:endParaRPr>
            </a:p>
          </p:txBody>
        </p:sp>
      </p:grpSp>
      <p:sp>
        <p:nvSpPr>
          <p:cNvPr id="547" name="Text Box 20"/>
          <p:cNvSpPr/>
          <p:nvPr/>
        </p:nvSpPr>
        <p:spPr>
          <a:xfrm>
            <a:off x="380880" y="388620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　同一直线上，方向相同的两个力的合力，大小等于这两个力的大小之和，方向跟这两个力的方向相同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8" name="Group 40"/>
          <p:cNvGrpSpPr/>
          <p:nvPr/>
        </p:nvGrpSpPr>
        <p:grpSpPr>
          <a:xfrm>
            <a:off x="3809880" y="2362320"/>
            <a:ext cx="4876920" cy="3968640"/>
            <a:chOff x="3809880" y="2362320"/>
            <a:chExt cx="4876920" cy="3968640"/>
          </a:xfrm>
        </p:grpSpPr>
        <p:grpSp>
          <p:nvGrpSpPr>
            <p:cNvPr id="549" name="Group 19"/>
            <p:cNvGrpSpPr/>
            <p:nvPr/>
          </p:nvGrpSpPr>
          <p:grpSpPr>
            <a:xfrm>
              <a:off x="3809880" y="2362320"/>
              <a:ext cx="4876920" cy="3968640"/>
              <a:chOff x="3809880" y="2362320"/>
              <a:chExt cx="4876920" cy="3968640"/>
            </a:xfrm>
          </p:grpSpPr>
          <p:pic>
            <p:nvPicPr>
              <p:cNvPr id="550" name="Object 5" descr=""/>
              <p:cNvPicPr/>
              <p:nvPr/>
            </p:nvPicPr>
            <p:blipFill>
              <a:blip r:embed="rId3"/>
              <a:stretch/>
            </p:blipFill>
            <p:spPr>
              <a:xfrm>
                <a:off x="4943880" y="4461120"/>
                <a:ext cx="867240" cy="1869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1" name="Rectangle 6"/>
              <p:cNvSpPr/>
              <p:nvPr/>
            </p:nvSpPr>
            <p:spPr>
              <a:xfrm>
                <a:off x="4546800" y="3610080"/>
                <a:ext cx="226800" cy="266616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Rectangle 7"/>
              <p:cNvSpPr/>
              <p:nvPr/>
            </p:nvSpPr>
            <p:spPr>
              <a:xfrm>
                <a:off x="5284080" y="3439800"/>
                <a:ext cx="226800" cy="85068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Line 8"/>
              <p:cNvSpPr/>
              <p:nvPr/>
            </p:nvSpPr>
            <p:spPr>
              <a:xfrm>
                <a:off x="5397480" y="4290840"/>
                <a:ext cx="0" cy="283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Rectangle 9"/>
              <p:cNvSpPr/>
              <p:nvPr/>
            </p:nvSpPr>
            <p:spPr>
              <a:xfrm>
                <a:off x="5284080" y="2362320"/>
                <a:ext cx="226800" cy="85068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Line 10"/>
              <p:cNvSpPr/>
              <p:nvPr/>
            </p:nvSpPr>
            <p:spPr>
              <a:xfrm>
                <a:off x="5397480" y="3213000"/>
                <a:ext cx="0" cy="226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556" name="Object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7552440" y="4461120"/>
                <a:ext cx="866880" cy="1869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7" name="Rectangle 12"/>
              <p:cNvSpPr/>
              <p:nvPr/>
            </p:nvSpPr>
            <p:spPr>
              <a:xfrm>
                <a:off x="6928560" y="3610080"/>
                <a:ext cx="226800" cy="266616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Rectangle 13"/>
              <p:cNvSpPr/>
              <p:nvPr/>
            </p:nvSpPr>
            <p:spPr>
              <a:xfrm>
                <a:off x="7893000" y="3326400"/>
                <a:ext cx="226440" cy="85068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Line 15"/>
              <p:cNvSpPr/>
              <p:nvPr/>
            </p:nvSpPr>
            <p:spPr>
              <a:xfrm>
                <a:off x="8006040" y="4177440"/>
                <a:ext cx="0" cy="397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Line 17"/>
              <p:cNvSpPr/>
              <p:nvPr/>
            </p:nvSpPr>
            <p:spPr>
              <a:xfrm>
                <a:off x="4150080" y="4574520"/>
                <a:ext cx="4536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Line 18"/>
              <p:cNvSpPr/>
              <p:nvPr/>
            </p:nvSpPr>
            <p:spPr>
              <a:xfrm>
                <a:off x="3809880" y="6276600"/>
                <a:ext cx="487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2" name="Group 22"/>
            <p:cNvGrpSpPr/>
            <p:nvPr/>
          </p:nvGrpSpPr>
          <p:grpSpPr>
            <a:xfrm>
              <a:off x="4572000" y="3962520"/>
              <a:ext cx="152280" cy="2057400"/>
              <a:chOff x="4572000" y="3962520"/>
              <a:chExt cx="152280" cy="2057400"/>
            </a:xfrm>
          </p:grpSpPr>
          <p:sp>
            <p:nvSpPr>
              <p:cNvPr id="563" name="Line 23"/>
              <p:cNvSpPr/>
              <p:nvPr/>
            </p:nvSpPr>
            <p:spPr>
              <a:xfrm>
                <a:off x="4572000" y="396252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Line 24"/>
              <p:cNvSpPr/>
              <p:nvPr/>
            </p:nvSpPr>
            <p:spPr>
              <a:xfrm>
                <a:off x="4572000" y="426744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Line 25"/>
              <p:cNvSpPr/>
              <p:nvPr/>
            </p:nvSpPr>
            <p:spPr>
              <a:xfrm>
                <a:off x="4572000" y="457236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Line 26"/>
              <p:cNvSpPr/>
              <p:nvPr/>
            </p:nvSpPr>
            <p:spPr>
              <a:xfrm>
                <a:off x="4572000" y="487692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Line 27"/>
              <p:cNvSpPr/>
              <p:nvPr/>
            </p:nvSpPr>
            <p:spPr>
              <a:xfrm>
                <a:off x="4572000" y="518184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Line 28"/>
              <p:cNvSpPr/>
              <p:nvPr/>
            </p:nvSpPr>
            <p:spPr>
              <a:xfrm>
                <a:off x="4572000" y="541044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Line 29"/>
              <p:cNvSpPr/>
              <p:nvPr/>
            </p:nvSpPr>
            <p:spPr>
              <a:xfrm>
                <a:off x="4572000" y="571536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Line 30"/>
              <p:cNvSpPr/>
              <p:nvPr/>
            </p:nvSpPr>
            <p:spPr>
              <a:xfrm>
                <a:off x="4572000" y="601992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1" name="Group 31"/>
            <p:cNvGrpSpPr/>
            <p:nvPr/>
          </p:nvGrpSpPr>
          <p:grpSpPr>
            <a:xfrm>
              <a:off x="6934320" y="3962520"/>
              <a:ext cx="152280" cy="2057400"/>
              <a:chOff x="6934320" y="3962520"/>
              <a:chExt cx="152280" cy="2057400"/>
            </a:xfrm>
          </p:grpSpPr>
          <p:sp>
            <p:nvSpPr>
              <p:cNvPr id="572" name="Line 32"/>
              <p:cNvSpPr/>
              <p:nvPr/>
            </p:nvSpPr>
            <p:spPr>
              <a:xfrm>
                <a:off x="6934320" y="396252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Line 33"/>
              <p:cNvSpPr/>
              <p:nvPr/>
            </p:nvSpPr>
            <p:spPr>
              <a:xfrm>
                <a:off x="6934320" y="426744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Line 34"/>
              <p:cNvSpPr/>
              <p:nvPr/>
            </p:nvSpPr>
            <p:spPr>
              <a:xfrm>
                <a:off x="6934320" y="457236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Line 35"/>
              <p:cNvSpPr/>
              <p:nvPr/>
            </p:nvSpPr>
            <p:spPr>
              <a:xfrm>
                <a:off x="6934320" y="487692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Line 36"/>
              <p:cNvSpPr/>
              <p:nvPr/>
            </p:nvSpPr>
            <p:spPr>
              <a:xfrm>
                <a:off x="6934320" y="518184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Line 37"/>
              <p:cNvSpPr/>
              <p:nvPr/>
            </p:nvSpPr>
            <p:spPr>
              <a:xfrm>
                <a:off x="6934320" y="541044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Line 38"/>
              <p:cNvSpPr/>
              <p:nvPr/>
            </p:nvSpPr>
            <p:spPr>
              <a:xfrm>
                <a:off x="6934320" y="571536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Line 39"/>
              <p:cNvSpPr/>
              <p:nvPr/>
            </p:nvSpPr>
            <p:spPr>
              <a:xfrm>
                <a:off x="6934320" y="601992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0" name="Picture 2" descr="D:\huaniao\23.JPG"/>
          <p:cNvPicPr/>
          <p:nvPr/>
        </p:nvPicPr>
        <p:blipFill>
          <a:blip r:embed="rId1"/>
          <a:stretch/>
        </p:blipFill>
        <p:spPr>
          <a:xfrm>
            <a:off x="0" y="6543720"/>
            <a:ext cx="9144000" cy="304920"/>
          </a:xfrm>
          <a:prstGeom prst="rect">
            <a:avLst/>
          </a:prstGeom>
          <a:ln w="0">
            <a:noFill/>
          </a:ln>
        </p:spPr>
      </p:pic>
      <p:grpSp>
        <p:nvGrpSpPr>
          <p:cNvPr id="581" name="Group 3"/>
          <p:cNvGrpSpPr/>
          <p:nvPr/>
        </p:nvGrpSpPr>
        <p:grpSpPr>
          <a:xfrm>
            <a:off x="304920" y="228600"/>
            <a:ext cx="3733560" cy="1219320"/>
            <a:chOff x="304920" y="228600"/>
            <a:chExt cx="3733560" cy="1219320"/>
          </a:xfrm>
        </p:grpSpPr>
        <p:pic>
          <p:nvPicPr>
            <p:cNvPr id="582" name="Picture 4" descr="D:\huaniao\23.JPG"/>
            <p:cNvPicPr/>
            <p:nvPr/>
          </p:nvPicPr>
          <p:blipFill>
            <a:blip r:embed="rId2"/>
            <a:stretch/>
          </p:blipFill>
          <p:spPr>
            <a:xfrm>
              <a:off x="304920" y="762120"/>
              <a:ext cx="3733560" cy="12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WordArt 5"/>
            <p:cNvSpPr txBox="1"/>
            <p:nvPr/>
          </p:nvSpPr>
          <p:spPr>
            <a:xfrm>
              <a:off x="1371600" y="228600"/>
              <a:ext cx="1676520" cy="1219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1" strike="noStrike">
                  <a:ln w="0">
                    <a:noFill/>
                  </a:ln>
                  <a:solidFill>
                    <a:srgbClr val="336699"/>
                  </a:solidFill>
                  <a:effectLst>
                    <a:outerShdw dist="40186" dir="1096358" blurRad="0" rotWithShape="0">
                      <a:srgbClr val="c0c0c0"/>
                    </a:outerShdw>
                  </a:effectLst>
                  <a:latin typeface="宋体"/>
                </a:rPr>
                <a:t>实验</a:t>
              </a:r>
              <a:endPara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宋体"/>
                <a:ea typeface="宋体"/>
              </a:endParaRPr>
            </a:p>
          </p:txBody>
        </p:sp>
      </p:grpSp>
      <p:sp>
        <p:nvSpPr>
          <p:cNvPr id="584" name="Text Box 22"/>
          <p:cNvSpPr/>
          <p:nvPr/>
        </p:nvSpPr>
        <p:spPr>
          <a:xfrm>
            <a:off x="304920" y="472428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　同一直线上，方向相反的两个力的合力，大小等于这两个力的大小之差，方向跟较大的那个力相同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5" name="Group 90"/>
          <p:cNvGrpSpPr/>
          <p:nvPr/>
        </p:nvGrpSpPr>
        <p:grpSpPr>
          <a:xfrm>
            <a:off x="4267080" y="228600"/>
            <a:ext cx="4572000" cy="3335400"/>
            <a:chOff x="4267080" y="228600"/>
            <a:chExt cx="4572000" cy="3335400"/>
          </a:xfrm>
        </p:grpSpPr>
        <p:sp>
          <p:nvSpPr>
            <p:cNvPr id="586" name="Line 8"/>
            <p:cNvSpPr/>
            <p:nvPr/>
          </p:nvSpPr>
          <p:spPr>
            <a:xfrm>
              <a:off x="4267080" y="846000"/>
              <a:ext cx="457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7" name="Group 20"/>
            <p:cNvGrpSpPr/>
            <p:nvPr/>
          </p:nvGrpSpPr>
          <p:grpSpPr>
            <a:xfrm>
              <a:off x="4699080" y="228600"/>
              <a:ext cx="3849120" cy="3335400"/>
              <a:chOff x="4699080" y="228600"/>
              <a:chExt cx="3849120" cy="3335400"/>
            </a:xfrm>
          </p:grpSpPr>
          <p:pic>
            <p:nvPicPr>
              <p:cNvPr id="588" name="Object 6" descr=""/>
              <p:cNvPicPr/>
              <p:nvPr/>
            </p:nvPicPr>
            <p:blipFill>
              <a:blip r:embed="rId3"/>
              <a:stretch/>
            </p:blipFill>
            <p:spPr>
              <a:xfrm>
                <a:off x="5378760" y="846000"/>
                <a:ext cx="945000" cy="2035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9" name="Rectangle 9"/>
              <p:cNvSpPr/>
              <p:nvPr/>
            </p:nvSpPr>
            <p:spPr>
              <a:xfrm>
                <a:off x="4699080" y="846000"/>
                <a:ext cx="185040" cy="253260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Rectangle 10"/>
              <p:cNvSpPr/>
              <p:nvPr/>
            </p:nvSpPr>
            <p:spPr>
              <a:xfrm>
                <a:off x="6923520" y="846000"/>
                <a:ext cx="185040" cy="253260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591" name="Object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7603200" y="846000"/>
                <a:ext cx="945000" cy="2035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2" name="Rectangle 13"/>
              <p:cNvSpPr/>
              <p:nvPr/>
            </p:nvSpPr>
            <p:spPr>
              <a:xfrm>
                <a:off x="5749560" y="228600"/>
                <a:ext cx="185040" cy="61740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Rectangle 14"/>
              <p:cNvSpPr/>
              <p:nvPr/>
            </p:nvSpPr>
            <p:spPr>
              <a:xfrm>
                <a:off x="5749560" y="2946240"/>
                <a:ext cx="185040" cy="61776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Rectangle 15"/>
              <p:cNvSpPr/>
              <p:nvPr/>
            </p:nvSpPr>
            <p:spPr>
              <a:xfrm>
                <a:off x="8035920" y="2946240"/>
                <a:ext cx="185040" cy="61776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Line 16"/>
              <p:cNvSpPr/>
              <p:nvPr/>
            </p:nvSpPr>
            <p:spPr>
              <a:xfrm>
                <a:off x="5873040" y="846000"/>
                <a:ext cx="0" cy="308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Line 17"/>
              <p:cNvSpPr/>
              <p:nvPr/>
            </p:nvSpPr>
            <p:spPr>
              <a:xfrm flipV="1">
                <a:off x="5811120" y="2760840"/>
                <a:ext cx="0" cy="185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Line 19"/>
              <p:cNvSpPr/>
              <p:nvPr/>
            </p:nvSpPr>
            <p:spPr>
              <a:xfrm flipV="1">
                <a:off x="8097840" y="2698920"/>
                <a:ext cx="0" cy="246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8" name="Group 72"/>
            <p:cNvGrpSpPr/>
            <p:nvPr/>
          </p:nvGrpSpPr>
          <p:grpSpPr>
            <a:xfrm>
              <a:off x="4724280" y="1066680"/>
              <a:ext cx="152280" cy="2057400"/>
              <a:chOff x="4724280" y="1066680"/>
              <a:chExt cx="152280" cy="2057400"/>
            </a:xfrm>
          </p:grpSpPr>
          <p:sp>
            <p:nvSpPr>
              <p:cNvPr id="599" name="Line 73"/>
              <p:cNvSpPr/>
              <p:nvPr/>
            </p:nvSpPr>
            <p:spPr>
              <a:xfrm>
                <a:off x="4724280" y="106668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Line 74"/>
              <p:cNvSpPr/>
              <p:nvPr/>
            </p:nvSpPr>
            <p:spPr>
              <a:xfrm>
                <a:off x="4724280" y="137160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Line 75"/>
              <p:cNvSpPr/>
              <p:nvPr/>
            </p:nvSpPr>
            <p:spPr>
              <a:xfrm>
                <a:off x="4724280" y="167652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Line 76"/>
              <p:cNvSpPr/>
              <p:nvPr/>
            </p:nvSpPr>
            <p:spPr>
              <a:xfrm>
                <a:off x="4724280" y="198108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Line 77"/>
              <p:cNvSpPr/>
              <p:nvPr/>
            </p:nvSpPr>
            <p:spPr>
              <a:xfrm>
                <a:off x="4724280" y="228600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Line 78"/>
              <p:cNvSpPr/>
              <p:nvPr/>
            </p:nvSpPr>
            <p:spPr>
              <a:xfrm>
                <a:off x="4724280" y="251460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Line 79"/>
              <p:cNvSpPr/>
              <p:nvPr/>
            </p:nvSpPr>
            <p:spPr>
              <a:xfrm>
                <a:off x="4724280" y="281952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Line 80"/>
              <p:cNvSpPr/>
              <p:nvPr/>
            </p:nvSpPr>
            <p:spPr>
              <a:xfrm>
                <a:off x="4724280" y="312408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7" name="Group 81"/>
            <p:cNvGrpSpPr/>
            <p:nvPr/>
          </p:nvGrpSpPr>
          <p:grpSpPr>
            <a:xfrm>
              <a:off x="6934320" y="1066680"/>
              <a:ext cx="152280" cy="2057400"/>
              <a:chOff x="6934320" y="1066680"/>
              <a:chExt cx="152280" cy="2057400"/>
            </a:xfrm>
          </p:grpSpPr>
          <p:sp>
            <p:nvSpPr>
              <p:cNvPr id="608" name="Line 82"/>
              <p:cNvSpPr/>
              <p:nvPr/>
            </p:nvSpPr>
            <p:spPr>
              <a:xfrm>
                <a:off x="6934320" y="106668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Line 83"/>
              <p:cNvSpPr/>
              <p:nvPr/>
            </p:nvSpPr>
            <p:spPr>
              <a:xfrm>
                <a:off x="6934320" y="137160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Line 84"/>
              <p:cNvSpPr/>
              <p:nvPr/>
            </p:nvSpPr>
            <p:spPr>
              <a:xfrm>
                <a:off x="6934320" y="167652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Line 85"/>
              <p:cNvSpPr/>
              <p:nvPr/>
            </p:nvSpPr>
            <p:spPr>
              <a:xfrm>
                <a:off x="6934320" y="198108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Line 86"/>
              <p:cNvSpPr/>
              <p:nvPr/>
            </p:nvSpPr>
            <p:spPr>
              <a:xfrm>
                <a:off x="6934320" y="228600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Line 87"/>
              <p:cNvSpPr/>
              <p:nvPr/>
            </p:nvSpPr>
            <p:spPr>
              <a:xfrm>
                <a:off x="6934320" y="251460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Line 88"/>
              <p:cNvSpPr/>
              <p:nvPr/>
            </p:nvSpPr>
            <p:spPr>
              <a:xfrm>
                <a:off x="6934320" y="281952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Line 89"/>
              <p:cNvSpPr/>
              <p:nvPr/>
            </p:nvSpPr>
            <p:spPr>
              <a:xfrm>
                <a:off x="6934320" y="312408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6" name="Picture 3" descr="D:\huaniao\23.JPG"/>
          <p:cNvPicPr/>
          <p:nvPr/>
        </p:nvPicPr>
        <p:blipFill>
          <a:blip r:embed="rId1"/>
          <a:stretch/>
        </p:blipFill>
        <p:spPr>
          <a:xfrm>
            <a:off x="8458200" y="0"/>
            <a:ext cx="685800" cy="6858000"/>
          </a:xfrm>
          <a:prstGeom prst="rect">
            <a:avLst/>
          </a:prstGeom>
          <a:ln w="0">
            <a:noFill/>
          </a:ln>
        </p:spPr>
      </p:pic>
      <p:sp>
        <p:nvSpPr>
          <p:cNvPr id="617" name="WordArt 4"/>
          <p:cNvSpPr txBox="1"/>
          <p:nvPr/>
        </p:nvSpPr>
        <p:spPr>
          <a:xfrm>
            <a:off x="380880" y="228600"/>
            <a:ext cx="54864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力的合成知识的应用</a:t>
            </a:r>
            <a:endParaRPr b="0" lang="en-US" sz="4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618" name="Picture 5" descr="D:\板书演示\同一直线上二力的合成\“龙舟赛”.jpg"/>
          <p:cNvPicPr/>
          <p:nvPr/>
        </p:nvPicPr>
        <p:blipFill>
          <a:blip r:embed="rId2"/>
          <a:stretch/>
        </p:blipFill>
        <p:spPr>
          <a:xfrm>
            <a:off x="838080" y="1371600"/>
            <a:ext cx="6782040" cy="4322880"/>
          </a:xfrm>
          <a:prstGeom prst="rect">
            <a:avLst/>
          </a:prstGeom>
          <a:ln w="0">
            <a:noFill/>
          </a:ln>
        </p:spPr>
      </p:pic>
      <p:sp>
        <p:nvSpPr>
          <p:cNvPr id="619" name="Text Box 6"/>
          <p:cNvSpPr/>
          <p:nvPr/>
        </p:nvSpPr>
        <p:spPr>
          <a:xfrm>
            <a:off x="3809880" y="58672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龙舟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0" name="Picture 2" descr="D:\huaniao\23.JPG"/>
          <p:cNvPicPr/>
          <p:nvPr/>
        </p:nvPicPr>
        <p:blipFill>
          <a:blip r:embed="rId1"/>
          <a:stretch/>
        </p:blipFill>
        <p:spPr>
          <a:xfrm>
            <a:off x="0" y="6543720"/>
            <a:ext cx="9144000" cy="304920"/>
          </a:xfrm>
          <a:prstGeom prst="rect">
            <a:avLst/>
          </a:prstGeom>
          <a:ln w="0">
            <a:noFill/>
          </a:ln>
        </p:spPr>
      </p:pic>
      <p:sp>
        <p:nvSpPr>
          <p:cNvPr id="621" name="WordArt 3"/>
          <p:cNvSpPr txBox="1"/>
          <p:nvPr/>
        </p:nvSpPr>
        <p:spPr>
          <a:xfrm>
            <a:off x="380880" y="228600"/>
            <a:ext cx="54864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力的合成知识的应用</a:t>
            </a:r>
            <a:endParaRPr b="0" lang="en-US" sz="4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622" name="Picture 4" descr="D:\板书演示\同一直线上二力的合成\拔河.jpg"/>
          <p:cNvPicPr/>
          <p:nvPr/>
        </p:nvPicPr>
        <p:blipFill>
          <a:blip r:embed="rId2"/>
          <a:stretch/>
        </p:blipFill>
        <p:spPr>
          <a:xfrm>
            <a:off x="838080" y="1600200"/>
            <a:ext cx="5791320" cy="4343400"/>
          </a:xfrm>
          <a:prstGeom prst="rect">
            <a:avLst/>
          </a:prstGeom>
          <a:ln w="0">
            <a:noFill/>
          </a:ln>
        </p:spPr>
      </p:pic>
      <p:sp>
        <p:nvSpPr>
          <p:cNvPr id="623" name="Text Box 5"/>
          <p:cNvSpPr/>
          <p:nvPr/>
        </p:nvSpPr>
        <p:spPr>
          <a:xfrm>
            <a:off x="6724080" y="5181480"/>
            <a:ext cx="9118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拔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4" name="Picture 2" descr="D:\huaniao\23.JPG"/>
          <p:cNvPicPr/>
          <p:nvPr/>
        </p:nvPicPr>
        <p:blipFill>
          <a:blip r:embed="rId1"/>
          <a:stretch/>
        </p:blipFill>
        <p:spPr>
          <a:xfrm>
            <a:off x="0" y="6543720"/>
            <a:ext cx="9144000" cy="304920"/>
          </a:xfrm>
          <a:prstGeom prst="rect">
            <a:avLst/>
          </a:prstGeom>
          <a:ln w="0">
            <a:noFill/>
          </a:ln>
        </p:spPr>
      </p:pic>
      <p:sp>
        <p:nvSpPr>
          <p:cNvPr id="625" name="WordArt 3"/>
          <p:cNvSpPr txBox="1"/>
          <p:nvPr/>
        </p:nvSpPr>
        <p:spPr>
          <a:xfrm>
            <a:off x="380880" y="228600"/>
            <a:ext cx="4343400" cy="482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力的合成知识的应用</a:t>
            </a:r>
            <a:endParaRPr b="0" lang="en-US" sz="4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626" name="Picture 4" descr="D:\板书演示\同一直线上二力的合成\上海南浦大桥.jpg"/>
          <p:cNvPicPr/>
          <p:nvPr/>
        </p:nvPicPr>
        <p:blipFill>
          <a:blip r:embed="rId2"/>
          <a:stretch/>
        </p:blipFill>
        <p:spPr>
          <a:xfrm>
            <a:off x="685800" y="1143000"/>
            <a:ext cx="3890880" cy="4800600"/>
          </a:xfrm>
          <a:prstGeom prst="rect">
            <a:avLst/>
          </a:prstGeom>
          <a:ln w="0">
            <a:noFill/>
          </a:ln>
        </p:spPr>
      </p:pic>
      <p:sp>
        <p:nvSpPr>
          <p:cNvPr id="627" name="Text Box 5"/>
          <p:cNvSpPr/>
          <p:nvPr/>
        </p:nvSpPr>
        <p:spPr>
          <a:xfrm>
            <a:off x="5029200" y="55627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上海南浦大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8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629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30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1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</cp:lastModifiedBy>
  <dcterms:modified xsi:type="dcterms:W3CDTF">2015-03-16T08:53:15Z</dcterms:modified>
  <cp:revision>6</cp:revision>
  <dc:subject/>
  <dc:title>PowerPoint Presentation</dc:title>
</cp:coreProperties>
</file>