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69B-ED08-4629-AAB9-A22C626F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433-A924-48F3-83C1-602CD6A3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87ABB-97C6-4A49-A2CB-E480DABA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24860-FEC0-41CC-A4DF-DC7F6E3D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0B814-DD06-4C38-886D-781F516B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34917-0682-43AA-82F7-DAB3F245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D00B6-7E2F-4048-B29C-49DEE1C4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4E866-8978-4DF4-B967-3E10F0A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A9649-F924-4F04-B06C-12EB5E66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898A5-5055-4837-B0B1-500F1C50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506A6-5C6B-468B-8F46-6CAF91AB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32553-ACFB-45E7-A7C3-A8903DE9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38A0-89D2-40FB-BA1C-D46B46F5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E38B7-3160-4BD4-AED3-CF0B21E9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565E0-3460-44EF-9C2A-0E1BC9CE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1EFCC-D253-4EAD-B939-7702CA28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B0D3E-DED9-49E2-8F90-E6D2C1C3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B2E21-962F-438C-87A2-65E343D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65CBF-AB9F-4BF3-A6C5-A0B11C5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D8B04-D77A-4F71-BE8E-998CE77C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2EECE-10CB-4D15-83A3-25E6756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7ED50-96BF-450C-8EAA-E6A15C2D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5AACA-06DF-4A65-9063-8119F6C1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A4A-9FE9-4700-A7B3-F1029E7B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E299B-47D3-40C4-8D84-58C8F7F1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D2DA3-F4E3-4057-9ADD-EACB4463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9E573-B840-447E-905D-E7960DB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3D1DA-22BC-43D6-A918-64D7DD76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E0474-7436-4009-A564-9D2CBB5C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57636-C6FC-4719-A5DD-B586A4F4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DDB6F-22E8-4067-9F8B-48EB185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AE275-DA98-42B6-BEDC-EB64A1E1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4575B-0D08-4901-A7F6-23CBAA2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3F632-2177-42D8-8C5B-787BBA5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3A8F-C3BA-415D-B020-32B14A37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030B7-56C2-4027-85B2-BBC43680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ADA00-437E-4E83-846F-BF773BC1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E367A-F8C5-47B7-8E7B-D6FDDC87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C5D8B-BA3E-4850-8D68-C8FD2D2B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6CFE7-ABA1-40B7-ACE1-EAFBD16E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2F955-8443-4D62-96CA-3AE9F4D2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152D5-34D1-4AFE-9DDE-4AD5181F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B107E-A45F-406E-B973-5DDA8FA2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0AAFE-8B1C-4844-903C-1DD80F68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3E30E-B578-4A77-A3C8-A3C5D46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3380-471F-428C-8002-6F28C92C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4325E-7AA8-40B2-AD46-8936CC40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3D987-484C-42A9-93B7-902C719C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A0DEB-3B2F-4951-91FF-F7B26E34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CA79C-9971-4DFD-94A1-285C9796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51A86-8F94-42C9-832C-1FDE813C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6DBFD-24FD-4549-8381-15502586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23A63-56B2-4FEB-B553-AB1B378B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56EF4-AD38-4C06-8E34-86486918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DEC89-5971-4FBA-811D-772F8765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F785D-D199-4B93-80CE-12D13472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D4C9-F4F3-4470-B61A-A28BBB5B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5D5D8-690F-4559-9D01-AFD31749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75D94-C296-442D-9744-2D6ACFBD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6F8B1-E907-4067-909D-C8E31D4B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E2B50-C6D0-42B6-BE25-F6056BB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EC4DB-1CDA-4225-BAEB-1DAFE78D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1C57B-683A-4A13-93F9-86CF8759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3380E-80F2-4E9B-B6AB-9B5B78E4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543-0B9A-4332-9DAD-6D96CE6A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778D-DFB6-4554-BED1-D82EF708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A5F8-66DB-479C-8527-B33EB4A0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33B7-3B96-4ED6-B1BD-04117527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220-A2D2-4498-83C3-006A1DB9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3A23-E6AD-4B9D-A10F-BCE3D240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2844-3AF9-45CD-8438-3179B828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08E0-1597-416C-AD28-A2422563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13E9-47A6-40DB-B0C9-8CDD8827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683E-EF7A-49CD-B328-7064573F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9E2B-9065-4EB9-9731-C76520D3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7283-E11A-4217-83D1-9616D239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84FB-723E-4B85-B55C-40238B0F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E728-D695-4591-9366-F249E61E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CDD5-7E0B-4798-BCFF-6B4045A6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5CF-E19F-4416-9C44-97657814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F253-EFF4-4A09-8FBF-44740DA3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A301-9088-4D44-86CF-E4067E43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9039-F31A-4033-BB9C-1D5DCD07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C9AA-6128-4ACF-A82D-9518AF4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D3887-2071-46BE-9D3C-8F44EE41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92B1C-E852-4249-9464-FE536090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7F1F-595A-4C6E-8C90-082F2F46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70856-19B9-43CA-A403-98DFD6D9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FB1FD-D248-4ABE-8437-3DCD8087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3C75-95F3-4A9C-93EC-D7053C7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BCA-75BD-4A7C-9192-D25B3CDB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3A3D5-E532-467C-9EE2-3C018CB0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EDA52-DA05-4BE4-AA8A-D3244BBB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E7E12-921B-468D-96B0-063533B8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B16A-A03F-40BC-A111-E015726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27424-0065-43DE-B4C4-E17E6FB4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D4EB-40C3-4CD2-B2A7-A0ED607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62FB-B309-44B2-9100-544A35EB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DFFA-B414-4484-AA09-8C3753F5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2D95-46A6-4A9F-8618-38929698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5686-5EEF-4CB0-A96D-988D48D9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A27-C637-431C-90BC-A35B3683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117F-5843-4462-840F-56502916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31278-8460-4261-974F-12E11014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8864-F971-4118-A927-8F25F08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90EA3-C106-45E0-9B57-97D8CDAD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66EEF-2666-4D75-80E4-0B721546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3A819-FACC-4BB2-BF8A-6DF8868C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F9A9-D1B2-4AD3-9984-4F47E796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A4D9D-29DA-4B0B-8D2A-043B077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0EBEA-DD97-4C72-8A0D-9FBF7A95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D0B4E-53EE-40F5-A9E1-126056A2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838-C4F3-42E3-BE66-16970016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474A1-2561-4D38-A17C-B2E50137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106EF-A6D0-43FB-9E1B-A4540D4E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0B5B1-6060-4A5B-8494-7FAE1AF7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2E59-EC2F-45E2-A4BA-EB8C7733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EE928-753E-4DAB-960D-7D37121E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36FDE-8D48-498B-98B4-1F0C3B2C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23BE4-26B2-4A63-A57D-7F8486F6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9047D-5209-4F47-8321-2DF7F692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50CB1-28DB-4C65-A7CE-F9B7A4F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9E8AB-FD7A-4D6C-8E70-E4EDB59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9F0-6532-4DCC-99E5-B6AA5988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E852E-0F87-46D8-A0A0-8186875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793B6-3959-46A1-A700-C38C654D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600A0-4B9B-4CF8-BE7F-DCB6D29E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8139C-479A-44E5-9C34-A4DBE2A5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8D80-CF49-4A52-A483-1C55D961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62DEA-BD19-4897-AF10-A0F33128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1378F-3BEB-4470-A4D2-3C75FE87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7CE5A-9150-475E-87C4-E8E98A1F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2BCA3-8B75-4AEE-83BD-7002A5DB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F8BA1-C842-4B5A-A4EF-D4526C7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452-5D5F-4A01-94AF-BDA5C633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C1E60-EB9C-4A29-ACAB-897428E6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4C9D1-42B4-421C-AD96-F671059A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9202D-0F25-44DE-87BF-A2BD1C1F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BE7C7-1B34-478A-94AB-43DD50FF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869DE-0BD6-4823-AABB-67C36559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06290-A089-46B4-9559-8EDA6E58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831B-384F-405D-A23F-002DEE0E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08291-CDC0-46B2-BCE2-6DB97FE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B334D-CE33-4BB0-8550-F3400B2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853F5-37DF-4C4F-9014-888FEA92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77C-F05A-4492-A55A-0853D89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FF711-7C9B-421D-B958-DB78B48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1AC1F-0B9A-44E0-AF94-4F22EA4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1E6C1-24B8-4AD3-B2A3-F1442EA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752F-D7BD-488B-B974-F912F9C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D49F4-8614-4FCD-B164-C304949A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36662-8213-46D0-B84A-FFDF88E2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2C8B-2A68-41D4-8082-A3FEE6A2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E8630-078A-4805-B388-6058F33E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4B0AD-7FF5-42FB-89E0-EF947815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911AA-AD97-47C9-9844-909EC3D6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9AAF-8EC5-423D-ADC9-D36EABDA4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2FC6-8536-46FF-A75D-11BFCC1892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784E-95B7-4DCE-8FE9-1512957B4E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C75-1B1E-41D1-A1C9-A4F7ACCD68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4CEB-D502-4CC6-88C0-4060F3EC61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65B0-3828-4E96-8469-4A10DBF0BF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9FF3-A5C9-4822-B601-A71D63E83B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5195-B692-4407-8D70-0195FF1CA6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2A51-87CA-4756-B436-2A6643F25D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C047-2721-4F8C-86AA-FF0BB1AE4B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5489-845A-4F38-998A-EF7E3D4D04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7BBB-504F-49AB-BCC1-0F16682D05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FA84-91E1-4CFA-94CD-1CAE4EA049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8636-FE20-4E5B-85DD-8404770725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DFFE-786C-4E4A-BE4C-23162803AA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EFE-6397-4626-A221-27D69F7F04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621D-1D68-498D-89FC-EEF9095986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70C5-2799-447A-8FBD-7B760E15CF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45E9-85FA-4AAA-BBBB-BDD3CD65F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6660-2A4A-4EE1-854A-819335B58D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9DE3-01D5-4FF3-8DA0-DAEF3965B1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6B4C-1DEF-481F-8C95-F29061BF8B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DBA9-D7CE-4E5F-AC05-BF9B988AB5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E623-5CA8-46D8-BF39-41ECE12319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F0CA-8B7F-4736-9A13-B41FDDCCB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1211400" y="1639800"/>
            <a:ext cx="671976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鹿和狼的故事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2"/>
          <p:cNvSpPr txBox="1"/>
          <p:nvPr/>
        </p:nvSpPr>
        <p:spPr>
          <a:xfrm>
            <a:off x="2028960" y="838080"/>
            <a:ext cx="508608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鹿和狼的故事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535" name="WordArt 3"/>
          <p:cNvSpPr txBox="1"/>
          <p:nvPr/>
        </p:nvSpPr>
        <p:spPr>
          <a:xfrm>
            <a:off x="990720" y="2438280"/>
            <a:ext cx="8474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鹿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3657600" y="25146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狼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537" name="Group 5"/>
          <p:cNvGrpSpPr/>
          <p:nvPr/>
        </p:nvGrpSpPr>
        <p:grpSpPr>
          <a:xfrm>
            <a:off x="1981080" y="2044800"/>
            <a:ext cx="1524240" cy="1155600"/>
            <a:chOff x="1981080" y="2044800"/>
            <a:chExt cx="1524240" cy="1155600"/>
          </a:xfrm>
        </p:grpSpPr>
        <p:sp>
          <p:nvSpPr>
            <p:cNvPr id="538" name="AutoShape 6"/>
            <p:cNvSpPr/>
            <p:nvPr/>
          </p:nvSpPr>
          <p:spPr>
            <a:xfrm>
              <a:off x="1981080" y="2971800"/>
              <a:ext cx="1524240" cy="228600"/>
            </a:xfrm>
            <a:prstGeom prst="leftArrow">
              <a:avLst>
                <a:gd name="adj1" fmla="val 50000"/>
                <a:gd name="adj2" fmla="val 16669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WordArt 7"/>
            <p:cNvSpPr txBox="1"/>
            <p:nvPr/>
          </p:nvSpPr>
          <p:spPr>
            <a:xfrm>
              <a:off x="2514600" y="2044800"/>
              <a:ext cx="619200" cy="85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吃</a:t>
              </a:r>
              <a:endPara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40" name="WordArt 8"/>
          <p:cNvSpPr txBox="1"/>
          <p:nvPr/>
        </p:nvSpPr>
        <p:spPr>
          <a:xfrm>
            <a:off x="1676520" y="4267080"/>
            <a:ext cx="207648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森林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41" name="Group 9"/>
          <p:cNvGrpSpPr/>
          <p:nvPr/>
        </p:nvGrpSpPr>
        <p:grpSpPr>
          <a:xfrm>
            <a:off x="3105000" y="3429000"/>
            <a:ext cx="2152800" cy="990720"/>
            <a:chOff x="3105000" y="3429000"/>
            <a:chExt cx="2152800" cy="990720"/>
          </a:xfrm>
        </p:grpSpPr>
        <p:sp>
          <p:nvSpPr>
            <p:cNvPr id="542" name="AutoShape 10"/>
            <p:cNvSpPr/>
            <p:nvPr/>
          </p:nvSpPr>
          <p:spPr>
            <a:xfrm>
              <a:off x="3962520" y="3429000"/>
              <a:ext cx="1295280" cy="990720"/>
            </a:xfrm>
            <a:custGeom>
              <a:avLst/>
              <a:gdLst>
                <a:gd name="textAreaLeft" fmla="*/ 173520 w 1295280"/>
                <a:gd name="textAreaRight" fmla="*/ 1121760 w 1295280"/>
                <a:gd name="textAreaTop" fmla="*/ 173160 h 990720"/>
                <a:gd name="textAreaBottom" fmla="*/ 7182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WordArt 11"/>
            <p:cNvSpPr txBox="1"/>
            <p:nvPr/>
          </p:nvSpPr>
          <p:spPr>
            <a:xfrm>
              <a:off x="3105000" y="3714840"/>
              <a:ext cx="9334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华文彩云"/>
                </a:rPr>
                <a:t>保护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彩云"/>
                <a:ea typeface="华文彩云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152280" y="3505320"/>
            <a:ext cx="2229120" cy="990360"/>
            <a:chOff x="152280" y="3505320"/>
            <a:chExt cx="2229120" cy="990360"/>
          </a:xfrm>
        </p:grpSpPr>
        <p:sp>
          <p:nvSpPr>
            <p:cNvPr id="545" name="AutoShape 13"/>
            <p:cNvSpPr/>
            <p:nvPr/>
          </p:nvSpPr>
          <p:spPr>
            <a:xfrm>
              <a:off x="152280" y="3505320"/>
              <a:ext cx="1219320" cy="990360"/>
            </a:xfrm>
            <a:custGeom>
              <a:avLst/>
              <a:gdLst>
                <a:gd name="textAreaLeft" fmla="*/ 163080 w 1219320"/>
                <a:gd name="textAreaRight" fmla="*/ 1056240 w 1219320"/>
                <a:gd name="textAreaTop" fmla="*/ 173160 h 990360"/>
                <a:gd name="textAreaBottom" fmla="*/ 7182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WordArt 14"/>
            <p:cNvSpPr txBox="1"/>
            <p:nvPr/>
          </p:nvSpPr>
          <p:spPr>
            <a:xfrm>
              <a:off x="1447920" y="3733920"/>
              <a:ext cx="9334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华文彩云"/>
                </a:rPr>
                <a:t>破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彩云"/>
                <a:ea typeface="华文彩云"/>
              </a:endParaRPr>
            </a:p>
          </p:txBody>
        </p:sp>
      </p:grpSp>
      <p:sp>
        <p:nvSpPr>
          <p:cNvPr id="547" name="WordArt 15"/>
          <p:cNvSpPr txBox="1"/>
          <p:nvPr/>
        </p:nvSpPr>
        <p:spPr>
          <a:xfrm>
            <a:off x="5600880" y="2590920"/>
            <a:ext cx="3085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琥珀"/>
              </a:rPr>
              <a:t>相互制约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  <p:sp>
        <p:nvSpPr>
          <p:cNvPr id="548" name="WordArt 16"/>
          <p:cNvSpPr txBox="1"/>
          <p:nvPr/>
        </p:nvSpPr>
        <p:spPr>
          <a:xfrm>
            <a:off x="5638680" y="3933720"/>
            <a:ext cx="3086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琥珀"/>
              </a:rPr>
              <a:t>相互联系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  <p:sp>
        <p:nvSpPr>
          <p:cNvPr id="549" name="AutoShape 18"/>
          <p:cNvSpPr/>
          <p:nvPr/>
        </p:nvSpPr>
        <p:spPr>
          <a:xfrm>
            <a:off x="1403280" y="2781360"/>
            <a:ext cx="73080" cy="7128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2143" h="21600">
                <a:moveTo>
                  <a:pt x="0" y="0"/>
                </a:moveTo>
                <a:lnTo>
                  <a:pt x="22143" y="0"/>
                </a:lnTo>
                <a:lnTo>
                  <a:pt x="22143" y="21600"/>
                </a:lnTo>
                <a:lnTo>
                  <a:pt x="0" y="21600"/>
                </a:lnTo>
                <a:close/>
              </a:path>
              <a:path fill="lightenLess" w="22143" h="21600">
                <a:moveTo>
                  <a:pt x="0" y="0"/>
                </a:moveTo>
                <a:lnTo>
                  <a:pt x="22143" y="0"/>
                </a:lnTo>
                <a:lnTo>
                  <a:pt x="20743" y="1400"/>
                </a:lnTo>
                <a:lnTo>
                  <a:pt x="1400" y="1400"/>
                </a:lnTo>
                <a:close/>
              </a:path>
              <a:path fill="darken" w="22143" h="21600">
                <a:moveTo>
                  <a:pt x="22143" y="0"/>
                </a:moveTo>
                <a:lnTo>
                  <a:pt x="22143" y="21600"/>
                </a:lnTo>
                <a:lnTo>
                  <a:pt x="20743" y="20200"/>
                </a:lnTo>
                <a:lnTo>
                  <a:pt x="20743" y="1400"/>
                </a:lnTo>
                <a:close/>
              </a:path>
              <a:path fill="darkenLess" w="22143" h="21600">
                <a:moveTo>
                  <a:pt x="2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43" y="20200"/>
                </a:lnTo>
                <a:close/>
              </a:path>
              <a:path fill="lighten" w="2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2005681955156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20044615385536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0" y="75060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的鼻脸突出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朵稍短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黑暗中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睛可以反射灯光或火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头部和口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有力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从地上叼起一只绵羊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将它带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群狩猎时会全体出动协力合作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找寻猎物时多排成一纵队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每小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~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的速度慢慢前进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赶猎物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一追数十公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猎物驱赶到很不好走的地方去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可以一直跟著猎物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到猎物筋疲力尽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加以击杀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/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群如果遇到成群的猎物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先加以追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猎物中比较年老体弱或生病者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渐落后脱队了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猎杀这些落后的猎物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的食量很大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可吃掉相当於其体重五分之一重量的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找不到猎物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捕食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蛙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昆虫及家畜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乎什麼肉都吃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3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狩猎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群通常有自己狩猎的领域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有狩猎专用的通道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通道有时长达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些通道附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有各种猎物出没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群常在这些狩猎通道上巡逻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在各处涂上由身体所分泌的臭液或粪便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自己领域的标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狩猎场常会一代继承一代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blue.mp3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6">
            <a:hlinkClick r:id="rId2" action="ppaction://hlinksldjump"/>
          </p:cNvPr>
          <p:cNvSpPr/>
          <p:nvPr/>
        </p:nvSpPr>
        <p:spPr>
          <a:xfrm>
            <a:off x="6516720" y="6093000"/>
            <a:ext cx="649080" cy="475920"/>
          </a:xfrm>
          <a:custGeom>
            <a:avLst/>
            <a:gdLst>
              <a:gd name="textAreaLeft" fmla="*/ 30600 w 649080"/>
              <a:gd name="textAreaRight" fmla="*/ 618480 w 6490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9453" h="21600">
                <a:moveTo>
                  <a:pt x="0" y="0"/>
                </a:moveTo>
                <a:lnTo>
                  <a:pt x="29453" y="0"/>
                </a:lnTo>
                <a:lnTo>
                  <a:pt x="29453" y="21600"/>
                </a:lnTo>
                <a:lnTo>
                  <a:pt x="0" y="21600"/>
                </a:lnTo>
                <a:close/>
              </a:path>
              <a:path fill="lightenLess" w="29453" h="21600">
                <a:moveTo>
                  <a:pt x="0" y="0"/>
                </a:moveTo>
                <a:lnTo>
                  <a:pt x="29453" y="0"/>
                </a:lnTo>
                <a:lnTo>
                  <a:pt x="28053" y="1400"/>
                </a:lnTo>
                <a:lnTo>
                  <a:pt x="1400" y="1400"/>
                </a:lnTo>
                <a:close/>
              </a:path>
              <a:path fill="darken" w="29453" h="21600">
                <a:moveTo>
                  <a:pt x="29453" y="0"/>
                </a:moveTo>
                <a:lnTo>
                  <a:pt x="29453" y="21600"/>
                </a:lnTo>
                <a:lnTo>
                  <a:pt x="28053" y="20200"/>
                </a:lnTo>
                <a:lnTo>
                  <a:pt x="28053" y="1400"/>
                </a:lnTo>
                <a:close/>
              </a:path>
              <a:path fill="darkenLess" w="29453" h="21600">
                <a:moveTo>
                  <a:pt x="2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3" y="20200"/>
                </a:lnTo>
                <a:close/>
              </a:path>
              <a:path fill="lighten" w="2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3" h="21600">
                <a:moveTo>
                  <a:pt x="7720" y="10800"/>
                </a:moveTo>
                <a:lnTo>
                  <a:pt x="21733" y="3794"/>
                </a:lnTo>
                <a:lnTo>
                  <a:pt x="217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220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20050417090648326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20050417090649630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0" y="124776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多生活于森林边缘或山地草原、灌木林草山，离水源近，食物较多的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栖息地也随着季节而变换，冬季多在阳坡，洼地和积雪较少的地方；春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在旷野或森林疏地觅食；夏季则在阴坡，密林内隐蔽的地方栖息。鹿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群集性和游牧性。如川鹿时常有几十只或几百只一小群，携儿带女，游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海，翻山越岭，作几十公里或几百公里远游迁涉。但梅花鹿活动范围相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固定，范围一般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公里。梅花鹿性情温顺，善奔跑跳跃，听觉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嗅觉发达，视觉稍差。胆小易惊，常白天栖息，晨昏采食、饮水和活动。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时具有群居性，这种生活方式可减少猛兽的突然袭击，是防御敌害的一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应。当鹿群遇敌害或受惊吓时，鹿常惊慌、恐惧、愤怒、两耳直立、臀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立、咬牙、跺足、尖叫，翻起尾巴散发一种特殊的分泌物逃跑。奔跑时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跳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以上高的障碍物，跳远达米以上，以摆脱敌害的威胁。梅花鹿对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候变化特别敏感，怕热不怕冷，怕风不怕雨雪，可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C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气温下生存。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下降，雨雪降落之际，鹿群非常活，撒欢蹦跳，仰望天空等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blue.mp3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6"/>
          <p:cNvSpPr/>
          <p:nvPr/>
        </p:nvSpPr>
        <p:spPr>
          <a:xfrm>
            <a:off x="6588000" y="6308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7220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9:52:03Z</dcterms:created>
  <dc:creator>zhang</dc:creator>
  <dc:description/>
  <dc:language>en-US</dc:language>
  <cp:lastModifiedBy>a</cp:lastModifiedBy>
  <dcterms:modified xsi:type="dcterms:W3CDTF">2015-03-17T05:43:51Z</dcterms:modified>
  <cp:revision>4</cp:revision>
  <dc:subject/>
  <dc:title>幻灯片 1</dc:title>
</cp:coreProperties>
</file>