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7AE7-9B05-4CF9-8287-1FE61455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327-349E-434D-B1E1-6988FFA8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42B64-B53C-44FC-846A-65A972AF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934B8-530E-4A32-8796-BB736443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2D547-26DA-4CEC-88BB-19DC3A3D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453E0-B8CA-4CF1-BA0F-0470B4DE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80984-9310-4E3D-A893-EC3BF1C0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AB29C-3EAD-433E-AEB8-8F0C8885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9D2E2-14CF-4719-A83F-C84899CB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5384B-CD30-47DE-BAD7-1FEDCA19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36686-4666-480E-8478-B63CB1A8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0DCF9-2B40-43AF-81A6-4CE56C0E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464-C6A3-420B-8487-196CBC22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BB2C2-6B89-4EFE-9F47-7AAD34A2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530CE-60BF-4D8C-998E-7B6D7B5E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EB5F4-CB7E-4BA7-AE7F-49243AC6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4083D-2BC5-4B0A-8311-AAD20820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A327D-B5EB-4813-AA93-A4416007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38BC2-FB31-4F95-A68B-5F6C81E5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72A74-AFBF-4486-971C-FE322606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0E114-2ACB-4A14-A365-EBE44532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9C1A0-D8AF-4682-A03B-3A83C05B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97B9D-DD47-4539-91BB-96ED5456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A5F-8820-4C46-A718-5897EF78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2123A-6E2C-483C-97FA-3DFFCAC3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3AB8E-03E0-4FF4-A9A2-539E5B84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5625C-8C0C-421E-BDB4-67EF44F0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2CD9C-335D-4BCD-8868-36A8D637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FBD4C-D6AB-41EB-B15C-2733D0BC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F263A-501E-4E2F-84BB-C4B06E25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04EBE-96ED-4870-834D-87C97D78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F8532-3140-4026-AF21-2142B005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20DDC-1823-41DF-987D-BBB2DA7A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860E7-33DE-4311-A1C8-1F076912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2D5A-94A1-4CB1-8A99-CCEFB08E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D44F5-5B29-4C3F-AF80-1E37DCFE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7F913-C298-471B-8D7F-14E24208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B32EA-F576-4324-9925-BD84A89A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F6477-9A18-4812-A0C9-FFCFADD2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C0802-D736-4B76-85CE-F2A120EA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B1788-FB89-425A-8E6C-4B3D0D52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52502-85E0-4D33-AA9C-F5DA57CC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168A6-CFAB-4294-84B7-3E9CD3A7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4DB87-37E4-434A-B20B-FEFAE3C9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25A85-4694-42FE-A1B4-61CABC8A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959B-834F-4CFA-9955-8A10E62D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76541-A2FF-4E35-935D-7E6808F0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36374-F4F6-473B-BB8C-9F18876C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872AA-3152-4763-AAB4-67956EC6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F668F-22D0-4DC0-ADB1-C758B9FD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840FA-1A7A-4F13-AEF9-9540267E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93488-60F8-4B86-852D-9D9019CC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6FDFC-EFFB-4452-BB68-E51DF32F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D7798-9087-4C5B-AF7B-39D3AEFD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2CF8B-BBCA-4332-953E-992405F4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CC8D9-4359-4F0C-8431-58F7159A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11A7-D39D-4B1F-9AE7-1C07184B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073A2-A548-46B9-9E02-BB3DF8C2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5B3F2-1BD6-44BB-B490-03153D0A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8FC9D4-1DCB-4706-BEF2-BDDE8B46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86A44-E719-41E0-9C62-BDF55D8E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7AF04-81BB-40B8-BDE2-B307EA33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08B93-DD63-43ED-8CF6-630A627C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C2541-509E-47A5-97BC-6295875E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8CD1-0DF5-4977-A0E4-D8017E3D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D331-5C4F-4396-A7EB-ECBDE472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061F-DF31-403E-AF4B-AF65DAB5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D4C6-CF64-4CA9-A217-C35F9B48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C87-96E2-403E-B4D0-1975ABB1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7FEE-05B2-4ACD-A82E-AD95062B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C8CC-9583-436E-8924-49D042C9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553E-5265-4B0E-952C-6DB39246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B6F8-2A97-4565-B196-46E8EEA5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5351-1E77-4A5D-B3E3-BA8ED828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AB03-4142-48C9-84F6-39260CDC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F36E-5E65-4DF1-8D99-247C3182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042BA-6E4D-42A1-B780-24B4B64E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8D5D-67A6-481F-9F32-EF6DC95E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A0EC0-8460-47E3-A5A4-D1D81E7D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074A-7566-49B1-A6F2-D73E4E3C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8D090-094D-4686-B7B0-4C0E2CA4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2E70B-7F8D-4C76-AD90-9E7801F7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87EAA-A62B-4AFB-B1F1-2A872D41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450C8-B5D7-46E2-BAFD-EFDDF625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F6C4D-7681-40C9-9E36-F29472FA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44FCF-4599-46EB-B13D-DF0748E9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610C2-B8D8-419B-B81C-8C9D3144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19DE6-03B0-4181-B80E-E4E6DCFE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D5B95-B28F-4ACC-9FAA-4BD4275D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42DC8-E041-4EFA-A105-5A365DE6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34A-C956-4AED-B075-D109A7A8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13B5F-7ED9-4F68-A1DB-47182F30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872F5-3D3E-475A-82BB-CDA7EA4E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A6EDE-4F5A-4F68-8882-BC391C32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534E5-6BB9-4D2E-A48D-C4D154C3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D7138-8F1F-4D4A-91C4-7EE84DAF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5BB47-2FA9-45EF-9EE9-BDFFA450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CC196-4FC8-4022-8216-D71E86D7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B4B99-FB4C-4F61-9D86-6EA44FC3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AD6B2-01E8-44D1-B85C-2D88C14B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C133B-3AEE-4B7B-932C-C5D7321C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41F-3852-4B16-BC01-FE89875F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95281-4801-43C7-89C0-4FE61F5A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8BDA3-0805-4EDE-8153-0A2B548F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9C8E9-88E2-4A61-813F-DF957F96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092D3-6F13-4C6E-AB98-9593C9E8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58E02-E6CE-4D25-BB13-1DE6982F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2E327-476B-46B0-9273-06B2312D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4E228-E4C8-47D4-A7A7-9300806C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38F37-0C91-406C-B32F-C0BB9507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22208-6695-43C0-A867-E8870C83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79F19-1B62-47ED-9B46-75E1D44D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368-A000-4D28-B615-896A7988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3FC08-8F63-4108-8991-E31B396A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05AE7-1235-48FD-94F4-3C847464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EA527-ADC7-4320-B992-EF304042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3A688-5C44-4E7E-9840-BC1E01A9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77CEE-9598-43E0-8F52-31CA6367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004BF-9ADA-4613-B5C8-E46C74FF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77B4C-C7F1-4070-A853-FA85C95F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A1530-805E-4D5A-985F-FD9F2270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EE2FF-5053-46DC-8A3E-E65AE569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D91C2-6DE9-4CF7-80FC-DED13383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CB6-2F44-4B47-9232-4611EA93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F7891-95DD-464D-8BB7-B1272036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E0EB4-7651-4C3A-961E-D5DCC2FD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573D7-B05A-47FA-9838-1426ECEC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98236-1317-41AB-8718-069069B1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3560D-7393-4AC0-B09F-BDB7438E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C9F5E-7485-43EF-A6CA-0B261D4B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6D4AC-9D34-431F-BF1D-690B4C04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E1072-4F79-45D7-A2D9-423F4AB3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A5413-C718-4F27-BCCE-C249E3BE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993BC-300A-468E-84AE-7BE52BB1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7EC-5F84-45F4-8772-A7366F30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C666D-04A5-45FA-A5A7-3A6B776E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D9E0F-666E-401E-89F8-B8C9EA40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7F45A-26BF-4754-9EA6-40B92D37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437E2-712B-4225-9B3F-0140B97C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8D5BC-05D7-4FD9-AA59-743E6191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CE4F3-4134-4B17-894B-99F9BB04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3B928-07AE-42AE-ACC8-419802C5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01C8D-D1BF-4596-A957-AC7A626F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52A82-ADEB-404B-B22B-DB3F09B1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D4B18-B6DB-4444-AEE2-5E6725E0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09E-5BDE-40D1-BFCF-A249685B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E5FE3-901E-4A15-A07B-AAE5CEC5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2D42F-F730-4AA4-8832-DD267B82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6985D-2DA7-4EAE-94DC-2C872729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E9AF0-8B53-428D-82CB-EFC55FA3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DFC8B-429B-4109-91CD-B0AF4DAB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9DE2C-2CD6-46AB-878E-02BDE409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36E5A-2F8B-47EB-A5F1-2C4B32D3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31232-11DC-44F8-A565-34389A46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FE044-182D-4472-9ED2-31F1DFD7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E9C9D-66C0-411C-91E2-09AAF927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0758-D1FE-4EE6-A41D-D9BB18AA2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1B10-EC04-4337-BC07-C57E243CE10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3D50-E06E-4BFD-9A06-73F73C5994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BFAF-9658-40C4-86BB-AEA1552336C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EA2B-C064-4146-838B-EFB764DAB6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528C-3521-49B0-8C38-4F7DB47C4B8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E9CE-184B-4A43-84D1-3E7A7001AD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43C4-CAB4-4EFA-A78A-48B21D979A0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2F66-7F11-46E5-B571-05A46F58C6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F164-DAD1-4A34-8181-2168D37A1F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EEC9-48CC-41B0-B0E1-81170AFACD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130E-C3AC-48D0-893B-5329DD15011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BC16-E800-4153-82E9-8F5D12C6C4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7795-F2FC-45CC-BF65-3AED6878BAF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DACC-D332-4DCF-A690-3E5A9901A2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197F-6A71-4EAD-870C-34B6A73AB3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AE0F-B96E-406D-AEDA-80FF610648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D35E-4AB3-428A-A535-EC261420EBD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794F-23D0-443E-AFDB-F5A8F8EB15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7452-631D-4E8D-AA3B-9DC2B20704B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DFBB-FB2E-4BD0-9B76-4D52D10367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D8EE-725A-423F-87A4-C25C369EA1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73AD-F466-4C28-9BD3-9D688B573A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FC39-9423-4886-A5B4-15D08B7876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C5D8-A9A2-4AF7-9645-A800728BC5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026" descr="八达岭长城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502240"/>
          </a:xfrm>
          <a:prstGeom prst="rect">
            <a:avLst/>
          </a:prstGeom>
          <a:ln w="0">
            <a:noFill/>
          </a:ln>
        </p:spPr>
      </p:pic>
      <p:sp>
        <p:nvSpPr>
          <p:cNvPr id="534" name="WordArt 1029"/>
          <p:cNvSpPr txBox="1"/>
          <p:nvPr/>
        </p:nvSpPr>
        <p:spPr>
          <a:xfrm>
            <a:off x="1828800" y="685800"/>
            <a:ext cx="525780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姚体"/>
              </a:rPr>
              <a:t>第一章  从世界看中国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535" name="WordArt 1030"/>
          <p:cNvSpPr txBox="1"/>
          <p:nvPr/>
        </p:nvSpPr>
        <p:spPr>
          <a:xfrm>
            <a:off x="2209680" y="3124080"/>
            <a:ext cx="477216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第一节  辽阔的疆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BJ_034"/>
          <p:cNvPicPr/>
          <p:nvPr/>
        </p:nvPicPr>
        <p:blipFill>
          <a:blip r:embed="rId1"/>
          <a:stretch/>
        </p:blipFill>
        <p:spPr>
          <a:xfrm>
            <a:off x="380880" y="228600"/>
            <a:ext cx="8153640" cy="609588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12"/>
          <p:cNvSpPr/>
          <p:nvPr/>
        </p:nvSpPr>
        <p:spPr>
          <a:xfrm>
            <a:off x="685800" y="609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Times New Roman"/>
                <a:ea typeface="华文彩云"/>
              </a:rPr>
              <a:t>二、国土辽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1752480" y="19810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800080"/>
                </a:solidFill>
                <a:latin typeface="华文行楷"/>
                <a:ea typeface="华文行楷"/>
              </a:rPr>
              <a:t>、面积</a:t>
            </a:r>
            <a:r>
              <a:rPr b="1" lang="en-US" sz="4800" spc="-1" strike="noStrike">
                <a:solidFill>
                  <a:srgbClr val="800080"/>
                </a:solidFill>
                <a:latin typeface="华文行楷"/>
                <a:ea typeface="华文行楷"/>
              </a:rPr>
              <a:t>960</a:t>
            </a:r>
            <a:r>
              <a:rPr b="1" lang="zh-CN" sz="4800" spc="-1" strike="noStrike">
                <a:solidFill>
                  <a:srgbClr val="800080"/>
                </a:solidFill>
                <a:latin typeface="华文行楷"/>
                <a:ea typeface="华文行楷"/>
              </a:rPr>
              <a:t>万平方千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5" descr="东亚中的中国"/>
          <p:cNvPicPr/>
          <p:nvPr/>
        </p:nvPicPr>
        <p:blipFill>
          <a:blip r:embed="rId1"/>
          <a:stretch/>
        </p:blipFill>
        <p:spPr>
          <a:xfrm>
            <a:off x="0" y="380880"/>
            <a:ext cx="9016920" cy="613908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6"/>
          <p:cNvSpPr/>
          <p:nvPr/>
        </p:nvSpPr>
        <p:spPr>
          <a:xfrm>
            <a:off x="533520" y="7621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按逆时针方向自东向西沿我国陆上疆界依次找出</a:t>
            </a:r>
            <a:r>
              <a:rPr b="1" lang="en-US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15</a:t>
            </a:r>
            <a:r>
              <a:rPr b="1" lang="zh-CN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个邻国，沿我国海上疆界，由南向北找出</a:t>
            </a:r>
            <a:r>
              <a:rPr b="1" lang="en-US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6</a:t>
            </a:r>
            <a:r>
              <a:rPr b="1" lang="zh-CN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个与我国隔海相望的国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东亚中的中国"/>
          <p:cNvPicPr/>
          <p:nvPr/>
        </p:nvPicPr>
        <p:blipFill>
          <a:blip r:embed="rId1"/>
          <a:stretch/>
        </p:blipFill>
        <p:spPr>
          <a:xfrm>
            <a:off x="0" y="380880"/>
            <a:ext cx="9016920" cy="613908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3"/>
          <p:cNvSpPr/>
          <p:nvPr/>
        </p:nvSpPr>
        <p:spPr>
          <a:xfrm>
            <a:off x="228600" y="152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华文彩云"/>
              </a:rPr>
              <a:t>祖国的四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2971800" y="609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最北：漠河以北黑龙江主航道的中心线，纬度北纬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53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3809880" y="1523880"/>
            <a:ext cx="152640" cy="152640"/>
          </a:xfrm>
          <a:prstGeom prst="diamond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3352680" y="2743200"/>
            <a:ext cx="152640" cy="152280"/>
          </a:xfrm>
          <a:prstGeom prst="diamond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7"/>
          <p:cNvSpPr/>
          <p:nvPr/>
        </p:nvSpPr>
        <p:spPr>
          <a:xfrm>
            <a:off x="4114800" y="1752480"/>
            <a:ext cx="152280" cy="152640"/>
          </a:xfrm>
          <a:prstGeom prst="diamond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2514600" y="1981080"/>
            <a:ext cx="152280" cy="152640"/>
          </a:xfrm>
          <a:prstGeom prst="diamond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2133720" y="30481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最南：南海南沙群岛中的曾母暗沙，纬度南纬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度附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4114800" y="144936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最东：黑龙江与乌苏里江主航道中心线的交汇处，经度东经</a:t>
            </a:r>
            <a:r>
              <a:rPr b="1" lang="en-US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135</a:t>
            </a: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度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228600" y="1600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最西：新疆帕米尔高原，经度东经</a:t>
            </a:r>
            <a:r>
              <a:rPr b="1" lang="en-US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75</a:t>
            </a: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度附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11" descr="BJ_026"/>
          <p:cNvPicPr/>
          <p:nvPr/>
        </p:nvPicPr>
        <p:blipFill>
          <a:blip r:embed="rId1"/>
          <a:stretch/>
        </p:blipFill>
        <p:spPr>
          <a:xfrm>
            <a:off x="0" y="0"/>
            <a:ext cx="9220320" cy="645156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14"/>
          <p:cNvSpPr/>
          <p:nvPr/>
        </p:nvSpPr>
        <p:spPr>
          <a:xfrm>
            <a:off x="838080" y="990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算一算我国最南与最北纬度相差约多少度？并根据所跨纬度计算我国南北端距离约为多少千米？哪条重要的纬线穿越我国的南部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990720" y="39625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按五带划分，我国最南处于哪个热量带？最北接近哪个带？大部分领土位于哪个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6"/>
          <p:cNvSpPr/>
          <p:nvPr/>
        </p:nvSpPr>
        <p:spPr>
          <a:xfrm>
            <a:off x="609480" y="312408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华文行楷"/>
                <a:ea typeface="华文行楷"/>
              </a:rPr>
              <a:t>（纬度相差</a:t>
            </a:r>
            <a:r>
              <a:rPr b="1" lang="en-US" sz="4000" spc="-1" strike="noStrike">
                <a:solidFill>
                  <a:srgbClr val="800080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800080"/>
                </a:solidFill>
                <a:latin typeface="华文行楷"/>
                <a:ea typeface="华文行楷"/>
              </a:rPr>
              <a:t>度，距离相差</a:t>
            </a:r>
            <a:r>
              <a:rPr b="1" lang="en-US" sz="4000" spc="-1" strike="noStrike">
                <a:solidFill>
                  <a:srgbClr val="800080"/>
                </a:solidFill>
                <a:latin typeface="华文行楷"/>
                <a:ea typeface="华文行楷"/>
              </a:rPr>
              <a:t>110</a:t>
            </a:r>
            <a:r>
              <a:rPr b="1" lang="zh-CN" sz="4000" spc="-1" strike="noStrike">
                <a:solidFill>
                  <a:srgbClr val="800080"/>
                </a:solidFill>
                <a:latin typeface="华文行楷"/>
                <a:ea typeface="华文行楷"/>
              </a:rPr>
              <a:t>千米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雪屋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4707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0016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0383"/>
          <p:cNvPicPr/>
          <p:nvPr/>
        </p:nvPicPr>
        <p:blipFill>
          <a:blip r:embed="rId3"/>
          <a:stretch/>
        </p:blipFill>
        <p:spPr>
          <a:xfrm>
            <a:off x="4038480" y="3444840"/>
            <a:ext cx="5105520" cy="34131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梯田2"/>
          <p:cNvPicPr/>
          <p:nvPr/>
        </p:nvPicPr>
        <p:blipFill>
          <a:blip r:embed="rId4"/>
          <a:stretch/>
        </p:blipFill>
        <p:spPr>
          <a:xfrm>
            <a:off x="0" y="3475080"/>
            <a:ext cx="4952880" cy="33829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6"/>
          <p:cNvSpPr/>
          <p:nvPr/>
        </p:nvSpPr>
        <p:spPr>
          <a:xfrm>
            <a:off x="4038480" y="228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北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4267080" y="3809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南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9" descr="BJ_040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2"/>
          <p:cNvSpPr/>
          <p:nvPr/>
        </p:nvSpPr>
        <p:spPr>
          <a:xfrm>
            <a:off x="1295280" y="114300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华文行楷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003366"/>
                </a:solidFill>
                <a:latin typeface="华文行楷"/>
                <a:ea typeface="华文行楷"/>
              </a:rPr>
              <a:t>、跨近</a:t>
            </a:r>
            <a:r>
              <a:rPr b="1" lang="en-US" sz="4400" spc="-1" strike="noStrike">
                <a:solidFill>
                  <a:srgbClr val="003366"/>
                </a:solidFill>
                <a:latin typeface="华文行楷"/>
                <a:ea typeface="华文行楷"/>
              </a:rPr>
              <a:t>50</a:t>
            </a:r>
            <a:r>
              <a:rPr b="1" lang="zh-CN" sz="4400" spc="-1" strike="noStrike">
                <a:solidFill>
                  <a:srgbClr val="003366"/>
                </a:solidFill>
                <a:latin typeface="华文行楷"/>
                <a:ea typeface="华文行楷"/>
              </a:rPr>
              <a:t>个纬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1981080" y="28195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南北气候差异显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2133720" y="457200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适宜发展多种农业经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3657600" y="18288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>
            <a:off x="3733920" y="35053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1026" descr="世界时区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59720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027"/>
          <p:cNvSpPr/>
          <p:nvPr/>
        </p:nvSpPr>
        <p:spPr>
          <a:xfrm>
            <a:off x="533520" y="1522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行楷"/>
                <a:ea typeface="华文行楷"/>
              </a:rPr>
              <a:t>夏季，当北京时间为</a:t>
            </a:r>
            <a:r>
              <a:rPr b="1" lang="en-US" sz="2800" spc="-1" strike="noStrike">
                <a:solidFill>
                  <a:srgbClr val="009900"/>
                </a:solidFill>
                <a:latin typeface="华文行楷"/>
                <a:ea typeface="华文行楷"/>
              </a:rPr>
              <a:t>6</a:t>
            </a:r>
            <a:r>
              <a:rPr b="1" lang="zh-CN" sz="2800" spc="-1" strike="noStrike">
                <a:solidFill>
                  <a:srgbClr val="009900"/>
                </a:solidFill>
                <a:latin typeface="华文行楷"/>
                <a:ea typeface="华文行楷"/>
              </a:rPr>
              <a:t>点时，我国东部的乌苏里江和西部的帕米尔高原各是什么景象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1030"/>
          <p:cNvSpPr/>
          <p:nvPr/>
        </p:nvSpPr>
        <p:spPr>
          <a:xfrm>
            <a:off x="0" y="1219320"/>
            <a:ext cx="4191120" cy="3124080"/>
          </a:xfrm>
          <a:prstGeom prst="wedgeRoundRectCallout">
            <a:avLst>
              <a:gd name="adj1" fmla="val 102652"/>
              <a:gd name="adj2" fmla="val -93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1031" descr="027"/>
          <p:cNvPicPr/>
          <p:nvPr/>
        </p:nvPicPr>
        <p:blipFill>
          <a:blip r:embed="rId2"/>
          <a:stretch/>
        </p:blipFill>
        <p:spPr>
          <a:xfrm>
            <a:off x="0" y="12193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032" descr="0230"/>
          <p:cNvPicPr/>
          <p:nvPr/>
        </p:nvPicPr>
        <p:blipFill>
          <a:blip r:embed="rId3"/>
          <a:stretch/>
        </p:blipFill>
        <p:spPr>
          <a:xfrm>
            <a:off x="0" y="12193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034"/>
          <p:cNvSpPr/>
          <p:nvPr/>
        </p:nvSpPr>
        <p:spPr>
          <a:xfrm>
            <a:off x="6781680" y="3276720"/>
            <a:ext cx="2362320" cy="2438280"/>
          </a:xfrm>
          <a:prstGeom prst="wedgeRoundRectCallout">
            <a:avLst>
              <a:gd name="adj1" fmla="val -1745"/>
              <a:gd name="adj2" fmla="val -8528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035" descr="0323"/>
          <p:cNvPicPr/>
          <p:nvPr/>
        </p:nvPicPr>
        <p:blipFill>
          <a:blip r:embed="rId4"/>
          <a:stretch/>
        </p:blipFill>
        <p:spPr>
          <a:xfrm>
            <a:off x="5638680" y="3352680"/>
            <a:ext cx="3505320" cy="247176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1036"/>
          <p:cNvSpPr/>
          <p:nvPr/>
        </p:nvSpPr>
        <p:spPr>
          <a:xfrm>
            <a:off x="1219320" y="5943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我国东西端地方时相差</a:t>
            </a:r>
            <a:r>
              <a:rPr b="1" lang="en-US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4</a:t>
            </a:r>
            <a:r>
              <a:rPr b="1" lang="zh-CN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小时</a:t>
            </a:r>
            <a:r>
              <a:rPr b="1" lang="en-US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8</a:t>
            </a:r>
            <a:r>
              <a:rPr b="1" lang="zh-CN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分</a:t>
            </a:r>
            <a:r>
              <a:rPr b="1" lang="en-US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40</a:t>
            </a:r>
            <a:r>
              <a:rPr b="1" lang="zh-CN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BJ_040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621" name="WordArt 3"/>
          <p:cNvSpPr txBox="1"/>
          <p:nvPr/>
        </p:nvSpPr>
        <p:spPr>
          <a:xfrm>
            <a:off x="685800" y="533520"/>
            <a:ext cx="1609560" cy="137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新魏"/>
              </a:rPr>
              <a:t>小结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1143000" y="259092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Times New Roman"/>
                <a:ea typeface="华文彩云"/>
              </a:rPr>
              <a:t>我国南北跨度大，东西距离广，幅员辽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050" descr="地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051" descr="世界地图突出中国"/>
          <p:cNvPicPr/>
          <p:nvPr/>
        </p:nvPicPr>
        <p:blipFill>
          <a:blip r:embed="rId2"/>
          <a:stretch/>
        </p:blipFill>
        <p:spPr>
          <a:xfrm>
            <a:off x="762120" y="2133720"/>
            <a:ext cx="7848360" cy="43210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2052"/>
          <p:cNvSpPr/>
          <p:nvPr/>
        </p:nvSpPr>
        <p:spPr>
          <a:xfrm>
            <a:off x="1905120" y="6858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中国在世界上的位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54"/>
          <p:cNvSpPr/>
          <p:nvPr/>
        </p:nvSpPr>
        <p:spPr>
          <a:xfrm>
            <a:off x="1981080" y="144792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华文彩云"/>
                <a:ea typeface="华文彩云"/>
              </a:rPr>
              <a:t>The  seat  of  China  in  the  wor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2056"/>
          <p:cNvSpPr/>
          <p:nvPr/>
        </p:nvSpPr>
        <p:spPr>
          <a:xfrm flipV="1">
            <a:off x="914400" y="4419360"/>
            <a:ext cx="7696080" cy="75960"/>
          </a:xfrm>
          <a:prstGeom prst="line">
            <a:avLst/>
          </a:prstGeom>
          <a:ln w="540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rc 2057"/>
          <p:cNvSpPr/>
          <p:nvPr/>
        </p:nvSpPr>
        <p:spPr>
          <a:xfrm flipH="1">
            <a:off x="762120" y="2209680"/>
            <a:ext cx="2133360" cy="4079880"/>
          </a:xfrm>
          <a:custGeom>
            <a:avLst/>
            <a:gdLst/>
            <a:ahLst/>
            <a:rect l="l" t="t" r="r" b="b"/>
            <a:pathLst>
              <a:path fill="none" w="21600" h="22752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211"/>
                  <a:pt x="21558" y="21983"/>
                  <a:pt x="21475" y="22751"/>
                </a:cubicBezTo>
              </a:path>
              <a:path stroke="0" w="21600" h="22752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211"/>
                  <a:pt x="21558" y="21983"/>
                  <a:pt x="21475" y="22751"/>
                </a:cubicBezTo>
                <a:lnTo>
                  <a:pt x="0" y="20439"/>
                </a:lnTo>
                <a:lnTo>
                  <a:pt x="6986" y="0"/>
                </a:lnTo>
                <a:close/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rc 2058"/>
          <p:cNvSpPr/>
          <p:nvPr/>
        </p:nvSpPr>
        <p:spPr>
          <a:xfrm flipH="1">
            <a:off x="1219320" y="2209680"/>
            <a:ext cx="1752480" cy="4038840"/>
          </a:xfrm>
          <a:custGeom>
            <a:avLst/>
            <a:gdLst/>
            <a:ahLst/>
            <a:rect l="l" t="t" r="r" b="b"/>
            <a:pathLst>
              <a:path fill="none" w="21600" h="22129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002"/>
                  <a:pt x="21577" y="21566"/>
                  <a:pt x="21533" y="22128"/>
                </a:cubicBezTo>
              </a:path>
              <a:path stroke="0" w="21600" h="22129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002"/>
                  <a:pt x="21577" y="21566"/>
                  <a:pt x="21533" y="22128"/>
                </a:cubicBezTo>
                <a:lnTo>
                  <a:pt x="0" y="20439"/>
                </a:lnTo>
                <a:lnTo>
                  <a:pt x="6986" y="0"/>
                </a:lnTo>
                <a:close/>
              </a:path>
            </a:pathLst>
          </a:custGeom>
          <a:noFill/>
          <a:ln w="54000">
            <a:solidFill>
              <a:srgbClr val="80008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rc 2059"/>
          <p:cNvSpPr/>
          <p:nvPr/>
        </p:nvSpPr>
        <p:spPr>
          <a:xfrm>
            <a:off x="4800600" y="2362320"/>
            <a:ext cx="609480" cy="3962160"/>
          </a:xfrm>
          <a:custGeom>
            <a:avLst/>
            <a:gdLst/>
            <a:ahLst/>
            <a:rect l="l" t="t" r="r" b="b"/>
            <a:pathLst>
              <a:path fill="none" w="21600" h="22752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211"/>
                  <a:pt x="21558" y="21983"/>
                  <a:pt x="21475" y="22751"/>
                </a:cubicBezTo>
              </a:path>
              <a:path stroke="0" w="21600" h="22752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211"/>
                  <a:pt x="21558" y="21983"/>
                  <a:pt x="21475" y="22751"/>
                </a:cubicBezTo>
                <a:lnTo>
                  <a:pt x="0" y="20439"/>
                </a:lnTo>
                <a:lnTo>
                  <a:pt x="6986" y="0"/>
                </a:lnTo>
                <a:close/>
              </a:path>
            </a:pathLst>
          </a:custGeom>
          <a:noFill/>
          <a:ln w="54000">
            <a:solidFill>
              <a:srgbClr val="80008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rc 2060"/>
          <p:cNvSpPr/>
          <p:nvPr/>
        </p:nvSpPr>
        <p:spPr>
          <a:xfrm>
            <a:off x="4724280" y="2209680"/>
            <a:ext cx="152640" cy="4191120"/>
          </a:xfrm>
          <a:custGeom>
            <a:avLst/>
            <a:gdLst/>
            <a:ahLst/>
            <a:rect l="l" t="t" r="r" b="b"/>
            <a:pathLst>
              <a:path fill="none" w="21600" h="24867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926"/>
                  <a:pt x="21446" y="23410"/>
                  <a:pt x="21141" y="24867"/>
                </a:cubicBezTo>
              </a:path>
              <a:path stroke="0" w="21600" h="24867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926"/>
                  <a:pt x="21446" y="23410"/>
                  <a:pt x="21141" y="24867"/>
                </a:cubicBezTo>
                <a:lnTo>
                  <a:pt x="0" y="20439"/>
                </a:lnTo>
                <a:lnTo>
                  <a:pt x="6986" y="0"/>
                </a:lnTo>
                <a:close/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2061"/>
          <p:cNvSpPr/>
          <p:nvPr/>
        </p:nvSpPr>
        <p:spPr>
          <a:xfrm>
            <a:off x="76960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赤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062"/>
          <p:cNvSpPr/>
          <p:nvPr/>
        </p:nvSpPr>
        <p:spPr>
          <a:xfrm>
            <a:off x="838080" y="2362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华文彩云"/>
                <a:ea typeface="华文彩云"/>
              </a:rPr>
              <a:t>20</a:t>
            </a:r>
            <a:r>
              <a:rPr b="1" lang="en-US" sz="2400" spc="-1" strike="noStrike">
                <a:solidFill>
                  <a:srgbClr val="ff3300"/>
                </a:solidFill>
                <a:latin typeface="华文彩云"/>
              </a:rPr>
              <a:t>⁰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063"/>
          <p:cNvSpPr/>
          <p:nvPr/>
        </p:nvSpPr>
        <p:spPr>
          <a:xfrm>
            <a:off x="365760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华文彩云"/>
                <a:ea typeface="华文彩云"/>
              </a:rPr>
              <a:t>160 </a:t>
            </a:r>
            <a:r>
              <a:rPr b="1" lang="en-US" sz="2400" spc="-1" strike="noStrike">
                <a:solidFill>
                  <a:srgbClr val="ff3300"/>
                </a:solidFill>
                <a:latin typeface="华文彩云"/>
              </a:rPr>
              <a:t>⁰</a:t>
            </a:r>
            <a:r>
              <a:rPr b="1" lang="en-US" sz="2400" spc="-1" strike="noStrike">
                <a:solidFill>
                  <a:srgbClr val="ff3300"/>
                </a:solidFill>
                <a:latin typeface="华文彩云"/>
                <a:ea typeface="华文彩云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065"/>
          <p:cNvSpPr/>
          <p:nvPr/>
        </p:nvSpPr>
        <p:spPr>
          <a:xfrm>
            <a:off x="3048120" y="3886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北半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067"/>
          <p:cNvSpPr/>
          <p:nvPr/>
        </p:nvSpPr>
        <p:spPr>
          <a:xfrm>
            <a:off x="304812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南半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068"/>
          <p:cNvSpPr/>
          <p:nvPr/>
        </p:nvSpPr>
        <p:spPr>
          <a:xfrm>
            <a:off x="4191120" y="28954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东半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069"/>
          <p:cNvSpPr/>
          <p:nvPr/>
        </p:nvSpPr>
        <p:spPr>
          <a:xfrm>
            <a:off x="4876920" y="2895480"/>
            <a:ext cx="5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西半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071"/>
          <p:cNvSpPr/>
          <p:nvPr/>
        </p:nvSpPr>
        <p:spPr>
          <a:xfrm>
            <a:off x="2268360" y="2205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072"/>
          <p:cNvSpPr/>
          <p:nvPr/>
        </p:nvSpPr>
        <p:spPr>
          <a:xfrm>
            <a:off x="4932360" y="2133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80 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5" descr="BJ_051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10"/>
          <p:cNvSpPr/>
          <p:nvPr/>
        </p:nvSpPr>
        <p:spPr>
          <a:xfrm>
            <a:off x="533520" y="380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  <a:ea typeface="华文彩云"/>
              </a:rPr>
              <a:t>一、位置优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1600200" y="160020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中国位于</a:t>
            </a: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北半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4267080" y="27432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东半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2743200" y="3733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位于 </a:t>
            </a: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亚洲东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4114800" y="480060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太平洋的西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15" descr="0806"/>
          <p:cNvPicPr/>
          <p:nvPr/>
        </p:nvPicPr>
        <p:blipFill>
          <a:blip r:embed="rId2"/>
          <a:stretch/>
        </p:blipFill>
        <p:spPr>
          <a:xfrm>
            <a:off x="304920" y="5410080"/>
            <a:ext cx="1361880" cy="8049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6" descr="0117"/>
          <p:cNvPicPr/>
          <p:nvPr/>
        </p:nvPicPr>
        <p:blipFill>
          <a:blip r:embed="rId3"/>
          <a:stretch/>
        </p:blipFill>
        <p:spPr>
          <a:xfrm>
            <a:off x="7924680" y="5867280"/>
            <a:ext cx="10162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3" descr="东半球图"/>
          <p:cNvPicPr/>
          <p:nvPr/>
        </p:nvPicPr>
        <p:blipFill>
          <a:blip r:embed="rId1"/>
          <a:stretch/>
        </p:blipFill>
        <p:spPr>
          <a:xfrm>
            <a:off x="762120" y="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东亚"/>
          <p:cNvPicPr/>
          <p:nvPr/>
        </p:nvPicPr>
        <p:blipFill>
          <a:blip r:embed="rId1"/>
          <a:stretch/>
        </p:blipFill>
        <p:spPr>
          <a:xfrm>
            <a:off x="228600" y="380880"/>
            <a:ext cx="8672400" cy="590256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2514600" y="1295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亚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4572000" y="1447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太平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6" descr="BTN_009"/>
          <p:cNvPicPr/>
          <p:nvPr/>
        </p:nvPicPr>
        <p:blipFill>
          <a:blip r:embed="rId2"/>
          <a:stretch/>
        </p:blipFill>
        <p:spPr>
          <a:xfrm>
            <a:off x="6324480" y="5600880"/>
            <a:ext cx="24004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东亚"/>
          <p:cNvPicPr/>
          <p:nvPr/>
        </p:nvPicPr>
        <p:blipFill>
          <a:blip r:embed="rId1"/>
          <a:stretch/>
        </p:blipFill>
        <p:spPr>
          <a:xfrm>
            <a:off x="228600" y="380880"/>
            <a:ext cx="8672400" cy="590256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3"/>
          <p:cNvSpPr/>
          <p:nvPr/>
        </p:nvSpPr>
        <p:spPr>
          <a:xfrm>
            <a:off x="228600" y="2286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评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33520" y="144792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    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与俄罗斯、加拿大、巴西相比，我国的纬度位置有什么不同？说说我国纬度位置的优越性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2743200" y="914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俄罗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5638680" y="10666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加拿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7696080" y="3352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巴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5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东亚"/>
          <p:cNvPicPr/>
          <p:nvPr/>
        </p:nvPicPr>
        <p:blipFill>
          <a:blip r:embed="rId1"/>
          <a:stretch/>
        </p:blipFill>
        <p:spPr>
          <a:xfrm>
            <a:off x="228600" y="380880"/>
            <a:ext cx="8672400" cy="590256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3"/>
          <p:cNvSpPr/>
          <p:nvPr/>
        </p:nvSpPr>
        <p:spPr>
          <a:xfrm>
            <a:off x="457200" y="1981080"/>
            <a:ext cx="73152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与蒙古、日本相比，我国的海陆位置有什么不同？与美国有什么相同和不同的地方？说说我国海陆位置的优越性。</a:t>
            </a:r>
            <a:r>
              <a:rPr b="1" lang="zh-CN" sz="41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152280" y="3049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评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3200400" y="1600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  <a:ea typeface="华文行楷"/>
              </a:rPr>
              <a:t>蒙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41148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日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6324480" y="1600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0" dur="1" fill="hold"/>
                                  <p:tgtEl>
                                    <p:spTgt spid="5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80880" y="1371600"/>
          <a:ext cx="8382240" cy="4064040"/>
        </p:xfrm>
        <a:graphic>
          <a:graphicData uri="http://schemas.openxmlformats.org/drawingml/2006/table">
            <a:tbl>
              <a:tblPr/>
              <a:tblGrid>
                <a:gridCol w="2438640"/>
                <a:gridCol w="59436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展农业生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我国南北跨纬度广、气候差异大，为发展多种农业经济提供了有利条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外交往与合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展海洋事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228600" y="990720"/>
          <a:ext cx="8534520" cy="457200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  <a:gridCol w="1371600"/>
                <a:gridCol w="1904760"/>
                <a:gridCol w="1524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国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面积（万平方千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居世界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人口（亿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居世界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俄罗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7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加拿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中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美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巴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澳大利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印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3:46:30Z</dcterms:created>
  <dc:creator>办公计算机</dc:creator>
  <dc:description/>
  <dc:language>en-US</dc:language>
  <cp:lastModifiedBy>a</cp:lastModifiedBy>
  <dcterms:modified xsi:type="dcterms:W3CDTF">2015-03-17T05:43:16Z</dcterms:modified>
  <cp:revision>88</cp:revision>
  <dc:subject/>
  <dc:title>PowerPoint 演示文稿</dc:title>
</cp:coreProperties>
</file>