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2037-BE05-4014-816D-518E17661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78B8-DF61-457E-A5B9-695EB809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5E1B-F15F-43A6-8B24-8A45A2D9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8AC-92E0-449D-913F-0552D2EB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20C-FBF5-4601-9027-FBCC72A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E97B3-8366-4271-B788-6E2455EA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6A38E-F11E-4391-9006-8455B1C0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3CCD4-FD97-4980-9883-38969EB0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61101-7419-4414-9F3F-84A0986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2DD59-DD65-475A-B690-B633C2B4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7F06B-6ABE-4995-8186-E32CE366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10EAA-B98C-47D6-A689-F93711EA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EAB25-F030-4B35-A93A-E716914B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98E22-4620-475B-AADB-E6D63384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2AE67-69C8-42C9-A8E4-D11BE532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632-CC36-4E37-A0EA-05E5C34D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B9E12-7908-4A3E-B2CD-12D8DFFB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E2D06-AF06-4CCC-B7E8-32700D5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73A0C-C713-4F9F-A84D-74EFE1F1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3146F-C7BC-4815-9128-9090BDAB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930BD-0D0A-4D45-BE17-A5C868AF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C96A8-FEA7-484C-947E-900490E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C7A9A-37A3-428F-B85E-9CF25DF1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6C840-C60D-4E31-AD3F-98264923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39710-7676-4A19-820B-A066990B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165CF-A06F-4441-9E95-0A351067E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F60-76D5-4B7B-8DD0-82ED8425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E61B6-3E73-47F1-91C3-B65D91AC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DCA74-64D2-4719-8A79-47255E63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DD0E6-924E-495D-BEC8-66C09F0C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FDA54-A74F-4198-9025-D36390D9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58920-2E8B-457B-BF46-89F57B3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20F13-0F1E-4A3E-8948-CF6FA7A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66D0F-6A46-432A-8E08-214C3C20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6C8E6-A07B-492B-BBFC-CECCBF1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1FF01-53ED-4525-8E47-FFE7E631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8253A-D02D-41F4-904D-564A3E7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3CED-B442-4C2C-B0D5-DF2A016A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462A3-F937-4613-BBB3-11331A05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E977D-1E81-45F7-B86B-0D51A6A0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F51D1-006B-42B4-810F-447C5AE6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38610-27D7-4C0E-890D-6EE78BBD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C2971-A108-474A-BF0B-EFDE124F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81078-A119-43DE-BE4A-EE0C420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D38F2-E840-45ED-9394-ED2A94D4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896C3-0CA5-468A-B039-BFD178C2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83926-7B86-4DBE-AB52-B8DF2A3A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2FC30-BF7C-44B5-AE27-2DA93A8E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7013-4A86-4D59-B2BF-CE072099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82F22-D72E-4429-A97C-E8C56C5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4898B-A0E7-457B-9E90-98D7748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4FA9B-6448-46DD-B516-52A5D19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7D9FE-DCDD-4209-8022-38D85F32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E5D60-F801-44A3-ADFE-79EFEE72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FCE62-7B5F-4C4B-811F-2D404CBF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632BA-411C-4739-A9AA-481FC750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013FD-9F5B-4D06-A48E-59E4CBC3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8C60A-63C5-49BA-AC34-9A88B634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C5D54-51B5-4879-9635-376539FC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7763-DA31-4D2C-802C-EE3C5A5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73C13-0647-4441-9640-4B713203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8C55A-DE48-479B-8060-4F7E8AB3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2CC93-B183-4800-BD28-A8AE53B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9F27B-8C8B-449A-B262-7C4558FD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C4025-B5BD-4904-8718-5280898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264DB-127C-44E0-8E85-9775E156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FA021-8F9C-48EA-9564-B1D35ADC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764AF-381F-44E9-B82B-A373A8BE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DAB1B-D04C-474C-8562-4E22EB71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57559-CDD7-418B-8B4C-2811C16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BA0E-0FF9-4CFF-92FB-E0305B2A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0669D-67BD-4F57-B6C8-E7F90171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DD8B7-FD65-43EA-BEE1-44A27A36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919D7-024C-4317-9A85-EABBB351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9020E-56ED-4DE3-A271-32F3FCC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96B98-6554-4863-A4EB-C20BFAB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4510B-E4DD-4ECA-BA96-9C95C20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64777-E48C-4762-A0B7-D86834C0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46248-C09E-4A46-8062-75736420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036FF-398F-498B-A510-6EEFCECC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7520-3E97-47C7-8834-D9FAE141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E56E-3225-458B-B068-610D9981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D084-97E4-4BAC-B6FC-C747600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CCF-0A71-42F0-8DEB-A4924703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9A2D-F571-4E0C-B6B0-B6BEFF95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10F0-D04C-4FE2-8DB6-522B465B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C672-AB9D-493D-A2D9-87A7CC68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1B11-9B88-40EE-844F-C8919D64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74B2-4AD9-4E49-8060-2A1C4235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F0C5-59BE-4BA9-A1E4-B6FA911F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646C4-EFBE-47D7-8C97-E98A64A3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E23F-1203-4BEF-A568-03A0B74C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E5D2-9D14-4E62-88CF-6EA97BA2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5B7D-206A-412E-A733-165B2314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DE2-708D-4E2D-BA43-C2103B24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BEE4-85CB-4A41-A29F-6FCF9D1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E248-D8E8-4694-8A10-83C38D5B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9C9E-9560-4B4E-9275-BD39F6CF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F038-7BD1-4024-BA6B-9ADC2945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A9D0A-D0B5-45B1-B6CE-445CBF1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61C1-2966-4E89-89F0-B6690CFB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35EA3-5427-4C3A-B67F-B2771241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D392-3A4E-40AA-8C57-B2EA90E4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2FA13-11A2-4DC7-9D93-255CE603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CA70-70F9-48D8-991D-8C17933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B9C-945C-4C8B-B8A2-5F6475F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54D4-4533-41D3-993D-42F85A98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95DA-016E-4621-A576-DA760AF9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23A4-18F7-40D6-9EA2-9C87B63F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8519-5CE3-4B40-97EE-C4AF7A23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50FFC-C5ED-4743-8343-F0D13B0E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DCE0-1B56-479E-BD53-BAD602AC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DD7B-C3BF-4767-8D6A-2E4EE773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715F-4BA8-46F4-83AC-8C01CF57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4D828-6D64-4D3A-98B7-06D7066E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468D5-FAAE-439A-87F3-4D12282C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D21-A8FC-4B0E-98BB-0A400C95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D7C38-9891-483F-ABB1-06CF9EE9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729E-44CC-4455-8A64-21D720FB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568ED-D15A-462A-910B-EACD9B99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D2DBC-F1CC-4439-BA33-BF84EA81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D8181-3009-4BE8-A88D-FFB18426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6E42-7039-4995-8D9C-FAF3E371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5256D-B84E-42B5-8BF2-D2BC542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31725-BE7B-4C29-B9A6-BBFDD42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774C-0D48-49DA-A0A4-000376E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8FCA7-6006-4AB2-9172-A0B7188C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364-A35F-4446-AE24-131261AA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6942-FD5E-45F1-907B-8788CA4D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13330-262D-4ADC-96AE-E11A822D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07AFC-3367-453C-91B9-7828E76E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CA24F-8AE9-4D11-BBFD-C093CF3B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231C6-10FB-40ED-B5B4-D3247E45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D497-8557-48FA-81C4-1DDAFAA3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7BF7-D189-4F22-8096-6AC12FE5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17355-B97B-49EA-B990-3574AF84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F3A8F-9708-46C3-9223-D409D77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6E011-DDAE-49FC-B99D-C161A86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365-A67C-4966-9D7C-9E34B9A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FA2D7-9103-41EB-8B09-DB0320D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0FEA2-39C5-4E79-A71D-6B2B798F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C70A8-3621-40EC-AF16-B4D99419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6422E-DF2C-43C6-8629-85CBE6F6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09651-8AE2-4215-A279-D9E97647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1753D-CF42-459F-8800-3529BECD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10543-5B68-4C1B-8A05-EAFA117D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31F6D-536D-4DC3-93EF-C7EEE430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F4CE8-C5E2-40C2-A3A4-109E86C6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21231-F6A4-4B84-B3C2-12C1F66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CB7-3E17-4B11-B111-D5EDF65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883C-AEB4-40F6-9894-662D8019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7B2AF-E5A5-415C-934E-FD850822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02945-F1AF-417B-A351-965B7B9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7D505-2B60-44A9-A345-D99F7F6C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807E4-F6A6-4F33-AC7D-A5E6D763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A656B-FC51-4BC1-8DB0-744A3A1A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6641-393A-4AB6-8868-EAB42CD0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12E99-0077-4F62-BAE2-9085040F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DAB09-AE0B-4999-B064-50EBD16C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3175-C647-40D4-AD64-853E575E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219-F183-49BC-A21A-6FB64557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5398-57D3-4AEE-B841-5A32D770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3AA4A-0AED-42B6-8080-D995D3DC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8C93-131E-4F62-BDAB-26B62750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07C08-2B6C-49BC-B3C6-409931B1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BAE67-F19B-4A0F-BF59-6B8B974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F67DA-2D22-4D31-A781-89B6E8B8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E88E5-B27C-42BB-83AE-C0E0F78D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98D78-A7A8-40B9-85AC-5AFD71BB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D6EF9-1420-4AD6-8066-B722DA2F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0DF01-37C2-4559-B9E7-8B9D1913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DB64-06F5-43A8-8782-C648118D5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E4B2-C34C-474F-A02F-F0B98C99B4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3372-B094-450A-A01E-69F78E8FA9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ABCA-9FDE-45A4-AD98-057CD055FD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D7A5-19B3-49DC-BDF9-DC54A89B26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561F-FF78-49FC-946F-5D49F94AD7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0E1F-2EE5-4BD7-8660-6E3C8E5EBB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97F-418B-4D2F-B6B1-9DC7BFBC26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BDD3-DAB2-496B-948F-FB127C9A05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1F3D-1D4A-4352-AC96-952674092F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5F2F-F3AD-4202-B469-8759C59559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85EC-8AA5-44E6-844B-1D550ACDA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A779-14F7-4B89-AF2F-5E18C34B0B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CD1C-5897-494C-8984-B6205C2B55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F556-103D-40B9-8996-338C097737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0BB-BDD1-4386-B56E-73A1F75C7E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296-AFE4-46CB-8D17-0D694B0247B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931C-B657-41C6-8232-4C631FE421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BEB9-D4FE-46C6-8FF4-DBFE764CA79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6A4E-3E29-461E-AB2A-8A45C82CFA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78B9-678A-432B-AF75-668FC6DC91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6C3C-B55D-400D-8F87-CC088DF108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8D44-B354-4711-B1D4-5AA4389E54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5FA6-9297-4D53-8A80-D9735F0D68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9560-2B26-4D7D-9C59-C4A784C474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BCF8-7395-46C5-B9C9-C83E61EB6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image" Target="../media/image1.jpeg"/><Relationship Id="rId13" Type="http://schemas.openxmlformats.org/officeDocument/2006/relationships/image" Target="../media/image2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三水大桥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4" name="歌声与微笑.mp3" descr=""/>
          <p:cNvPicPr/>
          <p:nvPr/>
        </p:nvPicPr>
        <p:blipFill>
          <a:blip r:embed="rId13"/>
          <a:stretch/>
        </p:blipFill>
        <p:spPr>
          <a:xfrm>
            <a:off x="129528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5" name="WordArt 4"/>
          <p:cNvSpPr txBox="1"/>
          <p:nvPr/>
        </p:nvSpPr>
        <p:spPr>
          <a:xfrm>
            <a:off x="1908000" y="1197000"/>
            <a:ext cx="548640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兰兰过桥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zoom dir="in"/>
    <p:sndAc>
      <p:stSnd>
        <p:snd r:embed="rId1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koror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3"/>
          <p:cNvSpPr/>
          <p:nvPr/>
        </p:nvSpPr>
        <p:spPr>
          <a:xfrm>
            <a:off x="6742440" y="6172200"/>
            <a:ext cx="1643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科罗巴卜图瓦普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2" descr="qing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7637040" y="617220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青马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yangp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3"/>
          <p:cNvSpPr/>
          <p:nvPr/>
        </p:nvSpPr>
        <p:spPr>
          <a:xfrm>
            <a:off x="380880" y="6019920"/>
            <a:ext cx="221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上海杨浦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2" descr="jin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3"/>
          <p:cNvSpPr/>
          <p:nvPr/>
        </p:nvSpPr>
        <p:spPr>
          <a:xfrm>
            <a:off x="228600" y="6095880"/>
            <a:ext cx="152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金门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2" descr="澜石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3"/>
          <p:cNvSpPr/>
          <p:nvPr/>
        </p:nvSpPr>
        <p:spPr>
          <a:xfrm>
            <a:off x="304920" y="5867280"/>
            <a:ext cx="14475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澜石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上海卢浦大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3"/>
          <p:cNvSpPr/>
          <p:nvPr/>
        </p:nvSpPr>
        <p:spPr>
          <a:xfrm>
            <a:off x="600840" y="228600"/>
            <a:ext cx="1278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上海卢浦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2" descr="南海西山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3"/>
          <p:cNvSpPr/>
          <p:nvPr/>
        </p:nvSpPr>
        <p:spPr>
          <a:xfrm>
            <a:off x="609480" y="6095880"/>
            <a:ext cx="2133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南海西山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d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2" descr="济南黄河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ver dir="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2" descr="深圳湾跨海大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3"/>
          <p:cNvSpPr/>
          <p:nvPr/>
        </p:nvSpPr>
        <p:spPr>
          <a:xfrm>
            <a:off x="0" y="4495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课外拓展：设计未来的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0" y="556272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设计要求：美观、有创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FR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"/>
          <p:cNvSpPr/>
          <p:nvPr/>
        </p:nvSpPr>
        <p:spPr>
          <a:xfrm>
            <a:off x="1887480" y="1828800"/>
            <a:ext cx="44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彩虹落人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1908000" y="2743200"/>
            <a:ext cx="449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横跨大江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1908000" y="3657600"/>
            <a:ext cx="46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虹上汽车过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908000" y="4572000"/>
            <a:ext cx="434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</a:rPr>
              <a:t>水流虹下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3419640" y="5300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（桥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6" descr="我会猜"/>
          <p:cNvPicPr/>
          <p:nvPr/>
        </p:nvPicPr>
        <p:blipFill>
          <a:blip r:embed="rId2"/>
          <a:stretch/>
        </p:blipFill>
        <p:spPr>
          <a:xfrm>
            <a:off x="0" y="0"/>
            <a:ext cx="2160720" cy="20048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3"/>
          <p:cNvSpPr/>
          <p:nvPr/>
        </p:nvSpPr>
        <p:spPr>
          <a:xfrm>
            <a:off x="1116000" y="2205000"/>
            <a:ext cx="696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种桥叫潜水桥，是用</a:t>
            </a:r>
            <a:r>
              <a:rPr b="1" lang="zh-CN" sz="5000" spc="-1" strike="noStrike">
                <a:solidFill>
                  <a:srgbClr val="ff0066"/>
                </a:solidFill>
                <a:latin typeface="华文楷体"/>
                <a:ea typeface="华文楷体"/>
              </a:rPr>
              <a:t>特别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结实的玻璃砖造的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6" descr="我会猜"/>
          <p:cNvPicPr/>
          <p:nvPr/>
        </p:nvPicPr>
        <p:blipFill>
          <a:blip r:embed="rId2"/>
          <a:stretch/>
        </p:blipFill>
        <p:spPr>
          <a:xfrm>
            <a:off x="0" y="0"/>
            <a:ext cx="2160720" cy="20048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1979640" y="2205000"/>
            <a:ext cx="612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她一看：原来是一座架在水里的桥，就像</a:t>
            </a:r>
            <a:r>
              <a:rPr b="1" lang="zh-CN" sz="5000" spc="-1" strike="noStrike" u="sng">
                <a:solidFill>
                  <a:srgbClr val="006600"/>
                </a:solidFill>
                <a:uFillTx/>
                <a:latin typeface="华文楷体"/>
                <a:ea typeface="华文楷体"/>
              </a:rPr>
              <a:t>               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PM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3"/>
          <p:cNvSpPr/>
          <p:nvPr/>
        </p:nvSpPr>
        <p:spPr>
          <a:xfrm>
            <a:off x="1600200" y="685800"/>
            <a:ext cx="58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兰兰惊奇地站在潜水桥上，透过玻璃看见大大小小的鱼游来游去，各种各样的船只从桥顶上驶过来划过去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PM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1752480" y="1676520"/>
            <a:ext cx="5943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惊奇地站在潜水桥上，透过玻璃看见                            。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FR_0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1447920" y="1905120"/>
            <a:ext cx="6476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</a:t>
            </a:r>
            <a:r>
              <a:rPr b="1" lang="zh-CN" sz="5000" spc="-1" strike="noStrike">
                <a:solidFill>
                  <a:srgbClr val="ff0066"/>
                </a:solidFill>
                <a:latin typeface="华文楷体"/>
                <a:ea typeface="华文楷体"/>
              </a:rPr>
              <a:t>又薄又结实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的塑料管子，打进空气，就成了一座轻巧的桥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2" descr="PM_029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3"/>
          <p:cNvSpPr/>
          <p:nvPr/>
        </p:nvSpPr>
        <p:spPr>
          <a:xfrm>
            <a:off x="684360" y="2060640"/>
            <a:ext cx="670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        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爷爷真是一位会变魔术的</a:t>
            </a:r>
            <a:r>
              <a:rPr b="1" lang="zh-CN" sz="5000" spc="-1" strike="noStrike">
                <a:solidFill>
                  <a:srgbClr val="ff0066"/>
                </a:solidFill>
                <a:latin typeface="华文楷体"/>
                <a:ea typeface="华文楷体"/>
              </a:rPr>
              <a:t>桥梁专家</a:t>
            </a:r>
            <a:r>
              <a:rPr b="1" lang="zh-CN" sz="5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明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601992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mingshi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5"/>
          <p:cNvSpPr/>
          <p:nvPr/>
        </p:nvSpPr>
        <p:spPr>
          <a:xfrm>
            <a:off x="7225560" y="6095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明石海峡大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ll dir="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36:08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14:01Z</dcterms:modified>
  <cp:revision>5</cp:revision>
  <dc:subject/>
  <dc:title>第一PPT模板网-WWW.1PPT.COM</dc:title>
</cp:coreProperties>
</file>