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gif" ContentType="image/gif"/>
  <Override PartName="/ppt/media/image7.png" ContentType="image/png"/>
  <Override PartName="/ppt/media/image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9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F4A-07B6-454D-9BA3-EA70DCBD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4E9-8790-4DED-90BF-B5B6DF5B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6C92-48D5-4847-9C62-EE423299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A8FB4-F769-4969-A901-B0767F3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B03AF-4516-4AFC-A4DE-7C2282D3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FCCBD-F9D0-4672-BB43-95C9DC0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FD899-CD60-4E09-B287-97D550D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BF618-91BC-4D94-8133-5FACB72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52549-9D07-46C8-884F-5AA22D08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2F646-9EED-4962-9148-52F5DFA5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B3FC0-003C-488F-BC0D-9C991189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D9B93-0768-4690-A593-4FE9DB75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EE1-D571-4315-BC46-CE6DD6BE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76D98-462B-4D03-AD3A-9F034428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2EFFE-F12F-4F7C-BAA6-C93078DF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6597A-5424-4867-B56B-90D69F18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C9EA1-8827-4CCF-8AE4-5E8C25DE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21F37-A4E4-4678-8DA0-261D23A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40F2D-87F6-4138-8B69-047AE29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019D4-15E1-4B07-9F83-94D2BA8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87E62-BFE2-4BC6-9FE9-43BC2AE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56D89-571D-4B5C-9E09-7DB8356B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F856A-85F3-4111-B305-3165B7DB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35A-A6E2-426F-8FE7-BEF3F074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E037A-94F2-4E09-8E13-2C4249E0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E9348-B3E7-4E5B-B58F-07BC7960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ACFFF-FB7C-4724-91AB-A5F4F0E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D1ADD-C923-47D2-B105-1C2009E1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58F8A-821A-404A-AB1B-394AE4A2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38B04-A5A5-464E-85AD-7AE2155D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F61D4-5785-480C-A7BD-B338F27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5FD03-850F-49CD-A66D-1B22268D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981D3-BB15-4326-ACC8-C19C7FE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BBC76-FD6B-463B-88BF-D87636F3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3B2-2A71-4D27-9DEC-399ABEDA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19A04-2617-4F19-BB3C-9463EA64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A3CAC-9DE8-44E2-9F7D-437417C1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108E-C520-4806-82CE-9F721A0D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A8FB3-AB97-4635-B0E0-13193682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516C4-8E85-4D78-949E-97825983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11392-E7C3-48AD-9DBD-4E058317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EFAB9-53EB-498E-9717-DFA0CCB1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A2BD9-0F18-4613-8A5F-5967E410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BC43A-4D91-4047-9098-89843BC5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CD6C9-6B4B-4AA5-B005-6C90057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B6A0-50AF-4BE3-AEB8-74F788D3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C6F18-5DD4-4137-946B-AE0CDD7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21322-C89E-4FF6-BE21-4DEC24CB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8366A-CBFC-453B-9EA9-E447666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3BD06-CA67-43FA-AC15-A8E0968B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2804A-0DD8-4D8B-A75D-4B9AB9FE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8A43C-22DF-4667-9C0F-51D7D046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1E4F4-D217-4BB6-9395-AAF9976F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E140B-D908-4B98-96DA-F6C5D509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F1686-A568-439B-9EBB-7CA1DA8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027AE-F943-4EE0-B7D9-CEB586E1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5475-190F-4BFF-A5DE-C36700FB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70CD9-4F17-434B-A228-FFAEC3B6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A8DC7-6726-4CE2-AC4E-5756595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05F25-C20C-4D01-873B-3B079E3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965EF-2DCA-48E3-83E6-E1229783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EB735-FF17-4B3E-A53B-0974FCD4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5C22A-71F6-4CC1-94BB-94E3831C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2297D-8319-44CD-A788-ED31A677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68C6-2C12-49F5-99AB-BCA1F447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4F55-4C99-4E00-8863-15FDB7C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ECB0-9F30-4B43-8AB2-D99A112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31A4-E894-47EE-9C38-B433B25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EB7-3AA8-4883-A390-DA0C27A7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306F-A524-4E1D-BF9E-1D9BC92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518-82BB-4501-A0A7-C95FF50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0428-3098-4A63-ABD7-2FC05408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4603-734C-4AFD-B73D-1E8485B0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D204-D559-43DA-8D96-FB542BDC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F1FF-EEEE-4AEF-A115-9952FBCA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9946-BC0C-475F-A8FC-CA7CB6F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BB10-DECF-41E4-8428-11A39BA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9553-9DBF-4816-A402-E9270BF5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6809-3025-46F4-8518-BBA18872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32E-9AA8-4DA3-A2E5-DA871CE9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C80B-9680-47A6-BF86-52D26C84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195F-A771-462A-856B-67E4236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A352-F711-4235-9B81-CA81A36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4349-8EAF-4C83-A6AA-43B3F0B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DF8C-AC11-4DE8-A124-C6665D1B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07ED4-364B-437C-B664-DE5E4219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ED0B-246D-4000-88B7-3FD444A1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31DF-BDA2-4D55-A212-85EB7010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0A26-D2F1-4D51-9D23-D97EAFF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7D94-01E4-4511-8D08-49A3968D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623-B7ED-450A-921D-1CD6C91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C72F-E1B5-4DC5-8AF4-1C2D4B93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8AAB-494F-48AF-B0E5-9402B4F1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976C-DE2B-4EBD-89B3-C834CE8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FD66-35D0-404B-ADA7-E7DEE4F3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1DAF7-1137-4D2F-ADF8-614C47A1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424F-8426-4C3A-A0CB-5C458E3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17E9-E6A7-4E35-8349-8D32E938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4146-17A6-4A66-847E-FA5F79D3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32F3D-5EC4-43BB-BF80-875AE2E3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0B6F-3ECC-4A03-BC88-F5EA7D57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DB5-3A37-43D6-AA61-7F69BDE8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BB1A-C130-4E4F-A5F1-EB5A9277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0C73-6CDC-46CF-86FC-0156A1AC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FA85-0871-4FF9-80FB-56A59C33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6440-848B-4B9A-9259-72DBBDB0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1DC9-805E-475B-A853-9076E066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50336-251D-4E0B-B1F1-0DF18C2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725D-A8DC-42F8-9A4F-D8C0D554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25BA-1749-41D6-9E4E-EDCF898F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002CD-CE54-4A21-BA61-9DD39A92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75A2-9EB3-4350-A90C-43218C09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E46-5906-4B62-8937-13764E11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50DD-B4BF-41A2-9DE5-91B44B1F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25134-A792-4E2E-BBD1-E54905B9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6757-8DC2-42AB-A5D4-2F8513C9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3C12-7A15-4E65-A494-CECCE982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CD6A-997A-4797-BDC4-4574AE8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04AA-8F1C-4314-B46D-1EE48252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659D8-EDED-4DBA-929A-45355FFD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1275-87E1-4F02-A4E9-84AEADBD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5239-97A5-4245-A848-67A56E6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A50E2-917B-495B-A571-E647107E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4DF-D419-4541-B4D6-0533DC8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6D0AA-90AC-473E-8B28-3C06E427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98B7D-BE3B-4EFC-BA71-0F287681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567D4-0F6D-40D1-9383-F29DDAEA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C76E-B751-49AE-9969-A2DC9C1D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58280-D8A7-41AC-95C8-8B8F229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DEC9-4409-4ADF-990C-D674BE5B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93B35-21F2-4E11-B75D-A406F2F1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1BC3E-40AB-488A-8D42-1153533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BF823-6658-4A3E-954D-00B0304E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53E6A-4EA5-4687-B641-9FB61569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D04-04BC-4E6A-824B-480F675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264D-A1DC-4E9C-8E0C-61343F0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617A2-0214-486F-B4BC-97A5B77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ED2D7-7FA5-40E8-AC7F-3945D48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77A2D-F02D-4255-A445-0A875789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CFCE-8EE6-4E5C-B5B2-F244341B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82638-45AE-4DE6-ACA9-A12CED33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714D4-113A-4877-B068-FC82DF70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2DF3-A1D8-450D-843C-849E11FB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B2D4-B139-495B-A2BC-23FE728A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2D955-6D02-4EE7-9D3B-ED55C3C8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CC6-43AB-47C0-8C35-BC8332E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B7D6-B2EC-47CA-97D1-34374C01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3F1F-33EF-4A0C-8E93-28B0404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33857-D68E-4B02-B48D-B94B654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AB3FF-32A3-4E9C-885C-1BB4A782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F82FD-DC8E-473E-906B-C0951727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7D880-C1AA-4119-AF60-9068AE18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5E5AC-1F99-494E-9034-E7400F80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41BB1-3327-442D-99AE-1EC9CD93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9A69A-98FA-4D09-8E17-B49A59BE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D7253-CBBC-458F-89EB-CACEEC43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B99E-3955-4641-9EDD-EE1FB578B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4D17-431D-4107-8D9A-F8D104CC4C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2AF-13B0-445F-8178-FDCD45D9B7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7E64-6D50-489D-B3D4-861C00D6D9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2DD-2590-4DF5-B3A0-E4A46A1F6C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B85-6D53-47F3-B027-BB52009EC4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8F3-6279-4F4C-B926-6C8F0ED53B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DE5C-06DD-46EC-ACD9-B7ECBECC62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5EF5-4F24-4082-8BD3-B0B5B9BB7D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C20-5FE9-461B-823D-124F039023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1BB-1746-4241-A60E-33BCAA0632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223E-262B-4BF9-8E7E-D39211250B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DBA-A4CC-4920-9B85-6CFD0F37FF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21BE-BFE5-4749-8D45-29FC2366FD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912-AF0B-4A8E-88EC-B9D55735F8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B4E7-8C25-4D21-835B-275EFE66D5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1F6D-9AE8-47AC-9A20-BD6402BA62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205B-DA2D-43D8-9A2D-7A2DBCD495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535D-C2E3-43D5-B66A-7C7D2B39B2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53A4-E1D7-4EF0-A26D-A31E88A753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5378-FAAD-4CE0-B365-5E192736F0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AA55-2333-4AA9-8604-CAEDE9EEC6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3AF4-9190-4777-97BB-BF0B0C8058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172B-5B39-4194-A278-592FC859E1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DB2D-C898-4592-8BB6-02DFBF6C21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:\图库\背景图片1\BJ1017.jpg"/>
          <p:cNvPicPr/>
          <p:nvPr/>
        </p:nvPicPr>
        <p:blipFill>
          <a:blip r:embed="rId1"/>
          <a:srcRect l="0" t="0" r="0" b="7"/>
          <a:stretch/>
        </p:blipFill>
        <p:spPr>
          <a:xfrm>
            <a:off x="0" y="519120"/>
            <a:ext cx="9144000" cy="5819760"/>
          </a:xfrm>
          <a:prstGeom prst="rect">
            <a:avLst/>
          </a:prstGeom>
          <a:ln w="0">
            <a:noFill/>
          </a:ln>
        </p:spPr>
      </p:pic>
      <p:sp>
        <p:nvSpPr>
          <p:cNvPr id="534" name="WordArt 3"/>
          <p:cNvSpPr txBox="1"/>
          <p:nvPr/>
        </p:nvSpPr>
        <p:spPr>
          <a:xfrm>
            <a:off x="2514600" y="190512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蓝色的树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438280" y="44956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济南南洋学校    石春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4" descr="D:\图库\背景图片1\背景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1066680" y="470844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  ）的银杏树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9" descr="D:\图库\实用图案\叶子1.jpg"/>
          <p:cNvPicPr/>
          <p:nvPr/>
        </p:nvPicPr>
        <p:blipFill>
          <a:blip r:embed="rId2"/>
          <a:stretch/>
        </p:blipFill>
        <p:spPr>
          <a:xfrm>
            <a:off x="5562720" y="1371600"/>
            <a:ext cx="3047760" cy="27716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1066680" y="547056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  ）的梧桐树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6" descr="D:\图库\实用图案\银杏树叶.jpg"/>
          <p:cNvPicPr/>
          <p:nvPr/>
        </p:nvPicPr>
        <p:blipFill>
          <a:blip r:embed="rId3"/>
          <a:stretch/>
        </p:blipFill>
        <p:spPr>
          <a:xfrm>
            <a:off x="762120" y="609480"/>
            <a:ext cx="4419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D:\图库\香山红叶2.jpg"/>
          <p:cNvPicPr/>
          <p:nvPr/>
        </p:nvPicPr>
        <p:blipFill>
          <a:blip r:embed="rId1"/>
          <a:stretch/>
        </p:blipFill>
        <p:spPr>
          <a:xfrm>
            <a:off x="1079640" y="638280"/>
            <a:ext cx="6984720" cy="5000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6"/>
          <p:cNvSpPr/>
          <p:nvPr/>
        </p:nvSpPr>
        <p:spPr>
          <a:xfrm>
            <a:off x="2895480" y="5791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（          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的枫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D:\图库\背景图片2\BJ2043.JPG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47750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209556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                       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的树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D:\图库\蓝色的树叶.JPEG"/>
          <p:cNvPicPr/>
          <p:nvPr/>
        </p:nvPicPr>
        <p:blipFill>
          <a:blip r:embed="rId1"/>
          <a:srcRect l="0" t="0" r="-142" b="-103"/>
          <a:stretch/>
        </p:blipFill>
        <p:spPr>
          <a:xfrm>
            <a:off x="2743200" y="30492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251460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                 ）的树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D:\图库\nwbt1.gif"/>
          <p:cNvPicPr/>
          <p:nvPr/>
        </p:nvPicPr>
        <p:blipFill>
          <a:blip r:embed="rId1"/>
          <a:stretch/>
        </p:blipFill>
        <p:spPr>
          <a:xfrm>
            <a:off x="378000" y="685800"/>
            <a:ext cx="83865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1600200" y="990720"/>
            <a:ext cx="320040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快来闯词语迷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7" descr="D:\图库\实用图案\小屋.JPEG"/>
          <p:cNvPicPr/>
          <p:nvPr/>
        </p:nvPicPr>
        <p:blipFill>
          <a:blip r:embed="rId2"/>
          <a:stretch/>
        </p:blipFill>
        <p:spPr>
          <a:xfrm>
            <a:off x="914400" y="2590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D:\图库\实用图案\彩虹桥.jpg"/>
          <p:cNvPicPr/>
          <p:nvPr/>
        </p:nvPicPr>
        <p:blipFill>
          <a:blip r:embed="rId3"/>
          <a:stretch/>
        </p:blipFill>
        <p:spPr>
          <a:xfrm>
            <a:off x="5029200" y="259092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9"/>
          <p:cNvSpPr/>
          <p:nvPr/>
        </p:nvSpPr>
        <p:spPr>
          <a:xfrm>
            <a:off x="914400" y="5715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号迷宫             二号迷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380880" y="1447920"/>
            <a:ext cx="838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算术  美术  技术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ff"/>
                </a:solidFill>
                <a:latin typeface="楷体_GB2312"/>
                <a:ea typeface="楷体_GB2312"/>
              </a:rPr>
              <a:t>铅笔  铅笔芯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惹人爱  惹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吞吞吐吐  吐气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桌子  课桌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楷体_GB2312"/>
                <a:ea typeface="楷体_GB2312"/>
              </a:rPr>
              <a:t>盒子   铅笔盒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皱纹 皱眉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注意  注音  注定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削铅笔   削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WordArt 5"/>
          <p:cNvSpPr txBox="1"/>
          <p:nvPr/>
        </p:nvSpPr>
        <p:spPr>
          <a:xfrm>
            <a:off x="914400" y="533520"/>
            <a:ext cx="403848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这些词，我会读！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D:\图库\实用图案\菊花.gif"/>
          <p:cNvPicPr/>
          <p:nvPr/>
        </p:nvPicPr>
        <p:blipFill>
          <a:blip r:embed="rId1"/>
          <a:stretch/>
        </p:blipFill>
        <p:spPr>
          <a:xfrm>
            <a:off x="784872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5"/>
          <p:cNvSpPr/>
          <p:nvPr/>
        </p:nvSpPr>
        <p:spPr>
          <a:xfrm>
            <a:off x="647640" y="2438280"/>
            <a:ext cx="784872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木＋、＝（术）      土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+(      )=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吐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若＋（    ）＝惹   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卓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+(      )=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盒＝（     ）＋（      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注＝（     ）＋（      ）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WordArt 6"/>
          <p:cNvSpPr txBox="1"/>
          <p:nvPr/>
        </p:nvSpPr>
        <p:spPr>
          <a:xfrm>
            <a:off x="1295280" y="762120"/>
            <a:ext cx="4419720" cy="6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华文中宋"/>
              </a:rPr>
              <a:t>变字魔术：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华文中宋"/>
              <a:ea typeface="华文中宋"/>
            </a:endParaRPr>
          </a:p>
        </p:txBody>
      </p:sp>
      <p:pic>
        <p:nvPicPr>
          <p:cNvPr id="562" name="Picture 7" descr="D:\图库\实用图案\树叶.gif"/>
          <p:cNvPicPr/>
          <p:nvPr/>
        </p:nvPicPr>
        <p:blipFill>
          <a:blip r:embed="rId1"/>
          <a:stretch/>
        </p:blipFill>
        <p:spPr>
          <a:xfrm>
            <a:off x="8153280" y="60199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D:\图库\背景图片1\BJ1216.jpg"/>
          <p:cNvPicPr/>
          <p:nvPr/>
        </p:nvPicPr>
        <p:blipFill>
          <a:blip r:embed="rId1"/>
          <a:srcRect l="0" t="0" r="15" b="54"/>
          <a:stretch/>
        </p:blipFill>
        <p:spPr>
          <a:xfrm>
            <a:off x="304920" y="160020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564" name="WordArt 4"/>
          <p:cNvSpPr txBox="1"/>
          <p:nvPr/>
        </p:nvSpPr>
        <p:spPr>
          <a:xfrm>
            <a:off x="1295280" y="609480"/>
            <a:ext cx="32767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我也会说！</a:t>
            </a:r>
            <a:endParaRPr b="0" lang="en-US" sz="2400" spc="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71680" y="2108160"/>
            <a:ext cx="80010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：你把绿铅笔借给我用一用，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（                                                ）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533520" y="3809880"/>
            <a:ext cx="807696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：现在可以把你的绿铅笔借给我了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ccffff"/>
                </a:solidFill>
                <a:latin typeface="Times New Roman"/>
              </a:rPr>
              <a:t>（                                            ）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3520" y="49528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：吞吞吐吐       花花绿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（               ）（               ）（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0" descr="D:\图库\实用图案\小精灵2.jpg"/>
          <p:cNvPicPr/>
          <p:nvPr/>
        </p:nvPicPr>
        <p:blipFill>
          <a:blip r:embed="rId2"/>
          <a:stretch/>
        </p:blipFill>
        <p:spPr>
          <a:xfrm>
            <a:off x="4572000" y="304920"/>
            <a:ext cx="1600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8:05:43Z</dcterms:created>
  <dc:creator>jnny</dc:creator>
  <dc:description/>
  <dc:language>en-US</dc:language>
  <cp:lastModifiedBy>a</cp:lastModifiedBy>
  <dcterms:modified xsi:type="dcterms:W3CDTF">2015-03-18T05:42:19Z</dcterms:modified>
  <cp:revision>10</cp:revision>
  <dc:subject/>
  <dc:title>PowerPoint 演示文稿</dc:title>
</cp:coreProperties>
</file>