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FB1-67E8-49D6-B52E-278DDBFC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885-4186-4017-830C-3050C48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13E8A-3B0F-4820-BFE9-451D8585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5CA76-7334-43D3-B887-1FCD937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0DC28-0CC4-4AB5-9469-03591FE0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9B21-F340-4782-850D-C49408C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C02FD-BAD5-47E8-B971-86AFC5C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56410-797B-4FBF-AC1F-98B47104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59570-43FE-4856-9A96-01C54FBC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65D0B-C10E-4575-A49C-589C8D8E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4CE38-9CDC-411D-84B1-9476E9A0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30718-02CA-4965-B667-333678A1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461-F0E5-47D1-9900-CB149AF5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C14C9-5B9A-46EF-8A50-0389FE0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C59A2-CBC3-4C4B-8263-591789AD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FED26-009A-4F90-8133-68A073B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1E2C0-0F9F-4CE9-9464-58196FE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6B3D9-9B45-4243-AB6F-B6AE0F85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C567A-BB9B-4709-B050-9BD45B77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F13D3-E3F9-4E71-BC63-B32BB5C2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5E74C-0B68-406D-A88E-F996F0F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3A064-02C2-4DD3-8582-B2EC6739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1097A-04EA-492B-A474-12193513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97F-6BCD-4CD5-8D9C-562AF032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3A1AA-8772-4EBF-A658-6D806C07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A14C5-FCBC-4199-941B-ADBAD0F0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4E51-7395-417D-B761-D17736C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14B50-3553-4E79-8767-6E7A48C2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7345D-6092-4978-9E09-AD4680A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99E66-13D0-450A-AFE5-47DDD3BD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46038-9A4B-4AB6-8E60-5B0A7CB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2447E-810C-4EAE-AF0A-3F17040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2C7C8-2BC4-4628-BB1D-7A7254F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BC6FC-59B9-4BFA-9D7D-CB74FF9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BF96-5F1B-4077-AE73-3E0537AE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4AC0-115E-4723-91A2-04FDC73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3C1F-E93B-430D-AC1B-25ABFE25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4C00C-4344-467D-B913-15068C18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6002C-AAEF-44F7-B24E-10EFF274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9AB0E-ED01-4CEF-9ADB-49394BBE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AEA48-00FD-42BF-B092-D7755CF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14F74-1B3D-471A-AD0D-0826F9E9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C07BD-6AD2-4DE9-BD04-F9F0C05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4D1DC-9AA6-48AD-BAC2-EB7896A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A38FC-1ECD-4B89-A941-2C1E738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F8C1-A96E-48DB-9336-007B7045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B6467-4CEE-492C-8F3D-68BCCF3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F5210-F7F5-4CFC-AC61-C936004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9E39D-9DB2-4D85-B9A7-BD4788BA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934BB-B944-46C6-97AB-A81DA186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3DB64-1C2E-4CEF-97A7-B30981A3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60607-0369-4349-8CB1-829B35E4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E4B9A-651A-4CE8-A5C9-9F930F72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8798D-F4A1-4CCA-BF1B-C792D1F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E380A-5BD8-4D86-9B6E-8CFD3B83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51AA2-745F-409A-9E7E-914F9A0F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72F9-64E1-4491-94A0-6B068A49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41EE6-56E2-4BA8-AABA-B899EC5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3C526-6DAE-46BF-BFA4-940D7EB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C9937-0744-4491-9B4E-3B78312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5C749-38BA-4180-B303-200A2845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6D8AE-2FFA-4DE0-88B0-18E4BE19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C33AB-817F-4236-BDC7-85D4D6B9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F00AE-EFD2-4C39-9579-6C279058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3844-F022-4F11-9510-FF649ED8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6B67-09E8-43F6-9749-E8F0593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EF90-7656-4296-9070-B6150D2F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4356-6FC8-4914-8F4A-4597DF9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1BF-FFBF-4EB0-BEFF-100E281A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8757-5ECB-4748-9F71-C445CDE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8DD6-CFC3-4FEA-B4E4-11DD4F94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448-043B-47E2-A4C8-BFE4C1E6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987-753A-4385-9693-661DB955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4BAA-B9A2-4CA4-8B0C-FFFCBE0C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08A5-5703-4794-B5BD-80CF6664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8FEF-43B1-4DF7-AA1D-399112C8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AE19-F4CE-4996-885F-A343EC95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496D-5EAB-4D46-AFFA-69CB2BC5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EBCB-22EA-439D-96E1-C8AB965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7FC-E82E-432D-95EF-0F44CCD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9D73-2E90-4145-BAE3-ECD937D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E0FB-AD30-4873-B1F2-33F402E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71D1-C715-4EB4-B9C3-CCD82ED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5A53-9767-4E79-A99C-51DB6422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45D8-4453-42A3-9A2C-F70BF30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66E7-D0A6-4EB5-8039-EE8E124C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6E36-8787-47CF-A72E-124F783C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5796-F374-4B1D-92BA-35D4E3D2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34E1-0DCD-41A1-B9DF-45F2257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57F7-8414-48AD-9A10-4DEA0A78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BB1-7D50-483B-BC50-ED97B542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2195-3E45-42C8-BEDD-BF88F1A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C638-6776-4653-84EC-A6B9D095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D4AB-CF08-4969-95A4-0FE7C79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8DB5-CA45-4E70-B0A3-B0012D7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53B2-EE68-41C2-ABCF-F6EFD94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2F9D-75C5-44BC-BBBD-7F8F899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BE7E-7F82-4ABF-818F-0976D3F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7F6E-759C-41B7-AD18-31BA72D8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A1C8-1392-44EF-B41F-EADCA460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F175-2ACC-4F43-85BC-916044D3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82B-9277-4495-9066-71F2692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0818-7DB2-4632-88DD-2DDD2E6E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2BF6C-59D4-451B-BAFC-4E54A54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FDA2-C17A-4616-96DA-8E8F51F9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1F19-58D3-49CC-B026-016CB6E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6A3D-06DA-493D-8421-A2AD46A8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FD1D-67B8-41E3-B602-186ECF3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06C66-C7B7-4DF5-A061-51CAB01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9765-7FB6-494F-A455-8FA7071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A66A-0DF9-498A-97E4-16E7B67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368C-894E-4A07-99C7-B03DB507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66D-8ECB-4EAB-81FD-77F00785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CDA9-86DF-4223-909F-682D5245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5AA2-3993-468E-ACCE-8F0DD5E8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0227-E9D5-40B0-A03E-B553CE98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91702-C459-4C7E-87BC-13FCAC3F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DB1E6-AF5A-49E1-B922-675B7B5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492C-4696-46BF-9DEE-7FC5C431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E60E1-90AA-4118-A4E8-3854A47C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759B-F448-42BF-8ECA-E71758E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D540C-E89E-497D-856B-CF241382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5FEB-7D15-4A03-827D-3F6B89B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30F-634F-4194-9B8C-C3BC118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3FA06-3C55-419E-B39D-22609435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947E-4BF1-4526-BB57-7F091F6C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8832-F1D7-4412-9C6B-0CC1E4BB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E1703-041D-4F6A-BD23-897F546A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C6FC8-E259-4CBF-BF58-E054D66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5D92-1B5C-4276-9473-10972098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C5291-ABC5-4569-B6A0-72A90F38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FFDA-672F-4735-9113-B9969B4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E0B5-628F-4824-9B64-C18F0172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0BDE5-0192-4AC4-A8B1-28B90C6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27B-CA6D-496A-B89E-75E4791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92D4-601E-4871-86A3-3610140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1C8C-FB4B-4964-9A68-2EC1A27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967B-409F-4E99-A6A0-9B52E996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3666-7C72-4F65-AD0A-7C120A67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DF6A-71BD-43C8-A83A-51F40F77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1C667-CB18-47C8-B6D5-BFEBEB7A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EB32-9D21-4F09-8F37-938D6E0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A228-B501-488D-BEA0-98203A5C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E68C2-E2B9-4152-BC24-AA16285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2A49-1EEA-4A74-AE72-CFF9C53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A93-329C-45C1-9363-501A4F22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6868-5AA2-4178-A358-1807E054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221BA-FFB0-497B-9F7D-3E25D85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55377-E3DC-4703-BD0A-6E9D068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A3572-C8E8-4D41-A212-8ABEBD7B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49FF3-7A62-453B-A6B7-CA17479B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9610-2DDF-4639-B28F-7C61E5B2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F0476-12B9-49AF-86A8-7632FF55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5E178-7464-40A1-997C-AA83CFB9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E355-BFBF-4517-87B2-6DF67F9F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4BFA-8011-44EA-9BBA-B46655C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FD90-E868-47A0-BC14-3C27BC024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2B43-DA48-436A-8E18-15BECD81D6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42A4-D5A0-47E0-AD99-9D0B7E1892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E06-EB7E-44FF-8A12-3139463964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0F2B-1801-4422-B137-BFE88E7AF1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5BF6-2CB2-4105-A311-A49BC3C9BB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751-90B6-4510-B7C5-EE5D8CE01E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396E-53C4-4F90-BD4C-32241C8A0C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9AD-7C54-40A9-AD0A-1DC02289AF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354-ECA4-4E49-B23F-A9FE80234F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DA44-61B4-47BE-8804-AF9980D21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A58C-0542-4E07-97DD-56701F2D2F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646E-87FE-4FA3-892F-9161CBA392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035F-392D-4E11-A876-73EA50A647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DBEC-C12F-4E44-B46E-525E9FAC0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78A4-22F4-4366-AC45-97F77BAAFA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0814-61B5-46EC-86B1-F84530ECAC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BCC7-21A6-44E1-A4A0-DEB2DA6161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AAFF-B5C3-43DA-99AB-EC5FCE085F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9118-1F33-4B88-A6A0-28D186EF3D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F814-8AC6-4120-89AA-328DF221C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8419-13C7-486E-8D3C-AB3661615B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2571-351A-43BB-A090-816FC62CA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4E41-E32B-4275-80C5-DEBB534007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BD8D-0346-40E6-A8A5-0FC16165F2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066680" y="838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义务教育六年制小学教科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2133720" y="1905120"/>
            <a:ext cx="487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0000"/>
                </a:solidFill>
                <a:latin typeface="Times New Roman"/>
                <a:ea typeface="隶书"/>
              </a:rPr>
              <a:t>语       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320040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第六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3276720" y="5486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施桥镇中心小学    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33520" y="59436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2" descr="C:\Program Files\Common Files\Microsoft Shared\Clipart\themes1\Bullets\BD14565_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58672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\\ADMIN\学校资料\语文素材\省版6册\XC608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\\ADMIN\学校资料\语文素材\省版6册\XC608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609480" y="5791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C:\Program Files\Common Files\Microsoft Shared\Clipart\themes1\Bullets\BD14565_.GIF"/>
          <p:cNvPicPr/>
          <p:nvPr/>
        </p:nvPicPr>
        <p:blipFill>
          <a:blip r:embed="rId2"/>
          <a:stretch/>
        </p:blipFill>
        <p:spPr>
          <a:xfrm>
            <a:off x="45720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1143000" y="838080"/>
            <a:ext cx="723888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课堂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１）描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（２）抄写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２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课外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１）有感情地朗读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（２）背诵课文第一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838080" y="5867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5" descr="C:\Program Files\Common Files\Microsoft Shared\Clipart\themes1\Bullets\BD14565_.GIF"/>
          <p:cNvPicPr/>
          <p:nvPr/>
        </p:nvPicPr>
        <p:blipFill>
          <a:blip r:embed="rId1"/>
          <a:stretch/>
        </p:blipFill>
        <p:spPr>
          <a:xfrm>
            <a:off x="533520" y="5638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533520" y="609480"/>
            <a:ext cx="807696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庐山的云雾千姿百态。那些笼罩在山头的云雾，像戴在山顶上的白色绒帽；那些缠绕在半山的云雾，又像是系在山腰间的一条条玉带。云雾遮挡山峰，它又是巨大的天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庐山的云雾瞬息万变。眼前的云雾，刚刚还是随风飘荡的一缕清烟，转眼间就变成了一泻千里的九天银河；明明是一匹四踢生风的白马，还没等你完全看清楚，它又变成了漂浮在北冰洋上的一座冰山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4" descr="C:\Program Files\Common Files\Microsoft Shared\Clipart\themes1\Bullets\BD14565_.GIF"/>
          <p:cNvPicPr/>
          <p:nvPr/>
        </p:nvPicPr>
        <p:blipFill>
          <a:blip r:embed="rId1"/>
          <a:stretch/>
        </p:blipFill>
        <p:spPr>
          <a:xfrm>
            <a:off x="106668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XC608001.mpg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C:\Program Files\Common Files\Microsoft Shared\Clipart\themes1\Bullets\BD14565_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\\ADMIN\学校资料\语文素材\省版6册\XC608005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2362320" y="12193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庐山的云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457200" y="762120"/>
            <a:ext cx="8686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àn   zēng tiān     lǒng zhào      jì            zh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变 幻   增   添    笼  罩   系 在   遮  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ǎn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ī    tà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一泻千里    流连忘返    千姿百态     秀  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ǎn  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s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           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游 览    弥 漫    瞬息万变     四蹄生风</a:t>
            </a:r>
            <a:r>
              <a:rPr b="0" lang="zh-CN" sz="2800" spc="-1" strike="noStrike">
                <a:solidFill>
                  <a:srgbClr val="660033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143000" y="1066680"/>
            <a:ext cx="701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庐山的景色十分秀丽。那里有高峰，有幽谷，有瀑布，有溪流，尤其是变幻无常的云雾，更给它增添了几分神秘的色彩。在山上游览，似乎随手就能摸到飘来的云雾。漫步山道，常常会有一种腾云驾雾、飘飘欲仙的感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050"/>
          <p:cNvSpPr/>
          <p:nvPr/>
        </p:nvSpPr>
        <p:spPr>
          <a:xfrm>
            <a:off x="1143000" y="1066680"/>
            <a:ext cx="701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庐山的景色十分秀丽。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那里有高峰，有幽谷，有瀑布，有溪流，尤其是变幻无常的云雾，更给它增添了几分神秘的色彩。在山上游览，似乎随手就能摸到飘来的云雾。漫步山道，常常会有一种腾云驾雾、飘飘欲仙的感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\\ADMIN\学校资料\语文素材\省版6册\XC608005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2362320" y="1219320"/>
            <a:ext cx="60958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\\ADMIN\学校资料\语文素材\省版6册\XC608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\\ADMIN\学校资料\语文素材\省版6册\XC60800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3:02:36Z</dcterms:created>
  <dc:creator>friend</dc:creator>
  <dc:description/>
  <dc:language>en-US</dc:language>
  <cp:lastModifiedBy>a</cp:lastModifiedBy>
  <dcterms:modified xsi:type="dcterms:W3CDTF">2015-02-10T03:03:46Z</dcterms:modified>
  <cp:revision>28</cp:revision>
  <dc:subject/>
  <dc:title>PowerPoint 演示文稿</dc:title>
</cp:coreProperties>
</file>