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248-EF09-40B8-BC3E-A28E34E9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C13-D92B-47E7-9153-B6CCC14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F51C6-5C5D-4D62-BAB9-B1E3F09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1DCB-BB89-40AB-B3B3-24A40835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B4E35-98DB-4809-BF29-FEDD022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F2E56-2495-4367-938B-101F824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EB699-BF85-40AB-B23D-3A76349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12B92-36DF-4F46-81D9-D5D63EA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9F49C-00E0-415A-8FAD-582DD55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6612-CD09-4194-8BF6-59CCEF7A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555B-DEE0-4FA8-B4A0-A38DC5BE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EAEB1-630C-43A0-9B70-2D3BB674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171-DAFB-491D-AD0C-E8EF011B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5D2F2-3B96-45D4-B181-11F4032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8AEC-70C9-4AFA-A8C0-DFB215C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161F2-2D66-4E6E-BEE9-FA41649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ADF3E-4413-4C4C-ABFF-A10B8ADB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D88C7-C6E5-404E-9D24-09FD56A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6102B-59D3-4261-8E9D-C07210C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03139-4AF3-4D9A-BEF4-751FC24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8B319-8E6E-4DA9-B8B9-D055468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6E3C-6324-43DD-BEEF-81203EE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9F7E8-56FD-41D6-A984-4524E949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517-130A-4351-ADDD-98D53954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29911-2202-4948-8BE3-DA79BC0E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37D1A-874A-456C-AE93-E587FBBB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61508-C8FE-4DBD-A7C8-CAF4F0C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15BB0-DA42-4087-B708-2E09FDB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7B929-E331-4E68-8F91-7BD27411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9126C-35E7-4B3E-98F7-77C4FD1A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404DB-F1BE-4AF8-9DF2-ED60B28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5FCF9-C62C-43FA-A85B-CE03DA1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16E49-875C-4ADC-9CB8-6B70F42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9286-7D92-43FD-8E5D-C4FEA5A5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C57E-EC6A-4796-B0DF-B437EB3D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0DC9D-3047-4616-A197-5949B40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509C-5C15-4799-AEE0-DA9DF93D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2C56-74B4-4869-BB34-FB2FD9B6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13620-1FD9-4D02-A59F-C5A98E84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25428-38DA-4AC7-9D56-522F6EA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10312-B89B-4A2A-842B-1FDA576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2DBBD-6F1A-4FAE-B62C-32306246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B16B2-1547-4C25-9667-16E4B06F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73ADC-BDF5-48CD-B831-9A3D2F8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262C6-BF3F-4584-B9F1-3593397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7BA-CE84-4448-ACAD-FD770E3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CF0FD-C43B-484C-810C-3F93309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B75A2-4A76-43BF-BDF9-EA54B592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83798-84F4-461E-A117-BF2EDBF7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F052-87B5-499C-B198-89B76B29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9C726-EF94-4EC0-A071-D26ECAB7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406B5-2747-4C74-8AE7-DC21CA24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A4DB1-8103-4D5A-A6A4-307959B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BB45B-D212-4AA3-8A6D-B797C7F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BC46-80E2-427F-9116-4996AC9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B321-C0A1-4567-8905-1FE710E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13B4-62C8-43D5-940F-FC881B4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9B3BA-C1F9-419C-ADA0-AED7DF29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262A9-4D38-43E7-975B-6B31A9F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6445F-A16F-4AC2-A3B9-EEF7180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C1C7D-82C0-468F-AEE5-71E5BB2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18BB4-631A-4F30-AF65-4C072619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C2238-8E30-4178-A766-591C277E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C68D5-7C50-4CF1-9181-621D5BE8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F13E3-74BA-437C-B2A4-B90FAB4F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71BC5-6CE9-424A-886F-E505EC4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50A07-5E8D-41EC-9DC4-BA52D97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073E-75D4-4F9A-884B-4A4A046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5CF4A-5130-42DD-80B6-DD2C59AB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223AD-CE37-473F-87D5-FE2D400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35290-4DEB-4E3A-90CF-820B4343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F1017-013B-4D89-B730-0957B799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59D63-EACB-4EE9-8E9C-AFBDBB4A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A3375-CBC1-4987-86B0-8FA54D3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79B7F-9AE4-423E-B279-9E7B6D9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ECD77-9468-41C5-8CF4-0C47F37C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1C6FE-57B7-41B2-9485-7F69294B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8E3A-D309-467D-A396-4D3199B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E96-6B54-4600-8E30-134E2EA0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C513-3062-4F62-9969-8DFCC69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33D-F065-46D1-B007-7EB1463C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4B10-BFCD-4062-AA1D-AC9ED5D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D6FA-78E1-4DE9-833D-D00C453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3C68-EDE1-48B5-A86C-34C8FC44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C418-B039-4F9C-B77E-12E83AAB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6EC5-EEB8-4104-8CB0-D8343DA0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C262-C095-4D31-BB95-AA633B7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24EB-E6C6-4391-8138-126A417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9A82-5753-44A7-B8A9-70B0C1F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4915-6880-4C5E-884A-B2179FD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5E93-830A-4809-8285-D764516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D36-A11F-4C42-8AB7-F2383AD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97E3-4B5E-4C15-8CEC-BA72F47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4507-5112-4568-8D4A-4951645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B13B-9928-45D6-92F1-51CC461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DACA-0675-43BB-88CB-814AE3C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79D0-C809-489F-A010-A975B62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10EC-D3FB-4E74-97EE-12DF7914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D84B-28CA-4472-B1D0-A72D4C20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EE51-C625-4262-8408-505C7E63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6833-5D58-4C11-8DD4-C271EF8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48A0-CD52-49A1-A60D-D51D0B05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D0F-E50B-4C77-B1BA-4CCBF14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54B8-FFCE-41B2-8C94-1636445A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FB85-18F0-480D-AF48-F742B343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0B7D-8039-4E70-9699-AC06A28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587D-94A0-4ADA-B6AE-9150141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A4D3-216F-49C4-8799-B72F93E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A6F0-8DD1-47FD-9F0E-090E006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35BA-EF9B-4367-8B74-C0129EB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07BE-3DEB-459D-BC77-B89330FA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2AA6-18AE-45A2-8DF5-987623B3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F550-1D13-4EE1-8742-84BB8EA9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2B5-A58C-4FA1-8F19-82DBA74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0740-6906-4433-B51E-AFA059EF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57C2A-7F1A-4A60-85A5-4893AEF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6587C-616E-4E3D-8500-A5F668F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102D-3836-4DFE-BA1E-FB180AF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1A58-13CA-42A7-854E-91F9E9B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134D-751A-4467-8DD2-FF2AB02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9A73-7336-434A-AF82-DCC637E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782A-23B9-46AD-B050-105E71E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4869-034A-4F1B-924C-D8FC136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C438-C503-46F7-93AD-6665FC62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9F7-9EC6-4F30-9461-831F4458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02A34-A280-40A0-B99E-B126EBC5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998C-B043-4838-9C40-A33D71AF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4A6C-C2D2-4442-82AA-98E34DEC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C974-3DB0-465C-8943-3A6502B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48D7-F001-4E0F-8E8A-5FD007FB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F7F2-CF8D-4197-AFB1-19519FB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BF9F-968F-4B5F-AB68-1CDAA87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5731-7744-49DA-B0CC-2783C4E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D357-E64E-42E4-AC1C-C27B3F6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525A-7619-4415-B82D-6D97DCC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B24-EA3B-4057-9D22-F5DC465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1F35-1FB6-46B8-B880-3D7E223D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06AD-0E01-4EE3-BD2F-95641F80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6834-5DFA-4CDB-A8B0-48A956A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31F1-7B01-4BF3-B54D-E933D967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CA9D-47C5-4F79-A832-D92CB26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8AA7A-3287-41EA-8DA3-0A244D7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418E-5A3C-438D-8CC0-F0B0DB0B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EC07-2846-42B5-8E43-91A1E5DF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41E09-0028-4912-819A-2AEA247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1C53-1A22-4AF8-B4A7-EBCA6F8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ECF-7747-48B9-A344-87B1B2A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9851-8AC4-4AB4-B8C7-CEFD500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2618-3499-450D-9649-F0572CF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5C5E-D211-4953-B139-5200A6B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AE39-7814-4175-AE7A-1F7FBC3B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A719-6D30-432F-B9F7-1FB3963D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AC79D-5C92-4E5A-A550-880DE469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C5FD2-5064-40BB-B07F-39455C2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D81C2-8A6B-479B-A7D2-AFA636BB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5AE04-BAF9-44EB-A4D0-BD243FB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8B15-46E2-48D0-911A-B2A8C39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820-5DC2-4AEB-92E3-912E242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5008-DAC3-4884-AA84-AB0426B9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AEAD-8DE7-45A0-AF8C-79AA18F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324C-C98A-4738-8EAA-A231311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D5B2-1BAF-45A3-94B3-A3C233C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6FA5B-F2B9-4100-B427-F495F99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A06F-2A89-4BBB-A0E3-223DE86B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FED2-8993-4D12-B3BE-1FC695A4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796A-3EBB-4466-9505-1529525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0365-0579-4A3B-872F-8EBF5BBD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0EA8-4460-4563-BA3F-362EB24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B71-86F6-4E37-B66C-4E2EB309F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B20C-5847-46BF-97EA-DB14847EBA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56F6-3AA8-4F4D-BA07-1E45C0832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D18-0BE2-49A9-8C2A-37B641CCA6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B86-143C-4BE3-93DD-3823E7137C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C48-0682-4165-9C94-1EE72D3A31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40BE-16AF-42F8-8C8F-A49FC410D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51B-9DDC-4712-A655-981696EF62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0F32-280A-4ADC-9854-4C4BAFCCB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EAA-A93D-41CC-A2C5-DABAE1C058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249-D8E6-48BF-AE95-9A496AF69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475-23B0-4F17-A38F-F0A4950BF7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773F-085E-449F-9411-09B0C6FFA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0F76-C0A0-4604-BD3C-16D70FBB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1B7E-0F21-4DF1-BDAF-018CF74D4C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5B4D-1AC8-42A7-81D1-1A581086B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C24-709D-4CA8-8537-F9798C456A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C5D-FA61-4E0F-AF77-7092A8027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9F3-5934-4D0E-87AE-48A99EC3D4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630-DDF0-444F-BB79-5AE251E3D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81E-E716-409B-80F5-0CD0CF7C22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6A0-9EF4-4D4B-865C-F6447C7E00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8B99-2503-487E-B13F-C58B6B166B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1039-6F3D-46A2-B25C-CD0F59947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4DD-17D5-4377-A525-D8B6A99267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C87D-7D7C-4B0D-B531-F31DDDBBD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5"/>
          <p:cNvGrpSpPr/>
          <p:nvPr/>
        </p:nvGrpSpPr>
        <p:grpSpPr>
          <a:xfrm>
            <a:off x="0" y="304920"/>
            <a:ext cx="10134360" cy="5578560"/>
            <a:chOff x="0" y="304920"/>
            <a:chExt cx="10134360" cy="5578560"/>
          </a:xfrm>
        </p:grpSpPr>
        <p:sp>
          <p:nvSpPr>
            <p:cNvPr id="575" name="Text Box 6"/>
            <p:cNvSpPr/>
            <p:nvPr/>
          </p:nvSpPr>
          <p:spPr>
            <a:xfrm>
              <a:off x="446400" y="5240880"/>
              <a:ext cx="708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81aea"/>
                  </a:solidFill>
                  <a:latin typeface="隶书"/>
                  <a:ea typeface="隶书"/>
                </a:rPr>
                <a:t>     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7"/>
            <p:cNvSpPr/>
            <p:nvPr/>
          </p:nvSpPr>
          <p:spPr>
            <a:xfrm>
              <a:off x="0" y="3667680"/>
              <a:ext cx="1013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381aea"/>
                  </a:solidFill>
                  <a:latin typeface="Arial"/>
                  <a:ea typeface="黑体"/>
                </a:rPr>
                <a:t>资本主义运行机制调节的成功典范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7" name="Group 8"/>
            <p:cNvGrpSpPr/>
            <p:nvPr/>
          </p:nvGrpSpPr>
          <p:grpSpPr>
            <a:xfrm>
              <a:off x="1255320" y="304920"/>
              <a:ext cx="7532280" cy="3206520"/>
              <a:chOff x="1255320" y="304920"/>
              <a:chExt cx="7532280" cy="3206520"/>
            </a:xfrm>
          </p:grpSpPr>
          <p:sp>
            <p:nvSpPr>
              <p:cNvPr id="578" name="WordArt 9"/>
              <p:cNvSpPr txBox="1"/>
              <p:nvPr/>
            </p:nvSpPr>
            <p:spPr>
              <a:xfrm>
                <a:off x="1255320" y="304920"/>
                <a:ext cx="7532280" cy="250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0">
                      <a:noFill/>
                    </a:ln>
                    <a:solidFill>
                      <a:srgbClr val="00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隶书"/>
                  </a:rPr>
                  <a:t>罗斯福新政</a:t>
                </a:r>
                <a:endPara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  <a:ea typeface="隶书"/>
                </a:endParaRPr>
              </a:p>
            </p:txBody>
          </p:sp>
          <p:sp>
            <p:nvSpPr>
              <p:cNvPr id="579" name="Text Box 10"/>
              <p:cNvSpPr/>
              <p:nvPr/>
            </p:nvSpPr>
            <p:spPr>
              <a:xfrm>
                <a:off x="1435320" y="2808000"/>
                <a:ext cx="511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66"/>
                    </a:solidFill>
                    <a:latin typeface="Arial"/>
                  </a:rPr>
                  <a:t>NEW DEAL</a:t>
                </a:r>
                <a:endParaRPr b="0" lang="en-US" sz="4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838080" y="380880"/>
            <a:ext cx="7772400" cy="2165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ahoma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</a:rPr>
              <a:t>有的学者认为：“罗斯福之所以取得了令人瞩目的成就，重要的原因就在于他拥有一个美国历史上独一无二的的‘智囊团’并能充分地发挥它的作用。”他的智囊团里有大学教授、社会工作者、工人活动家、律师、金融家等，正是这批智囊人物，成为罗斯福作出决策时的主要思想来源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角色扮演：假如在座的同学们是罗斯福的“智囊团”成员，请你们为罗斯福总统出谋划策。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646" name="Object 3" descr=""/>
          <p:cNvPicPr/>
          <p:nvPr/>
        </p:nvPicPr>
        <p:blipFill>
          <a:blip r:embed="rId2"/>
          <a:stretch/>
        </p:blipFill>
        <p:spPr>
          <a:xfrm>
            <a:off x="-152280" y="3733920"/>
            <a:ext cx="3124080" cy="288288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4" descr=""/>
          <p:cNvPicPr/>
          <p:nvPr/>
        </p:nvPicPr>
        <p:blipFill>
          <a:blip r:embed="rId3"/>
          <a:stretch/>
        </p:blipFill>
        <p:spPr>
          <a:xfrm>
            <a:off x="5867280" y="3809880"/>
            <a:ext cx="3276720" cy="2784600"/>
          </a:xfrm>
          <a:prstGeom prst="rect">
            <a:avLst/>
          </a:prstGeom>
          <a:ln w="0">
            <a:noFill/>
          </a:ln>
        </p:spPr>
      </p:pic>
      <p:pic>
        <p:nvPicPr>
          <p:cNvPr id="648" name="Object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28600" y="838080"/>
            <a:ext cx="2870280" cy="2210040"/>
          </a:xfrm>
          <a:prstGeom prst="rect">
            <a:avLst/>
          </a:prstGeom>
          <a:ln w="0">
            <a:noFill/>
          </a:ln>
        </p:spPr>
      </p:pic>
      <p:sp>
        <p:nvSpPr>
          <p:cNvPr id="649" name="Oval 6"/>
          <p:cNvSpPr/>
          <p:nvPr/>
        </p:nvSpPr>
        <p:spPr>
          <a:xfrm>
            <a:off x="3200400" y="2666880"/>
            <a:ext cx="2438280" cy="1981440"/>
          </a:xfrm>
          <a:prstGeom prst="ellipse">
            <a:avLst/>
          </a:prstGeom>
          <a:gradFill rotWithShape="0">
            <a:gsLst>
              <a:gs pos="0">
                <a:srgbClr val="7aa17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W DEAL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 rot="1825200">
            <a:off x="2666880" y="2514600"/>
            <a:ext cx="981360" cy="685800"/>
          </a:xfrm>
          <a:prstGeom prst="leftArrow">
            <a:avLst>
              <a:gd name="adj1" fmla="val 50000"/>
              <a:gd name="adj2" fmla="val 35774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 rot="19578000">
            <a:off x="2666880" y="3962520"/>
            <a:ext cx="914400" cy="6858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 rot="12142200">
            <a:off x="5409360" y="3885480"/>
            <a:ext cx="838440" cy="685800"/>
          </a:xfrm>
          <a:prstGeom prst="leftArrow">
            <a:avLst>
              <a:gd name="adj1" fmla="val 50000"/>
              <a:gd name="adj2" fmla="val 30564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 rot="8559600">
            <a:off x="5257080" y="2514240"/>
            <a:ext cx="1066680" cy="685800"/>
          </a:xfrm>
          <a:prstGeom prst="leftArrow">
            <a:avLst>
              <a:gd name="adj1" fmla="val 50000"/>
              <a:gd name="adj2" fmla="val 38885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0" y="0"/>
            <a:ext cx="2490840" cy="764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隶书"/>
                <a:ea typeface="隶书"/>
              </a:rPr>
              <a:t>出谋划策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250920" y="1447560"/>
            <a:ext cx="86421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1aea"/>
                </a:solidFill>
                <a:latin typeface="Verdana"/>
                <a:ea typeface="宋体"/>
              </a:rPr>
              <a:t>假如你是智囊团金融委员会成员，你将采取什么措施恢复银行的信誉，促进金融业的正常运行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685800" y="3200400"/>
            <a:ext cx="662940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１）整顿银行业，克服金融危机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恢复银行信用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罗斯福就职后的第二天就下令全国银行一律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休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四天，随后国会通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紧急银行法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同时，由国家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拨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亿美元贷款给大银行，支持其开业，并成立“联邦储蓄保险公司”，对存款实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Verdana"/>
              </a:rPr>
              <a:t>政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Verdana"/>
              </a:rPr>
              <a:t>保险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086600" y="5562720"/>
            <a:ext cx="205740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假如你是智囊团工业委员会成员，你将如何解决产品过剩，恢复工业生产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28600" y="1523880"/>
            <a:ext cx="4267080" cy="1808280"/>
          </a:xfrm>
          <a:prstGeom prst="rect">
            <a:avLst/>
          </a:prstGeom>
          <a:gradFill rotWithShape="0">
            <a:gsLst>
              <a:gs pos="0">
                <a:srgbClr val="99cc00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515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1515"/>
                </a:solidFill>
                <a:latin typeface="Arial"/>
              </a:rPr>
              <a:t>（３）加强工业计划指导防止盲目竞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国家工业复兴法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：由政府</a:t>
            </a:r>
            <a:r>
              <a:rPr b="1" lang="zh-CN" sz="2400" spc="-1" strike="noStrike" u="sng">
                <a:solidFill>
                  <a:srgbClr val="381aea"/>
                </a:solidFill>
                <a:uFillTx/>
                <a:latin typeface="Times New Roman"/>
                <a:ea typeface="隶书"/>
              </a:rPr>
              <a:t>调节工业生产中的问题，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各个工业企业制订本行业的公平经营规章，规章确定各企业的生产规模、产品价格、销售市场的分配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  <a:ea typeface="Times New Roman"/>
              </a:rPr>
              <a:t>……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凡是接受法规的企业，一律发给印有“我们尽我们的职责”的蓝鹰标志。     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1" name="Picture 5" descr="蓝鹰标志"/>
          <p:cNvPicPr/>
          <p:nvPr/>
        </p:nvPicPr>
        <p:blipFill>
          <a:blip r:embed="rId1"/>
          <a:stretch/>
        </p:blipFill>
        <p:spPr>
          <a:xfrm>
            <a:off x="4952880" y="190512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8"/>
          <p:cNvSpPr/>
          <p:nvPr/>
        </p:nvSpPr>
        <p:spPr>
          <a:xfrm>
            <a:off x="518148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蓝鹰标志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6781680" y="5943600"/>
            <a:ext cx="167652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假如你是智囊团农业委员会成员，你将如何提高农产品价格，增加农民收入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380880" y="3124080"/>
            <a:ext cx="5105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２）调整农业政策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稳定农产品价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农业调整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：减少耕地，缩小现有的耕地面积，屠宰大批牲畜，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政府来补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农民的经济损失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6" name="Picture 5" descr="002"/>
          <p:cNvPicPr/>
          <p:nvPr/>
        </p:nvPicPr>
        <p:blipFill>
          <a:blip r:embed="rId1"/>
          <a:srcRect l="0" t="0" r="52" b="-46"/>
          <a:stretch/>
        </p:blipFill>
        <p:spPr>
          <a:xfrm>
            <a:off x="5486400" y="26668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667" name="Oval 6"/>
          <p:cNvSpPr/>
          <p:nvPr/>
        </p:nvSpPr>
        <p:spPr>
          <a:xfrm>
            <a:off x="7010280" y="5638680"/>
            <a:ext cx="1676520" cy="99072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0920" y="228240"/>
            <a:ext cx="8642160" cy="1523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假如你是智囊团社会福利和就业委员会成员，为了缓解社会矛盾，你将如何进行救济和解决就业问题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70" name="Picture 4" descr="K12SC0000009008"/>
          <p:cNvPicPr/>
          <p:nvPr/>
        </p:nvPicPr>
        <p:blipFill>
          <a:blip r:embed="rId1"/>
          <a:stretch/>
        </p:blipFill>
        <p:spPr>
          <a:xfrm>
            <a:off x="22860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5580000" y="1676520"/>
            <a:ext cx="3203640" cy="77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Times New Roman"/>
                <a:ea typeface="黑体"/>
              </a:rPr>
              <a:t>（４）举办救济和公共工程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5435640" y="3200400"/>
            <a:ext cx="3398760" cy="116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国会拨款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5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亿美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建造田纳西水利工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5334120" y="4941720"/>
            <a:ext cx="3517920" cy="861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方正姚体"/>
              </a:rPr>
              <a:t>增加就业刺激消费稳定社会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79280" y="457200"/>
            <a:ext cx="8964720" cy="1557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会保险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政府实行养老金和失业保险制度，对儿童、残疾人、无谋生能力者提供救济。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3124080"/>
            <a:ext cx="58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建立社会保障体系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74312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895680" y="4267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方正姚体"/>
              </a:rPr>
              <a:t>稳定社会，早日摆脱危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9" name="Picture 13" descr="003"/>
          <p:cNvPicPr/>
          <p:nvPr/>
        </p:nvPicPr>
        <p:blipFill>
          <a:blip r:embed="rId1"/>
          <a:srcRect l="0" t="0" r="12" b="-13"/>
          <a:stretch/>
        </p:blipFill>
        <p:spPr>
          <a:xfrm>
            <a:off x="5334120" y="2209680"/>
            <a:ext cx="3649680" cy="335772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4"/>
          <p:cNvSpPr/>
          <p:nvPr/>
        </p:nvSpPr>
        <p:spPr>
          <a:xfrm>
            <a:off x="48769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美国公民领取的失业保险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罗斯福新政（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New Deal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）的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755640" y="393372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04920" y="1143000"/>
            <a:ext cx="8588160" cy="350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84313"/>
                </a:srgbClr>
              </a:gs>
            </a:gsLst>
            <a:lin ang="18900000"/>
          </a:gradFill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三Ｒ”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即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救济（</a:t>
            </a:r>
            <a:r>
              <a:rPr b="1" lang="en-US" sz="3200" spc="-1" strike="noStrike">
                <a:solidFill>
                  <a:srgbClr val="ff1515"/>
                </a:solidFill>
                <a:latin typeface="Verdana"/>
                <a:ea typeface="宋体"/>
              </a:rPr>
              <a:t>Relief</a:t>
            </a: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指救助急需帮助的大批失业者和贫民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复兴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Recover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是指为失业者提供工作机会，使陷入萧条的经济恢复运转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改革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Reform)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是指采取长远措施改善全国总体经济状况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4920" y="4800600"/>
            <a:ext cx="8496360" cy="1650960"/>
          </a:xfrm>
          <a:prstGeom prst="rect">
            <a:avLst/>
          </a:prstGeom>
          <a:noFill/>
          <a:ln w="698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分为两个阶段：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一阶段：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33~193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年，着重调整与复兴经济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二阶段：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3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年以后，着重改革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实施救济贯穿新政全过程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6477120" y="5562720"/>
            <a:ext cx="1676160" cy="76176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6264360"/>
          </a:xfrm>
          <a:prstGeom prst="rect">
            <a:avLst/>
          </a:prstGeom>
          <a:gradFill rotWithShape="0">
            <a:gsLst>
              <a:gs pos="0">
                <a:srgbClr val="e0f9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Verdana"/>
                <a:ea typeface="宋体"/>
              </a:rPr>
              <a:t>三、对罗斯福新政的评价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669900"/>
                </a:solidFill>
                <a:latin typeface="Verdana"/>
                <a:ea typeface="宋体"/>
              </a:rPr>
              <a:t>、实质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进步性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⑴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直接影响：使美国度过了经济大危机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⑵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间接影响：很大程度上缓和了美国的社会矛盾；   改善了美国人的生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⑶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深远影响：开创了国家干预经济的模式，形成了国家垄断资本主义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7162920" y="5562720"/>
            <a:ext cx="152388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2590920" y="1066680"/>
            <a:ext cx="5867280" cy="8254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是在坚持资本主义民主制度的前提下，加强国家对经济的干预与管理，是对资本主义生产关系的一次成功调整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683400" cy="868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1aea"/>
                </a:solidFill>
                <a:latin typeface="Arial"/>
                <a:ea typeface="创艺简魏碑"/>
              </a:rPr>
              <a:t>探究一：新政“新”在那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64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新的政策</a:t>
            </a: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0" y="2666880"/>
            <a:ext cx="875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⑵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新的模式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37339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新的起点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3124080" y="19051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2651040" y="1774800"/>
            <a:ext cx="45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新的理论和政策，放弃自由放任传统政策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2286000" y="30160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开创了国家干预经济的新模式，实行一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有利于平民的措施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2270160" y="444168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资本主义制度获得新生，继续发展新起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>
            <a:hlinkClick r:id="rId1" action="ppaction://hlinksldjump"/>
          </p:cNvPr>
          <p:cNvSpPr/>
          <p:nvPr/>
        </p:nvSpPr>
        <p:spPr>
          <a:xfrm>
            <a:off x="2133720" y="1600200"/>
            <a:ext cx="281916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新政的背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3200400" y="2133720"/>
            <a:ext cx="431640" cy="609480"/>
          </a:xfrm>
          <a:prstGeom prst="downArrow">
            <a:avLst>
              <a:gd name="adj1" fmla="val 50000"/>
              <a:gd name="adj2" fmla="val 353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">
            <a:hlinkClick r:id="rId2" action="ppaction://hlinksldjump"/>
          </p:cNvPr>
          <p:cNvSpPr/>
          <p:nvPr/>
        </p:nvSpPr>
        <p:spPr>
          <a:xfrm>
            <a:off x="2133720" y="2819520"/>
            <a:ext cx="298116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新政的内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Rectangle 8">
            <a:hlinkClick r:id="rId3" action="ppaction://hlinksldjump"/>
          </p:cNvPr>
          <p:cNvSpPr/>
          <p:nvPr/>
        </p:nvSpPr>
        <p:spPr>
          <a:xfrm>
            <a:off x="2209680" y="4038480"/>
            <a:ext cx="281952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新政的评价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AutoShape 9"/>
          <p:cNvSpPr/>
          <p:nvPr/>
        </p:nvSpPr>
        <p:spPr>
          <a:xfrm>
            <a:off x="3200400" y="3505320"/>
            <a:ext cx="431640" cy="533160"/>
          </a:xfrm>
          <a:prstGeom prst="downArrow">
            <a:avLst>
              <a:gd name="adj1" fmla="val 50000"/>
              <a:gd name="adj2" fmla="val 3088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 flipH="1">
            <a:off x="761400" y="1447920"/>
            <a:ext cx="685800" cy="4724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课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罗斯福新政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     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1619280" y="1125360"/>
            <a:ext cx="144360" cy="4969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7" name="Picture 15" descr="xinzheng"/>
          <p:cNvPicPr/>
          <p:nvPr/>
        </p:nvPicPr>
        <p:blipFill>
          <a:blip r:embed="rId5"/>
          <a:stretch/>
        </p:blipFill>
        <p:spPr>
          <a:xfrm>
            <a:off x="5943600" y="1600200"/>
            <a:ext cx="2819520" cy="40384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16">
            <a:hlinkClick r:id="rId6" action="ppaction://hlinksldjump"/>
          </p:cNvPr>
          <p:cNvSpPr/>
          <p:nvPr/>
        </p:nvSpPr>
        <p:spPr>
          <a:xfrm>
            <a:off x="2209680" y="5486400"/>
            <a:ext cx="2971800" cy="5205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问题探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3200400" y="4800600"/>
            <a:ext cx="431640" cy="533520"/>
          </a:xfrm>
          <a:prstGeom prst="downArrow">
            <a:avLst>
              <a:gd name="adj1" fmla="val 50000"/>
              <a:gd name="adj2" fmla="val 3090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00"/>
            </a:gs>
            <a:gs pos="100000">
              <a:srgbClr val="e0f9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395280" y="765000"/>
            <a:ext cx="5954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探究二：阅读材料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403280" y="7650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：作为一个国家，我们拒绝了任何彻底的革命计划。为了永远地纠正我们经济制度中的严重缺点，我们依靠的是旧民主秩序的新应用。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──罗 斯 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58920" y="2781360"/>
            <a:ext cx="7086600" cy="776160"/>
          </a:xfrm>
          <a:prstGeom prst="rect">
            <a:avLst/>
          </a:prstGeom>
          <a:gradFill rotWithShape="0">
            <a:gsLst>
              <a:gs pos="0">
                <a:srgbClr val="ff151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所谓“彻底的革命”是指什么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258920" y="4076640"/>
            <a:ext cx="5473800" cy="776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旧民主秩序”是指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1908000" y="3645000"/>
            <a:ext cx="533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废除资本主义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1908000" y="4941720"/>
            <a:ext cx="5334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资本主义民主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838080" y="556272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由此可见，罗斯福新政的前提是什么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611280" y="61563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维护资本主义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Object 2" descr=""/>
          <p:cNvPicPr/>
          <p:nvPr/>
        </p:nvPicPr>
        <p:blipFill>
          <a:blip r:embed="rId1"/>
          <a:stretch/>
        </p:blipFill>
        <p:spPr>
          <a:xfrm>
            <a:off x="7236000" y="1523880"/>
            <a:ext cx="1944360" cy="2336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2"/>
          <a:stretch/>
        </p:blipFill>
        <p:spPr>
          <a:xfrm>
            <a:off x="7232760" y="4437000"/>
            <a:ext cx="1911240" cy="242100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4"/>
          <p:cNvSpPr/>
          <p:nvPr/>
        </p:nvSpPr>
        <p:spPr>
          <a:xfrm>
            <a:off x="108000" y="8366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小罗，最近很忙吧。天国也有点乱啊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08000" y="1484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罗：噢，为啥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179280" y="2209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因为你啊。列宁跑来说，社会主义大有希望啊。亚当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斯密最近都不来串门了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04920" y="380988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罗：哈哈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179280" y="4611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看了你的新政，起先我倒真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动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过，后来开始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忧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了，甚至还有点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起来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WordArt 9"/>
          <p:cNvSpPr txBox="1"/>
          <p:nvPr/>
        </p:nvSpPr>
        <p:spPr>
          <a:xfrm>
            <a:off x="3048120" y="3962520"/>
            <a:ext cx="482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段穿越时空隧道的对话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0" y="228600"/>
            <a:ext cx="800892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行楷"/>
              </a:rPr>
              <a:t>探究三：罗斯福是共产主义者吗？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108000" y="8380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罗：哦？呵呵。虽然有些工人领袖认为看到了美国从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USA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变为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USSA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希望，虽然有的人叫嚷着要实行法西斯，虽然最高法院的确宣布很多新政法令违宪，但是，作为一个国家，我们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179280" y="3645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拒绝了任何彻底的革命计划，为了永远地纠正我们经济制度的严重缺点，我们依靠的是旧民主秩序的新运用。”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7093080" y="5734080"/>
            <a:ext cx="158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3"/>
          <p:cNvSpPr/>
          <p:nvPr/>
        </p:nvSpPr>
        <p:spPr>
          <a:xfrm>
            <a:off x="304920" y="167652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文鼎谁的字体"/>
                <a:ea typeface="文鼎谁的字体"/>
              </a:rPr>
              <a:t>    </a:t>
            </a:r>
            <a:r>
              <a:rPr b="1" lang="zh-CN" sz="2800" spc="-1" strike="noStrike">
                <a:solidFill>
                  <a:srgbClr val="381aea"/>
                </a:solidFill>
                <a:latin typeface="创艺简魏碑"/>
                <a:ea typeface="文鼎谁的字体"/>
              </a:rPr>
              <a:t>罗斯福</a:t>
            </a:r>
            <a:r>
              <a:rPr b="1" lang="zh-CN" sz="2800" spc="-1" strike="noStrike">
                <a:solidFill>
                  <a:srgbClr val="381aea"/>
                </a:solidFill>
                <a:latin typeface="创艺繁超黑"/>
                <a:ea typeface="文鼎谁的字体"/>
              </a:rPr>
              <a:t>，一位出身高贵的总统，一位腿部残疾的总统，一位空前绝后的总统，一位最终成就了伟业的总统，他的成功得益于他的优秀品质。你觉得他的哪些优秀品质支撑起他的成功？或许这正是我们实现梦想所需要的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8" name="Picture 6" descr="罗斯福（哈佛气派）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8"/>
          <p:cNvGrpSpPr/>
          <p:nvPr/>
        </p:nvGrpSpPr>
        <p:grpSpPr>
          <a:xfrm>
            <a:off x="6629400" y="76320"/>
            <a:ext cx="2514600" cy="1066680"/>
            <a:chOff x="6629400" y="76320"/>
            <a:chExt cx="2514600" cy="1066680"/>
          </a:xfrm>
        </p:grpSpPr>
        <p:sp>
          <p:nvSpPr>
            <p:cNvPr id="720" name="Oval 9"/>
            <p:cNvSpPr/>
            <p:nvPr/>
          </p:nvSpPr>
          <p:spPr>
            <a:xfrm>
              <a:off x="6629400" y="76320"/>
              <a:ext cx="2514600" cy="106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WordArt 10"/>
            <p:cNvSpPr txBox="1"/>
            <p:nvPr/>
          </p:nvSpPr>
          <p:spPr>
            <a:xfrm>
              <a:off x="6781680" y="228600"/>
              <a:ext cx="22096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39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各抒己见</a:t>
              </a:r>
              <a:endParaRPr b="1" lang="en-US" sz="40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5" descr="罗斯福（哈佛气派）"/>
          <p:cNvPicPr/>
          <p:nvPr/>
        </p:nvPicPr>
        <p:blipFill>
          <a:blip r:embed="rId1"/>
          <a:stretch/>
        </p:blipFill>
        <p:spPr>
          <a:xfrm>
            <a:off x="152280" y="0"/>
            <a:ext cx="2549520" cy="25909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2819520" y="228600"/>
            <a:ext cx="5410080" cy="88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ahoma"/>
                <a:ea typeface="华文行楷"/>
              </a:rPr>
              <a:t>罗斯福总统有哪些优秀品质？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0" y="27432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身残志坚</a:t>
            </a: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敢于直面困难、自信、果敢、信念坚定、乐观豁达、爱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关注社会弱势群体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勇于创新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有政治远见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实施新政，使美国经济走出低谷，形成了国家垄断资本主义，影响深远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富有正义性，参加反法西斯战争，帮助世界实现了和平与安全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</a:rPr>
              <a:t>◆</a:t>
            </a:r>
            <a:r>
              <a:rPr b="0" lang="zh-CN" sz="1800" spc="-1" strike="noStrike">
                <a:solidFill>
                  <a:srgbClr val="381ae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…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72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048120" y="2286000"/>
            <a:ext cx="685800" cy="24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济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危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机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3657600" y="289548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00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Garamond"/>
              </a:rPr>
              <a:t>胡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Oval 5"/>
          <p:cNvSpPr/>
          <p:nvPr/>
        </p:nvSpPr>
        <p:spPr>
          <a:xfrm>
            <a:off x="5410080" y="2743200"/>
            <a:ext cx="2057400" cy="1584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Garamond"/>
              </a:rPr>
              <a:t>自由放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Garamond"/>
              </a:rPr>
              <a:t>（失败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7620120" y="2057400"/>
            <a:ext cx="1218600" cy="2742840"/>
            <a:chOff x="7620120" y="2057400"/>
            <a:chExt cx="1218600" cy="2742840"/>
          </a:xfrm>
        </p:grpSpPr>
        <p:sp>
          <p:nvSpPr>
            <p:cNvPr id="594" name="Line 7"/>
            <p:cNvSpPr/>
            <p:nvPr/>
          </p:nvSpPr>
          <p:spPr>
            <a:xfrm>
              <a:off x="7620120" y="3490200"/>
              <a:ext cx="525960" cy="0"/>
            </a:xfrm>
            <a:prstGeom prst="line">
              <a:avLst/>
            </a:prstGeom>
            <a:ln w="63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8145000" y="2057400"/>
              <a:ext cx="693720" cy="27428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加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深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危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机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40368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大萧条 </a:t>
            </a:r>
            <a:br>
              <a:rPr sz="4000"/>
            </a:b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the Great Depr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2206800" y="2583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304920" y="5562720"/>
            <a:ext cx="426708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胡佛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929-193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年在任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4"/>
          <p:cNvSpPr/>
          <p:nvPr/>
        </p:nvSpPr>
        <p:spPr>
          <a:xfrm>
            <a:off x="4572000" y="5410080"/>
            <a:ext cx="396252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谁来拯救美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0" name="Picture 15" descr="胡佛"/>
          <p:cNvPicPr/>
          <p:nvPr/>
        </p:nvPicPr>
        <p:blipFill>
          <a:blip r:embed="rId2"/>
          <a:stretch/>
        </p:blipFill>
        <p:spPr>
          <a:xfrm>
            <a:off x="609480" y="2362320"/>
            <a:ext cx="2476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137120" y="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一位身残志坚的美国总统；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4140360" y="306864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击败胡佛，实施新政</a:t>
            </a:r>
            <a:r>
              <a:rPr b="1" lang="en-US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开了国家干预经济的新模式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138560" y="134136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唯一一位连任四届的美国总统</a:t>
            </a:r>
            <a:r>
              <a:rPr b="1" lang="en-US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(1933-1945)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；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564000" y="479736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继华盛顿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林肯后最受美国公众欢迎的美国总统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154400" cy="54975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152960" cy="5516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8"/>
          <p:cNvSpPr/>
          <p:nvPr/>
        </p:nvSpPr>
        <p:spPr>
          <a:xfrm>
            <a:off x="395280" y="56671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富兰克林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黑体"/>
              </a:rPr>
              <a:t>•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罗斯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(1882--1945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0" descr="白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胡佛"/>
          <p:cNvPicPr/>
          <p:nvPr/>
        </p:nvPicPr>
        <p:blipFill>
          <a:blip r:embed="rId2"/>
          <a:stretch/>
        </p:blipFill>
        <p:spPr>
          <a:xfrm>
            <a:off x="685800" y="3352680"/>
            <a:ext cx="2476440" cy="31244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pic_73807"/>
          <p:cNvPicPr/>
          <p:nvPr/>
        </p:nvPicPr>
        <p:blipFill>
          <a:blip r:embed="rId3"/>
          <a:stretch/>
        </p:blipFill>
        <p:spPr>
          <a:xfrm>
            <a:off x="6095880" y="3352680"/>
            <a:ext cx="2374920" cy="312444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13"/>
          <p:cNvSpPr/>
          <p:nvPr/>
        </p:nvSpPr>
        <p:spPr>
          <a:xfrm>
            <a:off x="5791320" y="152280"/>
            <a:ext cx="3352680" cy="2667240"/>
          </a:xfrm>
          <a:prstGeom prst="cloudCallout">
            <a:avLst>
              <a:gd name="adj1" fmla="val -33523"/>
              <a:gd name="adj2" fmla="val 75652"/>
            </a:avLst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6248520" y="3967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如果竞选成功，我保证将为美国人民实行新政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!</a:t>
            </a:r>
            <a:r>
              <a:rPr b="1" lang="en-US" sz="3200" spc="-1" strike="noStrike">
                <a:solidFill>
                  <a:srgbClr val="381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-605520" y="43434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胡佛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7776360" y="39625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罗斯福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AutoShape 14"/>
          <p:cNvSpPr/>
          <p:nvPr/>
        </p:nvSpPr>
        <p:spPr>
          <a:xfrm>
            <a:off x="0" y="304920"/>
            <a:ext cx="4191120" cy="2590560"/>
          </a:xfrm>
          <a:prstGeom prst="cloudCallout">
            <a:avLst>
              <a:gd name="adj1" fmla="val -26287"/>
              <a:gd name="adj2" fmla="val 78861"/>
            </a:avLst>
          </a:prstGeom>
          <a:solidFill>
            <a:srgbClr val="ff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609480" y="53352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最好的经济是完全自由的市场经济，最好的政府是不干预经济的政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AutoShape 25"/>
          <p:cNvSpPr/>
          <p:nvPr/>
        </p:nvSpPr>
        <p:spPr>
          <a:xfrm>
            <a:off x="3200400" y="4800600"/>
            <a:ext cx="1066680" cy="48564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AutoShape 26"/>
          <p:cNvSpPr/>
          <p:nvPr/>
        </p:nvSpPr>
        <p:spPr>
          <a:xfrm rot="10800000">
            <a:off x="4876560" y="4771800"/>
            <a:ext cx="1066680" cy="48564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9" name="Group 34"/>
          <p:cNvGrpSpPr/>
          <p:nvPr/>
        </p:nvGrpSpPr>
        <p:grpSpPr>
          <a:xfrm>
            <a:off x="762120" y="5791320"/>
            <a:ext cx="7696080" cy="838080"/>
            <a:chOff x="762120" y="5791320"/>
            <a:chExt cx="7696080" cy="838080"/>
          </a:xfrm>
        </p:grpSpPr>
        <p:sp>
          <p:nvSpPr>
            <p:cNvPr id="620" name="AutoShape 33"/>
            <p:cNvSpPr/>
            <p:nvPr/>
          </p:nvSpPr>
          <p:spPr>
            <a:xfrm>
              <a:off x="762120" y="5791320"/>
              <a:ext cx="7696080" cy="83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Text Box 32"/>
            <p:cNvSpPr/>
            <p:nvPr/>
          </p:nvSpPr>
          <p:spPr>
            <a:xfrm>
              <a:off x="1600200" y="5791320"/>
              <a:ext cx="63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如果你是一位生活在</a:t>
              </a:r>
              <a:r>
                <a:rPr b="1" lang="en-US" sz="2400" spc="-1" strike="noStrike">
                  <a:solidFill>
                    <a:srgbClr val="ff1515"/>
                  </a:solidFill>
                  <a:latin typeface="Tahoma"/>
                </a:rPr>
                <a:t>20</a:t>
              </a: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世纪</a:t>
              </a:r>
              <a:r>
                <a:rPr b="1" lang="en-US" sz="2400" spc="-1" strike="noStrike">
                  <a:solidFill>
                    <a:srgbClr val="ff1515"/>
                  </a:solidFill>
                  <a:latin typeface="Tahoma"/>
                </a:rPr>
                <a:t>30</a:t>
              </a: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年代的美国公民，你会投谁的票？能说明一下你的理由吗？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2" name="WordArt 37"/>
          <p:cNvSpPr txBox="1"/>
          <p:nvPr/>
        </p:nvSpPr>
        <p:spPr>
          <a:xfrm>
            <a:off x="4343400" y="4648320"/>
            <a:ext cx="571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P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罗斯福"/>
          <p:cNvPicPr/>
          <p:nvPr/>
        </p:nvPicPr>
        <p:blipFill>
          <a:blip r:embed="rId1"/>
          <a:stretch/>
        </p:blipFill>
        <p:spPr>
          <a:xfrm>
            <a:off x="6095880" y="1676520"/>
            <a:ext cx="2757600" cy="32004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6019920" y="5105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罗斯福首次就职演说（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933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日）（节录）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85800" y="2286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“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happy days are here again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…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 ”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-152280" y="990720"/>
            <a:ext cx="6400800" cy="563868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387036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28600" y="1828800"/>
            <a:ext cx="54100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381aea"/>
                </a:solidFill>
                <a:latin typeface="Verdana"/>
                <a:ea typeface="宋体"/>
              </a:rPr>
              <a:t>我们的国家过去经得起考验，今后还会经得起考验，复兴起来，繁荣下去。因此，首先，允许我申明我的坚定信念：我们唯一值得恐惧的就是恐惧本身──会使我们由后退转而前进所需的努力陷于瘫痪的那种无名的、没有道理的、毫无根据的害怕。在我们国家生活中每一个黑暗的时刻，直言不讳，坚强有力的领导都曾经得到人民的谅解和支持，从而保证了胜利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Oval 8"/>
          <p:cNvSpPr/>
          <p:nvPr/>
        </p:nvSpPr>
        <p:spPr>
          <a:xfrm>
            <a:off x="7162920" y="5943600"/>
            <a:ext cx="152388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Object 2" descr=""/>
          <p:cNvPicPr/>
          <p:nvPr/>
        </p:nvPicPr>
        <p:blipFill>
          <a:blip r:embed="rId1"/>
          <a:stretch/>
        </p:blipFill>
        <p:spPr>
          <a:xfrm>
            <a:off x="5759280" y="0"/>
            <a:ext cx="3308400" cy="23623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1066680" y="2514600"/>
            <a:ext cx="7391520" cy="197028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人民贫困，市场萎缩，生产相对过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半数银行倒闭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工商企业大量破产，失业人数激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农产品价格猛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09480" y="5029200"/>
            <a:ext cx="8234640" cy="7275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社会动荡不安，法西斯分子趁机兴风作浪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4343400" y="44197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1972800" y="838080"/>
            <a:ext cx="335052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81aea"/>
                </a:solidFill>
                <a:latin typeface="Tahoma"/>
              </a:rPr>
              <a:t>罗斯福上台时面临那些难题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1447920" y="594360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临危受命的罗斯福入主白宫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5232240" y="5334120"/>
            <a:ext cx="3911760" cy="1726920"/>
          </a:xfrm>
          <a:prstGeom prst="irregularSeal2">
            <a:avLst/>
          </a:prstGeom>
          <a:gradFill rotWithShape="0">
            <a:gsLst>
              <a:gs pos="0">
                <a:srgbClr val="ff151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能挽大厦之将倾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380880" y="4191120"/>
            <a:ext cx="7848720" cy="520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用什么药方来救治病入膏肓的美国经济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380880" y="19051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　　这个国家需要进行大胆的、坚持不懈 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如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失败，就再试行一种 办法，最重要的是要进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罗斯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2514600" y="3886200"/>
            <a:ext cx="5943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鼓舞信心和勇气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争取民众的支持和理解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990720" y="609480"/>
            <a:ext cx="4114800" cy="7034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1aea"/>
                </a:solidFill>
                <a:latin typeface="Times New Roman"/>
                <a:ea typeface="隶书"/>
              </a:rPr>
              <a:t>“  </a:t>
            </a:r>
            <a:r>
              <a:rPr b="1" lang="zh-CN" sz="4000" spc="-1" strike="noStrike">
                <a:solidFill>
                  <a:srgbClr val="381aea"/>
                </a:solidFill>
                <a:latin typeface="Times New Roman"/>
                <a:ea typeface="隶书"/>
              </a:rPr>
              <a:t>炉边谈话”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1" name="Picture 6" descr="138362"/>
          <p:cNvPicPr/>
          <p:nvPr/>
        </p:nvPicPr>
        <p:blipFill>
          <a:blip r:embed="rId1"/>
          <a:stretch/>
        </p:blipFill>
        <p:spPr>
          <a:xfrm>
            <a:off x="2209680" y="18288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9:48:32Z</dcterms:modified>
  <cp:revision>4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