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4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04E-35DC-433E-A475-6E8993DA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6A29-5365-464A-B9FB-5557E2F7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1F15E-10DE-4EBB-9AC4-858EBEC6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5677F-F965-4BF1-A718-B7155397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D2DC55-09E2-4E0F-96D5-263A01B7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22D08-BB3F-4BB4-8012-0CCE2F96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5052F-0123-484B-B8BD-F2169719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FEE20-CE8F-42B3-BE17-4DC17CF8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10B1C-37D7-4D35-AE7D-1054A30D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67E4F-EE4F-484D-9510-3349B017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E9523-54D1-407E-8E5A-C3B0864F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6D389-19BE-4FB0-AF95-BECBA4E0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E53-9716-4D39-BFAA-677BA7F0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A1023-AFBF-49D7-B5AC-A72C1207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B8084-25D3-424B-B666-351ECFD3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D794A-1CC1-4AA6-9966-29A1C183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6031B-E555-4945-9D0E-C3394B4A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D62B5-7B23-41CD-9056-919A27D1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6BAFF-D86E-4115-AD78-ADC3F5F3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7AABD-1DDA-472F-8FED-AC80CD88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67AD7-6B6A-4056-AA19-4A9034F7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165EC-9697-4AE5-B436-B2F01AA0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B10F0-AFFB-4EC1-BF92-C85D01BD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8F4-A836-4F74-8038-CE59DE4A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0CA74-5C91-4C0D-89AC-CA91F166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CAF89-6B49-46F5-AEE9-A3DD70B2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2E3BC-94F9-4BD3-8F1B-1C1D2C4B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33465-A3B0-4191-9A33-B17CFB63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46D36-1D8A-4F99-940E-7BB95D0D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316FD-405D-476C-B1CE-409B52FE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C49A9-2BA3-4D88-8BEB-572A4116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5E762-AC11-4C1F-9A03-F7782274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ACCE3-1214-476B-B263-64B331AA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3A2DC-DD24-46BE-8F78-A133C9BB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2FA8-51D5-4D9D-BD0F-71F1FE90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BDF0D-0DDC-4E40-867E-E64A2614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3DD89-67F2-41D6-B1CD-B4AFE881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B24CA-59BD-453E-B40D-BA9C3993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5EC72-824D-42F5-AAB5-3DDBBA1E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FF09B-621C-4ACE-B97E-95ADA11C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2AAB8-8A86-46B5-8547-12602B01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E0352-2AC6-4671-A401-D1758CE2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55888-139D-4B32-9E6D-3A58548C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1F7CA-2A51-4894-8A7F-932A2CE1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41CEE-4A55-420F-8E0A-652D97CC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4312-6487-4157-A094-6CB63827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2537B-7354-4FE9-A7EF-AC13C87C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75C6C-98C8-476E-9365-2F2498BF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C3C48-3314-40BD-8DC6-C8914D6A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2E600-48D7-49E4-B517-9EA180C8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CDC89-A003-4875-9F78-83E5F6AD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49FB0-AE84-4823-BED6-68CFF48F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769C6-1CCB-4BFD-BEDC-1B41F7E9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1B2FD-1456-4428-ABC2-824ED0FC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520D0-EB26-40E4-B3D4-EB37A85A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CB24C-F392-4652-865B-13C764C0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FC8B-1FD4-4B67-8333-E1D34823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20C43-04A7-4106-90A1-671EB391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30165-3B1A-4DAC-BF3B-69F57CCD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F0761-0A1B-41AC-A7B4-63AEED34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0B52C-B6A0-4D2D-948E-6DBB9760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338A6-F6FF-4C34-B4C3-9E882498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B6656-0871-40C9-8A38-B0FEBFB9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23ADA-ED2C-424A-842D-2F0F2C52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C3C0-30ED-4F6D-BCEA-CCFFEE3A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D3F7-2D15-4022-A356-C1D28C2C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E0FA-2699-4142-9AA7-E8D0CCD8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BC26-F91E-40B7-8EA8-962BE88C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83A-7D62-4608-9531-A4039920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BFB6-2808-453C-B339-AE7D8A7B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CDDC-36B1-4D00-B60A-36E5F5CC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21EC-9F6C-43E0-BC4A-6ADC56B2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9884-1793-4C3E-8018-F230C28B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B2E4-F5AF-460D-9564-37272F39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D530A-A359-4B41-BEA4-A2211FA8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32198-0A7B-4F9E-8B5C-5EBBE868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ECB4-F374-4834-AAF8-B69B88B1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5D5C-2E78-4325-B37D-6DBBE3FE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B16DE-343A-4868-BD41-13DC602E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23C-D8B2-46AA-9077-4421412B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059F6-7A09-4239-A3D1-C074B916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F5FB5-36F7-400C-B453-2F04BC54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C0F15-1664-42F3-91A5-4510F29E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B8302-3B7C-42BB-8CBB-2C1286D3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6DB1-A72D-410D-A2EF-80CA1DD3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E9298-A842-4E2B-8C90-A7E018E2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24803-8DDA-49EE-995C-8562B557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ADFD9-642D-40BA-80B0-53A7079C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DACE9-7A5D-4745-AD78-BD8A0370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27F6E-4398-4CBF-A87A-AD71829F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756-FA97-4E88-97E6-0C137D34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D6973-F78B-4AE7-AF26-1512380D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F46D9-C977-4FB6-A07A-05CA1D1E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99BDD-BF5D-419C-BE1B-C010345A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71585-E16B-49EB-8CC1-8EA3352C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21447-58B0-4D76-8FF9-462C2CB0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8298D-733C-48DB-BE42-802E5F5D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B5ED5-3EDC-4FE5-A139-CDF785F3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21200-9846-412B-8E50-C904746A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4A82B-FE7B-4BF1-9733-191C0006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0A4E3-3CEC-4372-A66D-D2FE3E82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531-61EA-4B55-9293-37EE2E61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CF8BC-E448-445E-A25C-C7A101C1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D13A8-1214-461E-B366-42619880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807EF-2632-4BC0-99FD-00C4884D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40F71-12D5-4AFE-81D3-4380BD9B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2D011-E110-4C92-A39E-1916710E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687AD-4867-4443-BA3D-36A7A21F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F661A-8ED8-467D-9682-5CC4F0FA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60F25-B77E-4616-88AB-0EF753BE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A9740-034C-497A-ABC9-E29C87B4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EB4FF-AC25-49FC-9D66-4B8C52CA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DAD-9A84-4C3F-A6C3-1A2E0FE1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33EF4-4A02-4941-AB31-1FE5065C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EE65E-2655-4128-A681-9112D6B0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C315E-6657-4914-8FC6-42C6FA69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B49E2-7208-4149-A513-281D82CA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6A5A8-9C4B-458F-B204-4036B031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BC05B-34D1-4EF0-ABD6-A12A95C8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9B59C-E170-4DE6-B8B8-59C496B0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1E46A-609B-481C-8C54-B26D7A60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5C77D-5557-4899-BCFA-D2C373C8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E2ACE-F7E9-43AD-BB1D-B16A79CD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BFC-626A-4DDB-9146-0019A059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2AC28-8F03-4145-97EC-38E8FD77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458F1-B682-4909-8E00-267F53D9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C23F6-DEC6-4307-9B61-AF186141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22980-FA63-4F94-BC96-F80E458C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FE6DC-E27E-4AB5-94CD-27422A33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1D9B0-A5C1-4D52-8A75-BCCD5324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00FF6-A124-4178-96F9-5E7B43C4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29A13-4E06-4E92-B4FB-C26DFFC9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15BB9-E4FE-4ADF-8E64-6CBC34C4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F4DC8-6BD7-4157-916E-03D571CF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C5C-A969-4536-AE9C-6DA678FB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DB95D-8860-49AC-BDC5-31C25942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31192-DB7A-4622-B3FB-32318D61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402C4-0EBC-43A9-A671-C41F1351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1DDBD-949A-44A6-B4B0-C87D0801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7CC36-0C55-4933-9C53-28CB0E2D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9CAD2-FAEE-42DF-97C2-0EDB8165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31977-E251-454F-836F-1F85272A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A18F1-B2B7-421B-A6BA-048068D4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75F83-6A2F-4AF0-B454-46147FD4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95D77-C959-4C92-842D-96FA4CFB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064-E657-423E-90FE-CFA5B9C3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589AF-1F53-4228-B2FD-325A010A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E9942-4712-4966-B6D2-87C7AB0C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86775-B9F0-4E6A-BAF0-734C9D91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0FDC9-12BB-4FAD-9F4C-599E4BE4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C4DE2-CA5C-4F39-ACDE-189DC6CA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F1324-D1B5-4933-8364-AB750711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59E9B-C46C-419D-8ADE-03CC6D4D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42493-EAA2-403A-BA38-DEED0DB8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6958F-A32F-451B-AFEE-0E99D340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45647-30FF-4583-8A0A-9BFADBEA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E1AF-85B4-4AAD-8C23-0C7EC942B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BA58-A80E-4A55-B3E2-0D1B0FB02B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DC9A-2B42-4904-82D5-A9B57CCD06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8238-EA24-4C4D-AF57-10CC6EFADC8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1461-4D72-4C1E-90CA-A0E3A7B2EA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239A-B38A-4002-8E72-4974C9CC3C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0AF8-EC08-4314-8C8A-8D18BCE267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C073-136A-49D9-85A6-3BF4C81D96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8B3C-FAB6-40AE-B5FF-8C6A87F7A2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30B1-7981-4A43-8C78-59B889782E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506E-F83D-4B77-931F-9B804EEB1D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E29A-173C-452F-991B-63614E6D59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71C5-3F7E-45F9-975D-2040F3493C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233B-03D9-4F4B-91F5-B8753AC28D5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8023-B58E-4188-9BA1-46574B9B1F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EA9B-0B83-4296-81C1-73D357E508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E4E2-E037-48D8-9404-0F6B6C217D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01E5-0A48-499D-9C8C-B8149A07782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E3B2-0C98-45C5-98F8-D1C96B7879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3328-987D-4FD3-A23D-7E49F7F25D8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8FD4-64B2-4CB3-84CA-6F036F5B97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3AEA-297E-410A-AA84-F5E1E190F1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13FC-A557-4A33-8CD3-752606C0B4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9890-AA84-413D-8CF4-378C014C24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AB94-1CB5-471D-9B89-1F8B3B0B21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0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762120" y="114300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老山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3124080" y="312408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陆定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0" y="52578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0" y="380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为自由而战的人，人们将永远记住你们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0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3"/>
          <p:cNvSpPr/>
          <p:nvPr/>
        </p:nvSpPr>
        <p:spPr>
          <a:xfrm>
            <a:off x="7045560" y="228600"/>
            <a:ext cx="1642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细读品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228600" y="228600"/>
            <a:ext cx="708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面对这般重重困难，我们的红军战士是如何对待的呢？表现了红军战士怎样的思想性格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352680" y="2590920"/>
            <a:ext cx="45957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打趣逗笑、奋勇登山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酣然入梦、观赏夜景。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鼓着勇气、继续前进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不畏惧、嘲笑敌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609480" y="5791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现红军顽强的意志、乐观的精神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1295280" y="2514600"/>
            <a:ext cx="1828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走路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睡觉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吃饭难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处境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0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3"/>
          <p:cNvSpPr/>
          <p:nvPr/>
        </p:nvSpPr>
        <p:spPr>
          <a:xfrm>
            <a:off x="3903840" y="457200"/>
            <a:ext cx="12776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细读品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228600" y="1905120"/>
            <a:ext cx="3657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本文把红军战士的顽强意志和乐观刻画得具体形象，靠的是生动的描写。你能揣摩出来吗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5435640" y="1905120"/>
            <a:ext cx="3708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提示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行动、语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场面、景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AutoShape 5"/>
          <p:cNvSpPr/>
          <p:nvPr/>
        </p:nvSpPr>
        <p:spPr>
          <a:xfrm>
            <a:off x="1523880" y="228600"/>
            <a:ext cx="4572000" cy="1066680"/>
          </a:xfrm>
          <a:prstGeom prst="flowChartMagneticDrum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7"/>
          <p:cNvSpPr/>
          <p:nvPr/>
        </p:nvSpPr>
        <p:spPr>
          <a:xfrm>
            <a:off x="1447920" y="30492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精彩段落欣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533520" y="1905120"/>
            <a:ext cx="82296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场面描写： “之”字奇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作者是怎样描绘这一奇观的？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这样描写表现了红军战士的什么精神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914400" y="5029200"/>
            <a:ext cx="7924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烘托出红军英勇豪迈的乐观主义英雄气魄。</a:t>
            </a:r>
            <a:r>
              <a:rPr b="1" lang="zh-CN" sz="44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0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AutoShape 3"/>
          <p:cNvSpPr/>
          <p:nvPr/>
        </p:nvSpPr>
        <p:spPr>
          <a:xfrm>
            <a:off x="1447920" y="228600"/>
            <a:ext cx="4495680" cy="1066680"/>
          </a:xfrm>
          <a:prstGeom prst="flowChartMagneticDrum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1447920" y="22860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精彩段落欣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395280" y="1557360"/>
            <a:ext cx="99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景物描写：半夜醒来观赏夜景（所见所闻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250920" y="2349360"/>
            <a:ext cx="88930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“见”主要写了哪些景物？以什么为序？用了哪些修辞手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所“见”景象给人什么感受？“闻”突出了什么特点？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990720" y="3886200"/>
            <a:ext cx="701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324000" y="36450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星星、山峰、山谷（自上而下）；比喻、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0"/>
          <p:cNvSpPr/>
          <p:nvPr/>
        </p:nvSpPr>
        <p:spPr>
          <a:xfrm>
            <a:off x="1219320" y="548640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庄严、奇伟。 寂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0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AutoShape 3"/>
          <p:cNvSpPr/>
          <p:nvPr/>
        </p:nvSpPr>
        <p:spPr>
          <a:xfrm>
            <a:off x="1600200" y="228600"/>
            <a:ext cx="4648320" cy="990720"/>
          </a:xfrm>
          <a:prstGeom prst="flowChartMagneticDrum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1600200" y="3049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精彩段落欣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304920" y="1523880"/>
            <a:ext cx="8839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可作者描写的却是各种“声响”，这不是自相矛盾吗？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这些声音有何特点？采用什么修辞方法写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这段景物描写对表现中心意思有何作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1066680" y="2743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矛盾。以动写静，角度巧，效果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1066680" y="4495680"/>
            <a:ext cx="7467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990720" y="46483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远、近、大、细； 比喻、拟人、排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900000" y="60930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红军战士镇定豪迈，英雄主义和乐观主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7" descr="007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9"/>
          <p:cNvSpPr/>
          <p:nvPr/>
        </p:nvSpPr>
        <p:spPr>
          <a:xfrm>
            <a:off x="0" y="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练一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0"/>
          <p:cNvSpPr/>
          <p:nvPr/>
        </p:nvSpPr>
        <p:spPr>
          <a:xfrm>
            <a:off x="533520" y="1600200"/>
            <a:ext cx="81532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、判断下列加点字注音的正误。 </a:t>
            </a:r>
            <a:br>
              <a:rPr sz="3600"/>
            </a:b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惊惶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ｈｕ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ā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ｎｇ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)          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缴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ｊｉ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ǎ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ｏ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租  欺侮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ｆｕ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)             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呜咽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ｗ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ū y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ｉ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è)            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咀嚼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ｚ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ǔ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ｊｉ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á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ｏ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)           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骨碌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ｇ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ū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ｌｕ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)   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浑身打着颤 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ｃｈ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à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ｎ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、红军翻山遇到的许多艰难险阻，可以分为哪几个方面？是怎样对待的？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1"/>
          <p:cNvSpPr/>
          <p:nvPr/>
        </p:nvSpPr>
        <p:spPr>
          <a:xfrm>
            <a:off x="0" y="0"/>
            <a:ext cx="3124080" cy="1143000"/>
          </a:xfrm>
          <a:prstGeom prst="flowChartPreparation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2"/>
          <p:cNvSpPr/>
          <p:nvPr/>
        </p:nvSpPr>
        <p:spPr>
          <a:xfrm>
            <a:off x="0" y="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练一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13"/>
          <p:cNvSpPr/>
          <p:nvPr/>
        </p:nvSpPr>
        <p:spPr>
          <a:xfrm>
            <a:off x="1763640" y="2781360"/>
            <a:ext cx="21600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E:\袁冬兰\图片库\007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38" name="AutoShape 4"/>
          <p:cNvSpPr/>
          <p:nvPr/>
        </p:nvSpPr>
        <p:spPr>
          <a:xfrm>
            <a:off x="0" y="0"/>
            <a:ext cx="2895480" cy="1143000"/>
          </a:xfrm>
          <a:prstGeom prst="flowChartPreparation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0" y="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练一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6"/>
          <p:cNvSpPr/>
          <p:nvPr/>
        </p:nvSpPr>
        <p:spPr>
          <a:xfrm>
            <a:off x="533520" y="19810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、描写景物要注意观察景物的立足点和角度。课文第一次写火把，立足点在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，观察角度是仰视；第二次写火把，立足点在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808000"/>
                </a:solidFill>
                <a:latin typeface="Times New Roman"/>
              </a:rPr>
              <a:t>，观察角度是既有（  ）视，又有（  ）视。找出你最喜欢的一张照片，说说摄影者是站在什么位置，从什么角度照的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7" descr="背景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Oval 8"/>
          <p:cNvSpPr/>
          <p:nvPr/>
        </p:nvSpPr>
        <p:spPr>
          <a:xfrm>
            <a:off x="7391520" y="1523880"/>
            <a:ext cx="1523880" cy="350532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9"/>
          <p:cNvSpPr/>
          <p:nvPr/>
        </p:nvSpPr>
        <p:spPr>
          <a:xfrm>
            <a:off x="7515720" y="1905120"/>
            <a:ext cx="1094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写一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"/>
          <p:cNvSpPr/>
          <p:nvPr/>
        </p:nvSpPr>
        <p:spPr>
          <a:xfrm>
            <a:off x="457200" y="990720"/>
            <a:ext cx="66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写寂静，可以以静写静，也可以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以声写静</a:t>
            </a: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。这篇课文既说“寂静”，又说“耳朵里有不可捉摸的声响”，正是以声写静。恰恰因为静极了，才听到一般听不到的声音；恰恰因为听到了一般听不到的声音，才说明实在是静极了。你在生活中曾有这样的感受吗？试用一二百字写出来，练习用比喻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0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324000" y="112536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老山界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当年红军长征途中翻越的第一座大山。其主峰海拔２１４１．５米，为华南第一高峰，素有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五岭极顶，华南之颠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之美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１９３４年１２月，中央红军在湘江与国民党军队经过惨烈的激战，损失惨重，退入了山高路险的猫儿山，开始了翻越老山界的艰难历程。毛泽东、周恩来、邓小平、朱德、叶剑英等一代革命伟人率中央红军三军团、中央军委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纵队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后卫五军团、八军团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日夜兼程翻越老山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3348000" y="189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时代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4"/>
          <p:cNvSpPr/>
          <p:nvPr/>
        </p:nvSpPr>
        <p:spPr>
          <a:xfrm>
            <a:off x="353160" y="685800"/>
            <a:ext cx="10947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课前热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5"/>
          <p:cNvSpPr/>
          <p:nvPr/>
        </p:nvSpPr>
        <p:spPr>
          <a:xfrm>
            <a:off x="1828800" y="1676520"/>
            <a:ext cx="6934320" cy="320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6"/>
          <p:cNvSpPr/>
          <p:nvPr/>
        </p:nvSpPr>
        <p:spPr>
          <a:xfrm>
            <a:off x="2209680" y="2057400"/>
            <a:ext cx="6248520" cy="2438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2484360" y="2565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朗诵及背诵长征诗词，讲述长征故事，概括长征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8" descr="gif020"/>
          <p:cNvPicPr/>
          <p:nvPr/>
        </p:nvPicPr>
        <p:blipFill>
          <a:blip r:embed="rId2"/>
          <a:stretch/>
        </p:blipFill>
        <p:spPr>
          <a:xfrm>
            <a:off x="3276720" y="380880"/>
            <a:ext cx="4267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背景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4"/>
          <p:cNvSpPr/>
          <p:nvPr/>
        </p:nvSpPr>
        <p:spPr>
          <a:xfrm>
            <a:off x="838080" y="457200"/>
            <a:ext cx="769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你预习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380880" y="1600200"/>
            <a:ext cx="8763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为下列加线字注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惊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惶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     ）      呜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咽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     ） 咀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嚼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矗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立（         ）      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蜷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 ）   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酣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）然入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点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缀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   ）    </a:t>
            </a:r>
            <a:r>
              <a:rPr b="1" lang="zh-CN" sz="3200" spc="-1" strike="noStrike" u="sng">
                <a:solidFill>
                  <a:srgbClr val="a50021"/>
                </a:solidFill>
                <a:uFillTx/>
                <a:latin typeface="Times New Roman"/>
              </a:rPr>
              <a:t> 落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（     ）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304920" y="472428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释下列词语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攀谈      奇观      绝壁       酣然入梦    呜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3" descr="E:\袁冬兰\图片库1\网背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4"/>
          <p:cNvSpPr/>
          <p:nvPr/>
        </p:nvSpPr>
        <p:spPr>
          <a:xfrm>
            <a:off x="685800" y="13716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整体感知文章，用一句话概括故事内容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609480" y="37339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红军长征途中翻越老山界。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0011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AutoShape 4"/>
          <p:cNvSpPr/>
          <p:nvPr/>
        </p:nvSpPr>
        <p:spPr>
          <a:xfrm>
            <a:off x="7543800" y="990720"/>
            <a:ext cx="1905120" cy="4724280"/>
          </a:xfrm>
          <a:prstGeom prst="upDownArrow">
            <a:avLst>
              <a:gd name="adj1" fmla="val 50000"/>
              <a:gd name="adj2" fmla="val 49366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089120" y="1752480"/>
            <a:ext cx="1826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探究学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286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写文章首先得有条有理、顺序清楚。本文以什么为顺序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838080" y="22860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时间变化、地点转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304920" y="388620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在文中勾画出表明时间、地点的词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09480" y="54100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457200" y="50292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762120" y="4495680"/>
            <a:ext cx="190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838080" y="40384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838080" y="3429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914400" y="3124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28600" y="304920"/>
          <a:ext cx="8534520" cy="5351400"/>
        </p:xfrm>
        <a:graphic>
          <a:graphicData uri="http://schemas.openxmlformats.org/drawingml/2006/table">
            <a:tbl>
              <a:tblPr/>
              <a:tblGrid>
                <a:gridCol w="806400"/>
                <a:gridCol w="1022400"/>
                <a:gridCol w="1523880"/>
                <a:gridCol w="1600200"/>
                <a:gridCol w="358164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时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5050"/>
                          </a:solidFill>
                          <a:latin typeface="Arial Unicode MS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5050"/>
                          </a:solidFill>
                          <a:latin typeface="Arial Unicode MS"/>
                        </a:rPr>
                        <a:t>地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cc"/>
                          </a:solidFill>
                          <a:latin typeface="Arial Unicode MS"/>
                        </a:rPr>
                        <a:t>人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 Unicode MS"/>
                        </a:rPr>
                        <a:t>            </a:t>
                      </a:r>
                      <a:r>
                        <a:rPr b="1" lang="zh-CN" sz="3200" spc="-1" strike="noStrike">
                          <a:solidFill>
                            <a:srgbClr val="808000"/>
                          </a:solidFill>
                          <a:latin typeface="Arial Unicode MS"/>
                        </a:rPr>
                        <a:t>活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8276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第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下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天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62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夜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63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半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106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黎明以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  <a:tr h="95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a50021"/>
                          </a:solidFill>
                          <a:latin typeface="Arial Unicode MS"/>
                        </a:rPr>
                        <a:t>下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cc99"/>
                      </a:solidFill>
                    </a:lnL>
                    <a:lnR w="9360">
                      <a:solidFill>
                        <a:srgbClr val="00cc99"/>
                      </a:solidFill>
                    </a:lnR>
                    <a:lnT w="9360">
                      <a:solidFill>
                        <a:srgbClr val="00cc99"/>
                      </a:solidFill>
                    </a:lnT>
                    <a:lnB w="9360">
                      <a:solidFill>
                        <a:srgbClr val="00cc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Text Box 54"/>
          <p:cNvSpPr/>
          <p:nvPr/>
        </p:nvSpPr>
        <p:spPr>
          <a:xfrm>
            <a:off x="2057400" y="990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瑶民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5"/>
          <p:cNvSpPr/>
          <p:nvPr/>
        </p:nvSpPr>
        <p:spPr>
          <a:xfrm>
            <a:off x="3581280" y="990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瑶家大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56"/>
          <p:cNvSpPr/>
          <p:nvPr/>
        </p:nvSpPr>
        <p:spPr>
          <a:xfrm>
            <a:off x="5181480" y="914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Times New Roman"/>
              </a:rPr>
              <a:t>攀谈，宣传红军政策，使瑶民理解了红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57"/>
          <p:cNvSpPr/>
          <p:nvPr/>
        </p:nvSpPr>
        <p:spPr>
          <a:xfrm>
            <a:off x="2133720" y="1752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山脚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58"/>
          <p:cNvSpPr/>
          <p:nvPr/>
        </p:nvSpPr>
        <p:spPr>
          <a:xfrm>
            <a:off x="3505320" y="1828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红军战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59"/>
          <p:cNvSpPr/>
          <p:nvPr/>
        </p:nvSpPr>
        <p:spPr>
          <a:xfrm>
            <a:off x="5791320" y="18288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准备爬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60"/>
          <p:cNvSpPr/>
          <p:nvPr/>
        </p:nvSpPr>
        <p:spPr>
          <a:xfrm>
            <a:off x="2057400" y="2286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半山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61"/>
          <p:cNvSpPr/>
          <p:nvPr/>
        </p:nvSpPr>
        <p:spPr>
          <a:xfrm>
            <a:off x="3505320" y="2362320"/>
            <a:ext cx="17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红军战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2"/>
          <p:cNvSpPr/>
          <p:nvPr/>
        </p:nvSpPr>
        <p:spPr>
          <a:xfrm>
            <a:off x="5791320" y="2286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夜行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63"/>
          <p:cNvSpPr/>
          <p:nvPr/>
        </p:nvSpPr>
        <p:spPr>
          <a:xfrm>
            <a:off x="2133720" y="30481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山路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64"/>
          <p:cNvSpPr/>
          <p:nvPr/>
        </p:nvSpPr>
        <p:spPr>
          <a:xfrm>
            <a:off x="3718080" y="2459160"/>
            <a:ext cx="100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65"/>
          <p:cNvSpPr/>
          <p:nvPr/>
        </p:nvSpPr>
        <p:spPr>
          <a:xfrm>
            <a:off x="3581280" y="304812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红军战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66"/>
          <p:cNvSpPr/>
          <p:nvPr/>
        </p:nvSpPr>
        <p:spPr>
          <a:xfrm>
            <a:off x="5410080" y="2971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半夜露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67"/>
          <p:cNvSpPr/>
          <p:nvPr/>
        </p:nvSpPr>
        <p:spPr>
          <a:xfrm>
            <a:off x="2133720" y="37339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雷公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8"/>
          <p:cNvSpPr/>
          <p:nvPr/>
        </p:nvSpPr>
        <p:spPr>
          <a:xfrm>
            <a:off x="3505320" y="37339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Times New Roman"/>
              </a:rPr>
              <a:t>红军战士、医务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69"/>
          <p:cNvSpPr/>
          <p:nvPr/>
        </p:nvSpPr>
        <p:spPr>
          <a:xfrm>
            <a:off x="5257800" y="3809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Times New Roman"/>
              </a:rPr>
              <a:t>翻越雷公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70"/>
          <p:cNvSpPr/>
          <p:nvPr/>
        </p:nvSpPr>
        <p:spPr>
          <a:xfrm>
            <a:off x="2286000" y="4876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山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71"/>
          <p:cNvSpPr/>
          <p:nvPr/>
        </p:nvSpPr>
        <p:spPr>
          <a:xfrm>
            <a:off x="3505320" y="48769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</a:rPr>
              <a:t>红军战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72"/>
          <p:cNvSpPr/>
          <p:nvPr/>
        </p:nvSpPr>
        <p:spPr>
          <a:xfrm>
            <a:off x="5334120" y="4724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Times New Roman"/>
              </a:rPr>
              <a:t>任务完成，征服老山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网背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Oval 3"/>
          <p:cNvSpPr/>
          <p:nvPr/>
        </p:nvSpPr>
        <p:spPr>
          <a:xfrm>
            <a:off x="914400" y="0"/>
            <a:ext cx="4267080" cy="17524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990720" y="38088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理清结构层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380880" y="18288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记叙一件事，文章结构一般如何安排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1403280" y="2492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交代起因，记叙经过，说明结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380880" y="3276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本文是不是这样安排的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368640" y="3962520"/>
            <a:ext cx="850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三部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1295280" y="3962520"/>
            <a:ext cx="8458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、交代决定翻越老山界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二、记叙翻越老山界的经过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—33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段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三、说明翻越老山界的意义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段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11"/>
          <p:cNvSpPr/>
          <p:nvPr/>
        </p:nvSpPr>
        <p:spPr>
          <a:xfrm>
            <a:off x="1143000" y="4191120"/>
            <a:ext cx="76320" cy="1904760"/>
          </a:xfrm>
          <a:custGeom>
            <a:avLst/>
            <a:gdLst>
              <a:gd name="textAreaLeft" fmla="*/ 48960 w 76320"/>
              <a:gd name="textAreaRight" fmla="*/ 7632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3" descr="0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4"/>
          <p:cNvSpPr/>
          <p:nvPr/>
        </p:nvSpPr>
        <p:spPr>
          <a:xfrm>
            <a:off x="2882880" y="1143000"/>
            <a:ext cx="2374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细读品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0" y="380880"/>
            <a:ext cx="3886200" cy="37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老山界是一座难翻的山。其“难”表现在哪些方面呢？ 在课文中勾画出有关的句子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6095880" y="1600200"/>
            <a:ext cx="30481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走路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睡觉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吃饭难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处境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7"/>
          <p:cNvSpPr/>
          <p:nvPr/>
        </p:nvSpPr>
        <p:spPr>
          <a:xfrm>
            <a:off x="5791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2T01:04:38Z</dcterms:created>
  <dc:creator/>
  <dc:description/>
  <dc:language>en-US</dc:language>
  <cp:lastModifiedBy>a</cp:lastModifiedBy>
  <dcterms:modified xsi:type="dcterms:W3CDTF">2015-03-17T05:42:27Z</dcterms:modified>
  <cp:revision>99</cp:revision>
  <dc:subject/>
  <dc:title>PowerPoint 演示文稿</dc:title>
</cp:coreProperties>
</file>