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4B3-BD8E-4C86-96AE-E2D8FCBB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CE8-78A6-499C-A52B-57A5043A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9D5CC-1205-49C1-B426-4F11F7D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6CF73-B6EF-48D2-BD4B-A43574BF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214D3-5A88-4531-AC22-88F430B8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26E46-5FEB-4E07-B36B-A25AFBCE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F07E6-5D72-4F46-9BF8-13C41F33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35643-8CFF-4944-9227-33B271BF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3D9EF-7082-421A-8A2A-2E1EA2DB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49F51-C3B2-436C-8B10-292961A8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B59C5-7ED5-4284-9486-BDD3E20C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634AD-6652-48F8-A4A4-D14B83AF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923-F54E-4F59-A09D-1DF096F7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1A86B-780A-43F5-BEC9-27BEC63A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A3101-44E0-4B1F-A383-33EAD79E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DA247-60CC-46C2-9FAF-2C48EC61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5C605-FDC7-4F9F-9DF5-A370500D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F9126-1DA7-4291-BDC2-C2497225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FCAB8-8D94-430D-ADAF-753A91F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CDED4-1F0C-43E2-BDC3-736B18E7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9D88D-2448-4720-ABA2-9F768A6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37BE7-5AB5-41D4-91C5-D8209061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8E07F-4164-4DF5-8B8E-C3403CD2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4AF-274E-49ED-9FD7-59F46A24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E889C-1E8D-41E9-85F0-F95CED55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56D29-BF1C-4450-896C-71FBCDFE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62CA0-0DDA-43F6-93B9-E555673F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B23AC-0014-4BD5-BE60-20003C2F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08091-6DCB-4193-9D97-251182A5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EF105-5F7F-4F16-9BC6-207EC86D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AC58E-0BA6-4BAA-802F-B3A0900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5FAAB-B4A6-4E0F-987C-83E3404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DEE0C-1B60-425D-86F9-ADAC56E0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8879A-FB0D-4063-BC84-AD4B1116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09F4-8F6D-405C-8B46-E2944BE2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C52E2-1B2D-4349-8069-99A52655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0388D-5B42-46A6-92CC-92D96B59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925C9-7F85-49A1-A0E6-8BF3909E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55F6C-E010-4008-A02F-A75E6DDD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5F97E-53C1-4D15-B272-2FB5D780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C0789-C8F1-4043-A0F0-DA4EC916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DBB8F-CBEF-483B-920A-6BA3206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01C0D-2599-4862-A19D-E7354A1A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0FF36-A6CD-4E7D-861F-6AB47030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28CD0-2357-4610-B2FD-1ADD58F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B4F4-5D3F-4B08-93CF-4C422A99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B8B4C-5328-4D86-9228-7733052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14E8F-0DB9-4F20-A1DD-1E3BD542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033B7-D895-42FE-86B7-403A922F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2F52D-25B7-4BAD-A9E8-35DAA45A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351AE-0B88-407B-BE43-4D2D752D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9429B-FDC8-48CE-BB4A-8379A842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48F22-AA0F-419A-934D-D0D35AE0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DB859-C275-4669-9C14-67AFD4B0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D0B08-6275-4270-B29B-1D5B60A0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D6253-C860-4747-8749-166DFDBE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749F-94A7-4F8E-9252-C5DA98EC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83A9C-CCC0-4E80-84A4-88BB12A9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8DBD8-A7EE-4558-985D-6830BBFD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2604F-2FE8-496D-BE93-BCEEC0F9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FFFAD-111E-4107-9C7D-BC7490F9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7ACD5-B3AB-4718-A22E-860D51BC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8E229-9A62-4BFA-B568-E5AAC541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1650A-72E0-4403-8FA2-114E09A5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5EFE-DFC3-46CC-B60E-6DBA2CA2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58F-5F26-4054-BBED-95D5BA23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5FD3-5DC8-46C7-90DE-B54B2A0D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B040-021E-4AD8-AD27-C2E5770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EA1-8943-44DA-ABF0-E83782BB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2122-9359-4171-AA8A-8686F30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1E47-3BAC-4576-BE45-B845B6D4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5B65-1071-4A44-9DA0-9BC5EA5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A58F-B8E5-443F-A209-69509F9A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5213-F278-433D-BFA5-8B49F588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CEBC-2C4F-4BA4-9430-350A0602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D8619-A229-456B-927F-5DCBFE39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03F5-371B-47E6-8396-5DD69182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32B4-C5E0-4252-A287-5239DA9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6555-EAE3-44FC-9AC8-7427F5D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2D3-3C85-45CF-AB29-C26E2A2A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288E-FB22-46D6-B5EB-3FBB8CF5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21BA-EB36-4043-9D94-ABBBD0B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52B65-E216-4D3C-8203-534BBD1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8F49-F6A9-4F9A-A279-F87F502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5D93-68E1-429E-AA35-A8A9657B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5612-6C1C-4D87-970D-66D7087C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5BFB-CF0D-4444-B452-7B6D8554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8340-A47F-4070-B5DD-11710010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6C52-ECED-4AEB-ADBD-6FAD4C59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E8FA-B472-4390-B4BB-7FBE5EB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20B-6B02-4F3F-B25B-3122C546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9FC7D-D9E0-4757-82F9-2F28E136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9371-9B18-40FB-9B21-B9515963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C65E-8D65-4DCD-AC37-665BE125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CBC08-1BA3-403E-9E01-178B3725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7C95-32C8-444A-AFE1-FAC94D8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78E6-CB1E-4E96-A25B-EC27D83F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9FE49-002B-454B-B413-5DA46787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9277-1B20-4EF8-AAC4-DF0AA817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2C0D-1A61-4219-BAA5-744D9305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4D9C6-6A48-4AFD-AC4F-B29DC07A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C1A-1F45-452E-98CF-F05CF036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ED13-1623-4729-88E4-EC3B7FD7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45B7-3EDB-49FF-BD42-08516919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ADE7-3BB5-4CEF-BE87-DD022575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BF8F-D00C-4B29-AE69-B240ED2C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EE60-C207-490B-9C5F-8F18190B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31F4-7083-4D0C-BD17-3621C79D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8E96-0C65-4B60-ACBA-61EE3F2A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3DCF-BDD8-41E4-B310-787999B3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4588-DF3F-4824-A446-A4FE490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A5A01-5864-44E0-A8F4-7C8960D2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CF8-18C2-4C8B-BC10-9CF11539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FFFB6-4DD7-4D9B-B169-72E3A0B1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0F300-262C-4E9D-BDFB-F4AF835D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E2D3-F296-4895-B294-B18A233B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DF423-D648-4E19-9967-9B69465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1AD32-3DF7-44B8-B5B3-F48C3FCB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FF7D4-63C1-4D97-ADAD-0841D530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E3A36-32ED-4D2C-BFB7-9D1D9512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AF2F-5CFA-436A-BDA8-34742B61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61252-B06D-4D22-8DDA-4A0D1ED7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A64C-3F6B-41E5-A79D-41A8DC6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61C-A5B1-431D-B8F8-D4C66862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D8C6-AB31-49FE-86D6-1BB2A9F4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1BBA4-4636-4E34-80EB-F24FD27E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A5E29-560D-4866-8D0A-60563713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57098-3CBE-444A-88E7-26401D2D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759D-A684-4C23-A5B1-9DC0829B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87EF9-530F-4C98-B00E-E7AF9E6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09599-0A59-4AAA-9164-2EA9C369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013FA-E41A-4E8D-85C0-2136981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17DE-833C-41E0-A69B-32FEA687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7F833-4EE7-4D9B-9ADB-1FCBFAB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514-BEE4-4276-BF0C-7F779717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FAEB3-342B-4B5A-A514-5BDDD89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9578-3A8F-4718-9E32-2BE61574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FDAA5-6E76-4D3B-BBBC-E05FDDFB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9A37-A5DC-4198-BE23-6E3D5948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68350-A2AD-4BCA-BAE2-837B3857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570DE-CD2C-4B45-9239-C19A7147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9A129-417D-4B2E-86FA-79904F8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38D93-6BBB-41AA-8AC4-2281224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B2FA2-E908-44DC-A04C-DA74B0D6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D9F50-1811-4972-A9F8-DA9A2C05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2E6-33A8-4C6F-B3D1-8EAF96D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71516-DFF0-4908-A874-35DC2907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D1B07-6580-412A-8EA1-0F300E7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66D69-C196-489E-A9CD-3F341E62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C46AA-3096-48B3-8A57-A988D82E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EE3E6-85F5-4025-9D2E-595BCEE3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48E37-C741-45A0-B7D4-712348F5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F4824-7751-4712-AFE0-47810C46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0993D-5A2F-402A-BF27-52FA99F2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ECBA6-3D8F-4B17-BE13-9FB6629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B641C-1C6B-407C-9505-D2A791EB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FFFA-2FF1-4718-8A65-018D3799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C1A3-CD64-4334-B370-7B11721A13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0C46-0E1F-4273-BC70-E4842370F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9E81-22F1-4CD6-9E47-CBC720924B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64EE-5E2A-4226-86EC-DF046CA094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5D8-51DB-4CEB-8CCB-3E1D9DD73A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8261-2F23-4BAA-8F24-81E44B648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5A1F-772F-4082-ABE3-E314D104EA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3891-9D1A-4B79-8CB7-2A1A090DE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07C-3695-4731-98E1-92D01EE7FD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4817-1210-491F-BA50-A4C242BD9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8D15-88EC-493D-9141-0376C912D7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F396-7AC4-4914-9CDF-F1DECD524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BF51-BCB3-4086-8464-7F6747E864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24BC-FCD0-4236-BF71-A7ED2B303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B06E-19FE-4804-B97D-80F5CBFEF6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EB8A-56D8-46A8-8421-24DAC9FD35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7B2A-FEAA-4513-84D0-F61C20A9D5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E1B9-3F7F-41D8-A31F-B9EB2AE5BA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3C83-F9FE-4C0A-A0B1-D180CC7B05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F23C-5F2D-45B8-8A00-A016BF75CB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F649-ADD7-4DF1-9455-51C2C8B15D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D77F-EA65-4066-A042-C3CB7BF7B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CA9C-4800-43A7-A47B-E8A24C61B2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1DD4-AB59-4D74-85A6-0FEA46668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716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离骚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节选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44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屈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29" descr="quyuan"/>
          <p:cNvPicPr/>
          <p:nvPr/>
        </p:nvPicPr>
        <p:blipFill>
          <a:blip r:embed="rId2"/>
          <a:stretch/>
        </p:blipFill>
        <p:spPr>
          <a:xfrm>
            <a:off x="1671480" y="1197000"/>
            <a:ext cx="29959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灵芬既告余以吉占兮，历吉日乎吾将行。折琼枝以为羞兮，精琼蘼，以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余驾飞龙兮，杂瑶象以为车。何离心之可同兮，吾将远逝以自疏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邅吾道夫昆仑兮，路修远以周流。扬云霓之晻蔼兮，鸣玉鸾之啾啾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朝发轫于天津兮，夕余至乎西极。凤皇翼其承旗兮，高翱翔之翼翼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乎吾行此流沙兮，遵赤水而容与。麾蛟龙使梁津兮，诏西皇使涉予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路修远以多艰兮，腾众车使径待。路不周以左转兮，指西海以为期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屯余车其千乘兮，齐玉轪而并驰。驾八龙之蜿蜿兮，载云旗之委蛇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抑志而弭节兮，神高驰之邈邈。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九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兮，聊假日以婾乐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陟陛皇之赫戏兮，忽临睨夫旧乡。仆夫悲余马怀兮，蜷局顾而不行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乱曰：已矣哉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国无人莫我知兮，又何怀乎故都？既莫足为美政兮，吾将从彭咸之所居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关于“离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离骚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“离，别也；骚，愁也”。离骚者，犹离忧也。应劭云“离，遭也；骚，忧也”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“（屈原）忧愁幽思而作离骚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离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692360" y="1699920"/>
            <a:ext cx="6400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高阳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苗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兮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朕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皇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曰伯庸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提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孟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兮，惟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庚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吾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皇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于初度兮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肇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余曰正则兮，字余曰灵均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吾既有此内美兮，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；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江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辟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兮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兰以为佩。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若将不及兮，恐年岁之不吾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搴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木兰兮，夕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洲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宿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不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兮，春与秋其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序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木之零落兮，恐美人之迟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壮而弃秽兮，何不改乎此度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骐骥以驰骋兮，来吾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夫先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阅读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纷吾既有此内美兮，又重之以修能”具有承上启下的作用，“纷吾既有此内美兮”是承上，“又重之以修能”启下。承上：屈原认为自己具有什么内在的美德？启下：屈原认为自己是怎样注重美好的才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4140360" y="134784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内在的美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5"/>
          <p:cNvSpPr/>
          <p:nvPr/>
        </p:nvSpPr>
        <p:spPr>
          <a:xfrm>
            <a:off x="4356000" y="3933720"/>
            <a:ext cx="719280" cy="1943280"/>
          </a:xfrm>
          <a:custGeom>
            <a:avLst/>
            <a:gdLst>
              <a:gd name="textAreaLeft" fmla="*/ 459720 w 719280"/>
              <a:gd name="textAreaRight" fmla="*/ 719640 w 71928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3564000" y="692280"/>
            <a:ext cx="503280" cy="2016000"/>
          </a:xfrm>
          <a:custGeom>
            <a:avLst/>
            <a:gdLst>
              <a:gd name="textAreaLeft" fmla="*/ 0 w 503280"/>
              <a:gd name="textAreaRight" fmla="*/ 18180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1692360" y="4017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身高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1692360" y="13366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生时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1690560" y="22734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字美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5148360" y="37130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热爱芳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5148360" y="450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珍惜时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5219640" y="544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渴望变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836720" y="45165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美好的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怎样理解屈原热爱芳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余既兹兰之九畹兮，又树蕙之百亩。畦留夷与揭车兮，杂度蘅与方芷。冀枝叶之峻茂兮，愿俟时乎吾将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饮木兰之坠露兮，夕餐秋菊之落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揽木根以结义兮，贯薜荔之落蕊。 矫菌桂以纫蕙兮，索胡绳之纚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既替余以蕙纕兮，又申之以揽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芰荷以为衣兮，集芙蓉以为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佩缤纷其繁饰兮，芳菲菲其弥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468360" y="1413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离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中写到屈原热爱香花香草的诗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屈原其他诗歌中写到香花香草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采薜荔兮水中，搴芙蓉兮木末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骋骛兮江皋，夕弭节兮北渚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采芳洲兮杜若，将以遗兮下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湘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屈原其他诗歌中写到香花香草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罔薜荔兮为帷，薜蕙兰兮既张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玉兮为镇，疏石兰兮为芳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芷葺兮荷屋，缭之兮杜衡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百草兮实庭，建芳馨兮庑门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嶷缤兮并迎，灵之来兮如云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捐余袂兮江中，遗余褋兮澧浦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搴汀洲兮杜若，将以遗兮远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湘夫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屈原其他诗歌中写到香花香草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檮木兰以矫蕙兮，□申椒以为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播江蓠与滋菊兮，愿春日以为糗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惜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芙蓉而为媒兮，惮褰裳而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怀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为君独服此蕙兮，羌无以异于众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屈原为什么喜欢香花香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恐鹈之先鸣兮，使夫百草为之不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何所独无芳草兮，尔何怀乎故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溷浊而不分兮，好蔽美而嫉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吾知其亦已兮，苟余情其信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露申辛夷，死林薄兮。腥臊並御，芳不得薄兮。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涉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白以为黑兮，倒上以为下。凤凰在笯兮，鸡鹜翔舞。同糅玉石兮，一概而相量。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怀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028" descr="quyuanguli"/>
          <p:cNvPicPr/>
          <p:nvPr/>
        </p:nvPicPr>
        <p:blipFill>
          <a:blip r:embed="rId1"/>
          <a:stretch/>
        </p:blipFill>
        <p:spPr>
          <a:xfrm>
            <a:off x="0" y="0"/>
            <a:ext cx="4824360" cy="3446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29" descr="quyuanguli2"/>
          <p:cNvPicPr/>
          <p:nvPr/>
        </p:nvPicPr>
        <p:blipFill>
          <a:blip r:embed="rId2"/>
          <a:stretch/>
        </p:blipFill>
        <p:spPr>
          <a:xfrm>
            <a:off x="4427640" y="1413000"/>
            <a:ext cx="4535280" cy="307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30" descr="quyuanguli3"/>
          <p:cNvPicPr/>
          <p:nvPr/>
        </p:nvPicPr>
        <p:blipFill>
          <a:blip r:embed="rId3"/>
          <a:stretch/>
        </p:blipFill>
        <p:spPr>
          <a:xfrm>
            <a:off x="5435640" y="4299120"/>
            <a:ext cx="3708360" cy="25588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031"/>
          <p:cNvSpPr/>
          <p:nvPr/>
        </p:nvSpPr>
        <p:spPr>
          <a:xfrm>
            <a:off x="539640" y="422100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北姊归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屈原故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离骚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中的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太息以掩涕兮，哀民生之多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亦余心之所善兮，虽九死其尤未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宁溘死以流亡兮，余不忍为此态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吾知其亦已兮，苟余情其信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民生各有所乐兮，余独好修以为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虽体解吾犹未变兮，岂余心之可惩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曼曼（漫漫）其修远兮，吾将上下而求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关于屈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约公元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9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约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8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战国时期楚国爱国诗人、政治家，“楚辞”的创立者和代表作者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纪，曾被推举为列为世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大文化名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一而受到广泛纪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一生经历了楚威王、楚怀王、顷襄王三个时期，主要活动于楚怀王时期，曾位为左徒、三闾大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是中国文学史上第一位伟大的爱国诗人，是浪漫主义诗人的杰出代表。他所开创的新诗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辞，突破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现形式，极大地丰富了诗歌的表现力，为中国古代的诗歌创作开辟了一片新天地。后人也因此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称为“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骚”。“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骚”是中国诗歌史上现实主义和浪漫主义两大优良传统的源头。同时，以屈原为代表的楚辞还影响到汉赋的形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关于屈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中国历史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是一位深受人民景仰和热爱的诗人。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续齐谐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隋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理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载，屈原于农历五月初五投江自尽，以后便形成了五月初五端午节包粽子、赛龙舟的习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的作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离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九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九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篇。此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卜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渔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篇是否为屈原所作，学术界尚有争议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离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屈原的代表作，也是中国古代文学史上最长的浪漫主义抒情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离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692360" y="1699920"/>
            <a:ext cx="6400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高阳之苗裔兮，朕皇考曰伯庸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摄提贞于孟陬兮，惟庚寅吾以降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皇览揆余于初度兮，肇锡余以嘉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余曰正则兮，字余曰灵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纷吾既有此内美兮，又重之以修能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扈江离与辟芷兮，纫秋兰以为佩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汩余若将不及兮，恐年岁之不吾与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搴阰之木兰兮，夕揽洲之宿莽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月忽其不淹兮，春与秋其代序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惟草木之零落兮，恐美人之迟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抚壮而弃秽兮，何不改乎此度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骐骥以驰骋兮，来吾导夫先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-252720" y="260280"/>
            <a:ext cx="9396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昔三后之纯粹兮，固众芳之所在。杂申椒与菌桂兮，岂惟纫夫蕙芷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彼尧舜之耿介兮，既遵道而得路；何桀纣之猖披兮，夫唯捷径以窘步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惟夫党人之偷乐兮，路幽昧以险隘。岂余身之惮殃兮，恐皇舆之败绩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忽奔走以先后兮，及前王之踵武。荃不察余之中情兮，反信馋而疾怒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余固知謇謇之为患兮，忍而不能舍也。指九天以为正兮，夫唯灵修之故也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既与余成言兮，后悔遁而有他。余既不难夫离别兮，伤灵修之数化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余既兹兰之九畹兮，又树蕙之百亩。畦留夷与揭车兮，杂度蘅与方芷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冀枝叶之峻茂兮，愿俟时乎吾将刈。虽萎绝其亦何伤兮，哀众芳之芜秽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众皆竞进以贪婪兮，凭不厌乎求索。羌内恕己以量人兮，各兴心而嫉妒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忽驰骛以追逐兮，非余心之所急。老冉冉其将至兮，恐修名之不立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朝饮木兰之坠露兮，夕餐秋菊之落英；苟余情其信姱以练要兮，长顑颔亦何伤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揽木根以结义兮，贯薜荔之落蕊。 矫菌桂以纫蕙兮，索胡绳之纚纚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謇吾法夫前修兮，非世俗之所服。虽不周于今之人兮，愿依彭咸之遗则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太息以掩涕兮，哀民生之多艰。余虽好修姱以靰羁兮，謇朝谇而夕替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替余以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纟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兮，又申之以揽芷；亦余心之所善兮，虽九死其尤未悔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怨灵修之浩荡兮，终不察夫民心。 众女疾余之蛾眉兮，谣诼谓余以善淫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固时俗之工巧兮，偭规矩而改错。背绳墨以追曲兮，竞周容以为度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忳郁邑余侘傺兮，吾独穷困乎此时也。 宁溘死以流亡兮，余不忍为此态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鸷鸟之不群兮，自前世而固然。何方圜之能周兮，夫孰异道而相安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屈心而抑志兮，忍尤而攘诟，伏清白以死直兮，固前圣之所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悔相道之不察兮，延伫乎吾将反。回朕车以复路兮，及行迷之未远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步余马于兰皋兮，驰椒丘且焉止息。进不入以离尤兮，退将复修吾初服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制芰荷以为衣兮，集芙蓉以为裳。不吾知其亦已兮，苟余情其信芳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余冠之岌岌兮，长余佩之陆离。芳与泽其杂糅兮，唯昭质其犹未亏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忽反顾以游目兮，将往观乎四荒。佩缤纷其繁饰兮，芳菲菲其弥章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民生各有所乐兮，余独好修以为常。虽体解吾犹未变兮，岂余心之可惩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女媭之婵媛兮，申申其詈予。曰：“鲧婞直以亡身兮，终然夭乎羽之野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汝何博謇而好修兮，纷独有此姱节？资菉葹以盈室兮，判独离而不服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众不可户说兮，孰云察余之中情？世并举而好朋兮，夫何茕独而不予听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依前圣以节中兮，喟凭心而历兹。济沅湘以南征兮，就重华而陈词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兮，夏康娱以自纵； 不顾难以图后兮，五子用乎家巷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羿淫游以佚畋兮，又好射夫封狐。固乱流其鲜终兮，浞又贪夫厥家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浇身被服强圉兮，纵欲而不忍。日康娱而自忘兮，厥首用夫颠陨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夏桀之常违兮，乃遂焉而逢殃。后辛之菹醢兮，殷宗用之不长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汤禹俨而祗敬兮，周论道而莫差。举贤才而授能兮，循绳墨而不颇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皇天无私阿兮，揽民德焉错辅。夫维圣哲以茂行兮，苟得用此下土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瞻前而顾后兮，相观民之计极。夫孰非义而可用兮，孰非善而可服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阽余身而危死兮，揽余初其犹未悔。不量凿而正枘兮，固前修以菹醢。”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曾歔欷余郁邑兮，哀朕时之不当。揽茹蕙以掩涕兮，沾余襟之浪浪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跪敷衽以陈词兮，耿吾既得中正。驷玉虬以乘鹥兮，溘埃风余上征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朝发轫于苍梧兮，夕余至乎县圃。欲少留此灵琐兮，日忽忽其将暮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吾令羲和弭节兮，望崦嵫而匆迫。路曼曼其修远兮，吾将上下而求索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饮余马于咸池兮，总余辔乎扶桑。折若木以拂日兮，聊逍遥以相羊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望舒使先驱兮，后飞廉使奔属。鸾皇为余先戒兮，雷师告余以未具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吾令凤鸟飞腾夕，继之以日夜。飘风屯其相离兮，帅云霓而来御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纷总总其离合兮，斑陆离其上下。吾令帝阍开关兮，倚阊阖而望予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暧暧其将罢兮，结幽兰而延伫。世溷浊而不分兮，好蔽美而嫉妒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朝吾将济于白水兮，登阆风而渫马。忽反顾以流涕兮，哀高丘之无女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溘吾游此春宫兮，折琼枝以继佩。及荣华之未落兮，相下女之可诒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吾令丰隆乘云兮，求宓妃之所在。解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纟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结言兮，吾令蹇修以为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纷总总其离合兮，忽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纟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难迁。夕归次于穷石兮，朝濯发乎洧盘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保厥美以骄傲兮，日康娱以淫游。虽信美而无礼兮，来违弃而改求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览相观于四极兮，周流乎天余乃下。望瑶台之偃蹇兮，见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女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佚女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吾令鸩为媒兮，鸩告余以不好。雄鸠之鸣逝兮，余犹恶其佻巧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犹豫而狐疑兮，欲自适而不可。凤皇既受诒兮，恐高辛之先我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欲远集而无所适兮，聊浮游以逍遥。及少康之未家兮，留有虞之二姚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理弱而媒拙兮，恐导言之不固。世溷浊而嫉贤兮，好蔽美而称恶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闺中既已邃远兮，哲王又不寤。怀朕情而不发兮，余焉能忍此终古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索琼茅以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竹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兮，命灵氛为余占之。曰：两美其必合兮，孰信修而慕之？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九州之博大兮，岂惟是其有女？曰：勉远逝而无狐疑兮，孰求美而释女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何所独无芳草兮，尔何怀乎故宇？世幽昧以昡曜兮，孰云察余之善恶？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民好恶其不同兮，惟此党人其独异。户服艾以盈要兮，谓幽兰其不可佩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览察草木其犹未得兮，岂珵美之能当？苏粪壤以充帏兮，谓申椒其不芳。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欲从灵氛之吉占兮，心犹豫而狐疑。巫咸将夕降兮，怀椒糈而要之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百神翳其备降兮，九疑缤其并迎。皇剡剡其扬灵兮，告余以吉故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曰：勉升降以上下兮，求榘镬之所同。汤禹严而求合兮，挚咎繇而能调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苟中情其好修兮，又何必用夫行媒？说操筑于傅岩兮，武丁用而不疑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吕望之鼓刀兮，遭周文而得举。宁戚之讴歌兮，齐桓闻以该辅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及年岁之未晏兮，时亦犹其未央。恐鹈之先鸣兮，使夫百草为之不芳。”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何琼佩之偃蹇兮，众薆然而蔽之。惟此党人之不谅兮，恐嫉妒而折之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缤纷其变易兮，又何可以淹留？兰芷变而不芳兮，荃蕙化而为茅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何昔日之芳草兮，今直为此萧艾也？岂其有他故兮，莫好修之害也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余既以兰为可侍兮，羌无实而容长。委厥美以从俗兮，苟得列乎众芳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椒专佞以慢韬兮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木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欲充夫佩帏。既干进而务入兮，又何芳之能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固时俗之流从兮，又孰能无变化？览椒兰其若兹兮，又况揭车与江离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惟兹佩之可贵兮，委厥美而历兹。芳菲菲而难亏兮，芬至今犹未沫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调度以自娱兮，聊浮游而求女。及余饰之方壮兮，周流观乎上下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02:21:06Z</dcterms:created>
  <dc:creator>陈子良</dc:creator>
  <dc:description/>
  <dc:language>en-US</dc:language>
  <cp:lastModifiedBy>a</cp:lastModifiedBy>
  <dcterms:modified xsi:type="dcterms:W3CDTF">2015-03-16T08:52:45Z</dcterms:modified>
  <cp:revision>19</cp:revision>
  <dc:subject>为您服务教育网http://www.wsbedu.com/</dc:subject>
  <dc:title>离骚(节选)</dc:title>
</cp:coreProperties>
</file>