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media/image11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explode.wav" ContentType="audio/x-wav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FE6-79ED-4489-AF64-AD169241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89D-F5EF-42A8-8F0A-C8029F91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17F2E-AD9B-41B0-BC6F-BA3948D4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AE9FA-23E6-44A4-BCE9-E2F6B747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6DF05-6BBD-46C5-84F1-A991096F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61894-1F4B-45AE-AF66-F5F0FB28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0E2FC-4952-4D0A-A204-9E0E88DC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74AC6-BDE7-4C0E-A186-D040ABE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9B77A-A4C6-468D-A04A-98401C4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6FB61-0AB7-4C64-B58B-E083A910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B3CD5-E055-4E0F-9C5A-9D54D349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9601B8-344E-4FAA-BF27-B98ADC3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169-82CE-4230-946B-CB2C4D56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DD71-904F-47BC-A452-27714E3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FF248-160B-47CB-8718-7813AC0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53DF9-9B51-474E-97EE-84D2A13B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7F977-CCA9-4505-949E-8E4FB8C7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934FD-64FB-4BBF-8065-D77F994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61000-EABC-4895-A521-6BEF975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E36E9-4FB5-492F-90E2-AE9F966D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C1DC8-A50D-4871-B0F8-43C622D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6E0EF-3688-4492-AD49-EC0DA3DB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0B958-7160-436D-AB3A-8910C866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998D-6B3C-4984-8709-087BD4F0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7B8C8-2726-48C3-BD45-B3C86E26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8339A-42B8-421B-A567-3F1ED106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F2DD4-11E0-4C63-91FD-15184872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64964-C3B6-4157-88FA-9DDB551B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56149-A90D-4413-B875-EA99245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E931-FCD5-4158-992F-B6D228FE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8B362-36AF-4731-B0F4-FC0AD39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29BE4-7514-458B-A5EC-EF4CC4D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4B0B8-AC42-49F3-83F2-C6BBA76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C805F-D5BD-4EC4-930E-439E1F8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06A8-7171-4119-BB8B-9922D419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BA8EC-1227-4C86-AA23-B394051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43711-E5DF-4A8E-997B-BB9F021A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396A3-7691-4E14-A683-BFD09054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732F7-9F9B-4A97-8E57-53969D64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30483-FC12-4BCC-B931-4412B4C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634D9-17EF-4E0B-80C1-CB270164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97146-B307-48B0-80A3-A21E3935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3A6E2-7190-4333-9DCF-D13444B9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54DC6-ADB6-4ADC-8ABC-29E9AD67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CD610-EEE5-4693-B0E7-5F98FE46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7B69-CFD9-44C6-BF2C-B96357C6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0A352-15A3-4BC2-A424-04D2B98D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91A75-4C99-4DBB-902F-D2D0FED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D4075-FFA6-49DB-B859-EB31CBF7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415FF-C61C-4CF5-9D7E-55E4B20F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F3E1E-F102-44F9-A953-B99BD880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837C7-4484-48E4-8599-AE034F5C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A756B-1074-4A2F-82EE-3D2D0878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2C6CB-1952-497A-85BF-1AF25696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FCD64-A392-460A-90FF-9E58FF04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69822-B657-4CEA-BA1C-B4E59AB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0AE9-5398-436E-A8DE-FC923808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C9197-E1DD-4DC1-854C-405C6347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77B9F-69BC-4684-B865-0D4F6652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55D52-622D-4EA7-B4F0-E46DE28C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56222A-B9E7-449C-9204-1DEA8E1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C13630-4FEB-437A-B4CD-437518D2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D73F9-4129-4126-A5A2-5ED93AA2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10BE9-C070-4193-9AE1-56E0D9F7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4373-4E4E-4B82-B3E3-50EF8A6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FB3D-D624-414E-951B-8A937AD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D87-59B1-4433-9B08-1837B200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671F-A8B5-48F2-9418-697E54D7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0CE-206A-4260-BB60-6ED9319A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7EA-A85E-4C9A-829A-8D6809E5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DC3E-2414-4715-A9D8-D260318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9A1E-DB48-4BB2-A7BE-D0E69DE1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7F1A-81F5-491B-BFD9-8EFE3E35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FF32-AB9C-4CC3-8340-6829D4E5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CF1D-1847-4BB9-9DEC-2A07BA9E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E776-B8E6-4E38-A4E7-CEB52DD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2460-6B96-4782-9BDD-F9B802B9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246E-A4A6-450E-88F4-4CA0C12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D471-F98C-489E-822D-CA696862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519E-3132-4F92-9888-B1F33D5C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7626-47F4-45FD-B216-F2A329E9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08C4-3672-4DDD-BFB4-BCB6FFF8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C7565-9BC9-4953-9BD8-AB6F617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8F66-4D9C-49F4-98F6-3F12472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5B5C-99A8-44EC-86AD-3557F269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9AEE4-5BFF-44CF-B19B-F3AEEB00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42B9-E77D-4F80-9232-7BFD186F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9B2CC-5D2B-471F-B9EE-228E8CE9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2D68-389F-4CED-B605-66B26D33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643E-DBAD-49A5-BAEE-3A02252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AD0-ED83-484F-8874-47A9BA5C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E0D9-7D2D-4F4F-A9A2-BF79C751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7EF8-CA27-4A5E-94C9-25D2A914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6739-73A5-48A4-BD04-DAAF446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D46BD-71C1-47F4-AE81-E50D800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D055-3C39-4A11-AAC1-D3BCA56E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D106-EE57-41C3-8B26-4775656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A3470-D7A3-4C83-8084-FD3FC30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C2537-1642-4F39-96AF-D405E3C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875CE-30AA-4A45-B8B4-1E3EA863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79C6-0E27-4F0D-9A15-F5D75953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A3F-1009-4410-8465-02E1B928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3AED-38AD-4686-B7F4-56CBF269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10A2F-C592-42E7-A2F8-92FAC6A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F256-FEC6-4930-B895-101D749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84110-20AF-4075-8846-25815BC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BB114-7380-448E-A72C-F1CD40F8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5722D-C709-4DDD-90BF-687C7F69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7DD6-3834-4D44-9C69-3597DAE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CC49-5FF1-4C2B-A020-CE4F7F37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57091-6E71-481D-9FF1-5E9BF705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A611F-47EB-401B-B369-0959F158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2E9-8F51-4634-97FC-B89869A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AA6BD-07CC-4BCD-948F-575690B4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FE7A-2D21-4075-ABDC-7256B4DF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B2084-C05C-4C17-99E2-8799C801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6399-2C37-42F1-B737-8F2D1987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90E1B-0F9D-486B-BCDC-1F955C22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09546-5582-4CF3-AA41-4398FFB6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7F97-D84F-4AAE-8E52-80FEE4B8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5796-BA34-498E-ABF7-7323952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4F1E0-F304-4136-A6E6-BAA66BE0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6FF8E-647C-42F8-8F73-408F8E0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772-F9DE-43B5-9234-D3DFE4B1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9598E-F369-4090-B8DA-DEAE8E9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EC248-9BA7-4388-B2A9-AC694FA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CD814-9D11-4A83-BBCE-3FFB5ABF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B02A-7768-4E2A-87FC-B749F301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E73F-408A-4DE1-874F-5C98AB5D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39F2B-180E-464C-9DB8-FB93F19B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09A1D-26E3-4715-A356-20129824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7CE9B-2705-482D-A314-9F9561B2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39D1-1DE3-42EB-BA8C-68DC7BB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02416-0655-41E9-B02C-C751E593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62B-4FFB-4A33-8C50-31F8A1D2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8CD8-7447-407A-8F1B-A6A6E01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BFE3-0A90-4D98-B2DE-4825C466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0850E-FD63-4940-A516-6725267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04132-7EF7-49C0-9502-D77E325C0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8A016-2C38-49BA-99A5-D999116A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0E4D-6C38-4F15-8E07-4845816C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C2322-68B3-46D7-AF49-80217EB8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52D78-70FA-4DD1-B488-2C00099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0772-71E4-4EA2-8FEF-AA5568FE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75FAC-1FFC-4E24-93DD-FE4C0E22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700-43F6-46BA-A1D0-EA0140E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50E3D-26E6-43D0-AB36-DBD30A0E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7DFF0-A889-4CFA-A471-9D1C3E0D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3671-B7FA-4ED3-BF82-7613B402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21D22-193A-4C30-8B5D-3B121EE7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8B0E-FD88-49E1-ACC8-E6CF558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59C4-87B8-4407-A305-E60E7BEC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FFB0-D03E-405F-86EE-B894ACD2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63A85-7BF2-4686-B0E8-F49A38D0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884B1-88B0-4FAF-9E68-525BB9F6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99032-3FE4-4684-B349-08B48796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E71B-B0C7-4480-B823-715F08DCFA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0F86-0CAB-4747-9D48-002A98364A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5F64-3D4F-4AA7-AD29-7BD67C9BD9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AB9E-EA02-4559-9F77-50AFEAD5D9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2013-034D-4D6D-B215-4FA3A9D643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566-0317-4DA7-B400-602C32CA336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732-F4A7-4DF6-90A0-B6C00F08E5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128E-680A-4824-9132-7D11FDE1242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25AE-490F-4391-9F4C-C0DF550DA1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DF76-BF4A-4473-BDF4-1D13BFEBE2D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2F65-0E7A-4123-A61A-819788AEE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4C2-0EE3-4588-ACD2-3F523D2533A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5EB4-CE79-47A5-9198-1C6725BB36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ADCC-0BD1-43C1-A2DC-007D8EC001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913-EFBE-4D61-A51D-A0CBA693F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4D6F-9A2E-4DA1-95A4-299DB8A1CE2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C8A-AD46-415B-966D-398BB5F65E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8409-D5D0-44D8-819C-3433C5918C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3B97-6B6B-4041-B700-829D807ED0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626C-9C13-43BD-B1F7-00B4502C8F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29AA-86CE-401D-89A9-63E817E9B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E17-7D71-40C1-B26F-3E29A443CBD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BEA3-550F-4B7C-8576-63FBFBFE7B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C388-BD56-433E-B4C5-A1BCD05D1B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225-3F58-453A-8BF5-6DC9AFE62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3"/>
          <p:cNvSpPr/>
          <p:nvPr/>
        </p:nvSpPr>
        <p:spPr>
          <a:xfrm>
            <a:off x="2209680" y="76320"/>
            <a:ext cx="5791320" cy="1600200"/>
          </a:xfrm>
          <a:prstGeom prst="cloudCallout">
            <a:avLst>
              <a:gd name="adj1" fmla="val -47699"/>
              <a:gd name="adj2" fmla="val 5218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从哪能看出柳树醒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533520" y="76320"/>
            <a:ext cx="6172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春风跟（   ）说话了，说着说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Times New Roman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D:\素材\下载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380880" y="1447920"/>
            <a:ext cx="6400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自由读韵文，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         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读准字音，把生字用自己喜欢的符号画出来，再读三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轻柔.MP3" descr=""/>
          <p:cNvPicPr/>
          <p:nvPr/>
        </p:nvPicPr>
        <p:blipFill>
          <a:blip r:embed="rId2"/>
          <a:stretch/>
        </p:blipFill>
        <p:spPr>
          <a:xfrm>
            <a:off x="81532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04920" y="457200"/>
            <a:ext cx="8839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醒 雷 澡 枝 软 梳 梢 耍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q4"/>
          <p:cNvPicPr/>
          <p:nvPr/>
        </p:nvPicPr>
        <p:blipFill>
          <a:blip r:embed="rId1"/>
          <a:stretch/>
        </p:blipFill>
        <p:spPr>
          <a:xfrm>
            <a:off x="6400800" y="4398840"/>
            <a:ext cx="2089080" cy="12398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5"/>
          <p:cNvSpPr/>
          <p:nvPr/>
        </p:nvSpPr>
        <p:spPr>
          <a:xfrm>
            <a:off x="685800" y="4343400"/>
            <a:ext cx="5410080" cy="1066680"/>
          </a:xfrm>
          <a:prstGeom prst="cloudCallout">
            <a:avLst>
              <a:gd name="adj1" fmla="val -34597"/>
              <a:gd name="adj2" fmla="val 699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准备怎样记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4" descr="D:\素材\图片\风景\草原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Oval 5"/>
          <p:cNvSpPr/>
          <p:nvPr/>
        </p:nvSpPr>
        <p:spPr>
          <a:xfrm>
            <a:off x="838080" y="152280"/>
            <a:ext cx="7772400" cy="29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</a:rPr>
              <a:t>轻松一下吧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摇蓝曲.WAV" descr=""/>
          <p:cNvPicPr/>
          <p:nvPr/>
        </p:nvPicPr>
        <p:blipFill>
          <a:blip r:embed="rId2"/>
          <a:stretch/>
        </p:blipFill>
        <p:spPr>
          <a:xfrm>
            <a:off x="7391520" y="5486400"/>
            <a:ext cx="990360" cy="8380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7" descr="1076_kitto"/>
          <p:cNvPicPr/>
          <p:nvPr/>
        </p:nvPicPr>
        <p:blipFill>
          <a:blip r:embed="rId3"/>
          <a:stretch/>
        </p:blipFill>
        <p:spPr>
          <a:xfrm>
            <a:off x="1752480" y="2819520"/>
            <a:ext cx="486108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4" descr="D:\素材\下载\春景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5"/>
          <p:cNvSpPr/>
          <p:nvPr/>
        </p:nvSpPr>
        <p:spPr>
          <a:xfrm>
            <a:off x="685800" y="609480"/>
            <a:ext cx="243828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3352680" y="533520"/>
            <a:ext cx="243864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7"/>
          <p:cNvSpPr/>
          <p:nvPr/>
        </p:nvSpPr>
        <p:spPr>
          <a:xfrm>
            <a:off x="6324480" y="457200"/>
            <a:ext cx="2438640" cy="914400"/>
          </a:xfrm>
          <a:prstGeom prst="wedgeEllipseCallout">
            <a:avLst>
              <a:gd name="adj1" fmla="val -45310"/>
              <a:gd name="adj2" fmla="val 699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春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D:\素材\下载\gif燕子1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轻柔.MP3" descr=""/>
          <p:cNvPicPr/>
          <p:nvPr/>
        </p:nvPicPr>
        <p:blipFill>
          <a:blip r:embed="rId2"/>
          <a:stretch/>
        </p:blipFill>
        <p:spPr>
          <a:xfrm>
            <a:off x="79246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15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Text Box 27"/>
          <p:cNvSpPr/>
          <p:nvPr/>
        </p:nvSpPr>
        <p:spPr>
          <a:xfrm>
            <a:off x="502920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话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Text Box 13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朋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 Box 25"/>
          <p:cNvSpPr/>
          <p:nvPr/>
        </p:nvSpPr>
        <p:spPr>
          <a:xfrm>
            <a:off x="4952880" y="167652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友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6" name=""/>
          <p:cNvGraphicFramePr/>
          <p:nvPr/>
        </p:nvGraphicFramePr>
        <p:xfrm>
          <a:off x="914400" y="1295280"/>
          <a:ext cx="3581280" cy="35942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7" name="Text Box 13"/>
          <p:cNvSpPr/>
          <p:nvPr/>
        </p:nvSpPr>
        <p:spPr>
          <a:xfrm>
            <a:off x="1447920" y="173664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4495680" y="1295280"/>
          <a:ext cx="3581640" cy="358164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Text Box 25"/>
          <p:cNvSpPr/>
          <p:nvPr/>
        </p:nvSpPr>
        <p:spPr>
          <a:xfrm>
            <a:off x="4952880" y="1676520"/>
            <a:ext cx="2895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高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2-10T03:02:31Z</dcterms:modified>
  <cp:revision>8</cp:revision>
  <dc:subject/>
  <dc:title>PowerPoint Presentation</dc:title>
</cp:coreProperties>
</file>