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2EE-8F1A-4EA9-8737-5360247D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7E0-000F-4443-8727-FEFFC65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D21D5-7DE1-444E-9278-7C814526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46C66-FBE8-411C-A1D3-4212B172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7646-4F52-40D4-83E2-7E8F317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927E-69DB-4123-83FE-8186A49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B520B-B99A-44EE-902A-0DD711A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E3210-8602-4A50-A6EE-6D7439E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9D875-5389-4FE4-A8C0-93C40A1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D27D8-0156-42D2-B8A3-8533A8BE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EBE96-AC07-4948-B76C-47A4571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5F1A7-276D-4E31-8E46-5E354405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4F7-D023-4383-8517-16258F6A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24F95-673F-4938-99EF-CFC14DE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5FCF8-F37A-499F-ACDE-EBC0EB8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DF54-58DD-47D6-82C8-760A6B7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169E-1C1F-420C-9C9D-2215A8E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25746-6094-428D-AE17-767D3A4C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7DEEB-4561-42BD-820A-9F04D3F0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AF681-6AEF-467D-A592-E70EE1C3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37FFC-4BC6-46BF-BC28-F6CE86F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694A5-0183-4B00-B9D5-A3E040A6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01225-9AA2-4C52-AF1D-DB448D7D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9CA-009F-463F-BC35-B5DFD76E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A6C5A-0804-42F8-8765-A82334F8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0D8D6-8CC6-4C31-AC7A-D705C28D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15526-0BEB-4F82-B008-5EC9B232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38368-B893-481B-A265-271C9D3A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3A37B-C861-4ED7-8B40-4598F93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0FE5-CE92-4286-B969-D2481534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B681-EA59-4F70-828F-65DC2C2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FCC9A-C84F-43DB-8BC2-B685304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0FCD-B51B-44DC-9B4C-95631B5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5F12-A9E4-477A-948D-8E8BD12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66B-8EE6-4F59-B3E5-AA70DCD9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F8467-DEA1-4584-9039-7714D201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3FEE4-7D80-400E-874F-8DD0A22E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F755-7B65-4A37-A3CC-1B3D088B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E3409-C258-4793-9F27-9799576E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A3D50-2524-4AC7-974A-51B6A839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0C82D-B55D-433A-9E90-421A6A28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05A7D-0F64-4096-AF92-9DBCAFC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E6F25-74AD-4155-B78B-899AB335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5FBCE-2CDD-400E-B045-808C095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A1ECA-649E-4F8E-994F-E3CD7DC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212-C2EA-48D0-A016-649CFB7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BC4E-8A18-47CC-83D4-AA6DB7B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D57C0-660B-474B-B08E-0642822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EA29A-7C83-4D6E-9306-9D47095E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5E4E2-F0C8-4128-9F8B-2F89C3C2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02473-29AA-46C7-9502-CE626E27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6752B-F3FB-4DC5-91FA-054E5413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59EDA-0763-484B-92D8-FB463688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649A4-0712-4D03-971A-7C3524A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274ED-AB18-4D41-85CE-6067033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C1639-FD59-4408-8D16-68184EC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CEE1-1E89-4EDE-92C4-43010F6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1CC00-2AEC-4E4E-B061-FB3C53A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E504B-CA8C-42F9-B589-51AF459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5223E-BB1B-48DE-8837-6D7FD78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9D834-1933-4EEF-A602-FB4F903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B4CBD-23DB-4382-AA43-28DF5D2C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6C2E1-2E8A-4DD3-9484-C93C6457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C62B-1C06-44F9-BAA1-0A1F822A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2D25-DF12-4700-88E6-C1192AA8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D457-FC1E-48E6-84D7-480DF569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5C3C-1D12-4969-A73A-CA056502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E7A-6CF1-46C7-B044-1096E08F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D3D-DB92-4EF2-BDF7-D9E09D5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34F1-3557-47F0-A82D-790BCA2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E6D-FA04-4D23-A002-069FC96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8D31-A550-4EA4-ACF1-1E40E876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9874-F119-403A-9C46-EFA48686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343B-1A9F-4FB6-8FDD-512ACEFE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1BEE-8E49-4B32-8E08-07DF935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CFE8-05C3-4602-A84F-2E5D9461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8BF8-D97E-49B6-AB83-49B85B4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9EE0-FA92-4D6A-BB61-DC458CF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F311-A06E-4806-A6F2-AEFDDF6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B69-8FCE-4F04-B7DA-55F7C72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2A2B-037C-43AF-9218-4BFCFF9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8208-7F5F-403A-88A9-269C844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D969-0958-406E-8EAB-83C65EA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5192-773C-48EF-A54D-26DD98A4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0C4A-21BD-4B07-A2BD-9AB91EE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11E1-5F8B-4F39-A32A-CFBD297B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DEC9-63F9-430B-97D0-B9B352EB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7597-BA6A-4915-B0EC-8B76F3CE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5696-1531-48E9-AA76-267860C2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2E1B-2451-4E5C-B45C-F03CBEAC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390-259B-48F9-840B-E4A4152B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5FA0-52C6-4426-876E-278ED88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C490-737F-445B-BA68-AAE08008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0965-6665-4CBB-A499-E77CE30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4777-07B7-4D0A-AF0C-15CFC3E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B730-33FB-484D-820A-C4C3B3F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53B4-4839-4358-BBBB-E3CCD44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CF61-906F-423A-A633-92DCFCFE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BFCC-C8C2-4C80-90DD-BD99EB9B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381D-C297-4E85-9043-51F904CC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B4BF-339B-4068-A396-5988C874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D70-6B7E-4F85-A182-C35D4E7D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50F8-E6D9-4047-8545-4B0C4E7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CCE1-7EF7-481E-BD0E-CD6397E8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7BAD-4587-43A5-B527-8271B294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14B1-28FE-4F04-847C-40A81DC6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9D4C-2A8D-4137-8CCE-305A2D0F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4873-B4AB-4E6D-8777-2A559DD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6828-D580-4FA4-92D7-2C1C15E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32BE-083C-40D0-9783-1D1EED2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332C-7378-4C72-BA3C-1CDF3B6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600F-FBD4-456A-87C4-46D6EDE8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F67-2320-46EA-B21B-B4E60363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902A-E266-4E63-AAF6-8B39A1F1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83593-6DA6-40A8-9EB9-CF54661F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A290-E813-418B-B6A9-A840DCAB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150A-F987-4619-98B6-D1DE288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4C25-0B03-466C-91C5-2178476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1E58-6C33-45D9-BBC3-7FB21EAF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4F1D-ED86-4543-A0C8-DE77AB11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C700-66A0-43EC-8CA6-4C87775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0412-5457-4CEF-9186-3E78795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41AC-48C5-424D-B325-4C14FF8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1D3-CD6F-4D92-AF3E-852CBAD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DFE0-04F4-45B9-900D-AAFA661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6C97-13BD-4AA2-8799-1E09D5D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6EB9-B9F8-4F65-82BE-739552CB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FE9C-F862-45D7-B37B-3229FBB5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9E2C-51EF-46AE-B726-DEA9CF0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8B8C-2358-4EC3-B769-4B09006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E7B9-400D-48A6-A1E1-16BE5A42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12042-7DB2-4D46-8D55-C000450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0B6A9-A7EA-45A9-9336-6041FFB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3857-4C7A-4E5F-8F7C-C1103B3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C79-918D-4E6C-9FB6-A72347D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90F8-666D-4C59-AA8D-90372E8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1542-25A1-4372-B873-576E482D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9F65-0357-4CCE-9264-F8E5C0C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84DF-9B88-40B2-85C2-4DA41124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FD51-9EEC-4D7C-B2BB-73B48EF7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65FFE-54C3-47EF-845B-270A0F4C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73348-52BB-4C34-8D4F-AD58E72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1329-AC18-4560-91B4-A4B31CE9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B979-4969-4EBE-A602-0403DD1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FABF-2B2E-40D3-A0AB-34BDF6D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79B-499A-42D1-8FB5-7FC2810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CAB80-8E27-469F-8119-006F2273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EFFF-F309-46E9-9BD2-B72F711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DEE1-0307-4378-9814-2AB42CE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93D9-2D2E-4BCC-95B0-BB6143B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867D1-66E8-4A53-A7A1-57C45B5C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471B-3411-40E6-9414-11DF8721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53F9-C189-4413-AA3E-2B1C0D7C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7432-2E32-4577-910E-22FD1C6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0D53-5D46-4770-994B-4F7B8DA1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6359-7576-4B1D-88C6-673258E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03E-1B88-46B1-A94C-4B88BCF30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D438-93BF-4584-B12A-112E7FA316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EDD4-09D3-4855-9D2C-BABDCFB2D4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D107-E86A-4DD1-BB35-E8E61DDEC0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6A1-9C35-48E7-92B4-248F0A6E8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CD3-101F-4898-8CA4-4A250ED4D0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7DD5-0AE1-4F7F-9729-A75FDD6FBA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C8B-8DD6-4218-8D4D-93E435EFE0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73A-ABE1-4B18-AE49-FA9EEAEAAD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6B2-79B8-483F-9CCE-E0EED6A2F3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A1F-707A-4621-918F-0EF8804EB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3F8-5850-4E4D-84AB-34A2B11CCC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170-532D-414B-9D29-C8C1FEE18B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CEA2-5946-4926-A8D6-EBAD62BE14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8E38-6A3D-4659-A7E2-43822AC2A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495-0A84-454F-B85F-4AB2EB7C9D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879-9F3C-4CA6-8174-CCB7E5864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2BC-CD28-4022-BFF3-93A80F7CBA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E19-D1A1-40C1-9136-2FBB9268C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CB4-C573-49A1-919A-74156D6B40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079-9A6B-464E-B873-2441F7EE15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25B-8196-4D08-9234-EF182D7CA5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256-D1B9-42B6-9285-4BB4BF04F6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5C96-B0C4-4F05-AFF8-3592D65CC8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7ABA-04F4-48E9-93DF-071A1F27C7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4632;&#34632;1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&#34632;&#34632;2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王莹\初三教案\绿色蝈蝈\蝈蝈1.jpg">
            <a:hlinkClick r:id="rId1"/>
          </p:cNvPr>
          <p:cNvPicPr/>
          <p:nvPr/>
        </p:nvPicPr>
        <p:blipFill>
          <a:blip r:embed="rId2"/>
          <a:srcRect l="0" t="0" r="0" b="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>
            <a:hlinkClick r:id="rId3"/>
          </p:cNvPr>
          <p:cNvSpPr/>
          <p:nvPr/>
        </p:nvSpPr>
        <p:spPr>
          <a:xfrm>
            <a:off x="79246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943"/>
                </a:moveTo>
                <a:lnTo>
                  <a:pt x="8224" y="9943"/>
                </a:lnTo>
                <a:lnTo>
                  <a:pt x="12645" y="5330"/>
                </a:lnTo>
                <a:lnTo>
                  <a:pt x="12645" y="19343"/>
                </a:lnTo>
                <a:lnTo>
                  <a:pt x="8224" y="14730"/>
                </a:lnTo>
                <a:lnTo>
                  <a:pt x="3794" y="14730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17806" y="12337"/>
                </a:lnTo>
              </a:path>
              <a:path fill="darken" w="21600" h="24673">
                <a:moveTo>
                  <a:pt x="14299" y="9943"/>
                </a:moveTo>
                <a:lnTo>
                  <a:pt x="17806" y="7175"/>
                </a:lnTo>
              </a:path>
              <a:path fill="darken" w="21600" h="24673">
                <a:moveTo>
                  <a:pt x="14299" y="14730"/>
                </a:moveTo>
                <a:lnTo>
                  <a:pt x="17806" y="17498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-575280" y="0"/>
            <a:ext cx="2191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绿色蝈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304920" y="76212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法布尔之所以执著而艰难 地坚持自己的研究和探索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是因为他有着某种精神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;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那就是求真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即追求真理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探求真相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如果没有这种精神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就没有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昆虫记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，人类的精神之树将少掉一颗智慧</a:t>
            </a:r>
            <a:r>
              <a:rPr b="1" lang="zh-CN" sz="4800" spc="-1" strike="noStrike">
                <a:solidFill>
                  <a:srgbClr val="ff9966"/>
                </a:solidFill>
                <a:latin typeface="Times New Roman"/>
              </a:rPr>
              <a:t>之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喧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嚣 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哑 静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谧 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夺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窸窣 颚 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莴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斯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囊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子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猎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号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喙 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掠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贪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和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睦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忌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热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乱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鸣 沉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听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扎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爱 逃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宋体"/>
              </a:rPr>
              <a:t>弱肉强食 隐隐约约 窸窣作响 连续不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宋体"/>
              </a:rPr>
              <a:t>夜色苍茫 更胜一筹 惊慌失措 开膛破肚 津津有味 断肢残腿 毫不犹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0" y="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比看那些无聊的小说更有趣味，更有意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                 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中国  周作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52280" y="274320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这个大科学家像哲学家一般的想，美术家一般的看，文学家一般的感受而且抒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   </a:t>
            </a:r>
            <a:r>
              <a:rPr b="1" lang="en-US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法国戏剧家    罗斯丹（</a:t>
            </a:r>
            <a:r>
              <a:rPr b="1" lang="en-US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Rostand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457200" y="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这样的作品在世界上诚属空前绝后。没有哪位昆虫学家具备如此高明的文学表达才能，没有哪位作家具备如此博大精深的昆虫学造诣；况且，那又是一个群情共振的雨果、巴尔扎克、左拉文学时代，一个势不可挡的拉马克、达尔文、魏斯曼生物学时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王光</a:t>
            </a:r>
            <a:r>
              <a:rPr b="1" lang="en-US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法布尔精神</a:t>
            </a:r>
            <a:r>
              <a:rPr b="1" lang="en-US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3520" y="51814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达尔文称他是“难以效法的观察家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0" y="3808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82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法布尔生于法国南部一个农民家中。童年时代就迷上了户外大自然的花草虫鸟。在他不足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时就立志研究昆虫。后来靠自学获得了自然科学硕士、博士学位。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88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，法布尔用积攒的一小笔钱，在小镇附近购得一处坐落在荒地上的老旧民宅，进一步研究活虫子的计划即将变成现实。他精神舒畅，用当地普罗旺斯语给这处居所取了个风趣的雅号荒石园。年复一年，荒石园主人穿着农民的粗呢子外套，吃着普通老百姓的清汤淡饭，用尖镐平铲刨挖，于是，花草争妍，灌木成丛，一座百虫乐园建好了。他守着心爱的荒石园，开足生命的马力，不知疲倦地从事独具特色的昆虫学研究，把劳动成果写进一卷又一卷的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昆虫记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。他就这样，孤独、欢欣、清苦、平静地度过了他最后的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1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  探究内容   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1371600"/>
            <a:ext cx="91440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夜闻：其声（柔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日见：其形（漂亮）</a:t>
            </a: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其斗（勇敢） 生活习性 </a:t>
            </a:r>
            <a:br>
              <a:rPr sz="4400"/>
            </a:b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常喂：其食（酷爱甜食、昆虫青草、   同类相食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常见：其居（和睦宽容</a:t>
            </a:r>
            <a:r>
              <a:rPr b="1" lang="zh-CN" sz="5400" spc="-1" strike="noStrike">
                <a:solidFill>
                  <a:srgbClr val="ff99ff"/>
                </a:solidFill>
                <a:latin typeface="宋体"/>
              </a:rPr>
              <a:t>）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二    探究成文之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了解写作依据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2286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它的丰富翔实、精确细致、生动形  象的材料是怎么来的，根源在哪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0" y="380988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从文中让你看到一个怎样的科学家</a:t>
            </a: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文中开头所写，国庆之夜，去田间静听蝈蝈的活动，观察蝈蝈的生活习性；关于食性，不厌其烦，去观察和探究，</a:t>
            </a: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我必须另找食物，它们大概是要鲜肉吧，但究竟是什么呢？</a:t>
            </a: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为笼里喂养者的食物，他不断观察，且不断变换食物花样。同时，他时刻保持一种特有的科学研究的敏感，于清晨散步中，树下掉落之物，他跑过去，看到了以小搏大的勇敢壮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于绿色蝈蝈全面丰富的介绍，源于作者深入细致的观察和独有的科学探索的兴趣、放弃娱乐甘受寂寞的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随时感触到一个科学家夜以继日、孜孜不倦的探究活动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三   探究文质优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295280" y="2286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对比运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1869120" y="1295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拟人化的描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1219320" y="3429000"/>
            <a:ext cx="971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诗意浪漫化的氛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文艺的笔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传神的语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感情的流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昆虫记</a:t>
            </a:r>
            <a:r>
              <a:rPr b="0" lang="en-US" sz="4400" spc="-1" strike="noStrike">
                <a:solidFill>
                  <a:srgbClr val="6699ff"/>
                </a:solidFill>
                <a:latin typeface="宋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是花了近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的时间（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7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89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写成的，此时正是法布尔人生中年到老年的漫长二十年里，以科学严谨的态度，童真而又仔细地观察了大量昆虫的活动，用富足的第一手资料，真实而生动的向我们揭示了昆虫王国的别样景观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228600" y="228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昆虫记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是以大量科学报告材料和文学气质艰苦写成的巨著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文体基本为散文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主体内容集中在昆虫学问题上，同时收入一些讲述经历、回忆往事的传记性文章，若干解决问题的议论，以及少量带科普知识性的文字。一位饱经沧桑、追求不止的昆虫学探索者的优势，在这部巨著中得到充分发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304920" y="45720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昆虫记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十卷二百二十余篇，法布尔并不局限于仅仅真实地记录下昆虫的生活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而是以人性关照虫性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昆虫的本能、习性、劳动、婚恋、繁衍和死亡无不渗透着人文关怀，并以虫性反映社会人生，睿智的哲思跃然纸上；最重要的是，整部作品充满了对生命的关爱之情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充满了对自然万物的赞美之情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33:35Z</dcterms:created>
  <dc:creator>user</dc:creator>
  <dc:description/>
  <dc:language>en-US</dc:language>
  <cp:lastModifiedBy>a</cp:lastModifiedBy>
  <dcterms:modified xsi:type="dcterms:W3CDTF">2015-02-10T02:23:52Z</dcterms:modified>
  <cp:revision>20</cp:revision>
  <dc:subject/>
  <dc:title>PowerPoint 演示文稿</dc:title>
</cp:coreProperties>
</file>