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8DEE-799F-429B-B2F7-26DFC5EC7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89BB-3356-40B4-B585-2EDF8324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F9082C-006C-483B-AB8A-F51160ADC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29C6F-D2D3-48C4-9A05-842033345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B98F4F-7BDF-4516-9E50-16A968022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18672A-F0FB-4357-9722-F0C5D0BA9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5D0BF0-8259-4E09-9EF9-F2762EF8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7F8A1-7C5E-40B3-93A1-11C34BC60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5B860-B504-42C9-9AF9-F56E5D562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607BB7-6F2E-41E4-B678-0AA3C810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84D56-B9B8-4CE8-ACEC-5E81C6CA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CE019-9FBF-4516-AAA8-0AC560DC2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D522-DE4A-48EB-AD53-8CB5E3F49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617A73-894B-4686-93FD-C346096D9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573747-3E46-47A1-92AC-C4DFE357F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9EFAE6-72A3-41D0-BC52-052109AF3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7388EA-28A3-48AC-A9BC-9898368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B1C648-E212-42EF-A305-C4B673C4F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6BBEE0-DE12-41A1-8A76-28FEB7164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8F82CA-A3F0-4825-816D-2FE0E9F43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49C49-183E-4BED-9E21-2055F87F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694B88-509E-4716-8A6F-E5538E27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ADCEA-9A71-4709-9A92-22B7AF87B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57FD-58EB-47D9-BD81-E1131E0CE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0F0A9-A87F-4ED4-8182-1A564ED69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826DD-27FE-4E42-909D-3EBD25791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AD2027-EACA-4B6E-BC9A-CEDAE3294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B0EE07-A1D4-4097-AF14-6D77768A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98641A-75A5-487E-9112-9E1DD1DD9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D077E-88BC-443E-A8AF-A0E1A1155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56EAC-9509-4DFC-9AB3-59E1169C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059896-C49F-4A7D-82A9-105EFA0A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0879EA-65DB-4A88-9720-6A47600E4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22BB37-F37D-4A0C-8DDA-3FA247D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4408-F73F-414F-A8B9-265D4ABBA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5097C5-10DE-47CE-BB32-DFBF67357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38D39-5076-4E9D-B1F2-E64B9C32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D16AA-E51D-427C-90DE-09E44EF8B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1B5B94-73CB-48D9-8950-9A608B326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361C3-83CD-4F78-B277-50ADECCC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D4D67B-B001-4D16-846F-9DF20CD3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2DC835-1AE9-4707-BE2B-B5D30F25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33AAD-818F-44ED-AAB7-18E99CD82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0DA4A6-79A3-419F-9102-7E4F645B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7B484D-41A5-42C2-88CE-721871C02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C7C18-60D3-4287-90CD-1FD2F30A6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C45A0-8CEF-482E-9558-84CABF0A6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EABBEE-B45B-45E7-B4E0-E52D0F16C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8D387D-5DDC-4FFE-BA62-79FC3068D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5AA585-E282-44D1-A83D-9A2687C6A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52208E-1360-4987-BC2C-94B1F4C9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FF9D8D-6C3D-4002-B8A0-1665F36F8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96AAE7-2AAA-4CF8-A06E-7FA9A8303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BED672-C41E-4FFF-BA0F-F0F0959F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D4811A-8A4A-4456-9348-4793172C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2D1019-529F-4BA6-B951-B396A137B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8E7FA-1A4A-41AA-B95D-27C1C253C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57B74-1E74-40CC-8B08-A7ABC58DE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17A897-E8C2-49D1-AB11-4571CF73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D05777-D7B2-4C03-9E0B-C1667C4F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5986E4-E495-46F5-B3C1-BE039BA0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6D3081-0E64-4DFF-965F-228EFD27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FF4AD0-5732-4364-B2D7-8E4FA3E10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C67EB7-1561-457C-95DC-91C1EEBB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105B-CCA6-40F1-B75C-40C09E12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02B4D-AB46-41BE-BECF-8DB0A14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4386-1AEA-4F1A-BE51-F8557F25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1B1B-7C95-424D-961E-5CFF747F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4A25-8DB1-48F0-92D0-4B33EC148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D649-D1FD-4B3E-A1E2-97BD9758E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4237C-F883-4009-BC84-BAE735FD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E367F-F65A-4B27-9530-8EE87440C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1409-A5C4-4694-B5D6-955392767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1FA49-F919-46E6-8105-E9D14BD2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0AA62-1B37-40A7-8C14-D6BAD266D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2C225-ADBA-4E4B-B4DC-7B7914D1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9FE61-20FB-4DCD-A877-37B66130A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5722C-89E9-4B3F-8840-D425157D5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C386C-F46E-4CEC-BE02-A726FCA5C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CF2E-B41A-4DE5-A6E5-CAA0CECF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36B4D-1530-43B4-ADB8-6E65B80BA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E9F96-6812-4232-B46B-5C95CE850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4C77-15E3-4512-8F24-74A011D1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F9DEF-5EF0-43BC-9993-C561E7B5C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D8BF0-3426-4792-AEBF-3EE3550F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90F8A2-774E-4BF5-A4F6-9A384964F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11749-713E-49EA-8C85-4E4FB2392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62998-9A7C-4CAF-8067-E289B99AD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C67F3-C787-4547-94DF-353D322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1F5EF-62B5-4A98-B8E2-9BA750D1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3A92-5F35-4FBE-B73D-054AA3800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F676-DA2C-4F70-B8A5-37BE2827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D2CFE9-F50E-48FD-94B5-8ECFCDB7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4A646-76B9-4E87-A261-40936112B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01D3-BF37-4D97-A7B2-9AC49630C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9DA16-17CA-4444-B533-FDB973FB6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9A1E-DDA1-49A6-997C-0552F7D7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021CC-5070-4E7D-9387-88137568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54D88-E424-450F-BD91-A4492D1D5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7A80A-2701-4949-B6D8-B5ADD6792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E6385-D423-4047-A42D-FE0859F7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2DB-81ED-465D-964B-0F5C8E907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606FD-5EC2-45A3-A6F9-FED1DC9C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062B8-6EAB-49CC-BFEC-8B09196A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C3C00-76F8-4EA5-81B0-8819CBF0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E9D018-6B3C-4880-8DAE-6EDAC5B3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B7FAA-03D8-4ABD-A7B9-3917DA52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CFCDE-AC68-478A-A2A8-1262C4C36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BFA10D-010C-4D1A-BA6A-F70B0D27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2C086C-8A1F-4A53-9BF8-2E958220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1A0869-9C0B-46CF-965D-E5CF2F47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B56B4-E773-403C-8184-6BE5334B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6E10-7179-4104-B85F-067EE7D0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2ECF-3A1A-418A-B1A7-9BF04FB5B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E2E539-8C0F-40BE-8F50-7465A491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30BC4-D39C-41E6-97B4-0B889BAB2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F2F547-2BF9-4D2A-95C1-FB1CDD94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F7288-7D83-47FF-A12F-74BF8D52C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BEF290-A751-419F-A44D-0355E73C7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2AF1F0-0408-4B0C-A7EC-921625E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B0C8B0-520A-46EA-9ECE-D1724DB4F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17F563-BDF4-458A-BEEA-EA417D89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332BD-9D0B-4B28-A170-8AC2B1DA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3F07-F5BA-437E-B338-455C9D95D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C862D-1C3E-4C55-99F3-F42E0EF1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7D6164-E9AB-4B34-A55D-CB62D312B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513D54-62F4-44E2-9E46-801DADA04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850C-B320-40B5-A62B-79E591D35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505E5D-9C03-452D-A357-D852E5243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B0F3D-5328-4B49-AC4A-033C0426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52D42D-509B-46BB-BAAA-DD6FD215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392A45-8BC8-4CD5-97B5-C71FBA4C3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F3BD6D-9D14-4D37-BFD7-3897F953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92D591-EDEF-47B2-B38E-B19906E17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B323-0859-4071-9513-1AFE6390B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71C8C-4754-4CE1-B0DF-99A3528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09633-32D4-4DA0-8D2E-5C60BFE85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656FDC-153F-4EDD-9932-D66E6AA5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753B6-D5F8-43FE-A5AB-AF0477E81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815A-F260-4B66-9917-DFEF0B865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D54BB-7306-4F10-A963-DCE7031D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B460F-CCB6-42A3-940D-FFAF024B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55238-84AC-45BC-BFEA-21EEC69F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5F000-38A2-47C0-8484-20D336E2E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C7E51-1BE6-45A9-813B-F9FEE6F7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0995-0B86-40F2-B15E-25C6359E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658C-7762-478A-99CF-55AD1EE0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3FF41-42DD-4DA8-814C-8B8D59CD1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3423AB-F097-4EA1-B129-BB5C2FDE5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19ADC-AF50-419D-B8C8-791AC9B01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4CD32-7C6B-4ED1-9212-DED86785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3551F-1C92-4526-8916-3E203D5CF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033DA-09B9-41EB-A9A8-E55D39EE8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44164-1479-4D9C-9609-55410B3E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4E4D0-25CD-44A4-8438-84665F0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B3002-F3BE-48D9-9661-75EDC1843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688F-2C57-49BC-B517-9824E99E4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8ECF-92D7-4EDA-B239-5FCD85D2B4E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DF66E-AFE9-4FDD-B992-6B41DF1E05C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9E98-DDBA-44DE-88C8-B3D1BFE246D8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62885-57C2-4504-9CA3-C1596F2348D8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20B4-C75D-4131-87E2-2CDC4EFA770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B3962-DF76-432F-B558-FCE682FB9491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5F768-34AE-4297-8B4A-3BA86A9452FC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7BD18-4346-4C30-86D3-5B71CF8E9F59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62AD-C084-482D-B504-FD5FA541A3C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7203-7E0F-4C8B-88A2-52715BEDB1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4CD2-E816-4D4C-9B33-39BDA9A0E82D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939B-3047-4137-8364-2BCABF80294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2CF42-A6FD-408A-8B16-929D588937C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EEDA-E908-434A-9F72-951D554A779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F14AF-D87F-4A74-B1DF-1C8E9697ADB1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36B13-B321-4631-A6A9-59E16D86B50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86DD-DF00-49D9-B074-8C803ED10DEE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A7855-3830-4EDB-A612-000179940684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233-33C3-46F4-8373-E50CF9795754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630F8-714C-42F8-86BD-DEAB2E9C3E8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2F0D-67FA-403B-AF85-3971260F228B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1DA2-8849-4CE2-B114-FDF2F71C32E3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8236-1327-407B-B8C7-129C32A4BB3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44485-C78A-4C68-A3A6-6A4EAF3D045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C:\My Documents\pic084_jpg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C:\My Documents\fengzheng.gif"/>
          <p:cNvPicPr/>
          <p:nvPr/>
        </p:nvPicPr>
        <p:blipFill>
          <a:blip r:embed="rId2"/>
          <a:stretch/>
        </p:blipFill>
        <p:spPr>
          <a:xfrm>
            <a:off x="2743200" y="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4" descr="C:\My Documents\f.gif"/>
          <p:cNvPicPr/>
          <p:nvPr/>
        </p:nvPicPr>
        <p:blipFill>
          <a:blip r:embed="rId3"/>
          <a:stretch/>
        </p:blipFill>
        <p:spPr>
          <a:xfrm>
            <a:off x="304920" y="0"/>
            <a:ext cx="4343400" cy="228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5" descr="C:\My Documents\1.gif"/>
          <p:cNvPicPr/>
          <p:nvPr/>
        </p:nvPicPr>
        <p:blipFill>
          <a:blip r:embed="rId4"/>
          <a:stretch/>
        </p:blipFill>
        <p:spPr>
          <a:xfrm>
            <a:off x="304920" y="1905120"/>
            <a:ext cx="2595600" cy="29667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7" descr="C:\My Documents\30.gif"/>
          <p:cNvPicPr/>
          <p:nvPr/>
        </p:nvPicPr>
        <p:blipFill>
          <a:blip r:embed="rId5"/>
          <a:stretch/>
        </p:blipFill>
        <p:spPr>
          <a:xfrm>
            <a:off x="3505320" y="3048120"/>
            <a:ext cx="838080" cy="136044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8" descr="C:\My Documents\40.gif"/>
          <p:cNvPicPr/>
          <p:nvPr/>
        </p:nvPicPr>
        <p:blipFill>
          <a:blip r:embed="rId6"/>
          <a:stretch/>
        </p:blipFill>
        <p:spPr>
          <a:xfrm>
            <a:off x="1981080" y="3733920"/>
            <a:ext cx="800280" cy="7426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9" descr="C:\My Documents\41.gif"/>
          <p:cNvPicPr/>
          <p:nvPr/>
        </p:nvPicPr>
        <p:blipFill>
          <a:blip r:embed="rId7"/>
          <a:stretch/>
        </p:blipFill>
        <p:spPr>
          <a:xfrm>
            <a:off x="5562720" y="3124080"/>
            <a:ext cx="914400" cy="1162080"/>
          </a:xfrm>
          <a:prstGeom prst="rect">
            <a:avLst/>
          </a:prstGeom>
          <a:ln w="0">
            <a:noFill/>
          </a:ln>
        </p:spPr>
      </p:pic>
      <p:sp>
        <p:nvSpPr>
          <p:cNvPr id="540" name="WordArt 10"/>
          <p:cNvSpPr txBox="1"/>
          <p:nvPr/>
        </p:nvSpPr>
        <p:spPr>
          <a:xfrm>
            <a:off x="1752480" y="4572000"/>
            <a:ext cx="54864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ff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风筝</a:t>
            </a:r>
            <a:endParaRPr b="1" i="1" lang="en-US" sz="5400" spc="1" strike="noStrike">
              <a:ln w="9360">
                <a:solidFill>
                  <a:srgbClr val="ff6600"/>
                </a:solidFill>
                <a:miter/>
              </a:ln>
              <a:solidFill>
                <a:srgbClr val="00ff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3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0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457200" y="0"/>
            <a:ext cx="8305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、掌握下列生字词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0" y="9144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838080" y="838080"/>
            <a:ext cx="19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z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ē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2743200" y="914400"/>
            <a:ext cx="1219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秃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3657600" y="8380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Text Box 7"/>
          <p:cNvSpPr/>
          <p:nvPr/>
        </p:nvSpPr>
        <p:spPr>
          <a:xfrm>
            <a:off x="4572000" y="762120"/>
            <a:ext cx="7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蟹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Text Box 8"/>
          <p:cNvSpPr/>
          <p:nvPr/>
        </p:nvSpPr>
        <p:spPr>
          <a:xfrm>
            <a:off x="5562720" y="7621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xi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è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Text Box 9"/>
          <p:cNvSpPr/>
          <p:nvPr/>
        </p:nvSpPr>
        <p:spPr>
          <a:xfrm>
            <a:off x="6553080" y="76212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Text Box 10"/>
          <p:cNvSpPr/>
          <p:nvPr/>
        </p:nvSpPr>
        <p:spPr>
          <a:xfrm>
            <a:off x="7238880" y="68580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duo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Text Box 11"/>
          <p:cNvSpPr/>
          <p:nvPr/>
        </p:nvSpPr>
        <p:spPr>
          <a:xfrm>
            <a:off x="0" y="175248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蕾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Text Box 12"/>
          <p:cNvSpPr/>
          <p:nvPr/>
        </p:nvSpPr>
        <p:spPr>
          <a:xfrm>
            <a:off x="838080" y="16002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ĕ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Text Box 13"/>
          <p:cNvSpPr/>
          <p:nvPr/>
        </p:nvSpPr>
        <p:spPr>
          <a:xfrm>
            <a:off x="1752480" y="16765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丫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Text Box 14"/>
          <p:cNvSpPr/>
          <p:nvPr/>
        </p:nvSpPr>
        <p:spPr>
          <a:xfrm>
            <a:off x="3352680" y="16765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ā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z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Text Box 15"/>
          <p:cNvSpPr/>
          <p:nvPr/>
        </p:nvSpPr>
        <p:spPr>
          <a:xfrm>
            <a:off x="5410080" y="167652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寂寞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Text Box 16"/>
          <p:cNvSpPr/>
          <p:nvPr/>
        </p:nvSpPr>
        <p:spPr>
          <a:xfrm>
            <a:off x="6934320" y="160020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ò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Text Box 17"/>
          <p:cNvSpPr/>
          <p:nvPr/>
        </p:nvSpPr>
        <p:spPr>
          <a:xfrm>
            <a:off x="0" y="259092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憔悴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Text Box 18"/>
          <p:cNvSpPr/>
          <p:nvPr/>
        </p:nvSpPr>
        <p:spPr>
          <a:xfrm>
            <a:off x="1600200" y="25146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qi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á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o cu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：形容面容黄瘦，有病态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Text Box 19"/>
          <p:cNvSpPr/>
          <p:nvPr/>
        </p:nvSpPr>
        <p:spPr>
          <a:xfrm>
            <a:off x="0" y="4191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萧杀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Text Box 20"/>
          <p:cNvSpPr/>
          <p:nvPr/>
        </p:nvSpPr>
        <p:spPr>
          <a:xfrm>
            <a:off x="1828800" y="4191120"/>
            <a:ext cx="731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凄凉，萧条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Text Box 21"/>
          <p:cNvSpPr/>
          <p:nvPr/>
        </p:nvSpPr>
        <p:spPr>
          <a:xfrm>
            <a:off x="0" y="502920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诀别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Text Box 22"/>
          <p:cNvSpPr/>
          <p:nvPr/>
        </p:nvSpPr>
        <p:spPr>
          <a:xfrm>
            <a:off x="1981080" y="502920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ju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é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多指不再相间的分别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3"/>
          <p:cNvSpPr/>
          <p:nvPr/>
        </p:nvSpPr>
        <p:spPr>
          <a:xfrm>
            <a:off x="228600" y="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荡漾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905120" y="0"/>
            <a:ext cx="7238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à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g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水波微动的样子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0" y="83808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嫌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Text Box 6"/>
          <p:cNvSpPr/>
          <p:nvPr/>
        </p:nvSpPr>
        <p:spPr>
          <a:xfrm>
            <a:off x="1600200" y="83808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ù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厌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Text Box 7"/>
          <p:cNvSpPr/>
          <p:nvPr/>
        </p:nvSpPr>
        <p:spPr>
          <a:xfrm>
            <a:off x="0" y="16002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笑柄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Text Box 8"/>
          <p:cNvSpPr/>
          <p:nvPr/>
        </p:nvSpPr>
        <p:spPr>
          <a:xfrm>
            <a:off x="1752480" y="1600200"/>
            <a:ext cx="6400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可以拿来取笑的资料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Text Box 9"/>
          <p:cNvSpPr/>
          <p:nvPr/>
        </p:nvSpPr>
        <p:spPr>
          <a:xfrm>
            <a:off x="0" y="2286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什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9" name="Text Box 10"/>
          <p:cNvSpPr/>
          <p:nvPr/>
        </p:nvSpPr>
        <p:spPr>
          <a:xfrm>
            <a:off x="1447920" y="236232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h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í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日常应用的各种小器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Text Box 11"/>
          <p:cNvSpPr/>
          <p:nvPr/>
        </p:nvSpPr>
        <p:spPr>
          <a:xfrm>
            <a:off x="0" y="30481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惊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Text Box 12"/>
          <p:cNvSpPr/>
          <p:nvPr/>
        </p:nvSpPr>
        <p:spPr>
          <a:xfrm>
            <a:off x="1676520" y="312408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惊慌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2" name="Text Box 13"/>
          <p:cNvSpPr/>
          <p:nvPr/>
        </p:nvSpPr>
        <p:spPr>
          <a:xfrm>
            <a:off x="3276720" y="3048120"/>
            <a:ext cx="167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瑟缩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Text Box 14"/>
          <p:cNvSpPr/>
          <p:nvPr/>
        </p:nvSpPr>
        <p:spPr>
          <a:xfrm>
            <a:off x="4724280" y="304812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se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身体因寒冷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4" name="Text Box 15"/>
          <p:cNvSpPr/>
          <p:nvPr/>
        </p:nvSpPr>
        <p:spPr>
          <a:xfrm>
            <a:off x="228600" y="380988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受惊等蜷缩或兼抖动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5" name="Text Box 16"/>
          <p:cNvSpPr/>
          <p:nvPr/>
        </p:nvSpPr>
        <p:spPr>
          <a:xfrm>
            <a:off x="0" y="4572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虐杀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Text Box 17"/>
          <p:cNvSpPr/>
          <p:nvPr/>
        </p:nvSpPr>
        <p:spPr>
          <a:xfrm>
            <a:off x="1752480" y="45720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üè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指用残酷的手段杀害人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2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傲然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Text Box 3"/>
          <p:cNvSpPr/>
          <p:nvPr/>
        </p:nvSpPr>
        <p:spPr>
          <a:xfrm>
            <a:off x="1600200" y="0"/>
            <a:ext cx="6477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坚强不屈的样子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0" y="7621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宽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752480" y="76212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宽容饶恕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6"/>
          <p:cNvSpPr/>
          <p:nvPr/>
        </p:nvSpPr>
        <p:spPr>
          <a:xfrm>
            <a:off x="0" y="16002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恍然大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Text Box 7"/>
          <p:cNvSpPr/>
          <p:nvPr/>
        </p:nvSpPr>
        <p:spPr>
          <a:xfrm>
            <a:off x="3124080" y="1523880"/>
            <a:ext cx="5791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下子完全明白或觉悟过来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8"/>
          <p:cNvSpPr/>
          <p:nvPr/>
        </p:nvSpPr>
        <p:spPr>
          <a:xfrm>
            <a:off x="0" y="3124080"/>
            <a:ext cx="327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苦心孤诣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Text Box 9"/>
          <p:cNvSpPr/>
          <p:nvPr/>
        </p:nvSpPr>
        <p:spPr>
          <a:xfrm>
            <a:off x="3048120" y="3200400"/>
            <a:ext cx="609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宋体"/>
              </a:rPr>
              <a:t>ì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形容煞费苦心地去钻营。孤：独自。诣：学问技艺等所达到的程度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二、默读课文初步理解文章大意及思想感情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Text Box 3"/>
          <p:cNvSpPr/>
          <p:nvPr/>
        </p:nvSpPr>
        <p:spPr>
          <a:xfrm>
            <a:off x="0" y="16765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三、默读课文，理解本文结构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685800" y="3200400"/>
            <a:ext cx="8458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一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点题，引起下文。  二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-1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回忆往事。         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2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抒发内心无比沉重的悲哀感受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2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-819720" y="1066680"/>
            <a:ext cx="18262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回忆往事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AutoShape 3"/>
          <p:cNvSpPr/>
          <p:nvPr/>
        </p:nvSpPr>
        <p:spPr>
          <a:xfrm>
            <a:off x="838080" y="380880"/>
            <a:ext cx="609840" cy="5639040"/>
          </a:xfrm>
          <a:custGeom>
            <a:avLst/>
            <a:gdLst>
              <a:gd name="textAreaLeft" fmla="*/ 389520 w 609840"/>
              <a:gd name="textAreaRight" fmla="*/ 610200 w 609840"/>
              <a:gd name="textAreaTop" fmla="*/ 146880 h 5639040"/>
              <a:gd name="textAreaBottom" fmla="*/ 5492160 h 5639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523880" y="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一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回忆故乡放风筝的情形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523880" y="152388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二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3-4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“我”不准弟弟放风筝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Text Box 6"/>
          <p:cNvSpPr/>
          <p:nvPr/>
        </p:nvSpPr>
        <p:spPr>
          <a:xfrm>
            <a:off x="1447920" y="2895480"/>
            <a:ext cx="769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三）（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-6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）意识到我那时的行为是“精神”虐杀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3" name="Text Box 7"/>
          <p:cNvSpPr/>
          <p:nvPr/>
        </p:nvSpPr>
        <p:spPr>
          <a:xfrm>
            <a:off x="1523880" y="5121360"/>
            <a:ext cx="762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（四）想补过，却无法补过。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79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2"/>
          <p:cNvSpPr/>
          <p:nvPr/>
        </p:nvSpPr>
        <p:spPr>
          <a:xfrm>
            <a:off x="0" y="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四、问题讨论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Text Box 3"/>
          <p:cNvSpPr/>
          <p:nvPr/>
        </p:nvSpPr>
        <p:spPr>
          <a:xfrm>
            <a:off x="0" y="76212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、作者看到“远处有一二风筝浮动”，就感到“奇异和悲哀”这是为什么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6" name="Text Box 4"/>
          <p:cNvSpPr/>
          <p:nvPr/>
        </p:nvSpPr>
        <p:spPr>
          <a:xfrm>
            <a:off x="0" y="31240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2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、“四面还是严冬萧杀</a:t>
            </a:r>
            <a:r>
              <a:rPr b="1" lang="en-US" sz="5400" spc="-1" strike="noStrike">
                <a:solidFill>
                  <a:srgbClr val="66ff33"/>
                </a:solidFill>
                <a:latin typeface="Times New Roman"/>
              </a:rPr>
              <a:t>……</a:t>
            </a:r>
            <a:r>
              <a:rPr b="1" lang="zh-CN" sz="5400" spc="-1" strike="noStrike">
                <a:solidFill>
                  <a:srgbClr val="66ff33"/>
                </a:solidFill>
                <a:latin typeface="Times New Roman"/>
              </a:rPr>
              <a:t>荡漾了。”为什么说春天“久经逝去”？为什么说春天“就在天空中荡漾了。”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228600" y="0"/>
            <a:ext cx="891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</a:rPr>
              <a:t>、看到一本外国的讲论儿童的书，为什么说是不幸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0" y="16765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ccff"/>
                </a:solidFill>
                <a:latin typeface="Times New Roman"/>
              </a:rPr>
              <a:t>4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</a:rPr>
              <a:t>、“我还能希求什么呢？我只得心理沉重着。”表达了作者怎样的心情？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228600" y="4191120"/>
            <a:ext cx="891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、为什么说“倒不如躲到肃杀的严冬中去吧？”</a:t>
            </a: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0" y="60958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3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457200" y="5335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Times New Roman"/>
              </a:rPr>
              <a:t>知识拓展：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讨论</a:t>
            </a:r>
            <a:r>
              <a:rPr b="1" lang="en-US" sz="7200" spc="-1" strike="noStrike">
                <a:solidFill>
                  <a:srgbClr val="00cc99"/>
                </a:solidFill>
                <a:latin typeface="Times New Roman"/>
              </a:rPr>
              <a:t>《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风筝</a:t>
            </a:r>
            <a:r>
              <a:rPr b="1" lang="en-US" sz="7200" spc="-1" strike="noStrike">
                <a:solidFill>
                  <a:srgbClr val="00cc99"/>
                </a:solidFill>
                <a:latin typeface="Times New Roman"/>
              </a:rPr>
              <a:t>》</a:t>
            </a:r>
            <a:r>
              <a:rPr b="1" lang="zh-CN" sz="7200" spc="-1" strike="noStrike">
                <a:solidFill>
                  <a:srgbClr val="00cc99"/>
                </a:solidFill>
                <a:latin typeface="Times New Roman"/>
              </a:rPr>
              <a:t>的现实意义。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Text Box 3"/>
          <p:cNvSpPr/>
          <p:nvPr/>
        </p:nvSpPr>
        <p:spPr>
          <a:xfrm>
            <a:off x="304920" y="48769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1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5T14:35:55Z</dcterms:created>
  <dc:creator>翻身实验学校</dc:creator>
  <dc:description/>
  <dc:language>en-US</dc:language>
  <cp:lastModifiedBy>a</cp:lastModifiedBy>
  <dcterms:modified xsi:type="dcterms:W3CDTF">2015-03-17T06:14:16Z</dcterms:modified>
  <cp:revision>5</cp:revision>
  <dc:subject/>
  <dc:title>PowerPoint 演示文稿</dc:title>
</cp:coreProperties>
</file>