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23FB-8D38-475A-A364-4B3784380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74A8-C23F-4A94-9C8E-14676549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D3A47-1A34-40D5-AF72-EBDCEEBF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4A4B0-4B5F-4688-A1E5-256F7B57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E3975-F402-428A-B652-780383CB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2F34F1-8230-4812-900D-D97AB3AD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97FD1-2DA2-4365-B21E-5A82EC9F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5C1FB-8E16-49FA-A4FD-3757D457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A46FE-2F37-4B7E-A251-1E348E50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0164CC-91DE-4DC0-ADA0-DC23301E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14C064-EF99-4806-8DF3-7D89EA446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0D45E-856E-4A9F-AD22-1541374EF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53A8-2480-4440-A878-51F47767D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23B09-7FFC-4F54-8CCB-BB2803C1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CFD757-7758-4469-9DD2-77CB5B3E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693012-92C0-4216-9EAF-57BE6AC4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8DCC97-DE89-4290-A1A6-3BFEE5A1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9FF3CE-0D06-487D-92D9-5739C9F3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E13EB-44A5-43C7-B5F7-782D0675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80A541-CBDA-48D5-A365-0C366438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CA441-A506-467A-9FDC-03C40C3E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DA95F5-9721-4A39-AD85-46F858D6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A31F2-1B17-479E-B930-A3D09A783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A57F-446A-43F0-A711-F41F71656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31561-372A-4FAC-8AF5-B319CDC5A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6E848-9581-4EB5-8F50-7D7D76D2B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82BC5-F9F3-4656-99D2-C45BC8ED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9369B-C56B-460A-B47D-06A496F8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BE420-7BAE-4C8F-ABF3-CA863FD1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2485D-FD92-4426-A44A-94ABD2AE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3D53C-E4DC-4762-993A-C2317429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1CD2E-E43E-42BF-AA9E-A9809352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9978A-E058-4A0E-A809-9A861587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EF60D-C89A-4D8A-87DB-75F7A69F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4A51-A460-4F6C-ABA4-EE3544995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91C3A-AE7B-40D7-A57B-B68E14DC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06808-360C-456C-BDFC-159502D20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699D5-D501-4DC4-B177-7712075B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AA1B74-9BCE-4034-959C-8C6962D73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1AE019-DEC4-4A2D-ABEE-E4AA0812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5D573E-D8B1-41B0-9BAB-3E1DCF64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D97550-F78B-4B95-9463-CF9861B1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680AA3-4550-426D-A562-2491C982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EBB3DC-01AD-4359-9AD9-A9DBB459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63492B-6A67-4CE4-A6F9-BC3997AB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20B1-6974-49E4-9DEC-23C24143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971786-3632-4912-910F-412BCB7C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41D0B-A143-4EBE-9049-EF9245EB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21AA9B-F5EA-4EC3-B4E1-D424752E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3A1DB7-048D-4413-A377-F2BA07AE3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01CD33-2BC4-44A5-8029-6F46F514C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06DB86-A828-4048-9657-E66793FB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8A93D9-228D-4BFE-9F28-6CEB8F7D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617066-48F2-4C42-B989-DEF92946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EAE9C7-3F0D-4F8D-9DFF-67366027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2063EE-85A5-4BA2-83E4-4231917C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0DF2-09B7-4382-9D9F-1F939562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F265BF-A280-4BE8-8CFD-8F053426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FEC274-36F5-4A22-BB20-5C5321AD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1C0A94-97E9-47DC-B458-12CE8B7D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4DA557-55F0-4BFB-9667-D9D51880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E6301A-79F4-4AE0-8F23-7E443448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A48737-8793-4308-A00B-792177123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61B17A-4222-43B8-BA99-FAF161AD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2D94C2-B0CA-480C-9054-D8D22E8B5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205EF4-C7CE-4CDF-895C-873389EF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BDB58C-4D82-444A-A6A1-548005B1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8755-6DF6-4AE4-B6D7-0FB12019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F80780-3C7A-4259-89D7-3FDF433E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2FE0A9-CC76-4E06-8AE0-E49BD169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C8F352-CD54-4C40-B0D3-B65356A0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1D3D0D-D471-4062-B152-177487B9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A26320-5A20-4A26-BEEA-B82CAD7B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67B618-71CD-4DD0-9B4C-9962F0D0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3D6327-E7E4-451E-A3C2-AF11461D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EA1A6E-B0EA-493B-8AAA-9382C8FD9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4FBE9D-EEAD-47A3-976E-7494EA494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7FBF-4765-496F-B34B-26FB46A1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7BF5-0287-4062-ADAF-8F2DF8B9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0727-12FF-4CB9-AC58-50C7084A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194D-D498-4613-8988-E8760A74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9F7E-C4F5-4F4F-9810-8E512080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00A0-AE04-4732-AE30-450F2304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9F13-3F07-454A-8114-CBC4018F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70D1-B172-4456-9DB3-4042CBDEC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14C2-AE59-4B10-8752-189820E0B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EC445-3640-4B8E-8667-CDF3B7585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27DC1-18FE-4DAE-87F4-CA88493B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FD2CB-0FAA-482D-9ED3-28C0BAF5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88C73-554B-4ACF-977B-058EEAD5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494F6-CD05-4B0A-ACB7-7B6EF8AB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9C56-56A3-41B9-9B74-82D29A47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1EC97-3DEC-4C0F-9891-9FBE2EBD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672E9-417D-4E00-BA6C-E4810FCF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5C3BF-D19A-49A7-9A9C-14D9B1F2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B9F22-0355-4F82-BB6F-7E53D78C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E16A0-0B79-4FD8-A05A-280926E3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0C817-067C-485F-92F8-15D15F4E2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78A0C-2B0E-43B4-8FF9-9CD21F9F2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3CFEB-5624-4091-99DC-55075254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24179-9B54-4BC1-9D96-3484183F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310F8-C988-495D-BFD3-02DC0CD3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8E75-6EB1-48A7-8335-F706AF84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866D2-1B83-41BE-B8B0-B03A29AB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C9938-B3C0-4C71-A430-D0A2434F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00C38-4731-465E-A6D3-727C9400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89C98-4257-423C-8E9F-44092F77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6123A-29E2-4F5D-9C69-DA70EEFE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F7B86-F3C8-4307-973D-8DC41C34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D69ED-EB1F-4AEE-A409-C07B62C6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8F63B-28ED-4FBE-903D-582B18741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CDD43-4C19-401D-B16A-C946782C0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204BA-C6C5-479C-B82E-B2CA7F8F9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B5D9-EF60-4F2C-AAA9-855DE3A3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FE8D9-1F9C-4195-BBF0-67157071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CDEE2-8EB5-4AEE-84AD-DE834836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B80FC-6F9F-4AA8-AC2C-3A7514F2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9C839-CD33-4B1E-9EA8-C2DBD046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DCC0A-4FE9-4E0E-9B3E-22E5ABCC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A96A7-1679-4C68-AC94-B38E216C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1DE02-BE1A-459B-9611-83A837D6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28B43-8C2B-4337-80BD-BFE756D7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86E18-5A36-4362-95CF-570CCAB5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D26A3-7FFB-4FF8-BCDB-6BF4A85F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708A-8518-41C9-B57C-59EBB50E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2BAAB-BC72-4FC1-80ED-B8AC8A9A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C0641-AE33-4E09-8833-86E49E4EA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642F9-375C-4B3C-AA35-2F358375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0F1CF-E811-4A03-A6A0-4F401B41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ED554-8DD7-4899-895F-FF87FA64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A02D5-093B-41A5-8598-55489657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36358-BE6D-4246-94B3-F9772F62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FCBAC-4EA2-4C35-84AA-A487024E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F4384-58EB-4C1F-936B-3E73C4FC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93CBC-6B3A-4F48-9817-2E14C504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412E-4B5E-4CFA-A36C-3BF2DCCA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6DC66-3998-4B69-A7D6-8286F8E1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1A7E6-D566-4271-8B34-C51E62C9B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08D7F-1F11-4937-8790-16FE6449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0D6C9-20DD-488D-9027-A7066A8F4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0D884-7410-4C77-8FD5-75430DA2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270E2-6E0D-40D2-9EF1-1B92C793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7CC32-89F1-4CFD-AE8C-FDB6FBEF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2E19D-1070-4373-AABE-7417BE3E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B1011-76F2-45CF-9D5D-0F4FD498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B6B52-F2F9-4039-8009-645F1F5D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3EA7-B24F-4CCD-A7B2-3B14F49C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F520C-E4CF-40F7-8F39-144CFD98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8199B-4C2A-4344-8227-A7BE419C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BE0A1-6778-46F3-8860-6CFFE5A4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D07CB-9E2E-4743-9CE4-CFC4DF251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AE0AC-B625-4C9B-A842-B69775906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9A029-F3E0-45BB-8E72-2A7E6FEBD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359F0-C87F-4420-A865-85949AC6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5D4B7-8026-4FCD-887D-EF60879E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73D1D-A15F-4D40-B9BF-CFA0AB50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F82A5-3DB0-4064-8E7E-76AEE5D4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E7E9-FD0A-4D56-A1EB-60256AC5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59BA9-B01C-41C3-86E7-69B651F7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CA16E-B473-40CF-A434-F6F548FC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E9EA0-6AF7-4BBF-83D5-23C2CE82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D0EB2-85CC-4CE5-BF82-B904806A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7487C-F9D7-46AF-85CD-FA7B5814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80686-9882-4757-859F-D87499E87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00938-96FF-43AE-97CF-84992C28A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A466D-6001-458C-82D4-9A1FB2238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197B0-D7DE-4AB6-A5CC-1F4C9190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5E5D8-B610-4E4F-8ED8-93C1D344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16EE-EF1B-4FA6-9634-56A4C4CAA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8662-4D44-4E0C-9BB4-4D4F87C65F0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3E9F-B93B-4E25-8449-34985526E4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E705-4051-4697-9C56-99C54578CFA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2308-BF79-4851-8956-7DC20D6A70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16B6-FCA4-4F47-8900-69C381F1D0F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3423-4F50-4B27-B818-F47FF3F5D6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B86A-A0E9-4BE3-98C8-3376F1E560C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C915-172C-4022-AEFD-E66F526388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3BF6-089D-4247-B759-BCCF12E2119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25B0-FF5E-4711-AFA2-48EEE8A2BC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2CE6-2767-4DE2-955E-60AC8DD13DA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BC0B-57CA-4AD2-BA74-2E3C80722B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3986-22DE-420E-9496-A89A17269C99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A219-8957-44B9-A261-0E90A37075B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C52F-12F0-49B7-B703-35EF362225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CFAC-68DA-409C-A768-6C1679AE76C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7748-622B-4F34-BFFB-13AF380D5E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DFF8-B98B-4D5D-A1A7-77C79BA0311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5DBB-3D15-4358-BA99-6A223C6B31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3E00-0DEA-460A-87AC-6F85968B4F1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8186-3F5C-421B-BD7C-F88D766531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A317-29B1-4F16-8AE4-35F85DBB4A0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05D2-3B3D-470D-A8DC-5535CAD416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5FBB-C0AD-4F28-8353-5ED89C36F5E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4FED-D0E7-4E1C-8494-0DB211F355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5"/>
          <p:cNvSpPr/>
          <p:nvPr/>
        </p:nvSpPr>
        <p:spPr>
          <a:xfrm>
            <a:off x="2133720" y="342900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ahoma"/>
                <a:ea typeface="华文新魏"/>
              </a:rPr>
              <a:t>第二节　离子反应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WordArt 12"/>
          <p:cNvSpPr txBox="1"/>
          <p:nvPr/>
        </p:nvSpPr>
        <p:spPr>
          <a:xfrm>
            <a:off x="1066680" y="1905120"/>
            <a:ext cx="7559640" cy="1079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第二章 化学物质及其变化</a:t>
            </a:r>
            <a:endParaRPr b="0" lang="en-US" sz="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ext Box 6"/>
          <p:cNvSpPr/>
          <p:nvPr/>
        </p:nvSpPr>
        <p:spPr>
          <a:xfrm>
            <a:off x="1955160" y="2362320"/>
            <a:ext cx="4422240" cy="520560"/>
          </a:xfrm>
          <a:prstGeom prst="rect">
            <a:avLst/>
          </a:prstGeom>
          <a:solidFill>
            <a:srgbClr val="c7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酸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电离时生成的阳离子全部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化合物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1876320" y="3048120"/>
            <a:ext cx="4560840" cy="520560"/>
          </a:xfrm>
          <a:prstGeom prst="rect">
            <a:avLst/>
          </a:prstGeom>
          <a:solidFill>
            <a:srgbClr val="c7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碱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电离时生成的阴离子全部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H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化合物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6"/>
          <p:cNvSpPr/>
          <p:nvPr/>
        </p:nvSpPr>
        <p:spPr>
          <a:xfrm>
            <a:off x="304920" y="3733920"/>
            <a:ext cx="7940520" cy="579600"/>
          </a:xfrm>
          <a:prstGeom prst="rect">
            <a:avLst/>
          </a:prstGeom>
          <a:solidFill>
            <a:srgbClr val="c7fff0"/>
          </a:solidFill>
          <a:ln w="1260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盐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电离时能生成金属阳离子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或者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和酸根阴离子 的化合物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Group 63"/>
          <p:cNvGrpSpPr/>
          <p:nvPr/>
        </p:nvGrpSpPr>
        <p:grpSpPr>
          <a:xfrm>
            <a:off x="380880" y="1219320"/>
            <a:ext cx="8763120" cy="1828800"/>
            <a:chOff x="380880" y="1219320"/>
            <a:chExt cx="8763120" cy="1828800"/>
          </a:xfrm>
        </p:grpSpPr>
        <p:sp>
          <p:nvSpPr>
            <p:cNvPr id="638" name="Text Box 4"/>
            <p:cNvSpPr/>
            <p:nvPr/>
          </p:nvSpPr>
          <p:spPr>
            <a:xfrm>
              <a:off x="380880" y="2133720"/>
              <a:ext cx="876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[</a:t>
              </a:r>
              <a:r>
                <a:rPr b="1" lang="zh-CN" sz="2000" spc="-1" strike="noStrike">
                  <a:solidFill>
                    <a:srgbClr val="333399"/>
                  </a:solidFill>
                  <a:latin typeface="Times New Roman"/>
                </a:rPr>
                <a:t>演示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] 100mL 0.1mol/L</a:t>
              </a:r>
              <a:r>
                <a:rPr b="1" lang="zh-CN" sz="2000" spc="-1" strike="noStrike">
                  <a:solidFill>
                    <a:srgbClr val="333399"/>
                  </a:solidFill>
                  <a:latin typeface="Times New Roman"/>
                </a:rPr>
                <a:t>的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CH</a:t>
              </a:r>
              <a:r>
                <a:rPr b="1" lang="en-US" sz="2000" spc="-1" strike="noStrike" baseline="-25000">
                  <a:solidFill>
                    <a:srgbClr val="333399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COOH </a:t>
              </a:r>
              <a:r>
                <a:rPr b="1" lang="zh-CN" sz="1800" spc="-1" strike="noStrike">
                  <a:solidFill>
                    <a:srgbClr val="333399"/>
                  </a:solidFill>
                  <a:latin typeface="Tahoma"/>
                </a:rPr>
                <a:t>、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NH</a:t>
              </a:r>
              <a:r>
                <a:rPr b="1" lang="en-US" sz="2000" spc="-1" strike="noStrike" baseline="-25000">
                  <a:solidFill>
                    <a:srgbClr val="333399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·H</a:t>
              </a:r>
              <a:r>
                <a:rPr b="1" lang="en-US" sz="20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O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zh-CN" sz="2000" spc="-1" strike="noStrike">
                  <a:solidFill>
                    <a:srgbClr val="333399"/>
                  </a:solidFill>
                  <a:latin typeface="Times New Roman"/>
                </a:rPr>
                <a:t>、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HCl</a:t>
              </a:r>
              <a:r>
                <a:rPr b="1" lang="zh-CN" sz="2000" spc="-1" strike="noStrike">
                  <a:solidFill>
                    <a:srgbClr val="333399"/>
                  </a:solidFill>
                  <a:latin typeface="Times New Roman"/>
                </a:rPr>
                <a:t>、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NaOH</a:t>
              </a:r>
              <a:r>
                <a:rPr b="1" lang="zh-CN" sz="2000" spc="-1" strike="noStrike">
                  <a:solidFill>
                    <a:srgbClr val="333399"/>
                  </a:solidFill>
                  <a:latin typeface="Times New Roman"/>
                </a:rPr>
                <a:t>、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NaCl</a:t>
              </a:r>
              <a:r>
                <a:rPr b="1" lang="zh-CN" sz="2000" spc="-1" strike="noStrike">
                  <a:solidFill>
                    <a:srgbClr val="333399"/>
                  </a:solidFill>
                  <a:latin typeface="Times New Roman"/>
                </a:rPr>
                <a:t>的导电性实验。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9" name="Rectangle 5"/>
            <p:cNvSpPr/>
            <p:nvPr/>
          </p:nvSpPr>
          <p:spPr>
            <a:xfrm>
              <a:off x="380880" y="2666880"/>
              <a:ext cx="8229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39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ahoma"/>
                </a:rPr>
                <a:t>[</a:t>
              </a:r>
              <a:r>
                <a:rPr b="1" lang="zh-CN" sz="2400" spc="-1" strike="noStrike">
                  <a:solidFill>
                    <a:srgbClr val="333399"/>
                  </a:solidFill>
                  <a:latin typeface="Tahoma"/>
                </a:rPr>
                <a:t>问</a:t>
              </a:r>
              <a:r>
                <a:rPr b="1" lang="en-US" sz="2400" spc="-1" strike="noStrike">
                  <a:solidFill>
                    <a:srgbClr val="333399"/>
                  </a:solidFill>
                  <a:latin typeface="Tahoma"/>
                </a:rPr>
                <a:t>]</a:t>
              </a:r>
              <a:r>
                <a:rPr b="1" lang="zh-CN" sz="2400" spc="-1" strike="noStrike">
                  <a:solidFill>
                    <a:srgbClr val="333399"/>
                  </a:solidFill>
                  <a:latin typeface="Tahoma"/>
                </a:rPr>
                <a:t>实验的现象是什么，导电性的强弱又与什么有关？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0" name="Rectangle 59"/>
            <p:cNvSpPr/>
            <p:nvPr/>
          </p:nvSpPr>
          <p:spPr>
            <a:xfrm>
              <a:off x="1371600" y="1219320"/>
              <a:ext cx="723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思考：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是否所有的电解质电离的情况都相同呢？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41" name="Text Box 60"/>
          <p:cNvSpPr/>
          <p:nvPr/>
        </p:nvSpPr>
        <p:spPr>
          <a:xfrm>
            <a:off x="411480" y="3429000"/>
            <a:ext cx="1400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实验现象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原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Text Box 61"/>
          <p:cNvSpPr/>
          <p:nvPr/>
        </p:nvSpPr>
        <p:spPr>
          <a:xfrm>
            <a:off x="1600200" y="4114800"/>
            <a:ext cx="7315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溶液的导电性强弱与自由移动离子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数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浓度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有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Text Box 62"/>
          <p:cNvSpPr/>
          <p:nvPr/>
        </p:nvSpPr>
        <p:spPr>
          <a:xfrm>
            <a:off x="609480" y="487692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结论：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不同电解质的电离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程度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不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 Box 4"/>
          <p:cNvSpPr/>
          <p:nvPr/>
        </p:nvSpPr>
        <p:spPr>
          <a:xfrm>
            <a:off x="1371600" y="9907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强电解质和弱电解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Text Box 6"/>
          <p:cNvSpPr/>
          <p:nvPr/>
        </p:nvSpPr>
        <p:spPr>
          <a:xfrm>
            <a:off x="762120" y="2057400"/>
            <a:ext cx="6705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强电解质：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在水溶液中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全部电离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成离子的电解质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如：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aCl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aOH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等。大多数的盐、强酸、强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685800" y="32767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弱电解质：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在水溶液中只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部分电离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成离子的电解质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如一水合氨、醋酸等。弱酸、弱碱和水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7" name="组合 6"/>
          <p:cNvGrpSpPr/>
          <p:nvPr/>
        </p:nvGrpSpPr>
        <p:grpSpPr>
          <a:xfrm>
            <a:off x="518040" y="4659480"/>
            <a:ext cx="7434000" cy="2086560"/>
            <a:chOff x="518040" y="4659480"/>
            <a:chExt cx="7434000" cy="2086560"/>
          </a:xfrm>
        </p:grpSpPr>
        <p:sp>
          <p:nvSpPr>
            <p:cNvPr id="648" name="Text Box 9"/>
            <p:cNvSpPr/>
            <p:nvPr/>
          </p:nvSpPr>
          <p:spPr>
            <a:xfrm>
              <a:off x="2083320" y="4659480"/>
              <a:ext cx="87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宋体"/>
                </a:rPr>
                <a:t>一些常见的弱电解质</a:t>
              </a:r>
              <a:r>
                <a:rPr b="1" lang="en-US" sz="3600" spc="-1" strike="noStrike">
                  <a:solidFill>
                    <a:srgbClr val="333399"/>
                  </a:solidFill>
                  <a:latin typeface="宋体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9" name="Text Box 11"/>
            <p:cNvSpPr/>
            <p:nvPr/>
          </p:nvSpPr>
          <p:spPr>
            <a:xfrm>
              <a:off x="518040" y="5289480"/>
              <a:ext cx="70138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宋体"/>
                </a:rPr>
                <a:t>例如</a:t>
              </a:r>
              <a:r>
                <a:rPr b="1" lang="en-US" sz="3600" spc="-1" strike="noStrike">
                  <a:solidFill>
                    <a:srgbClr val="ff0000"/>
                  </a:solidFill>
                  <a:latin typeface="宋体"/>
                </a:rPr>
                <a:t>:   H</a:t>
              </a:r>
              <a:r>
                <a:rPr b="1" lang="en-US" sz="3600" spc="-1" strike="noStrike" baseline="-25000">
                  <a:solidFill>
                    <a:srgbClr val="ff0000"/>
                  </a:solidFill>
                  <a:latin typeface="宋体"/>
                </a:rPr>
                <a:t>2</a:t>
              </a:r>
              <a:r>
                <a:rPr b="1" lang="en-US" sz="3600" spc="-1" strike="noStrike">
                  <a:solidFill>
                    <a:srgbClr val="ff0000"/>
                  </a:solidFill>
                  <a:latin typeface="宋体"/>
                </a:rPr>
                <a:t>S    CH</a:t>
              </a:r>
              <a:r>
                <a:rPr b="1" lang="en-US" sz="3600" spc="-1" strike="noStrike" baseline="-25000">
                  <a:solidFill>
                    <a:srgbClr val="ff0000"/>
                  </a:solidFill>
                  <a:latin typeface="宋体"/>
                </a:rPr>
                <a:t>3</a:t>
              </a:r>
              <a:r>
                <a:rPr b="1" lang="en-US" sz="3600" spc="-1" strike="noStrike">
                  <a:solidFill>
                    <a:srgbClr val="ff0000"/>
                  </a:solidFill>
                  <a:latin typeface="宋体"/>
                </a:rPr>
                <a:t>COOH    NH</a:t>
              </a:r>
              <a:r>
                <a:rPr b="1" lang="en-US" sz="3600" spc="-1" strike="noStrike" baseline="-25000">
                  <a:solidFill>
                    <a:srgbClr val="ff0000"/>
                  </a:solidFill>
                  <a:latin typeface="宋体"/>
                </a:rPr>
                <a:t>3</a:t>
              </a:r>
              <a:r>
                <a:rPr b="1" lang="en-US" sz="3600" spc="-1" strike="noStrike" baseline="30000">
                  <a:solidFill>
                    <a:srgbClr val="ff0000"/>
                  </a:solidFill>
                  <a:latin typeface="宋体"/>
                </a:rPr>
                <a:t>.</a:t>
              </a:r>
              <a:r>
                <a:rPr b="1" lang="en-US" sz="3600" spc="-1" strike="noStrike">
                  <a:solidFill>
                    <a:srgbClr val="ff0000"/>
                  </a:solidFill>
                  <a:latin typeface="宋体"/>
                </a:rPr>
                <a:t>H</a:t>
              </a:r>
              <a:r>
                <a:rPr b="1" lang="en-US" sz="3600" spc="-1" strike="noStrike" baseline="-25000">
                  <a:solidFill>
                    <a:srgbClr val="ff0000"/>
                  </a:solidFill>
                  <a:latin typeface="宋体"/>
                </a:rPr>
                <a:t>2</a:t>
              </a:r>
              <a:r>
                <a:rPr b="1" lang="en-US" sz="3600" spc="-1" strike="noStrike">
                  <a:solidFill>
                    <a:srgbClr val="ff0000"/>
                  </a:solidFill>
                  <a:latin typeface="宋体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Text Box 12"/>
            <p:cNvSpPr/>
            <p:nvPr/>
          </p:nvSpPr>
          <p:spPr>
            <a:xfrm>
              <a:off x="792000" y="6027840"/>
              <a:ext cx="71600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宋体"/>
                </a:rPr>
                <a:t>H</a:t>
              </a:r>
              <a:r>
                <a:rPr b="1" lang="en-US" sz="3600" spc="-1" strike="noStrike" baseline="-25000">
                  <a:solidFill>
                    <a:srgbClr val="ff0000"/>
                  </a:solidFill>
                  <a:latin typeface="宋体"/>
                </a:rPr>
                <a:t>2</a:t>
              </a:r>
              <a:r>
                <a:rPr b="1" lang="en-US" sz="3600" spc="-1" strike="noStrike">
                  <a:solidFill>
                    <a:srgbClr val="ff0000"/>
                  </a:solidFill>
                  <a:latin typeface="宋体"/>
                </a:rPr>
                <a:t>O    H</a:t>
              </a:r>
              <a:r>
                <a:rPr b="1" lang="en-US" sz="3600" spc="-1" strike="noStrike" baseline="-25000">
                  <a:solidFill>
                    <a:srgbClr val="ff0000"/>
                  </a:solidFill>
                  <a:latin typeface="宋体"/>
                </a:rPr>
                <a:t>2</a:t>
              </a:r>
              <a:r>
                <a:rPr b="1" lang="en-US" sz="3600" spc="-1" strike="noStrike">
                  <a:solidFill>
                    <a:srgbClr val="ff0000"/>
                  </a:solidFill>
                  <a:latin typeface="宋体"/>
                </a:rPr>
                <a:t>SO</a:t>
              </a:r>
              <a:r>
                <a:rPr b="1" lang="en-US" sz="3600" spc="-1" strike="noStrike" baseline="-25000">
                  <a:solidFill>
                    <a:srgbClr val="ff0000"/>
                  </a:solidFill>
                  <a:latin typeface="宋体"/>
                </a:rPr>
                <a:t>3</a:t>
              </a:r>
              <a:r>
                <a:rPr b="1" lang="en-US" sz="3600" spc="-1" strike="noStrike">
                  <a:solidFill>
                    <a:srgbClr val="ff0000"/>
                  </a:solidFill>
                  <a:latin typeface="宋体"/>
                </a:rPr>
                <a:t>    HClO    HF   H</a:t>
              </a:r>
              <a:r>
                <a:rPr b="1" lang="en-US" sz="3600" spc="-1" strike="noStrike" baseline="-25000">
                  <a:solidFill>
                    <a:srgbClr val="ff0000"/>
                  </a:solidFill>
                  <a:latin typeface="宋体"/>
                </a:rPr>
                <a:t>2</a:t>
              </a:r>
              <a:r>
                <a:rPr b="1" lang="en-US" sz="3600" spc="-1" strike="noStrike">
                  <a:solidFill>
                    <a:srgbClr val="ff0000"/>
                  </a:solidFill>
                  <a:latin typeface="宋体"/>
                </a:rPr>
                <a:t>CO</a:t>
              </a:r>
              <a:r>
                <a:rPr b="1" lang="en-US" sz="3600" spc="-1" strike="noStrike" baseline="-25000">
                  <a:solidFill>
                    <a:srgbClr val="ff0000"/>
                  </a:solidFill>
                  <a:latin typeface="宋体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4"/>
          <p:cNvSpPr/>
          <p:nvPr/>
        </p:nvSpPr>
        <p:spPr>
          <a:xfrm>
            <a:off x="1295280" y="1066680"/>
            <a:ext cx="3048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、电解质的电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Text Box 6"/>
          <p:cNvSpPr/>
          <p:nvPr/>
        </p:nvSpPr>
        <p:spPr>
          <a:xfrm>
            <a:off x="1219320" y="2971800"/>
            <a:ext cx="63244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aCl = Na</a:t>
            </a:r>
            <a:r>
              <a:rPr b="1" lang="en-US" sz="24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+ Cl</a:t>
            </a:r>
            <a:r>
              <a:rPr b="1" lang="en-US" sz="2400" spc="-1" strike="noStrike" baseline="30000">
                <a:solidFill>
                  <a:srgbClr val="333399"/>
                </a:solidFill>
                <a:latin typeface="Times New Roman"/>
              </a:rPr>
              <a:t>-        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aOH = Na</a:t>
            </a:r>
            <a:r>
              <a:rPr b="1" lang="en-US" sz="24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+ OH</a:t>
            </a:r>
            <a:r>
              <a:rPr b="1" lang="en-US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= 2H</a:t>
            </a:r>
            <a:r>
              <a:rPr b="1" lang="en-US" sz="24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+ SO</a:t>
            </a:r>
            <a:r>
              <a:rPr b="1" lang="en-US" sz="2400" spc="-1" strike="noStrike" baseline="-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333399"/>
                </a:solidFill>
                <a:latin typeface="Times New Roman"/>
              </a:rPr>
              <a:t>2-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HCl = H</a:t>
            </a:r>
            <a:r>
              <a:rPr b="1" lang="en-US" sz="24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+ Cl</a:t>
            </a:r>
            <a:r>
              <a:rPr b="1" lang="en-US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53" name="Group 24"/>
          <p:cNvGrpSpPr/>
          <p:nvPr/>
        </p:nvGrpSpPr>
        <p:grpSpPr>
          <a:xfrm>
            <a:off x="1066680" y="1905120"/>
            <a:ext cx="6172200" cy="1038600"/>
            <a:chOff x="1066680" y="1905120"/>
            <a:chExt cx="6172200" cy="1038600"/>
          </a:xfrm>
        </p:grpSpPr>
        <p:sp>
          <p:nvSpPr>
            <p:cNvPr id="654" name="Text Box 5"/>
            <p:cNvSpPr/>
            <p:nvPr/>
          </p:nvSpPr>
          <p:spPr>
            <a:xfrm>
              <a:off x="1066680" y="1905120"/>
              <a:ext cx="403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）强电解质：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Text Box 7"/>
            <p:cNvSpPr/>
            <p:nvPr/>
          </p:nvSpPr>
          <p:spPr>
            <a:xfrm>
              <a:off x="1219320" y="2362320"/>
              <a:ext cx="6019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强电解质完全电离，书写时用“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=”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号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56" name="Group 25"/>
          <p:cNvGrpSpPr/>
          <p:nvPr/>
        </p:nvGrpSpPr>
        <p:grpSpPr>
          <a:xfrm>
            <a:off x="1066680" y="4267080"/>
            <a:ext cx="7162560" cy="916920"/>
            <a:chOff x="1066680" y="4267080"/>
            <a:chExt cx="7162560" cy="916920"/>
          </a:xfrm>
        </p:grpSpPr>
        <p:sp>
          <p:nvSpPr>
            <p:cNvPr id="657" name="Text Box 8"/>
            <p:cNvSpPr/>
            <p:nvPr/>
          </p:nvSpPr>
          <p:spPr>
            <a:xfrm>
              <a:off x="1066680" y="4267080"/>
              <a:ext cx="32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）弱电解质：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8" name="Group 20"/>
            <p:cNvGrpSpPr/>
            <p:nvPr/>
          </p:nvGrpSpPr>
          <p:grpSpPr>
            <a:xfrm>
              <a:off x="1295280" y="4724280"/>
              <a:ext cx="6933960" cy="459720"/>
              <a:chOff x="1295280" y="4724280"/>
              <a:chExt cx="6933960" cy="459720"/>
            </a:xfrm>
          </p:grpSpPr>
          <p:sp>
            <p:nvSpPr>
              <p:cNvPr id="659" name="Text Box 18"/>
              <p:cNvSpPr/>
              <p:nvPr/>
            </p:nvSpPr>
            <p:spPr>
              <a:xfrm>
                <a:off x="1295280" y="472428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弱电解质部分电离，书时用“        ”号 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660" name="Picture 19" descr=""/>
              <p:cNvPicPr/>
              <p:nvPr/>
            </p:nvPicPr>
            <p:blipFill>
              <a:blip r:embed="rId1"/>
              <a:stretch/>
            </p:blipFill>
            <p:spPr>
              <a:xfrm>
                <a:off x="5333760" y="4724280"/>
                <a:ext cx="360360" cy="369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61" name="Group 26"/>
          <p:cNvGrpSpPr/>
          <p:nvPr/>
        </p:nvGrpSpPr>
        <p:grpSpPr>
          <a:xfrm>
            <a:off x="1447920" y="5257800"/>
            <a:ext cx="4800600" cy="1046160"/>
            <a:chOff x="1447920" y="5257800"/>
            <a:chExt cx="4800600" cy="1046160"/>
          </a:xfrm>
        </p:grpSpPr>
        <p:grpSp>
          <p:nvGrpSpPr>
            <p:cNvPr id="662" name="Group 21"/>
            <p:cNvGrpSpPr/>
            <p:nvPr/>
          </p:nvGrpSpPr>
          <p:grpSpPr>
            <a:xfrm>
              <a:off x="1600200" y="5638680"/>
              <a:ext cx="4648320" cy="665280"/>
              <a:chOff x="1600200" y="5638680"/>
              <a:chExt cx="4648320" cy="665280"/>
            </a:xfrm>
          </p:grpSpPr>
          <p:sp>
            <p:nvSpPr>
              <p:cNvPr id="663" name="Text Box 9"/>
              <p:cNvSpPr/>
              <p:nvPr/>
            </p:nvSpPr>
            <p:spPr>
              <a:xfrm>
                <a:off x="1600200" y="5715000"/>
                <a:ext cx="4648320" cy="5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</a:rPr>
                  <a:t>CH</a:t>
                </a:r>
                <a:r>
                  <a:rPr b="1" lang="en-US" sz="2400" spc="-1" strike="noStrike" baseline="-30000">
                    <a:solidFill>
                      <a:srgbClr val="333399"/>
                    </a:solidFill>
                    <a:latin typeface="Times New Roman"/>
                  </a:rPr>
                  <a:t>3</a:t>
                </a: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</a:rPr>
                  <a:t>COOH          CH</a:t>
                </a:r>
                <a:r>
                  <a:rPr b="1" lang="en-US" sz="2400" spc="-1" strike="noStrike" baseline="-30000">
                    <a:solidFill>
                      <a:srgbClr val="333399"/>
                    </a:solidFill>
                    <a:latin typeface="Times New Roman"/>
                  </a:rPr>
                  <a:t>3</a:t>
                </a: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</a:rPr>
                  <a:t>COO</a:t>
                </a:r>
                <a:r>
                  <a:rPr b="1" lang="en-US" sz="2400" spc="-1" strike="noStrike" baseline="30000">
                    <a:solidFill>
                      <a:srgbClr val="333399"/>
                    </a:solidFill>
                    <a:latin typeface="Times New Roman"/>
                  </a:rPr>
                  <a:t>-</a:t>
                </a: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</a:rPr>
                  <a:t> + H</a:t>
                </a:r>
                <a:r>
                  <a:rPr b="1" lang="en-US" sz="2400" spc="-1" strike="noStrike" baseline="30000">
                    <a:solidFill>
                      <a:srgbClr val="333399"/>
                    </a:solidFill>
                    <a:latin typeface="Times New Roman"/>
                  </a:rPr>
                  <a:t>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664" name="Picture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3200400" y="5638680"/>
                <a:ext cx="649440" cy="665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65" name="Text Box 22"/>
            <p:cNvSpPr/>
            <p:nvPr/>
          </p:nvSpPr>
          <p:spPr>
            <a:xfrm>
              <a:off x="1447920" y="5257800"/>
              <a:ext cx="3429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6" name=""/>
          <p:cNvGraphicFramePr/>
          <p:nvPr/>
        </p:nvGraphicFramePr>
        <p:xfrm>
          <a:off x="179280" y="1824120"/>
          <a:ext cx="8964720" cy="5033880"/>
        </p:xfrm>
        <a:graphic>
          <a:graphicData uri="http://schemas.openxmlformats.org/drawingml/2006/table">
            <a:tbl>
              <a:tblPr/>
              <a:tblGrid>
                <a:gridCol w="2808360"/>
                <a:gridCol w="3168720"/>
                <a:gridCol w="29876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  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强电解质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  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弱电解质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电离程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溶液中粒子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同浓度溶液</a:t>
                      </a:r>
                      <a:r>
                        <a:rPr b="1" lang="zh-CN" sz="32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导电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35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          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物质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类别实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7" name="Text Box 79"/>
          <p:cNvSpPr/>
          <p:nvPr/>
        </p:nvSpPr>
        <p:spPr>
          <a:xfrm>
            <a:off x="1523880" y="990720"/>
            <a:ext cx="3529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ahoma"/>
              </a:rPr>
              <a:t>比较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Rectangle 92"/>
          <p:cNvSpPr/>
          <p:nvPr/>
        </p:nvSpPr>
        <p:spPr>
          <a:xfrm>
            <a:off x="3429000" y="2438280"/>
            <a:ext cx="2438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完全电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Rectangle 94"/>
          <p:cNvSpPr/>
          <p:nvPr/>
        </p:nvSpPr>
        <p:spPr>
          <a:xfrm>
            <a:off x="6516720" y="2355840"/>
            <a:ext cx="2170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部分电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Rectangle 96"/>
          <p:cNvSpPr/>
          <p:nvPr/>
        </p:nvSpPr>
        <p:spPr>
          <a:xfrm>
            <a:off x="3780000" y="3108240"/>
            <a:ext cx="1249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离子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Rectangle 98"/>
          <p:cNvSpPr/>
          <p:nvPr/>
        </p:nvSpPr>
        <p:spPr>
          <a:xfrm>
            <a:off x="6342120" y="3108240"/>
            <a:ext cx="2801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分子，离子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Rectangle 100"/>
          <p:cNvSpPr/>
          <p:nvPr/>
        </p:nvSpPr>
        <p:spPr>
          <a:xfrm>
            <a:off x="4161240" y="379584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强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Rectangle 102"/>
          <p:cNvSpPr/>
          <p:nvPr/>
        </p:nvSpPr>
        <p:spPr>
          <a:xfrm>
            <a:off x="7191720" y="378936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弱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Rectangle 112"/>
          <p:cNvSpPr/>
          <p:nvPr/>
        </p:nvSpPr>
        <p:spPr>
          <a:xfrm>
            <a:off x="3022560" y="4452840"/>
            <a:ext cx="3133800" cy="236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大多数盐类，强酸，强碱，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如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KNO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宋体"/>
              </a:rPr>
              <a:t>3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 NaCl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KOH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Rectangle 115"/>
          <p:cNvSpPr/>
          <p:nvPr/>
        </p:nvSpPr>
        <p:spPr>
          <a:xfrm>
            <a:off x="6269040" y="4452840"/>
            <a:ext cx="27669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弱酸，弱碱，水，如醋酸，碳酸，氨水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 Box 4"/>
          <p:cNvSpPr/>
          <p:nvPr/>
        </p:nvSpPr>
        <p:spPr>
          <a:xfrm>
            <a:off x="1066680" y="190512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小结：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Text Box 2"/>
          <p:cNvSpPr/>
          <p:nvPr/>
        </p:nvSpPr>
        <p:spPr>
          <a:xfrm>
            <a:off x="1219320" y="30481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一、电解质和非电解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1219320" y="365760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二</a:t>
            </a: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、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强电解质和弱电解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Text Box 2"/>
          <p:cNvSpPr/>
          <p:nvPr/>
        </p:nvSpPr>
        <p:spPr>
          <a:xfrm>
            <a:off x="1219320" y="42670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三、电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3"/>
          <p:cNvSpPr/>
          <p:nvPr/>
        </p:nvSpPr>
        <p:spPr>
          <a:xfrm>
            <a:off x="685800" y="213372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作业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写出下列物质的电离方程式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730080" y="3657600"/>
            <a:ext cx="73785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H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宋体"/>
              </a:rPr>
              <a:t>2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SO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宋体"/>
              </a:rPr>
              <a:t>4 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   H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宋体"/>
              </a:rPr>
              <a:t>2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SO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宋体"/>
              </a:rPr>
              <a:t>3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    NH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宋体"/>
              </a:rPr>
              <a:t>3</a:t>
            </a:r>
            <a:r>
              <a:rPr b="1" lang="en-US" sz="4000" spc="-1" strike="noStrike" baseline="30000">
                <a:solidFill>
                  <a:srgbClr val="333399"/>
                </a:solidFill>
                <a:latin typeface="宋体"/>
              </a:rPr>
              <a:t>.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H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宋体"/>
              </a:rPr>
              <a:t>2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O    H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宋体"/>
              </a:rPr>
              <a:t>2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456840" y="4419720"/>
            <a:ext cx="7551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Ba(OH)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宋体"/>
              </a:rPr>
              <a:t>2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     NaHSO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宋体"/>
              </a:rPr>
              <a:t>4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   CH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宋体"/>
              </a:rPr>
              <a:t>3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COO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8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68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5"/>
          <p:cNvSpPr/>
          <p:nvPr/>
        </p:nvSpPr>
        <p:spPr>
          <a:xfrm>
            <a:off x="1692360" y="2060640"/>
            <a:ext cx="7070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、下面哪些物质能导电？为什么能导电 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盐酸、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aOH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溶液 、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aCl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固体、石墨、蔗糖、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KCl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溶液、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Text Box 6"/>
          <p:cNvSpPr/>
          <p:nvPr/>
        </p:nvSpPr>
        <p:spPr>
          <a:xfrm>
            <a:off x="1763640" y="3790800"/>
            <a:ext cx="63136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小结：（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）石墨、铜能导电，因为其中有自          由移动的电子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）盐酸、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aOH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溶液、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KCl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溶液能导电因为它们的溶液中有自由移动的离子存在</a:t>
            </a: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AutoShape 9"/>
          <p:cNvSpPr/>
          <p:nvPr/>
        </p:nvSpPr>
        <p:spPr>
          <a:xfrm>
            <a:off x="1600200" y="533520"/>
            <a:ext cx="1752480" cy="990360"/>
          </a:xfrm>
          <a:prstGeom prst="cloudCallout">
            <a:avLst>
              <a:gd name="adj1" fmla="val 132425"/>
              <a:gd name="adj2" fmla="val 58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回忆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2"/>
          <p:cNvSpPr/>
          <p:nvPr/>
        </p:nvSpPr>
        <p:spPr>
          <a:xfrm>
            <a:off x="1258920" y="105264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一、电解质和非电解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Text Box 3"/>
          <p:cNvSpPr/>
          <p:nvPr/>
        </p:nvSpPr>
        <p:spPr>
          <a:xfrm>
            <a:off x="762120" y="20574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电解质：在水溶液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或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熔融状态下能导电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化合物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如</a:t>
            </a:r>
            <a:r>
              <a:rPr b="1" lang="zh-CN" sz="2400" spc="-1" strike="noStrike">
                <a:solidFill>
                  <a:srgbClr val="777777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酸、碱、盐等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Text Box 4"/>
          <p:cNvSpPr/>
          <p:nvPr/>
        </p:nvSpPr>
        <p:spPr>
          <a:xfrm>
            <a:off x="762120" y="3124080"/>
            <a:ext cx="8381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非电解质：在水溶液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或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熔融状态下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都不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导电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化合物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如：蔗糖、酒精等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631800" y="4343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注意点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3"/>
          <p:cNvSpPr/>
          <p:nvPr/>
        </p:nvSpPr>
        <p:spPr>
          <a:xfrm>
            <a:off x="330120" y="2057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注意点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Rectangle 4"/>
          <p:cNvSpPr/>
          <p:nvPr/>
        </p:nvSpPr>
        <p:spPr>
          <a:xfrm>
            <a:off x="2367720" y="2743200"/>
            <a:ext cx="70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）电解质和非电解质都是化合物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Rectangle 5"/>
          <p:cNvSpPr/>
          <p:nvPr/>
        </p:nvSpPr>
        <p:spPr>
          <a:xfrm>
            <a:off x="3213000" y="3276720"/>
            <a:ext cx="108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）电解质应是一定条件下本身电离而导电的化合物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Rectangle 6"/>
          <p:cNvSpPr/>
          <p:nvPr/>
        </p:nvSpPr>
        <p:spPr>
          <a:xfrm>
            <a:off x="3307320" y="3809880"/>
            <a:ext cx="11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ahoma"/>
              </a:rPr>
              <a:t>（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1" lang="zh-CN" sz="2000" spc="-1" strike="noStrike">
                <a:solidFill>
                  <a:srgbClr val="333399"/>
                </a:solidFill>
                <a:latin typeface="Tahoma"/>
              </a:rPr>
              <a:t>）酸、碱、盐、水是电解质；蔗糖、酒精是非电解质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533520" y="4443480"/>
            <a:ext cx="8229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（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4</a:t>
            </a: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）</a:t>
            </a:r>
            <a:r>
              <a:rPr b="1" lang="zh-CN" sz="2000" spc="-1" strike="noStrike">
                <a:solidFill>
                  <a:srgbClr val="333399"/>
                </a:solidFill>
                <a:latin typeface="Tahoma"/>
              </a:rPr>
              <a:t>离子型氧化物（如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a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O</a:t>
            </a:r>
            <a:r>
              <a:rPr b="1" lang="zh-CN" sz="20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aO</a:t>
            </a:r>
            <a:r>
              <a:rPr b="1" lang="zh-CN" sz="2000" spc="-1" strike="noStrike">
                <a:solidFill>
                  <a:srgbClr val="333399"/>
                </a:solidFill>
                <a:latin typeface="Tahoma"/>
              </a:rPr>
              <a:t>等）虽然溶于水后并非自身电离，但熔融时却可电离，因此，也是电解质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2"/>
          <p:cNvSpPr/>
          <p:nvPr/>
        </p:nvSpPr>
        <p:spPr>
          <a:xfrm>
            <a:off x="533520" y="2209680"/>
            <a:ext cx="82296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下列物质哪些是电解质？哪些是非电解质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u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、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aCl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固体、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、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Na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O 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蔗糖、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aCl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溶液、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、酒精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、浓硫酸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Rectangle 2"/>
          <p:cNvSpPr/>
          <p:nvPr/>
        </p:nvSpPr>
        <p:spPr>
          <a:xfrm>
            <a:off x="1371600" y="762120"/>
            <a:ext cx="6248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练　　习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5"/>
          <p:cNvSpPr/>
          <p:nvPr/>
        </p:nvSpPr>
        <p:spPr>
          <a:xfrm>
            <a:off x="4648320" y="190512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Ｃ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Text Box 7"/>
          <p:cNvSpPr/>
          <p:nvPr/>
        </p:nvSpPr>
        <p:spPr>
          <a:xfrm>
            <a:off x="6400800" y="320040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Ｃ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9" name="Group 12"/>
          <p:cNvGrpSpPr/>
          <p:nvPr/>
        </p:nvGrpSpPr>
        <p:grpSpPr>
          <a:xfrm>
            <a:off x="609480" y="838080"/>
            <a:ext cx="7696440" cy="3162240"/>
            <a:chOff x="609480" y="838080"/>
            <a:chExt cx="7696440" cy="3162240"/>
          </a:xfrm>
        </p:grpSpPr>
        <p:sp>
          <p:nvSpPr>
            <p:cNvPr id="610" name="Rectangle 6"/>
            <p:cNvSpPr/>
            <p:nvPr/>
          </p:nvSpPr>
          <p:spPr>
            <a:xfrm>
              <a:off x="609480" y="3254760"/>
              <a:ext cx="769644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ahoma"/>
                </a:rPr>
                <a:t>2</a:t>
              </a:r>
              <a:r>
                <a:rPr b="1" lang="zh-CN" sz="2000" spc="-1" strike="noStrike">
                  <a:solidFill>
                    <a:srgbClr val="333399"/>
                  </a:solidFill>
                  <a:latin typeface="Tahoma"/>
                </a:rPr>
                <a:t>、下列物质的水溶液能导电，但属于非电解质是（    ）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ahoma"/>
                </a:rPr>
                <a:t>A</a:t>
              </a:r>
              <a:r>
                <a:rPr b="1" lang="zh-CN" sz="2000" spc="-1" strike="noStrike">
                  <a:solidFill>
                    <a:srgbClr val="333399"/>
                  </a:solidFill>
                  <a:latin typeface="Tahoma"/>
                </a:rPr>
                <a:t>、</a:t>
              </a:r>
              <a:r>
                <a:rPr b="1" lang="en-US" sz="2000" spc="-1" strike="noStrike">
                  <a:solidFill>
                    <a:srgbClr val="333399"/>
                  </a:solidFill>
                  <a:latin typeface="Tahoma"/>
                </a:rPr>
                <a:t>HClO        B</a:t>
              </a:r>
              <a:r>
                <a:rPr b="1" lang="zh-CN" sz="2000" spc="-1" strike="noStrike">
                  <a:solidFill>
                    <a:srgbClr val="333399"/>
                  </a:solidFill>
                  <a:latin typeface="Tahoma"/>
                </a:rPr>
                <a:t>、</a:t>
              </a:r>
              <a:r>
                <a:rPr b="1" lang="en-US" sz="2000" spc="-1" strike="noStrike">
                  <a:solidFill>
                    <a:srgbClr val="333399"/>
                  </a:solidFill>
                  <a:latin typeface="Tahoma"/>
                </a:rPr>
                <a:t>Cl</a:t>
              </a:r>
              <a:r>
                <a:rPr b="1" lang="en-US" sz="2000" spc="-1" strike="noStrike" baseline="-25000">
                  <a:solidFill>
                    <a:srgbClr val="333399"/>
                  </a:solidFill>
                  <a:latin typeface="Tahoma"/>
                </a:rPr>
                <a:t>2  </a:t>
              </a:r>
              <a:r>
                <a:rPr b="1" lang="en-US" sz="2000" spc="-1" strike="noStrike">
                  <a:solidFill>
                    <a:srgbClr val="333399"/>
                  </a:solidFill>
                  <a:latin typeface="Tahoma"/>
                </a:rPr>
                <a:t>         C</a:t>
              </a:r>
              <a:r>
                <a:rPr b="1" lang="zh-CN" sz="2000" spc="-1" strike="noStrike">
                  <a:solidFill>
                    <a:srgbClr val="333399"/>
                  </a:solidFill>
                  <a:latin typeface="Tahoma"/>
                </a:rPr>
                <a:t>、</a:t>
              </a:r>
              <a:r>
                <a:rPr b="1" lang="en-US" sz="2000" spc="-1" strike="noStrike">
                  <a:solidFill>
                    <a:srgbClr val="333399"/>
                  </a:solidFill>
                  <a:latin typeface="Tahoma"/>
                </a:rPr>
                <a:t>CO</a:t>
              </a:r>
              <a:r>
                <a:rPr b="1" lang="en-US" sz="2000" spc="-1" strike="noStrike" baseline="-25000">
                  <a:solidFill>
                    <a:srgbClr val="333399"/>
                  </a:solidFill>
                  <a:latin typeface="Tahoma"/>
                </a:rPr>
                <a:t>2</a:t>
              </a:r>
              <a:r>
                <a:rPr b="1" lang="en-US" sz="2000" spc="-1" strike="noStrike">
                  <a:solidFill>
                    <a:srgbClr val="333399"/>
                  </a:solidFill>
                  <a:latin typeface="Tahoma"/>
                </a:rPr>
                <a:t>      D</a:t>
              </a:r>
              <a:r>
                <a:rPr b="1" lang="zh-CN" sz="2000" spc="-1" strike="noStrike">
                  <a:solidFill>
                    <a:srgbClr val="333399"/>
                  </a:solidFill>
                  <a:latin typeface="Tahoma"/>
                </a:rPr>
                <a:t>、 </a:t>
              </a:r>
              <a:r>
                <a:rPr b="1" lang="en-US" sz="2000" spc="-1" strike="noStrike">
                  <a:solidFill>
                    <a:srgbClr val="333399"/>
                  </a:solidFill>
                  <a:latin typeface="Tahoma"/>
                </a:rPr>
                <a:t>NH</a:t>
              </a:r>
              <a:r>
                <a:rPr b="1" lang="en-US" sz="2000" spc="-1" strike="noStrike" baseline="-25000">
                  <a:solidFill>
                    <a:srgbClr val="333399"/>
                  </a:solidFill>
                  <a:latin typeface="Tahoma"/>
                </a:rPr>
                <a:t>4</a:t>
              </a:r>
              <a:r>
                <a:rPr b="1" lang="en-US" sz="2000" spc="-1" strike="noStrike">
                  <a:solidFill>
                    <a:srgbClr val="333399"/>
                  </a:solidFill>
                  <a:latin typeface="Tahoma"/>
                </a:rPr>
                <a:t>HCO</a:t>
              </a:r>
              <a:r>
                <a:rPr b="1" lang="en-US" sz="2000" spc="-1" strike="noStrike" baseline="-25000">
                  <a:solidFill>
                    <a:srgbClr val="333399"/>
                  </a:solidFill>
                  <a:latin typeface="Tahoma"/>
                </a:rPr>
                <a:t>3</a:t>
              </a:r>
              <a:r>
                <a:rPr b="1" lang="en-US" sz="2000" spc="-1" strike="noStrike">
                  <a:solidFill>
                    <a:srgbClr val="333399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11" name="Group 11"/>
            <p:cNvGrpSpPr/>
            <p:nvPr/>
          </p:nvGrpSpPr>
          <p:grpSpPr>
            <a:xfrm>
              <a:off x="1219320" y="838080"/>
              <a:ext cx="5739840" cy="2203560"/>
              <a:chOff x="1219320" y="838080"/>
              <a:chExt cx="5739840" cy="2203560"/>
            </a:xfrm>
          </p:grpSpPr>
          <p:sp>
            <p:nvSpPr>
              <p:cNvPr id="612" name="Rectangle 4"/>
              <p:cNvSpPr/>
              <p:nvPr/>
            </p:nvSpPr>
            <p:spPr>
              <a:xfrm>
                <a:off x="1329120" y="1991160"/>
                <a:ext cx="5630040" cy="105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ahoma"/>
                  </a:rPr>
                  <a:t>1</a:t>
                </a:r>
                <a:r>
                  <a:rPr b="1" lang="zh-CN" sz="2000" spc="-1" strike="noStrike">
                    <a:solidFill>
                      <a:srgbClr val="333399"/>
                    </a:solidFill>
                    <a:latin typeface="Tahoma"/>
                  </a:rPr>
                  <a:t>、下列物质中，属于电解质的是（    ）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333399"/>
                    </a:solidFill>
                    <a:latin typeface="Tahoma"/>
                  </a:rPr>
                  <a:t>①</a:t>
                </a:r>
                <a:r>
                  <a:rPr b="1" lang="zh-CN" sz="2000" spc="-1" strike="noStrike">
                    <a:solidFill>
                      <a:srgbClr val="333399"/>
                    </a:solidFill>
                    <a:latin typeface="Tahoma"/>
                  </a:rPr>
                  <a:t>熔融态铁  ②液氯  ③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Tahoma"/>
                  </a:rPr>
                  <a:t>NaSO</a:t>
                </a:r>
                <a:r>
                  <a:rPr b="1" lang="en-US" sz="2000" spc="-1" strike="noStrike" baseline="-25000">
                    <a:solidFill>
                      <a:srgbClr val="333399"/>
                    </a:solidFill>
                    <a:latin typeface="Tahoma"/>
                  </a:rPr>
                  <a:t>4</a:t>
                </a:r>
                <a:r>
                  <a:rPr b="1" lang="zh-CN" sz="2000" spc="-1" strike="noStrike">
                    <a:solidFill>
                      <a:srgbClr val="333399"/>
                    </a:solidFill>
                    <a:latin typeface="Tahoma"/>
                  </a:rPr>
                  <a:t> ④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Tahoma"/>
                  </a:rPr>
                  <a:t> H</a:t>
                </a:r>
                <a:r>
                  <a:rPr b="1" lang="en-US" sz="2000" spc="-1" strike="noStrike" baseline="-25000">
                    <a:solidFill>
                      <a:srgbClr val="333399"/>
                    </a:solidFill>
                    <a:latin typeface="Tahoma"/>
                  </a:rPr>
                  <a:t>2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Tahoma"/>
                  </a:rPr>
                  <a:t>O ⑤ SO</a:t>
                </a:r>
                <a:r>
                  <a:rPr b="1" lang="en-US" sz="2000" spc="-1" strike="noStrike" baseline="-25000">
                    <a:solidFill>
                      <a:srgbClr val="333399"/>
                    </a:solidFill>
                    <a:latin typeface="Tahoma"/>
                  </a:rPr>
                  <a:t>2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Tahoma"/>
                  </a:rPr>
                  <a:t> ⑥ NaCl</a:t>
                </a:r>
                <a:r>
                  <a:rPr b="1" lang="zh-CN" sz="2000" spc="-1" strike="noStrike">
                    <a:solidFill>
                      <a:srgbClr val="333399"/>
                    </a:solidFill>
                    <a:latin typeface="Tahoma"/>
                  </a:rPr>
                  <a:t>溶液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ahoma"/>
                  </a:rPr>
                  <a:t>A</a:t>
                </a:r>
                <a:r>
                  <a:rPr b="1" lang="zh-CN" sz="2000" spc="-1" strike="noStrike">
                    <a:solidFill>
                      <a:srgbClr val="333399"/>
                    </a:solidFill>
                    <a:latin typeface="Tahoma"/>
                  </a:rPr>
                  <a:t>、①②       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Tahoma"/>
                  </a:rPr>
                  <a:t>B</a:t>
                </a:r>
                <a:r>
                  <a:rPr b="1" lang="zh-CN" sz="2000" spc="-1" strike="noStrike">
                    <a:solidFill>
                      <a:srgbClr val="333399"/>
                    </a:solidFill>
                    <a:latin typeface="Tahoma"/>
                  </a:rPr>
                  <a:t>、②③④          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Tahoma"/>
                  </a:rPr>
                  <a:t>C</a:t>
                </a:r>
                <a:r>
                  <a:rPr b="1" lang="zh-CN" sz="2000" spc="-1" strike="noStrike">
                    <a:solidFill>
                      <a:srgbClr val="333399"/>
                    </a:solidFill>
                    <a:latin typeface="Tahoma"/>
                  </a:rPr>
                  <a:t>、③④         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Tahoma"/>
                  </a:rPr>
                  <a:t>D</a:t>
                </a:r>
                <a:r>
                  <a:rPr b="1" lang="zh-CN" sz="2000" spc="-1" strike="noStrike">
                    <a:solidFill>
                      <a:srgbClr val="333399"/>
                    </a:solidFill>
                    <a:latin typeface="Tahoma"/>
                  </a:rPr>
                  <a:t>、全部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13" name="Group 8"/>
              <p:cNvGrpSpPr/>
              <p:nvPr/>
            </p:nvGrpSpPr>
            <p:grpSpPr>
              <a:xfrm>
                <a:off x="1219320" y="838080"/>
                <a:ext cx="2585880" cy="893520"/>
                <a:chOff x="1219320" y="838080"/>
                <a:chExt cx="2585880" cy="893520"/>
              </a:xfrm>
            </p:grpSpPr>
            <p:pic>
              <p:nvPicPr>
                <p:cNvPr id="614" name="Picture 9" descr="fllayer_10b1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219320" y="838080"/>
                  <a:ext cx="2585880" cy="893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5" name="Rectangle 10"/>
                <p:cNvSpPr/>
                <p:nvPr/>
              </p:nvSpPr>
              <p:spPr>
                <a:xfrm>
                  <a:off x="2151720" y="1295280"/>
                  <a:ext cx="7322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0000"/>
                      </a:solidFill>
                      <a:latin typeface="宋体"/>
                    </a:rPr>
                    <a:t>随堂练习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 Box 2"/>
          <p:cNvSpPr/>
          <p:nvPr/>
        </p:nvSpPr>
        <p:spPr>
          <a:xfrm>
            <a:off x="1371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二、电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Text Box 3"/>
          <p:cNvSpPr/>
          <p:nvPr/>
        </p:nvSpPr>
        <p:spPr>
          <a:xfrm>
            <a:off x="0" y="44956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电离：电解质在溶于水或受热熔化时，离解成自由移动的离子的过程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Text Box 15"/>
          <p:cNvSpPr/>
          <p:nvPr/>
        </p:nvSpPr>
        <p:spPr>
          <a:xfrm>
            <a:off x="0" y="20574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为什么电解质在水溶液里或熔化状态下能够导电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9" name="组合 10"/>
          <p:cNvGrpSpPr/>
          <p:nvPr/>
        </p:nvGrpSpPr>
        <p:grpSpPr>
          <a:xfrm>
            <a:off x="533520" y="2971800"/>
            <a:ext cx="7308720" cy="1252080"/>
            <a:chOff x="533520" y="2971800"/>
            <a:chExt cx="7308720" cy="1252080"/>
          </a:xfrm>
        </p:grpSpPr>
        <p:sp>
          <p:nvSpPr>
            <p:cNvPr id="620" name="Text Box 16"/>
            <p:cNvSpPr/>
            <p:nvPr/>
          </p:nvSpPr>
          <p:spPr>
            <a:xfrm>
              <a:off x="914400" y="2971800"/>
              <a:ext cx="648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Tahoma"/>
                </a:rPr>
                <a:t>因为此时它们发生了</a:t>
              </a:r>
              <a:r>
                <a:rPr b="1" lang="zh-CN" sz="3600" spc="-1" strike="noStrike">
                  <a:solidFill>
                    <a:srgbClr val="ff0000"/>
                  </a:solidFill>
                  <a:latin typeface="Tahoma"/>
                </a:rPr>
                <a:t>电离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1" name="Text Box 17"/>
            <p:cNvSpPr/>
            <p:nvPr/>
          </p:nvSpPr>
          <p:spPr>
            <a:xfrm>
              <a:off x="533520" y="3581280"/>
              <a:ext cx="730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Tahoma"/>
                </a:rPr>
                <a:t>结果：产生了能够自由移动的离子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2" name="Text Box 18"/>
          <p:cNvSpPr/>
          <p:nvPr/>
        </p:nvSpPr>
        <p:spPr>
          <a:xfrm>
            <a:off x="971640" y="5918040"/>
            <a:ext cx="66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宋体"/>
              </a:rPr>
              <a:t>NaCl = Na</a:t>
            </a:r>
            <a:r>
              <a:rPr b="1" lang="en-US" sz="4800" spc="-1" strike="noStrike" baseline="30000">
                <a:solidFill>
                  <a:srgbClr val="ffffff"/>
                </a:solidFill>
                <a:latin typeface="宋体"/>
              </a:rPr>
              <a:t>+ </a:t>
            </a:r>
            <a:r>
              <a:rPr b="1" lang="en-US" sz="4800" spc="-1" strike="noStrike">
                <a:solidFill>
                  <a:srgbClr val="ffffff"/>
                </a:solidFill>
                <a:latin typeface="宋体"/>
              </a:rPr>
              <a:t>+ Cl</a:t>
            </a:r>
            <a:r>
              <a:rPr b="1" lang="en-US" sz="4800" spc="-1" strike="noStrike" baseline="30000">
                <a:solidFill>
                  <a:srgbClr val="ffffff"/>
                </a:solidFill>
                <a:latin typeface="宋体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Text Box 19"/>
          <p:cNvSpPr/>
          <p:nvPr/>
        </p:nvSpPr>
        <p:spPr>
          <a:xfrm>
            <a:off x="1752480" y="5791320"/>
            <a:ext cx="4191120" cy="642600"/>
          </a:xfrm>
          <a:prstGeom prst="rect">
            <a:avLst/>
          </a:prstGeom>
          <a:solidFill>
            <a:srgbClr val="c7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用电离方程式表示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3"/>
          <p:cNvSpPr/>
          <p:nvPr/>
        </p:nvSpPr>
        <p:spPr>
          <a:xfrm>
            <a:off x="380880" y="3657600"/>
            <a:ext cx="79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a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、必须遵守质量守恒和电荷守恒；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Text Box 4"/>
          <p:cNvSpPr/>
          <p:nvPr/>
        </p:nvSpPr>
        <p:spPr>
          <a:xfrm>
            <a:off x="457200" y="441972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b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、原子团不能拆开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Text Box 15"/>
          <p:cNvSpPr/>
          <p:nvPr/>
        </p:nvSpPr>
        <p:spPr>
          <a:xfrm>
            <a:off x="1143000" y="9907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电离方程式书写原则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Text Box 16"/>
          <p:cNvSpPr/>
          <p:nvPr/>
        </p:nvSpPr>
        <p:spPr>
          <a:xfrm>
            <a:off x="457200" y="2438280"/>
            <a:ext cx="7848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宋体"/>
              </a:rPr>
              <a:t>例如：</a:t>
            </a:r>
            <a:r>
              <a:rPr b="1" lang="en-US" sz="4800" spc="-1" strike="noStrike">
                <a:solidFill>
                  <a:srgbClr val="333399"/>
                </a:solidFill>
                <a:latin typeface="宋体"/>
              </a:rPr>
              <a:t>Na</a:t>
            </a:r>
            <a:r>
              <a:rPr b="1" lang="en-US" sz="4800" spc="-1" strike="noStrike" baseline="-25000">
                <a:solidFill>
                  <a:srgbClr val="333399"/>
                </a:solidFill>
                <a:latin typeface="宋体"/>
              </a:rPr>
              <a:t>2</a:t>
            </a:r>
            <a:r>
              <a:rPr b="1" lang="en-US" sz="4800" spc="-1" strike="noStrike">
                <a:solidFill>
                  <a:srgbClr val="333399"/>
                </a:solidFill>
                <a:latin typeface="宋体"/>
              </a:rPr>
              <a:t>SO</a:t>
            </a:r>
            <a:r>
              <a:rPr b="1" lang="en-US" sz="4800" spc="-1" strike="noStrike" baseline="-25000">
                <a:solidFill>
                  <a:srgbClr val="333399"/>
                </a:solidFill>
                <a:latin typeface="宋体"/>
              </a:rPr>
              <a:t>4</a:t>
            </a:r>
            <a:r>
              <a:rPr b="1" lang="en-US" sz="4800" spc="-1" strike="noStrike">
                <a:solidFill>
                  <a:srgbClr val="333399"/>
                </a:solidFill>
                <a:latin typeface="宋体"/>
              </a:rPr>
              <a:t> = 2Na</a:t>
            </a:r>
            <a:r>
              <a:rPr b="1" lang="en-US" sz="4800" spc="-1" strike="noStrike" baseline="30000">
                <a:solidFill>
                  <a:srgbClr val="333399"/>
                </a:solidFill>
                <a:latin typeface="宋体"/>
              </a:rPr>
              <a:t>+ </a:t>
            </a:r>
            <a:r>
              <a:rPr b="1" lang="en-US" sz="4800" spc="-1" strike="noStrike">
                <a:solidFill>
                  <a:srgbClr val="333399"/>
                </a:solidFill>
                <a:latin typeface="宋体"/>
              </a:rPr>
              <a:t>+ SO</a:t>
            </a:r>
            <a:r>
              <a:rPr b="1" lang="en-US" sz="4800" spc="-1" strike="noStrike" baseline="-25000">
                <a:solidFill>
                  <a:srgbClr val="333399"/>
                </a:solidFill>
                <a:latin typeface="宋体"/>
              </a:rPr>
              <a:t>4</a:t>
            </a:r>
            <a:r>
              <a:rPr b="1" lang="en-US" sz="4800" spc="-1" strike="noStrike" baseline="30000">
                <a:solidFill>
                  <a:srgbClr val="333399"/>
                </a:solidFill>
                <a:latin typeface="宋体"/>
              </a:rPr>
              <a:t>2-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3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17"/>
          <p:cNvSpPr/>
          <p:nvPr/>
        </p:nvSpPr>
        <p:spPr>
          <a:xfrm>
            <a:off x="762120" y="91440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练习：写出下列物质的电离方程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Text Box 18"/>
          <p:cNvSpPr/>
          <p:nvPr/>
        </p:nvSpPr>
        <p:spPr>
          <a:xfrm>
            <a:off x="0" y="2057400"/>
            <a:ext cx="1871640" cy="30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H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宋体"/>
              </a:rPr>
              <a:t>2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SO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宋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Ba(OH)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NaC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Text Box 19"/>
          <p:cNvSpPr/>
          <p:nvPr/>
        </p:nvSpPr>
        <p:spPr>
          <a:xfrm>
            <a:off x="4572000" y="2209680"/>
            <a:ext cx="18716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HC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KO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CuSO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宋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Text Box 20"/>
          <p:cNvSpPr/>
          <p:nvPr/>
        </p:nvSpPr>
        <p:spPr>
          <a:xfrm>
            <a:off x="1295280" y="2133720"/>
            <a:ext cx="453708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= 2H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宋体"/>
              </a:rPr>
              <a:t>+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+ SO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宋体"/>
              </a:rPr>
              <a:t>4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宋体"/>
              </a:rPr>
              <a:t>2-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= B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宋体"/>
              </a:rPr>
              <a:t>2+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+2OH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宋体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= N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宋体"/>
              </a:rPr>
              <a:t>+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+Cl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宋体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Text Box 21"/>
          <p:cNvSpPr/>
          <p:nvPr/>
        </p:nvSpPr>
        <p:spPr>
          <a:xfrm>
            <a:off x="5715000" y="2209680"/>
            <a:ext cx="306072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= H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宋体"/>
              </a:rPr>
              <a:t>+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+ Cl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宋体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= K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宋体"/>
              </a:rPr>
              <a:t>+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+OH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宋体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= Cu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宋体"/>
              </a:rPr>
              <a:t>2+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+SO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宋体"/>
              </a:rPr>
              <a:t>4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宋体"/>
              </a:rPr>
              <a:t>2-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Text Box 22"/>
          <p:cNvSpPr/>
          <p:nvPr/>
        </p:nvSpPr>
        <p:spPr>
          <a:xfrm>
            <a:off x="685800" y="464832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酸、碱、盐的定义？？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3-16T08:52:59Z</dcterms:modified>
  <cp:revision>1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