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4.jpeg" ContentType="image/jpeg"/>
  <Override PartName="/ppt/media/image13.jpeg" ContentType="image/jpeg"/>
  <Override PartName="/ppt/media/ding.wav" ContentType="audio/x-wav"/>
  <Override PartName="/ppt/media/image3.wmf" ContentType="image/x-wmf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590-3029-4CC1-A6F0-B7E94791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F84-10BB-46D2-945D-6BE258A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8A10B-8D6E-4015-94B0-275E9DFB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0987D-3782-4B08-91CA-8DFB2EC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DAF03-9904-4354-9D43-C2C7C49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8FC78-9FB3-4B29-8586-09B3F97C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E0BF4-D09E-4C96-BD6E-036074C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857CB-EF16-4270-9B3E-8D121C2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E7E3-DBF9-4D71-A636-BB8D2DB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4F69C-5AD3-4CDE-B8FD-2F34F146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1B282-97DE-4282-8D40-D95CBB11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22FD8-D7B0-432D-812B-B0C55891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FD5-834C-4CEB-BEFE-9E63605C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8C432-F877-482F-9529-40478EB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25008-01F1-4931-9C68-D428718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18A6-E660-4208-BCFB-479B533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4C02-AD28-4C6E-901C-C97959F7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36B49-C546-4FBE-BE0D-1A46C7A4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CEDE-C539-4F38-9EB1-73038D1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FE14-5747-41D4-9FD5-BC9927F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83D36-CF84-4C0C-876E-B15CB9C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54CD4-AEE2-474B-8188-960111AD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21251-2390-4B01-BE2A-72A8951E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603-E520-466E-AD14-D40647A9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BEE37-CBA5-4908-9549-5DB40ADA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3792E-A5AE-4AE4-AA5A-274DB977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53D56-A3BF-470F-9C19-3419D7C8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CE4A8-8ED5-4D33-BBEA-CBCFD17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AC85C-3C5B-4718-86D2-4AF3E060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0C8F9-7D80-4671-80B9-8337EB29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28FB-9F4D-45F3-815B-6CF5F9A4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86479-62B8-461E-9480-1F43119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668F0-3CA9-4A4C-BC2D-36AD9B8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3BDC5-633E-4A86-BC04-1447496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8189-FC49-4E72-A4F4-EC35AC8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2F40D-AFA9-4E83-A1C7-4B558521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D200-372E-4E90-82FE-70A5D8E8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67259-05C6-41C7-A3BB-BA19CA60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AF05-485E-4A97-8E66-9E11CE0F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DD08B-64D5-4968-87FD-28550D07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85FE0-B116-45B9-A7FE-AA0B3E05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367B6-F46A-466E-A44B-4889077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090DE-56F9-44BD-865F-080BE9A1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7D03B-397F-4052-86DE-5BD82B0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280F5-A256-466C-A534-8952F8A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4203-4AFE-4D48-81F2-27F21916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5A9AC-F1BA-42BC-82A6-4B901103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37EAF-15E4-46F7-911B-A05233A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3FB5A-CC8A-4F99-B353-E3071DF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27D23-B2BD-426C-AFD5-D67DA37B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F801E-7F96-4E73-A703-FC27967F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952A7-957F-4A1F-9F5D-F27D2879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09E82-2EF0-49E1-9D7D-83EAF6F1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B358D-A628-49A5-972C-A7EDC4D1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2C866-D846-4C29-8461-C06B8EB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46F17-C71E-4177-BDAF-9E9648C9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6D5C-C564-4647-BDB2-ECBDFA4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7D3D4-E630-455C-81BC-4DA53CC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10369-3D88-48B1-AA9D-329329E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31392-862A-402E-8A53-073AE0D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16869-ACDA-4221-AE6D-6F7EB8B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FC806-0F24-4EE3-8EB9-7D9B62FC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299FC-0D6F-4994-8665-4E4F07FF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79EDC-F81C-4FF9-BC22-4516683A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D1C9-7525-4570-9719-013C2CFA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B36-8E1C-4DD6-8CB4-CEB887FF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A8E4-B29D-401E-8556-B30CCB2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064-9B27-4A42-BA11-2512182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3E1-41E0-464E-B4A0-CB43128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4A1-7638-4B65-BCA9-1B39FFF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9B40-01DF-4F59-BF0E-87E6C8DA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3E9A-E285-495C-8903-56B8CBCF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FE7-DD41-4E5F-81FE-AAE18AFD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9784-DD0C-4FB7-A440-676EC032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64B6-7B86-4A37-8A44-E54A7A0E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1984-82F1-4244-98F0-B7DDC8C1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2010-47F5-462A-AC97-89A14C0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9FC8-1518-4405-96A9-958EB71F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B63B-A8D5-4B3D-8228-EFBCFFD1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A6B-4D57-4736-A8CF-1B66D71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3AB7-1E2C-4030-87A7-64D3EDE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9E2A-5890-46A5-A3CA-592D2F3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B56F-8520-4A91-B785-37E2536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A9F2-1B36-4023-8B46-372AD3F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3407-D1D7-4944-A055-52E25DF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A76A-A4DB-41BB-A6A7-5AAFC803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BF96-6CF5-4069-B120-552BC0D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99BB-D18A-4CD7-B7C3-1EBBA7E0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696B-BB48-4A83-B572-C48B315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A813-695F-4B32-ABE9-13E028B4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9FE-4DF9-440E-93E9-F55C0BA7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D96D-015E-4DEB-B249-C496C22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AF44-CB63-4E8F-B666-67D39551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6889-67B2-48E1-B1A0-47717FB4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76DE-9277-4486-8740-00490E7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1697-FFEE-4559-9705-24D379E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1081-2FF6-4CB3-BAF0-28E02B0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0187-B621-46F2-88CA-2F795F63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F579-F2C0-4CF9-A8F4-1BFDA0DE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E9F8-D169-40D2-9035-5677DF43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61634-B776-4279-B7F6-D47E6ED6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877-33C8-439C-A528-7E9630B2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B8B3-DF82-4B62-8A86-C3697BF4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56BF-A4D2-49CB-9253-5A8D61B8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0A73-BCA1-46B5-9E81-01A40292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F4D2-AADA-4645-B3EF-31ADCD4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35CB5-76EC-4DC8-BF72-89044584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6B75-35D4-4327-BAA4-0C49F475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21D2-76AC-4C39-A8BF-0C228DA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7DEA-9D0F-4B14-90EA-EA3A6B2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483B-9659-4CF1-A142-B88AD98B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A894-2F0B-4E9B-9770-A57A1F88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A42-91E4-4521-B50C-48572CA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0615-B250-48D3-B3FB-316C46AC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EEF1-5BDC-4E3F-9485-604AD302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6923-D53C-4E61-A833-AA6BA8AB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7DF3-FF75-47C6-B4CA-6843CBA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2039-D4E3-42E7-AFA6-F9B55F53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6109-4400-4462-9A45-7B5C48D0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904D-343A-409C-968F-08731F19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8DC9-29A7-4272-B53F-2E932CF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E1A32-EFAC-45E0-AE90-239D0D7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74E4-8BB2-4BD1-B641-1E90B4B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75E-17C3-41D8-AD3D-E1A7118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FBA33-0749-4971-8C9C-E90659D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1991-DF5C-4DB1-ACB2-F6630DAB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9AEB-05E3-4018-A0E8-9FE7B578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BE58-6312-4541-9F2E-41E22168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310D-8CA8-4D2C-8175-D675D61F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E7C64-60D6-4F09-829A-128FD432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2EFF-A481-4B30-8DC9-896686A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0056-29E6-4C61-A8FB-A47555B0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4FA7-C2AF-4075-BCB0-E76BFEC0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97D1-3B9F-429F-A53B-4F9015EA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81B-9EC6-4160-8D33-64FFCBE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7BD9-C0CF-494C-AC92-82B8DBF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7FC3-8445-4142-8D0E-789FF6F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5F540-1CD0-41A5-A8FB-2A3EFEE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5297-E8B3-4E00-B588-B3528122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566CE-9A23-452F-BFF8-8EC37A6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B642-BD49-48EA-9819-12DA3102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9B269-36DA-460F-8F62-DC4093C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B8130-785F-4CA8-9413-A56B5E9B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0425-39D0-4955-8C61-87C88937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9487-C2E3-485F-884B-DE8502CC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3CB-E4E6-4E8B-AFAC-EC5033E0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5087-E676-4F25-A69D-6AF72186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7CEA-DE49-41BC-9251-28F8E81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8EDAF-3703-4E1B-9F2C-9DF4EB6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0D498-C6BB-42A3-9160-2D0CD2E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8A06-D5E4-40C1-99A1-34C3D456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7827-F988-4F9A-BAF1-017693FA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ABCEB-6187-43AC-9517-804D8FE8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232F-E6A6-47F2-8E5B-A52DE23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1A256-5E82-4283-A331-9E38BA69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ECC33-910D-465C-8F6B-72AE91B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820C-3AD7-4E64-A82F-2FBF53C1E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D4C3-6FE7-4C6B-9CEE-992316047B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B5DB-B55C-4EFB-8674-7701D97D0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8A4-FD2B-4075-A27B-AB34F836D0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53D-A04A-4476-AA02-D4D6336D94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A631-2CA4-4CB0-B0C3-747FF2795C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5992-D3F1-4C0A-BC2D-4CAD1DE2DE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CD2B-B241-4E48-B689-CD508EE05E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5F2B-402E-4EA8-970B-268F4BEBF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29D-BF27-4694-8FDF-F53C0BD5A0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CB20-464A-4E1E-8D8F-5A9B5F804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BAA-826C-4FA3-8077-11E0FD9D07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5976-9069-45C4-B866-C1A2A14AA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FC8B-ACDD-4F6B-B3D8-2C41688D41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B61-85BC-4FAB-8C45-1308831C9B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3783-9054-4E9E-9442-FCA9573944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9174-9099-4442-91E9-2A83BEC2B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E86-4AF0-4AA0-AE03-CE4014DC59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531A-9244-4E9C-A9C6-ECDD48B687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9E4-744C-4A5E-B318-9B9E0A55B9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920D-DD1E-4051-8C03-5D9B808CB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33D4-4A6F-4141-BBF7-4330EB9376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152-536D-46D1-999C-7374D4710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7879-2315-43A7-BB3A-D254A3A589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E32E-AD3B-41ED-B1BA-A30F8FA0F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audio" Target="../media/ding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ING.WAV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MTLBONG.WAV" TargetMode="External"/><Relationship Id="rId3" Type="http://schemas.openxmlformats.org/officeDocument/2006/relationships/image" Target="../media/image3.wmf"/><Relationship Id="rId4" Type="http://schemas.openxmlformats.org/officeDocument/2006/relationships/audio" Target="../media/camera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28" descr="at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029"/>
          <p:cNvSpPr/>
          <p:nvPr/>
        </p:nvSpPr>
        <p:spPr>
          <a:xfrm>
            <a:off x="7596360" y="24922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30"/>
          <p:cNvSpPr/>
          <p:nvPr/>
        </p:nvSpPr>
        <p:spPr>
          <a:xfrm>
            <a:off x="2133720" y="765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19  </a:t>
            </a: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卖火柴的小女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031">
            <a:hlinkClick r:id="" action="ppaction://hlinkshowjump?jump=nextslide"/>
          </p:cNvPr>
          <p:cNvSpPr/>
          <p:nvPr/>
        </p:nvSpPr>
        <p:spPr>
          <a:xfrm>
            <a:off x="7451640" y="587700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34"/>
          <p:cNvSpPr/>
          <p:nvPr/>
        </p:nvSpPr>
        <p:spPr>
          <a:xfrm>
            <a:off x="4191120" y="1905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者：叶春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3" descr="ats003"/>
          <p:cNvPicPr/>
          <p:nvPr/>
        </p:nvPicPr>
        <p:blipFill>
          <a:blip r:embed="rId1"/>
          <a:stretch/>
        </p:blipFill>
        <p:spPr>
          <a:xfrm>
            <a:off x="30492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ats003"/>
          <p:cNvPicPr/>
          <p:nvPr/>
        </p:nvPicPr>
        <p:blipFill>
          <a:blip r:embed="rId2"/>
          <a:stretch/>
        </p:blipFill>
        <p:spPr>
          <a:xfrm>
            <a:off x="205740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ats003"/>
          <p:cNvPicPr/>
          <p:nvPr/>
        </p:nvPicPr>
        <p:blipFill>
          <a:blip r:embed="rId3"/>
          <a:stretch/>
        </p:blipFill>
        <p:spPr>
          <a:xfrm>
            <a:off x="388620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ats003"/>
          <p:cNvPicPr/>
          <p:nvPr/>
        </p:nvPicPr>
        <p:blipFill>
          <a:blip r:embed="rId4"/>
          <a:stretch/>
        </p:blipFill>
        <p:spPr>
          <a:xfrm>
            <a:off x="563868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ats003"/>
          <p:cNvPicPr/>
          <p:nvPr/>
        </p:nvPicPr>
        <p:blipFill>
          <a:blip r:embed="rId5"/>
          <a:stretch/>
        </p:blipFill>
        <p:spPr>
          <a:xfrm>
            <a:off x="7315200" y="0"/>
            <a:ext cx="1627200" cy="17524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8"/>
          <p:cNvSpPr/>
          <p:nvPr/>
        </p:nvSpPr>
        <p:spPr>
          <a:xfrm>
            <a:off x="457200" y="1828800"/>
            <a:ext cx="807732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她曾经多么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幸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跟着她奶奶一起走向新年的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幸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去。”对这句话中的两个“幸福”，你是怎样理解的？从这句话中，你体会到了些什么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9">
            <a:hlinkClick r:id="" action="ppaction://hlinkshowjump?jump=nextslide"/>
          </p:cNvPr>
          <p:cNvSpPr/>
          <p:nvPr/>
        </p:nvSpPr>
        <p:spPr>
          <a:xfrm>
            <a:off x="7956720" y="602136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609480" y="327672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（第一个“幸福”是说小女孩临死的时候是幸福的，她是在看到许多美丽的东西的幻觉中死去的；第二个“幸福”的意思是小女孩死了就幸福了，就没有寒冷，没有饥饿，没有痛苦了。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33520" y="4495680"/>
            <a:ext cx="754380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（体会到小女孩在这个世界上没有活路，只有死亡才能摆脱痛苦。体会到作者对小女孩的同情和对不合理的社会制度的不满。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3716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1547640" y="1341360"/>
            <a:ext cx="626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比较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谁也不知道她曾经看到过多么美丽的东西，她曾经多么幸福，跟着她奶奶一起走向新年的幸福中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谁也不知道她曾经多么痛苦，她是在除夕夜里被活活冻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ats005"/>
          <p:cNvPicPr/>
          <p:nvPr/>
        </p:nvPicPr>
        <p:blipFill>
          <a:blip r:embed="rId1"/>
          <a:stretch/>
        </p:blipFill>
        <p:spPr>
          <a:xfrm>
            <a:off x="1476360" y="18900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ats007"/>
          <p:cNvPicPr/>
          <p:nvPr/>
        </p:nvPicPr>
        <p:blipFill>
          <a:blip r:embed="rId2"/>
          <a:stretch/>
        </p:blipFill>
        <p:spPr>
          <a:xfrm>
            <a:off x="7935840" y="692280"/>
            <a:ext cx="1208160" cy="1752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ats007"/>
          <p:cNvPicPr/>
          <p:nvPr/>
        </p:nvPicPr>
        <p:blipFill>
          <a:blip r:embed="rId3"/>
          <a:stretch/>
        </p:blipFill>
        <p:spPr>
          <a:xfrm>
            <a:off x="7935840" y="2565360"/>
            <a:ext cx="1208160" cy="1752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ats007"/>
          <p:cNvPicPr/>
          <p:nvPr/>
        </p:nvPicPr>
        <p:blipFill>
          <a:blip r:embed="rId4"/>
          <a:stretch/>
        </p:blipFill>
        <p:spPr>
          <a:xfrm>
            <a:off x="7935840" y="4508640"/>
            <a:ext cx="1208160" cy="1752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1" descr="ats005"/>
          <p:cNvPicPr/>
          <p:nvPr/>
        </p:nvPicPr>
        <p:blipFill>
          <a:blip r:embed="rId5"/>
          <a:stretch/>
        </p:blipFill>
        <p:spPr>
          <a:xfrm>
            <a:off x="3419640" y="18900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ats005"/>
          <p:cNvPicPr/>
          <p:nvPr/>
        </p:nvPicPr>
        <p:blipFill>
          <a:blip r:embed="rId6"/>
          <a:stretch/>
        </p:blipFill>
        <p:spPr>
          <a:xfrm>
            <a:off x="5435640" y="18900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ats008"/>
          <p:cNvPicPr/>
          <p:nvPr/>
        </p:nvPicPr>
        <p:blipFill>
          <a:blip r:embed="rId7"/>
          <a:stretch/>
        </p:blipFill>
        <p:spPr>
          <a:xfrm>
            <a:off x="0" y="533520"/>
            <a:ext cx="130824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ats008"/>
          <p:cNvPicPr/>
          <p:nvPr/>
        </p:nvPicPr>
        <p:blipFill>
          <a:blip r:embed="rId8"/>
          <a:stretch/>
        </p:blipFill>
        <p:spPr>
          <a:xfrm>
            <a:off x="0" y="2438280"/>
            <a:ext cx="1308240" cy="1905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7" descr="ats008"/>
          <p:cNvPicPr/>
          <p:nvPr/>
        </p:nvPicPr>
        <p:blipFill>
          <a:blip r:embed="rId9"/>
          <a:stretch/>
        </p:blipFill>
        <p:spPr>
          <a:xfrm>
            <a:off x="0" y="4419720"/>
            <a:ext cx="1308240" cy="1904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8" descr="ats013"/>
          <p:cNvPicPr/>
          <p:nvPr/>
        </p:nvPicPr>
        <p:blipFill>
          <a:blip r:embed="rId10"/>
          <a:stretch/>
        </p:blipFill>
        <p:spPr>
          <a:xfrm>
            <a:off x="1600200" y="5410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0" descr="ats013"/>
          <p:cNvPicPr/>
          <p:nvPr/>
        </p:nvPicPr>
        <p:blipFill>
          <a:blip r:embed="rId11"/>
          <a:stretch/>
        </p:blipFill>
        <p:spPr>
          <a:xfrm>
            <a:off x="3780000" y="541008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1" descr="ats013"/>
          <p:cNvPicPr/>
          <p:nvPr/>
        </p:nvPicPr>
        <p:blipFill>
          <a:blip r:embed="rId12"/>
          <a:stretch/>
        </p:blipFill>
        <p:spPr>
          <a:xfrm>
            <a:off x="5796000" y="5410080"/>
            <a:ext cx="1905120" cy="14479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22">
            <a:hlinkClick r:id="" action="ppaction://hlinkshowjump?jump=nextslide"/>
          </p:cNvPr>
          <p:cNvSpPr/>
          <p:nvPr/>
        </p:nvSpPr>
        <p:spPr>
          <a:xfrm>
            <a:off x="8244000" y="624672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457200" y="23623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如卖火柴的小女孩来到我们中间，你会说些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ats004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5">
            <a:hlinkClick r:id="" action="ppaction://hlinkshowjump?jump=nextslide"/>
          </p:cNvPr>
          <p:cNvSpPr/>
          <p:nvPr/>
        </p:nvSpPr>
        <p:spPr>
          <a:xfrm>
            <a:off x="4211640" y="6021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295280" y="1371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609480" y="304920"/>
            <a:ext cx="815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5" descr="ats006"/>
          <p:cNvPicPr/>
          <p:nvPr/>
        </p:nvPicPr>
        <p:blipFill>
          <a:blip r:embed="rId1"/>
          <a:stretch/>
        </p:blipFill>
        <p:spPr>
          <a:xfrm>
            <a:off x="1066680" y="3616200"/>
            <a:ext cx="6705720" cy="30387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7">
            <a:hlinkClick r:id="" action="ppaction://hlinkshowjump?jump=nextslide"/>
          </p:cNvPr>
          <p:cNvSpPr/>
          <p:nvPr/>
        </p:nvSpPr>
        <p:spPr>
          <a:xfrm>
            <a:off x="8244000" y="624672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85800" y="30492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拓展练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读一读安徒生的其他童话。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阅读文学作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诘问生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关注世界，从各种媒收集资料，寻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纪“卖火柴的小女孩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>
            <a:hlinkClick r:id="rId1"/>
          </p:cNvPr>
          <p:cNvSpPr/>
          <p:nvPr/>
        </p:nvSpPr>
        <p:spPr>
          <a:xfrm>
            <a:off x="3886200" y="685800"/>
            <a:ext cx="510552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找出现实和幻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想想产生幻觉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抓住关键词句说说你读懂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有感情地读，进一步体会作者表达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ats005"/>
          <p:cNvPicPr/>
          <p:nvPr/>
        </p:nvPicPr>
        <p:blipFill>
          <a:blip r:embed="rId2"/>
          <a:stretch/>
        </p:blipFill>
        <p:spPr>
          <a:xfrm>
            <a:off x="457200" y="8380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7451640" y="587700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ats001"/>
          <p:cNvPicPr/>
          <p:nvPr/>
        </p:nvPicPr>
        <p:blipFill>
          <a:blip r:embed="rId1"/>
          <a:stretch/>
        </p:blipFill>
        <p:spPr>
          <a:xfrm>
            <a:off x="1066680" y="228600"/>
            <a:ext cx="7010640" cy="3200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784080" y="4640400"/>
            <a:ext cx="607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Object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505320"/>
            <a:ext cx="8534160" cy="2711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33526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烤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32767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饥饿，渴望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724280" y="441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圣诞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64832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孤独，渴望欢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6248520" y="4191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奶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61722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痛苦，渴望疼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7467480" y="4114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奶奶抱着她飞走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75438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不愿离开奶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5">
            <a:hlinkClick r:id="" action="ppaction://hlinkshowjump?jump=nextslide"/>
          </p:cNvPr>
          <p:cNvSpPr/>
          <p:nvPr/>
        </p:nvSpPr>
        <p:spPr>
          <a:xfrm>
            <a:off x="7885080" y="624672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300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时候，火柴灭了，她面前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只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堵又厚又冷的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ats011"/>
          <p:cNvPicPr/>
          <p:nvPr/>
        </p:nvPicPr>
        <p:blipFill>
          <a:blip r:embed="rId1"/>
          <a:stretch/>
        </p:blipFill>
        <p:spPr>
          <a:xfrm>
            <a:off x="1066680" y="3962520"/>
            <a:ext cx="3581640" cy="1766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ats011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1766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ats011"/>
          <p:cNvPicPr/>
          <p:nvPr/>
        </p:nvPicPr>
        <p:blipFill>
          <a:blip r:embed="rId3"/>
          <a:stretch/>
        </p:blipFill>
        <p:spPr>
          <a:xfrm>
            <a:off x="1066680" y="228600"/>
            <a:ext cx="3581640" cy="17668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ats011"/>
          <p:cNvPicPr/>
          <p:nvPr/>
        </p:nvPicPr>
        <p:blipFill>
          <a:blip r:embed="rId4"/>
          <a:stretch/>
        </p:blipFill>
        <p:spPr>
          <a:xfrm>
            <a:off x="4648320" y="228600"/>
            <a:ext cx="3581280" cy="176688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8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205740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唯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疼她的奶奶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活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时候告诉过她：一颗星星落下来，就有一个灵魂要到上帝那儿去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ats010"/>
          <p:cNvPicPr/>
          <p:nvPr/>
        </p:nvPicPr>
        <p:blipFill>
          <a:blip r:embed="rId1"/>
          <a:stretch/>
        </p:blipFill>
        <p:spPr>
          <a:xfrm>
            <a:off x="0" y="304920"/>
            <a:ext cx="4322880" cy="6248160"/>
          </a:xfrm>
          <a:prstGeom prst="rect">
            <a:avLst/>
          </a:prstGeom>
          <a:ln w="0">
            <a:noFill/>
          </a:ln>
        </p:spPr>
      </p:pic>
      <p:sp>
        <p:nvSpPr>
          <p:cNvPr id="565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380880" y="2362320"/>
            <a:ext cx="419112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请把我带走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她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赶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擦了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一大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柴，要把奶奶留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ats012"/>
          <p:cNvPicPr/>
          <p:nvPr/>
        </p:nvPicPr>
        <p:blipFill>
          <a:blip r:embed="rId1"/>
          <a:stretch/>
        </p:blipFill>
        <p:spPr>
          <a:xfrm>
            <a:off x="5105520" y="685800"/>
            <a:ext cx="3619440" cy="533412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5">
            <a:hlinkClick r:id="" action="ppaction://hlinkshowjump?jump=nextslide"/>
          </p:cNvPr>
          <p:cNvSpPr/>
          <p:nvPr/>
        </p:nvSpPr>
        <p:spPr>
          <a:xfrm>
            <a:off x="7885080" y="6021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1143000" y="12952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ats013"/>
          <p:cNvPicPr/>
          <p:nvPr/>
        </p:nvPicPr>
        <p:blipFill>
          <a:blip r:embed="rId1"/>
          <a:stretch/>
        </p:blipFill>
        <p:spPr>
          <a:xfrm>
            <a:off x="5029200" y="1066680"/>
            <a:ext cx="3844800" cy="51818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457200" y="15238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考：“飞到那没有寒冷，没有饥饿，也没有痛苦的地方去了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>
            <a:hlinkClick r:id="" action="ppaction://hlinkshowjump?jump=nextslide"/>
          </p:cNvPr>
          <p:cNvSpPr/>
          <p:nvPr/>
        </p:nvSpPr>
        <p:spPr>
          <a:xfrm>
            <a:off x="8101080" y="624672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990720" y="4191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685800" y="3657600"/>
            <a:ext cx="3124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（意思就是小女孩死了，离开了这个世界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609480" y="3808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她敢从成把的火柴里抽出一根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终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抽出了一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赶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擦着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大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火柴，要把奶奶留住。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3" descr="E:\课件\卖火柴的小女孩图片音乐.files\ats011.jpg"/>
          <p:cNvPicPr/>
          <p:nvPr/>
        </p:nvPicPr>
        <p:blipFill>
          <a:blip r:embed="rId1"/>
          <a:stretch/>
        </p:blipFill>
        <p:spPr>
          <a:xfrm>
            <a:off x="1143000" y="2362320"/>
            <a:ext cx="6858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657600" y="838080"/>
            <a:ext cx="5029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为什么可怜的小女孩会带着微笑死去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谁也不知道她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曾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到过多么美丽的东西，她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曾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么幸福，跟着她奶奶一起走向新年的幸福中去。这句话中的两个“曾经”表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4" descr="ats014"/>
          <p:cNvPicPr/>
          <p:nvPr/>
        </p:nvPicPr>
        <p:blipFill>
          <a:blip r:embed="rId1"/>
          <a:stretch/>
        </p:blipFill>
        <p:spPr>
          <a:xfrm>
            <a:off x="0" y="762120"/>
            <a:ext cx="3449520" cy="5029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>
            <a:hlinkClick r:id="" action="ppaction://hlinkshowjump?jump=nextslide"/>
          </p:cNvPr>
          <p:cNvSpPr/>
          <p:nvPr/>
        </p:nvSpPr>
        <p:spPr>
          <a:xfrm>
            <a:off x="7956720" y="602136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4038480" y="4191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09880" y="38862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两个“曾经”表明小女孩是怀着多么美好的愿望死去的。而这样美好的愿望又是谁也不知道的。说明谁也不关心她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1:49:36Z</dcterms:created>
  <dc:creator>Home</dc:creator>
  <dc:description/>
  <dc:language>en-US</dc:language>
  <cp:lastModifiedBy>a</cp:lastModifiedBy>
  <dcterms:modified xsi:type="dcterms:W3CDTF">2015-02-10T02:24:08Z</dcterms:modified>
  <cp:revision>68</cp:revision>
  <dc:subject/>
  <dc:title>PowerPoint 演示文稿</dc:title>
</cp:coreProperties>
</file>