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9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1EF-46F6-45A3-9EDC-1EB57C77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A90-7CE4-436E-8CD4-CEDF9382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E615F-7033-4CFD-B64B-B2B44BC6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7FA7-D081-4814-A77E-0A098D4B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5E9F0-D6A3-4960-B6C5-36A0136A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3F099-46BF-42F5-9D0A-BC1B3945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8A05B-7D2D-4F68-9D73-B3A758D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73813-C8DF-469F-B120-2ACB1EF8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2FED-A662-4EB6-A36A-9F58A226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4A37C-1F27-4D98-827B-072A7379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2ACB-2517-42E7-8509-1A1482DA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CAC24-0E3D-479F-A1AB-1FEF262B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29D-51AB-403E-B985-E0880116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29F9F-74E2-48EE-8478-59C63474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E8DA8-8590-49E1-AAA3-EA3732E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E28AA-79B1-4EF6-8DED-AD47201B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EEC8D-0320-430F-9767-B0CF42E5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E44AD-5E8C-41C9-B494-75EBF1D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C6A9E-5032-4D37-B9EF-49956C6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7F6AA-75A9-48E6-8682-9BA62A4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502FB-9465-4255-8924-226EC9F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3A5EF-0A5E-4EFF-8B31-7993BE76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5CF90-F20E-41C1-82BD-94A1689F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FD6-593B-48F1-AB1E-4FAA1D5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D2D86-8195-4837-8CBD-21E4519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096E9-90B8-4E3A-8AEB-21AB70D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9916-214D-424C-BBEB-B93EE0D9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0BC9A-7243-4E96-8A8B-BFF5605D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3A93-7B2B-487B-944B-732D1F7C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DA4B8-044F-4B4C-A99A-E6037EDC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8220-9262-4F39-A80C-9373093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5E075-98F3-41AC-8835-62D4A2A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6CFC-42EB-4FA3-A0E2-38A5FD4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94658-4B95-4733-BCAF-6F37BD2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6C8-A2D3-423E-9D43-BF710B01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E1CE7-DDFB-4D43-8A86-92B8BE3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76C32-2034-4622-B73F-C023383F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A66A1-E1EF-4E3D-B699-1157DC10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81817-A325-4564-81E3-B3490E3B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85ED3-ABA3-4330-8A91-699571B4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055E6-8D8A-4465-8849-C95A521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1A119-273D-4718-BCC1-117EE8E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7BA8A-E2C2-44C8-8EEB-267F4A6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24386-AF6D-4323-825F-06B0BF95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A1276-A6D9-4832-BFF1-3C671E2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1D7D-1FF2-4CB7-A7DE-F175313B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16BB3-27EE-457E-8CE3-83B332A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6F44B-4D4B-4347-9587-6264F14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0F58-3742-4524-8057-FAB99EBB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760B3-08A1-4D7B-8457-6F66AD38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A8EA7-4ED4-445E-8577-9AE47747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C8A03-0279-4615-BB50-59364007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D2996-1EF8-41B8-B3B4-16618EB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51998-D1FC-422D-A948-64FCA48D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D7E71-D047-4AB8-AE64-7A578CF7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4EFDD-BAB3-4704-B59E-2A300A3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3689-2F67-4877-B606-13DCD4FA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2998D-1D90-4E3D-9833-9A68EE0A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0F2A8-D51E-49C9-9C71-6F6C254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4E413-BAB9-4452-AC2A-1356C10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0A74D-FC6F-4EF7-A6BB-EB92B1FA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4F8C2-D914-47A2-BDB1-25DFF3C1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60A2B-43DA-46CB-916B-6C33B963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36FEA-5DEF-4C03-BAC0-3DA9B6E2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7617F-65F6-4EAB-8284-74412C05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11718-DD1E-4A09-BC78-C937059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A7D5B-E8BA-4A1A-9CBA-10CBF65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0332-F96F-4616-9E4D-1178F9D5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AC464-6619-47E2-B747-5317D85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64E84-FA80-45DC-8ADE-E7721C8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B9A33-5EFE-4641-A07C-6F43EA2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B12DB-6FA2-4566-B182-6CCD5B2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965C6-9E1E-4EDC-9EF0-9C31BBC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601BB-AE3C-46C0-AAB0-C8D3587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AE8B0-A2FE-4B03-A2E3-9E0E3237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18CAC-3542-4ADD-B73C-AD390991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4C184-D6B7-4B2A-B68A-2B83DD4F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A4FCC-65E7-43E1-B83D-CFC39F22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E7C4-C23E-4E1F-827C-76BC669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F4758-8567-4DE9-B554-C6C4167B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1DF8B-620E-45EB-B0DB-CD71621F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C5D08-E9C7-427A-A001-0655970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98A30-47AC-4B74-AD07-D825045B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FD975-475F-40ED-BE0F-C506CF1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196D-3E52-43C5-A5BF-36C82D1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20BD7-F7F5-4061-9DD6-12E7631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B1C71F-6570-47D4-A72F-47DDDA41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758F2-559C-45F5-BD0F-DD50928D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F582E-7F29-4769-9779-4FA3F2C7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5394-3243-43C3-A4D8-C1652CDE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1C4D9-C686-4B9F-8271-5BC23216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AD1-167D-48C5-9509-214FEB5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6AB-9890-43FB-9DFE-D657C631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EBDE-2224-4349-94B3-F93BFDB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6C09-D7D4-4DCC-B697-119D727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44B7-53E9-4A9C-B71A-DB413F80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94E-05AA-48CC-8DD4-E7959B7F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0FB7-1D66-4396-AB07-6C2EFCD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51ED-66AA-4481-A301-2D56C483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17C5-16FB-4A64-9279-EFA72FE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9980-6FFE-49B0-AAFE-51D86BF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4025-2883-42EA-B1B2-A5E11FE5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DE33-AD26-4988-A8AD-75C2645C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E92-2D92-42D3-8888-3720050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A1CC-81B3-4873-B545-BB689EDD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83C6-27F7-4583-BFCB-84D497E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6B4B-C8CD-4586-911E-8946D89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9A8D-88A2-4413-A03A-E49BFBB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0F2C-2460-4586-A3C5-486EE5A7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A124-AC7B-480F-9FC7-CD38F43B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E147-6A69-4AF2-8205-8DB4A386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3E33-AEF5-4D14-9D82-16F7D4E2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944E9-CCE8-4391-93E3-638ACEC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EF9D-3BE6-493F-868B-FA672B7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A40-8365-4C38-BB89-7447BAB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9422-78E8-4C6B-AF97-083707C4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CBC9-CC4A-4ACE-BBC3-8BBA9F6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C8BD-0CC6-476F-901B-28A2A97E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75780-3B0D-498C-87D6-829562A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CB6C-C7DE-4017-B4E6-AFE077E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FC18-C1AC-47F1-AD60-EBE08CB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5645-A178-4F25-B527-9D7A886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AC29-4DD8-4DA2-9B62-6E9756D9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4F79-DC0C-4645-AF27-F832EB34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AA33-9C6B-4DA6-9ED9-7FD6DBA3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8A6-F2A0-4566-9551-06DEB827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4CB5-3D27-4B41-9818-B0BF3623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E6EF-DE57-4E93-9962-2901E3E2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2212-576C-4FE8-AFF6-46721FEF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CDE5-C20B-4874-BF4E-9802D63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638C-03CF-4EBC-8589-8520DFB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7B73-338F-46BB-8A82-D7D04907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88B0D-1138-42CE-94F7-53A7FC6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E4E9-EF5B-4230-9C85-988DFE7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787C-C14B-4887-8023-DD72534B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2C85-F580-42A2-85EB-8965ABBF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F9E-F817-4DD6-99F9-D25B171A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BA37-5CEC-4351-A21B-5A465FF0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ABC6D-E080-4E26-8F83-ECDEB333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1362-6716-422C-B476-4104070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B2C3-83D8-40EF-9DA6-54E721C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34F1-503C-4292-84F4-523CD841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EC0DF-CE50-4C9B-B753-CA63B2D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A520C-988C-41FF-B606-D2B95D0B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8253D-8D32-4D2B-994E-8DCEF11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8BDC-84DF-4E90-9657-4011D10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2DAB-8B8A-4CC8-B849-0817AAB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8B0-778D-4C28-9C84-F5D7D0D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3329-FC6F-4E0C-965D-D563DE7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5C97-3B38-4BA6-8731-14B0B7A5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03FA-7AEB-4402-A144-D41EDF46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2450-DAE7-4616-B4BA-9F81035B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92FF-932C-437B-BB19-F66D8B92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23135-5DE7-41F3-BD49-28FA0303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0AA3-1B06-4012-9289-36605435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49D9-3A90-4884-94CB-F0759D6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E88D-0654-46BE-AB91-5C20DAAF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6A24C-349D-4E8C-8764-927090E4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EC7-DFEA-4E35-8CF4-598DC8E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7693-9A80-4553-ABA8-23E6FCE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1DC4-AE44-4582-9F4B-0ED2739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031AF-0670-4F84-90A5-3D09FBEF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FB19A-84B4-4767-ABE0-EAA3914F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1D15-9CA4-4553-805F-7A7B5A70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2367D-947E-4D5B-A314-AA44EEC0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2478E-21D9-4505-A360-9263418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AFE6D-FA8A-4CF8-BBBB-EEF278B5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6996-B86E-41BB-936A-CB60C137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71938-7A41-4CAC-B6F1-4774D668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74C-6C01-4763-BBE8-81D941A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F0AF-EC11-4777-B9F9-1D3D8529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E445-4145-4B78-B84B-F3835F5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E8A2-BBCF-4D34-BAEF-928C548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8EA3B-8B2E-43C8-BA72-D55A8CE9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A972-B062-435C-8402-FE8AEE7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553AE-7107-4CA7-9CCF-6BB1EC53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E350-8A32-41D3-A1A2-95989ACA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D90DB-7D0B-4EC5-B5BD-FD0EFBB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8BE4-F85E-46FF-8B64-B0F6AAF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CBF80-7045-4CE7-8AC1-2B7DF6EB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AC5D-5D3B-4F83-ACA1-7CA68ACDE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8F3C-899E-4559-894A-70C8F18ECA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146C-1957-4747-B97A-D5BFB2ABD0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74E-370C-4FC1-A507-C145E52F93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D07A-8CA9-41BB-B93E-603591A2E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BA33-06E5-4EFC-852C-5E96FE5B7F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A9B9-691A-4588-A9C9-50637B149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594-81F8-4901-A741-80F7FEA22D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AA6F-A422-4E86-987E-18C009FB39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292-A4DE-4914-B06D-43B0641621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16C6-4D27-4AF3-AE2A-814F5D52D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994D-FDB9-44E7-9FFD-79CF364CCB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065-35DA-4B48-AB03-B05E4486BA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67C9-079C-417A-9669-97F9AB7BD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7426-B4DB-4A5B-B5BE-08BA3A9B6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4521-2829-4FD6-9C9C-A22D65E75C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7B3-BF19-4831-A5BC-5DC0938E45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F0B-4C15-4A3C-98C3-A40E0A41A0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8C7-63BF-4386-9C3E-C83F4C1E80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A1A-3F6E-45A5-9081-B9A86A4B0C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AC3-A90B-49D4-98E8-0FAA79B138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C56C-8845-4C73-B7C4-8DD6CF42F4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60D1-97EC-4795-813C-F18BCD128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A597-C863-4F9F-941A-16AF5FD61B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6292-CB3A-4296-B306-803BE20947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77A-26B0-4A51-B276-BC5F0E6DB4E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A43-0D25-405B-8A49-896A5F26CE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2"/>
          <p:cNvSpPr txBox="1"/>
          <p:nvPr/>
        </p:nvSpPr>
        <p:spPr>
          <a:xfrm>
            <a:off x="1835280" y="2349360"/>
            <a:ext cx="5486400" cy="13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棉花姑娘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16" name="Picture 3" descr="棉花宝宝"/>
          <p:cNvPicPr/>
          <p:nvPr/>
        </p:nvPicPr>
        <p:blipFill>
          <a:blip r:embed="rId2"/>
          <a:stretch/>
        </p:blipFill>
        <p:spPr>
          <a:xfrm>
            <a:off x="7093080" y="443700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617" name="矩形 6"/>
          <p:cNvSpPr/>
          <p:nvPr/>
        </p:nvSpPr>
        <p:spPr>
          <a:xfrm>
            <a:off x="1332000" y="17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aq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304920" y="376200"/>
            <a:ext cx="9020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不久，棉花姑娘的病好了，长出了碧绿碧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叶子，吐出了雪白雪白的棉花。她咧开嘴笑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"/>
          <p:cNvSpPr/>
          <p:nvPr/>
        </p:nvSpPr>
        <p:spPr>
          <a:xfrm>
            <a:off x="6553080" y="990720"/>
            <a:ext cx="152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tu 1002 copy"/>
          <p:cNvPicPr/>
          <p:nvPr/>
        </p:nvPicPr>
        <p:blipFill>
          <a:blip r:embed="rId2"/>
          <a:stretch/>
        </p:blipFill>
        <p:spPr>
          <a:xfrm>
            <a:off x="304920" y="380880"/>
            <a:ext cx="1828800" cy="13701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"/>
          <p:cNvSpPr/>
          <p:nvPr/>
        </p:nvSpPr>
        <p:spPr>
          <a:xfrm>
            <a:off x="1284480" y="2971800"/>
            <a:ext cx="35272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碧绿碧绿的叶子    碧绿碧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雪白雪白的棉花    雪白雪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"/>
          <p:cNvSpPr/>
          <p:nvPr/>
        </p:nvSpPr>
        <p:spPr>
          <a:xfrm>
            <a:off x="5791320" y="3429000"/>
            <a:ext cx="16761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"/>
          <p:cNvSpPr/>
          <p:nvPr/>
        </p:nvSpPr>
        <p:spPr>
          <a:xfrm>
            <a:off x="5791320" y="4572000"/>
            <a:ext cx="16761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A3_028"/>
          <p:cNvPicPr/>
          <p:nvPr/>
        </p:nvPicPr>
        <p:blipFill>
          <a:blip r:embed="rId2"/>
          <a:stretch/>
        </p:blipFill>
        <p:spPr>
          <a:xfrm>
            <a:off x="2362320" y="1447920"/>
            <a:ext cx="807840" cy="9903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A3_075"/>
          <p:cNvPicPr/>
          <p:nvPr/>
        </p:nvPicPr>
        <p:blipFill>
          <a:blip r:embed="rId3"/>
          <a:stretch/>
        </p:blipFill>
        <p:spPr>
          <a:xfrm>
            <a:off x="4724280" y="1295280"/>
            <a:ext cx="1981440" cy="1638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A2_178"/>
          <p:cNvPicPr/>
          <p:nvPr/>
        </p:nvPicPr>
        <p:blipFill>
          <a:blip r:embed="rId4"/>
          <a:stretch/>
        </p:blipFill>
        <p:spPr>
          <a:xfrm>
            <a:off x="5410080" y="4038480"/>
            <a:ext cx="1622520" cy="1646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壁虎"/>
          <p:cNvPicPr/>
          <p:nvPr/>
        </p:nvPicPr>
        <p:blipFill>
          <a:blip r:embed="rId5"/>
          <a:stretch/>
        </p:blipFill>
        <p:spPr>
          <a:xfrm>
            <a:off x="1905120" y="3429000"/>
            <a:ext cx="1714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2"/>
          <p:cNvSpPr txBox="1"/>
          <p:nvPr/>
        </p:nvSpPr>
        <p:spPr>
          <a:xfrm>
            <a:off x="971640" y="2781360"/>
            <a:ext cx="73152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朋友们，你们还知道哪些益虫呢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6" name="Picture 3" descr="图片1"/>
          <p:cNvPicPr/>
          <p:nvPr/>
        </p:nvPicPr>
        <p:blipFill>
          <a:blip r:embed="rId2"/>
          <a:stretch/>
        </p:blipFill>
        <p:spPr>
          <a:xfrm>
            <a:off x="1187280" y="476280"/>
            <a:ext cx="1333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思考　"/>
          <p:cNvPicPr/>
          <p:nvPr/>
        </p:nvPicPr>
        <p:blipFill>
          <a:blip r:embed="rId2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3"/>
          <p:cNvSpPr/>
          <p:nvPr/>
        </p:nvSpPr>
        <p:spPr>
          <a:xfrm>
            <a:off x="2438280" y="0"/>
            <a:ext cx="335304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900000" y="259092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姑  娘  蚜  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  啄  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900000" y="190512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400" spc="-1" strike="noStrike">
                <a:solidFill>
                  <a:srgbClr val="006600"/>
                </a:solidFill>
                <a:latin typeface="zypyyb"/>
                <a:ea typeface="zypyyb"/>
              </a:rPr>
              <a:t>g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ū   nián</a:t>
            </a:r>
            <a:r>
              <a:rPr b="1" lang="en-US" sz="4400" spc="-1" strike="noStrike">
                <a:solidFill>
                  <a:srgbClr val="006600"/>
                </a:solidFill>
                <a:latin typeface="zypyyb"/>
                <a:ea typeface="zypyyb"/>
              </a:rPr>
              <a:t>g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    yá     p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746280" y="3886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zhì    zhuó    b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11"/>
          <p:cNvPicPr/>
          <p:nvPr/>
        </p:nvPicPr>
        <p:blipFill>
          <a:blip r:embed="rId2"/>
          <a:stretch/>
        </p:blipFill>
        <p:spPr>
          <a:xfrm>
            <a:off x="3276720" y="333360"/>
            <a:ext cx="2447640" cy="23734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11"/>
          <p:cNvPicPr/>
          <p:nvPr/>
        </p:nvPicPr>
        <p:blipFill>
          <a:blip r:embed="rId3"/>
          <a:stretch/>
        </p:blipFill>
        <p:spPr>
          <a:xfrm>
            <a:off x="6300720" y="333360"/>
            <a:ext cx="2448000" cy="23734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11"/>
          <p:cNvPicPr/>
          <p:nvPr/>
        </p:nvPicPr>
        <p:blipFill>
          <a:blip r:embed="rId4"/>
          <a:stretch/>
        </p:blipFill>
        <p:spPr>
          <a:xfrm>
            <a:off x="287280" y="3887640"/>
            <a:ext cx="2448000" cy="2373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11"/>
          <p:cNvPicPr/>
          <p:nvPr/>
        </p:nvPicPr>
        <p:blipFill>
          <a:blip r:embed="rId5"/>
          <a:stretch/>
        </p:blipFill>
        <p:spPr>
          <a:xfrm>
            <a:off x="3348000" y="3933720"/>
            <a:ext cx="2448000" cy="2373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11"/>
          <p:cNvPicPr/>
          <p:nvPr/>
        </p:nvPicPr>
        <p:blipFill>
          <a:blip r:embed="rId6"/>
          <a:stretch/>
        </p:blipFill>
        <p:spPr>
          <a:xfrm>
            <a:off x="6372360" y="3933720"/>
            <a:ext cx="2447640" cy="237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11"/>
          <p:cNvPicPr/>
          <p:nvPr/>
        </p:nvPicPr>
        <p:blipFill>
          <a:blip r:embed="rId7"/>
          <a:stretch/>
        </p:blipFill>
        <p:spPr>
          <a:xfrm>
            <a:off x="216000" y="287280"/>
            <a:ext cx="2448000" cy="23734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8"/>
          <p:cNvSpPr/>
          <p:nvPr/>
        </p:nvSpPr>
        <p:spPr>
          <a:xfrm>
            <a:off x="790560" y="1131840"/>
            <a:ext cx="183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姑娘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3780000" y="1131840"/>
            <a:ext cx="194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蚜虫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6661080" y="1104840"/>
            <a:ext cx="172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盼望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1"/>
          <p:cNvSpPr/>
          <p:nvPr/>
        </p:nvSpPr>
        <p:spPr>
          <a:xfrm>
            <a:off x="792000" y="4686480"/>
            <a:ext cx="183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斑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3781440" y="4705200"/>
            <a:ext cx="172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治病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6573960" y="4702320"/>
            <a:ext cx="2570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啄木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907920"/>
            <a:ext cx="5025960" cy="5112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380880" y="1924200"/>
            <a:ext cx="404676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棉花姑娘生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了，叶子上有许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可恶的蚜虫。她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么盼望有医生来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她治病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609480" y="3657600"/>
            <a:ext cx="15264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990720" y="3657600"/>
            <a:ext cx="15228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92360" y="3573360"/>
            <a:ext cx="152640" cy="152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7"/>
          <p:cNvSpPr/>
          <p:nvPr/>
        </p:nvSpPr>
        <p:spPr>
          <a:xfrm>
            <a:off x="609480" y="4191120"/>
            <a:ext cx="15264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青蛙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49600"/>
            <a:ext cx="9144000" cy="51084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2463840" y="241200"/>
            <a:ext cx="47055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青蛙跳来了。棉花姑娘高兴地说：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请你帮我捉害虫吧！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青蛙说：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对不起，我只会捉田里的害虫，你还是请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帮忙吧！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燕子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81280"/>
            <a:ext cx="9144000" cy="50767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228600" y="399960"/>
            <a:ext cx="891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啄木鸟飞来了。棉花姑娘说：“请你帮我捉害虫吧！”啄木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说：“对不起，我只会捉树干里的害虫，你还是请别人帮忙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33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3"/>
          <p:cNvSpPr/>
          <p:nvPr/>
        </p:nvSpPr>
        <p:spPr>
          <a:xfrm>
            <a:off x="380880" y="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燕子飞来了。棉花姑娘说：“请你帮我捉害虫吧！”燕子说：“对不起，我只会捉空中飞的害虫，你还是请别人帮忙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qingwa"/>
          <p:cNvPicPr/>
          <p:nvPr/>
        </p:nvPicPr>
        <p:blipFill>
          <a:blip r:embed="rId2"/>
          <a:stretch/>
        </p:blipFill>
        <p:spPr>
          <a:xfrm>
            <a:off x="6265800" y="4005360"/>
            <a:ext cx="2843280" cy="2852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2" name="Picture 3" descr="zhuomuniao"/>
          <p:cNvPicPr/>
          <p:nvPr/>
        </p:nvPicPr>
        <p:blipFill>
          <a:blip r:embed="rId3"/>
          <a:stretch/>
        </p:blipFill>
        <p:spPr>
          <a:xfrm>
            <a:off x="3132000" y="4006800"/>
            <a:ext cx="2808360" cy="28512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3" name="Picture 4" descr="yanzi"/>
          <p:cNvPicPr/>
          <p:nvPr/>
        </p:nvPicPr>
        <p:blipFill>
          <a:blip r:embed="rId4"/>
          <a:stretch/>
        </p:blipFill>
        <p:spPr>
          <a:xfrm>
            <a:off x="0" y="4005360"/>
            <a:ext cx="2843280" cy="2852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4" name="Picture 5" descr="思考"/>
          <p:cNvPicPr/>
          <p:nvPr/>
        </p:nvPicPr>
        <p:blipFill>
          <a:blip r:embed="rId5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6"/>
          <p:cNvSpPr/>
          <p:nvPr/>
        </p:nvSpPr>
        <p:spPr>
          <a:xfrm>
            <a:off x="3348000" y="1425240"/>
            <a:ext cx="36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　　燕子、啄木鸟和青蛙为什么眼睁睁地看着棉花姑娘生病，不帮忙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在小组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分角色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读一读它们的对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7" descr="Snap1"/>
          <p:cNvPicPr/>
          <p:nvPr/>
        </p:nvPicPr>
        <p:blipFill>
          <a:blip r:embed="rId6"/>
          <a:stretch/>
        </p:blipFill>
        <p:spPr>
          <a:xfrm>
            <a:off x="0" y="0"/>
            <a:ext cx="2843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2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4815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58" name="Text Box 3"/>
          <p:cNvSpPr/>
          <p:nvPr/>
        </p:nvSpPr>
        <p:spPr>
          <a:xfrm>
            <a:off x="1949760" y="5018040"/>
            <a:ext cx="55252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忽然，一群圆圆的小虫飞来了，很快就把蚜虫吃光了。棉花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娘惊奇地问：“你们是谁呀？”小虫说：“我们身上有七个斑点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像七颗星星，大家都叫我们七星瓢虫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4"/>
          <p:cNvSpPr/>
          <p:nvPr/>
        </p:nvSpPr>
        <p:spPr>
          <a:xfrm>
            <a:off x="5105520" y="5486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6"/>
          <p:cNvSpPr/>
          <p:nvPr/>
        </p:nvSpPr>
        <p:spPr>
          <a:xfrm>
            <a:off x="457200" y="5867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7"/>
          <p:cNvSpPr/>
          <p:nvPr/>
        </p:nvSpPr>
        <p:spPr>
          <a:xfrm>
            <a:off x="762120" y="5867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3:59:00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00:12Z</dcterms:modified>
  <cp:revision>4</cp:revision>
  <dc:subject/>
  <dc:title>第一PPT模板网-WWW.1PPT.COM</dc:title>
</cp:coreProperties>
</file>