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ABB-8F61-4FB9-AAA7-A1C8E334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2E3-6174-4DB2-9E4C-3641A250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6EA47-FBD3-474C-889D-95E7B728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37467-A41C-49F1-B95B-B6D8D1BB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18A73-82C9-406C-99F8-8B6380D2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D15EA-30FB-40B8-B2E4-46D7540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6E5ED-B156-45A8-B19B-E8BC64AB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36F96-B820-478B-9D2A-CC8A9EA4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6B7B1-1E8B-4AAB-9054-3B7EF555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8BFFA-62EC-4C18-8CBA-6DD225F4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32E29-7528-45FE-A74B-1DBDAD65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502FB-8A62-400E-A4D3-C573B70C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239-ABA0-4932-8AB5-A244883A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BE9C5-092A-4D91-A6AC-F2A4257D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7227F-6E08-4E17-9143-C114D58C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9495A-F6CD-4F03-99C2-5DEC89A7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9BC96-A642-4E26-AE12-36B06964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785D-5904-43A0-B261-F7EF6E35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91DDB-51C2-4D17-93A9-E8E4B8E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7D1D5-2036-44AF-83FB-8690667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2E7AD-5FB9-45C8-B24B-E4E66CBE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3986D-BC3D-4E5F-9F6B-8A6CC942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89EDA-0725-42DB-9B2C-B930AB71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383-6461-49B3-B486-568C5CD7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1233A-AF41-4F11-9FDA-5320FAAF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538B6-390F-4E99-9D21-3A2FEC76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78B28-B3C5-4D77-BB76-539AD297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1689B-25B9-42FC-9CCD-A82EBB55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63188-03CA-4052-8D1A-B10E6A8F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911EC-B5B8-47E8-925F-493CD770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0B8FD-ECD9-4149-97F8-4C3E2CE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C2F27-9CEF-4FA9-B106-EB685C16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DFDB7-FE38-4572-A2D7-C4681B6D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761F7-D5EE-4A65-92E7-4409120B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68B2-550C-4387-AC7C-98F35B1E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3CA67-62AF-47B6-A66E-18D4DE8B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ABDBE-20DE-4BCB-9289-098DF048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86429-6741-4C2B-9E17-95F484FA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02E3E-2278-4E4E-B0B5-2F5C90CF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65920-0FF8-4D61-AC89-B21CC2E3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64E73-6668-433D-B4DF-D8B00A4A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56F9A-8B62-4708-B323-0F3FFF35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FD0F6-829F-4C05-903B-1B53A275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653EA-E339-48BA-AADE-657B49C7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2FA79-338B-4418-A086-5578D79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A10C-0D06-4353-9CB0-B2A34518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86355-8FE8-480F-925C-D2768965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78E70-B353-4AF6-BCF6-883FB1D4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287EB-20A0-4CB8-A815-F6E4DC3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9ED56-512F-43D2-8AE4-33C532A1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D19F5-3B08-4738-BB58-EA78FED0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07A05-3487-4E83-81E6-FE495E03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22011-6DF1-4C32-A86B-9E4D92F9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AD960-E82B-419A-BF1E-EFB8382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9CF0C-E6AB-4276-89B2-E4C0DA3E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AD758-AE04-4A64-8149-1DDD5105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64FE-DE68-4258-B1BC-1DC91128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B3F1F-9B91-43B0-A0B4-B152FCF4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57125-D9B6-4C08-8C46-304C46D0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14FC2-8F78-450D-805D-572A928E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55598-01AA-4AC2-B1F0-071C3850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04AB8-63BF-4C35-B42D-4DA2DF52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8F84E-C288-492E-B794-1C7C4600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4B5EB-C1CD-49FF-9187-884045CD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B784-B3B6-4B4B-BEDE-51D7A899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0385-99B1-43A1-A1DC-838B5CD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682F-9250-47C8-BDA5-9F57C745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8219-1843-420C-91A4-773DB331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A3A2-759E-4605-8FF3-F59C83F0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71F2-5175-4C67-8967-18579602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EDE-3174-4BB6-B7D8-5A2340CF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F569-F4D1-4CC9-88AB-A274237F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BEA7-9DCB-46A4-A47B-91559DD8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9635-5609-45B2-A709-6D3C3E2C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E8B6-5128-48E7-ABF9-328A8746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AE31-0327-48AD-8C93-CE0762E7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EF09-3AC8-4A32-A994-6D17F2CB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DBB9-5979-4442-9846-53452FE2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DBC9-8579-42DB-A7B1-37446D10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15C-7152-4F1D-B516-50B9D48C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29321-48A2-4E6D-9CA7-C5E99CA2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0443-DF1E-491E-9C07-D7FED207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22E2-82B3-4C93-9780-3C0F5159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E575-5A03-4013-883A-5F406BCD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05B9-0CBA-4506-B382-E7239F60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0E14D-C041-427D-9298-0293E539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426E-89E5-4286-A94D-071F7555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481E-9F3B-43BA-ABB3-AF1542EE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BBF3-9F91-42D9-9AFA-41FB3D67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BC99-1888-4657-BBC0-8817E026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F75-AA84-4C11-AC01-28C5EFA1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9E73E-78A3-4A6C-B18A-2FDCD9FE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285C-772A-4E7B-8F12-268DC84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98980-5672-48E7-94FF-82AE90BE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FA39-DDA4-47F6-9716-112DC44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5E4E-A419-4DD1-A64F-B6E017F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E80B-0406-41F7-B1B2-E4E50078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132F2-3AD7-48A0-9A39-BE761176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5275D-CC37-4D28-941A-E4AE0E53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28A3-7C1F-4206-ACAE-604578CC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DB129-31A7-4CA7-BB1D-CE69CD64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E6F-FAD1-4591-BC11-94147589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CAAB-E16E-4DE1-BC2A-F448F5AE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6C501-6821-49C8-B80C-98FA51D8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C7C9-1347-4139-8227-1F0E8010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CC36-7EF4-4C35-8850-B06AC6FF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C845B-9B26-44D4-8F2A-CAE7A257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32364-E3B4-4BFE-AFA4-61E56D28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2943-8710-4FAF-A1F9-BBEAF28D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0FF24-B0F1-41DB-A191-F06E1184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8B3D-BD64-472E-A6BB-E755A97A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B4D63-A4B6-4293-9426-3433BBB9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42D-CFDC-44EA-B8A2-5BCF57F3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5C44E-C021-46B4-A939-3D4E1E66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1A92-7CCC-482C-83EE-110A56DB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FC83-24E7-4616-A2D4-AD5075DE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85E66-30C5-43DC-AAB0-CBC5AB52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9ED9A-2A2D-4DA5-A4B7-319057E0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9AD91-C61E-40CC-8393-15066D8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3E1F-6C7B-4BA8-A49E-52939E90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E54A1-5922-4A38-82E0-DCFCB219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9E4B0-8D97-4A8A-A269-D8434EE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C9AC4-F101-4B11-8062-7E19599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30A-34DE-45B6-B84B-54FA1590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2E9D3-F3B5-40D4-BA92-E18D70A9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12652-CE99-4A96-B438-BAF36BAC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2102D-5C53-4E8B-82A2-1D97677B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BD4B3-5A2C-4B3A-A790-07730535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7B59A-0730-4383-B045-8F752E47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5694E-EC28-4173-A5CB-C8D3ED33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4213-96C7-48E4-ACD7-EE13BAAF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922E4-A1DA-4A3B-A5A6-326F6A24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48673-0083-4498-838B-F35952E7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EED14-860B-46BC-8623-A435CEFE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694-A377-46B0-BD13-7CE0D954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29210-1913-424F-BBB9-365DB6DF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0721E-A957-4C99-8FB5-1A2DDFA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A5844-8DB4-438F-9761-412B3195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52DCC-37B7-4167-A8FA-91FB981B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20B00-33D2-4B11-9DFA-F2DE6F91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923DC-9920-4EB9-A069-213730DC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61792-E588-4A94-98A9-7064827C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AA33E-B402-4990-919E-6E8A7494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532A0-A594-4088-A1F1-42669E5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2B2AF-0CF3-42A9-BA65-3B773FD8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063-EC56-4D91-9917-84422E41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659F3-A826-44EB-AC39-54263060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0CB9D-5CAE-4FE9-8104-787C1379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676C2-5A9E-498E-BF30-2C9739E9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1584E-73A2-4491-A6DA-D5BE6FF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72036-CFCB-45CE-B6B8-92970BE0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A29C3-F9E7-4EFE-BBDD-EFB6ADBD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7B713-3698-4478-B71E-1FC75D97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F21F1-534E-4645-BB3F-EA99E77D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BB861-C974-4FD9-8F19-D73B8C06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1739F-7D2E-44AF-BBFF-C57BA58F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83D5-0E29-4559-A88C-AE72E6EC4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290E-CAC9-438C-AF68-3A00F9291B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35FD-F891-45ED-AF76-018D517713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A7B2-1CA8-4499-937E-58B8C11145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CFC5-8553-4FD2-AA0B-FD99307A2B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8C0A-B323-4060-9814-EF0906362E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DF2-3493-4EC2-A97A-8B1610F9A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DE32-A7EE-4E35-BB63-346F83DF9F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B6A7-B4DD-4C4C-B176-A785320D99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6B5A-32AC-4D0E-AF70-FEC563EEF8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957E-DCF0-4B99-82DC-220588A7F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1323-DEA2-4E84-A3D5-2E3A1C62F6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4B1C-1964-4302-B6A4-E6158C9CC6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24FD-6C17-4B7A-B760-EB9621F39E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5B7-1235-4A4B-807A-4D23669F32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0F4-F0EB-4B44-9908-BD4D3D04A4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918A-64A2-4DB7-8A26-2F6EFC0D99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4668-BF18-47A5-B8C6-6A31101F43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02B6-6A05-4295-B1F4-13C7AC7F35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5607-10C2-49AF-91BE-BCFBE7C73E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6FC1-E52D-432E-8744-2B05A636F6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9236-3A48-46B2-90BC-7D8F78D196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69EF-D812-4C09-B1A2-0B729B146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C4AB-BAF7-4CFA-AAE1-67F264F179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88FD-2BFB-4E87-905A-F62FE058F3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pic_25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5"/>
          <p:cNvSpPr/>
          <p:nvPr/>
        </p:nvSpPr>
        <p:spPr>
          <a:xfrm>
            <a:off x="380880" y="380880"/>
            <a:ext cx="5257800" cy="916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棉鞋里的阳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4864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体育东路小学    林美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2362320" y="1522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我会读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685800" y="2362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苹果目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读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没读错音）；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读流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没有吞吞吐吐，添字漏字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685800" y="4038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草莓目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准确流利有感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762120" y="5029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榴莲目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准确流利打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5"/>
          <p:cNvSpPr/>
          <p:nvPr/>
        </p:nvSpPr>
        <p:spPr>
          <a:xfrm>
            <a:off x="2438280" y="15228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认字我最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152280" y="312408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苹果目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每个字都认出来，读准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草莓目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认准，组一个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榴莲目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读准，组两个词以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2057400" y="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609480" y="2362320"/>
            <a:ext cx="8153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花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衣 木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树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绵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关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照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照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顾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下  平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脱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子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晒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衣服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动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990720" y="2209680"/>
            <a:ext cx="7315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峰问妈妈：“奶奶的棉被一点儿也没湿，干吗要晒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棉被晒过了，奶奶盖上会更暖和。”妈妈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呢？”小峰又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说：“棉被里又棉花，让阳光钻进棉花里，你说暖和不暖和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5"/>
          <p:cNvSpPr/>
          <p:nvPr/>
        </p:nvSpPr>
        <p:spPr>
          <a:xfrm>
            <a:off x="762120" y="1981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奶奶睡着了。小峰想：奶奶的棉鞋里也有棉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于是，他轻轻地把奶奶的棉鞋摆在阳光晒到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0" y="5029200"/>
            <a:ext cx="9144000" cy="581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小峰想：奶奶的棉鞋里也有棉花。那么，我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                                                  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762120" y="228600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早晨，阳光照到了阳台上，妈妈在给奶奶晒棉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过午饭，奶奶要睡午觉，妈妈收了棉被铺到了床上。奶奶脱下棉鞋，躺进被窝，说：“这被子真暖和。”她舒服地合上了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/>
  <cp:keywords>第一PPT模板网-WWW.1PPT.COM</cp:keywords>
  <dc:language>en-US</dc:language>
  <cp:lastModifiedBy>a</cp:lastModifiedBy>
  <dcterms:modified xsi:type="dcterms:W3CDTF">2015-03-16T14:56:20Z</dcterms:modified>
  <cp:revision>11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