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2E4-457F-4909-BDB0-1AE42BC0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1DF-CBE0-46FE-B347-7417B572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DE533-0118-4B89-A662-7F07A3CA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CB506-7870-4BC3-A06B-3A0A9B23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50677-E797-4450-A24E-707FE29E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355AC-5E01-4282-B9A4-4587FBA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C2C9C-7E7C-4D20-A5EA-AA9C344F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54B01-6DE4-4915-B655-B0BE91E2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12813-0AF1-46E4-A59B-9E29E5B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5D6BA-AEB9-453E-AE5E-1F249C43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4F8DE-C2B0-4C03-A795-16D1E976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8923E-B984-4EF5-8601-B186657E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FDD-B267-4E16-B6CE-5ABA9302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AA6CE-0612-43C0-89ED-9FE52CFE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08466-2161-4684-90AC-0CECF55C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66B76-9E1A-4D0F-9307-6D6E921B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65C85-7FA8-4E87-93CF-CC002217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98E87-3142-4311-B037-E498413B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AECF1-0BDF-4731-81FB-5A45E0D5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83F90-05DE-4A54-9FAC-B45DE5E9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4C7FE-CDFF-4312-97EF-2A90A18D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DA4A7-0391-41A6-9B25-5847EF7B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B8993-FF95-4EB3-A7FD-56ACBF33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384-E25B-4806-AA38-5460D126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78FE3-FEE3-4D18-969B-EBE404A5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10463-D114-40A9-AE91-78A853E4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504D0-9906-4F10-A213-477AC763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279F1-31EB-4869-83DA-A79B3CD7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F09B2-AEF1-4EEA-B3BA-5E95A50D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2F553-A55F-4C4D-B478-292899EF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E00AB-B81A-4D34-915B-48E76F4A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424AD-DAB0-4448-9AF8-40BBA23C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5A29B-9009-4206-B5FF-5BC8FF1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745A7-762C-4BB3-871E-BBA9FCE4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7AAC-43C1-4B94-8E42-495C7F60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021E5-B522-4A60-9E17-EA2F5F0D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2B96C-337A-4016-922C-9E1C5FF0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B107F-7E21-4481-8A03-11235966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88158-F34F-48C9-9031-415D3B8E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C9BED-500D-4E57-957E-5A6F4E70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57B8D-4D53-4A15-B104-4551B9FA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C777E-A128-4038-A553-7DEC78D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1B458-B6B3-4299-B91C-1EA70588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14B29-0CA1-402B-A2BE-7341A9D9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8D647-CEC8-4F85-8F71-CD670CBF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3E94-8945-4210-8777-FC8EF336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34C6D-83A0-47D1-A11D-C2DBBA74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F5196-7469-47D0-924E-45C64F1D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C95B1-F371-4A86-AA62-02FF357E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C43A9-EE08-4334-A9E5-B31940C8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0AD51-5638-4490-9169-9ADB749E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6853D-9470-4404-A736-2146E3F4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15A69-4CEC-4ACC-B7DF-656DCEB3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E5114-F019-40BE-8BFE-1CD218F0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F1B61-9EB3-4231-A892-718E031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3659B-802C-4B74-8DEE-902E7E3E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65C0-5114-428F-84D7-D60C7974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70DC9-6707-4105-B83C-CA954F95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5409D-E7B4-49F1-843D-8E065AC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A2C94-97E9-4643-8010-0B93AC1B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85741-3A82-4093-BF95-622E2678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BA771-9D87-43F4-A59C-C82461CD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5A29A-0BA5-4ABD-AC38-3B540851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F4378-F842-4E25-8123-DB468F4D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DF96-56C4-4E6E-A046-B66885A6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C890-1E50-48F3-8C96-47887BAE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A3E6-7A11-4E94-8CF1-203FF1D9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5C26-6D7B-4728-B636-306C971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F0D-1D7B-4BE1-9AEC-268AC8E5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26AF-9750-42EB-997C-EA5E2692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DFE2-49D0-4F5F-B7E2-C0EC2AE4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164E-1498-4F2D-AECC-716E570F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98A9-5B30-4897-8D35-B83C3C8A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3203-1D9E-41EB-BE47-B8183CB1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37B6-7738-4548-A861-D0CFDB1D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752C-17F2-4454-91DA-1CB6099F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F120-300B-4E9D-8F15-07AA3740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EF38E-89A8-4A09-8592-19EF194B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8541-E229-4277-B833-E11DBD3C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04F-3260-4C43-A4B4-4440C69B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3D86-ADF9-4487-B717-A9424B29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47A4-5CA4-4F27-ABB9-D95C16B4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81BE-26BC-42E5-AC8C-1F699C57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D310-A46C-4AE4-9217-8FB5788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ACE3-64A5-4E81-89A0-76CA63B8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4426F-8092-41B5-AE18-E20E56A7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AE9F-D501-434B-82A8-CECE3BBF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C27E9-3B53-4A94-916A-04ABF2EF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E24AF-B1A5-4191-844A-36F376E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A407D-97ED-4554-A83C-E08E2100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831-5799-4AB1-A1E8-EA7B162C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1050-A9A2-4533-B629-A2BAB85C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A4DC-39BF-4228-8DCD-5D70F6B3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9088-72DF-45DB-82C6-C94EF69C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AEDC2-3895-47F6-B8C3-446F36DB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E71F-6296-4C81-AE59-30D3BC9E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191DE-41BE-4652-9FF8-A44DB0C1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0386-1695-4A7C-B3A6-6935DA74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1B2C9-4B5A-4E33-B965-B68478D5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0F99F-3487-435F-8F28-14A7038A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62580-EFCF-4DE9-A521-A354D9E2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0FD-D8FC-48D7-A53E-5DF3D50C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B10D3-0A88-473C-AFA7-46F4498E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6CDD-DB55-43A1-8233-DFBBC607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3195-D139-4C06-A491-A8083D84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66B5-1BB3-4EC4-A96A-AE1BF935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7322D-F5AD-4207-8740-A2EC289E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58E70-B00E-4B59-A66C-A350D3D2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EFDA-6988-4B48-A3EE-230DF91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70384-C977-4F64-87D0-496BF48F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45F1-C5F6-488C-BD51-E04B8F1A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98C43-7FD2-4599-940C-E8C7C56D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4F4-5425-4B05-8D53-A8DE3417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63FDD-0315-4749-9AF1-99CB039F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404CD-86B0-4013-92B7-0763D70D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42A2F-FA5B-4C1E-88FE-03EEEF50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3F26-1B89-467B-9A8B-6FBABB03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91997-BCD1-4C9B-83C1-BB32112A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BA2FB-5A74-4C54-97FA-A902D1AE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61A2E-F900-431F-A5A6-E50CB2E8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1EF17-0B7E-4AAE-A505-69B7EEE0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DB970-CA71-4C46-807E-E2F47581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017DF-EC6B-4268-B662-99578930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CED-DE7D-4F06-9685-F5DD1CCA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E34E5-E983-47FC-8339-793C8229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A8B4-C74C-4B53-92D3-BC7F9217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F2458-D853-4B09-BAB5-F02FC253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6C39A-382D-4AA5-88D5-FEF7EA97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46FB4-5E33-451D-AEB5-4007CE74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EBDAA-1F41-4FCB-B4CC-6C249810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9FF5-BC4D-4CE4-998A-4BFCD083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DEF4F-E196-4137-847B-6AFCB7B7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94870-DD92-4A1A-915B-B6D24BF6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1606D-037B-4CB6-88D9-C1BDEBA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B14-EB83-4105-8C1A-CCB9EA9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4F093-3E85-4F6F-B669-1C8D00EA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AB8CB-BE30-4758-9510-83952CA5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4FD6D-1662-4835-943E-79CD9EBD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D125B-2BAF-4E1C-978A-FE9A8A31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9F5A8-202F-4358-B0C0-BC4BA24C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9EEE2-14FA-41F0-A1E0-5EBA0045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DC096-1111-4242-BCBA-ED923E2C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8FD4F-FABE-408A-8A64-A8E02EC1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C99AA-53A2-41F3-9A46-9D30CFCD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54232-B40A-46CC-AC84-4577F96A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38D-2DEB-40A3-A3C4-AA035B06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1261-1437-49C6-B3EF-A68B925F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AB58-F776-4DB6-B454-DADC63D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9E112-2628-4C75-9976-0EB6C7A3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CF4A8-804A-4152-862B-B5175302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B65A6-6217-4EAC-BE6D-39498707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FCFC8-6ADD-490A-9F61-936C8ADF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7EDCD-018D-4FB1-9F15-540BE45C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6A63F-69AA-4D13-99FD-48A54EF8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AC636-552F-4BE3-BAD3-98764874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3774F-6C8C-48F6-8D8F-B3527923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4999-5C55-4A19-AA31-62284A98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B536-7E91-4805-BEFE-57B902B129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8972-2084-464E-B9E1-8C79B10B1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E638-EE86-4018-9A46-491F5C0414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237D-54B2-4F2E-911C-C4EB8F7ACF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B11C-DF07-4A0B-B516-BED48557B2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08EF-836D-4B30-ABB2-EF8EE7CDAA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EAEE-9F4C-4344-B261-6A1403F351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AD91-0EA0-48FD-B97B-8AFA158AE8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DA2B-4932-46FC-9747-985AC18B71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D398-55F1-4A0F-BFB4-BD5946EA8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6B26-AB47-4794-B18A-289B37E608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6AD5-033D-4F2A-8AEE-EBBC224E3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9EE8-7223-4D0B-A0AE-FDAA202AE7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FBC5-43F2-4E57-BB72-F9D3D41169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5A62-AB5B-472D-ADCA-F864C7A483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1698-ADC2-4595-8EC0-8BCD799C8D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0195-1B3B-4B16-A38D-47CE0E6F1C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2360-0240-41AD-9ED3-6C2408635F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BBD8-9410-4321-BFAA-9B8384EDF1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92D8-50F8-45E4-83FB-5CB0205084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0D85-933E-4DE7-AA40-3C0F936808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EFD6-F644-43E2-BB9E-5A6CDC6949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7775-2337-49BF-9F84-3D5888F546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1E69-9C3A-4A44-87BE-CC30000C7F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6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020091231398554002985.mp3" descr=""/>
          <p:cNvPicPr/>
          <p:nvPr/>
        </p:nvPicPr>
        <p:blipFill>
          <a:blip r:embed="rId2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7"/>
          <p:cNvSpPr/>
          <p:nvPr/>
        </p:nvSpPr>
        <p:spPr>
          <a:xfrm>
            <a:off x="138420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-396720" y="260280"/>
            <a:ext cx="802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鸟鸣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唐）王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闲桂花落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>
            <a:hlinkClick r:id="" action="ppaction://hlinkshowjump?jump=nextslide"/>
          </p:cNvPr>
          <p:cNvSpPr/>
          <p:nvPr/>
        </p:nvSpPr>
        <p:spPr>
          <a:xfrm>
            <a:off x="8317080" y="6308640"/>
            <a:ext cx="576000" cy="54936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47" h="21600">
                <a:moveTo>
                  <a:pt x="0" y="0"/>
                </a:moveTo>
                <a:lnTo>
                  <a:pt x="22647" y="0"/>
                </a:lnTo>
                <a:lnTo>
                  <a:pt x="22647" y="21600"/>
                </a:lnTo>
                <a:lnTo>
                  <a:pt x="0" y="21600"/>
                </a:lnTo>
                <a:close/>
              </a:path>
              <a:path fill="lightenLess" w="22647" h="21600">
                <a:moveTo>
                  <a:pt x="0" y="0"/>
                </a:moveTo>
                <a:lnTo>
                  <a:pt x="22647" y="0"/>
                </a:lnTo>
                <a:lnTo>
                  <a:pt x="21247" y="1400"/>
                </a:lnTo>
                <a:lnTo>
                  <a:pt x="1400" y="1400"/>
                </a:lnTo>
                <a:close/>
              </a:path>
              <a:path fill="darken" w="22647" h="21600">
                <a:moveTo>
                  <a:pt x="22647" y="0"/>
                </a:moveTo>
                <a:lnTo>
                  <a:pt x="22647" y="21600"/>
                </a:lnTo>
                <a:lnTo>
                  <a:pt x="21247" y="20200"/>
                </a:lnTo>
                <a:lnTo>
                  <a:pt x="21247" y="1400"/>
                </a:lnTo>
                <a:close/>
              </a:path>
              <a:path fill="darkenLess" w="22647" h="21600">
                <a:moveTo>
                  <a:pt x="2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7" y="20200"/>
                </a:lnTo>
                <a:close/>
              </a:path>
              <a:path fill="lighten" w="2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7" h="21600">
                <a:moveTo>
                  <a:pt x="1132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647" h="21600">
                <a:moveTo>
                  <a:pt x="1132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647" h="21600">
                <a:moveTo>
                  <a:pt x="8747" y="8224"/>
                </a:moveTo>
                <a:lnTo>
                  <a:pt x="12612" y="8224"/>
                </a:lnTo>
                <a:lnTo>
                  <a:pt x="12612" y="15221"/>
                </a:lnTo>
                <a:lnTo>
                  <a:pt x="13900" y="15221"/>
                </a:lnTo>
                <a:lnTo>
                  <a:pt x="13900" y="16144"/>
                </a:lnTo>
                <a:lnTo>
                  <a:pt x="8747" y="16144"/>
                </a:lnTo>
                <a:lnTo>
                  <a:pt x="8747" y="15221"/>
                </a:lnTo>
                <a:lnTo>
                  <a:pt x="10035" y="15221"/>
                </a:lnTo>
                <a:lnTo>
                  <a:pt x="10035" y="9129"/>
                </a:lnTo>
                <a:lnTo>
                  <a:pt x="8747" y="912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0">
            <a:hlinkClick r:id="rId3" action="ppaction://hlinksldjump"/>
          </p:cNvPr>
          <p:cNvSpPr/>
          <p:nvPr/>
        </p:nvSpPr>
        <p:spPr>
          <a:xfrm>
            <a:off x="7596360" y="6426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818" h="21600">
                <a:moveTo>
                  <a:pt x="1440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818" h="21600">
                <a:moveTo>
                  <a:pt x="11833" y="8224"/>
                </a:moveTo>
                <a:lnTo>
                  <a:pt x="15697" y="8224"/>
                </a:lnTo>
                <a:lnTo>
                  <a:pt x="15697" y="15221"/>
                </a:lnTo>
                <a:lnTo>
                  <a:pt x="16985" y="15221"/>
                </a:lnTo>
                <a:lnTo>
                  <a:pt x="16985" y="16144"/>
                </a:lnTo>
                <a:lnTo>
                  <a:pt x="11833" y="16144"/>
                </a:lnTo>
                <a:lnTo>
                  <a:pt x="11833" y="15221"/>
                </a:lnTo>
                <a:lnTo>
                  <a:pt x="13121" y="15221"/>
                </a:lnTo>
                <a:lnTo>
                  <a:pt x="13121" y="9129"/>
                </a:lnTo>
                <a:lnTo>
                  <a:pt x="11833" y="912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5308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4"/>
          <p:cNvSpPr/>
          <p:nvPr/>
        </p:nvSpPr>
        <p:spPr>
          <a:xfrm>
            <a:off x="3635280" y="13413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Arial"/>
              </a:rPr>
              <a:t>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4367880" y="1268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Arial"/>
              </a:rPr>
              <a:t>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360360" cy="71280"/>
          </a:xfrm>
          <a:custGeom>
            <a:avLst/>
            <a:gdLst>
              <a:gd name="textAreaLeft" fmla="*/ 4320 w 360360"/>
              <a:gd name="textAreaRight" fmla="*/ 356040 w 36036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108760" h="21600">
                <a:moveTo>
                  <a:pt x="0" y="0"/>
                </a:moveTo>
                <a:lnTo>
                  <a:pt x="108760" y="0"/>
                </a:lnTo>
                <a:lnTo>
                  <a:pt x="108760" y="21600"/>
                </a:lnTo>
                <a:lnTo>
                  <a:pt x="0" y="21600"/>
                </a:lnTo>
                <a:close/>
              </a:path>
              <a:path fill="lightenLess" w="108760" h="21600">
                <a:moveTo>
                  <a:pt x="0" y="0"/>
                </a:moveTo>
                <a:lnTo>
                  <a:pt x="108760" y="0"/>
                </a:lnTo>
                <a:lnTo>
                  <a:pt x="107360" y="1400"/>
                </a:lnTo>
                <a:lnTo>
                  <a:pt x="1400" y="1400"/>
                </a:lnTo>
                <a:close/>
              </a:path>
              <a:path fill="darken" w="108760" h="21600">
                <a:moveTo>
                  <a:pt x="108760" y="0"/>
                </a:moveTo>
                <a:lnTo>
                  <a:pt x="108760" y="21600"/>
                </a:lnTo>
                <a:lnTo>
                  <a:pt x="107360" y="20200"/>
                </a:lnTo>
                <a:lnTo>
                  <a:pt x="107360" y="1400"/>
                </a:lnTo>
                <a:close/>
              </a:path>
              <a:path fill="darkenLess" w="108760" h="21600">
                <a:moveTo>
                  <a:pt x="108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360" y="20200"/>
                </a:lnTo>
                <a:close/>
              </a:path>
              <a:path fill="lighten" w="108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760" h="21600">
                <a:moveTo>
                  <a:pt x="5438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108760" h="21600">
                <a:moveTo>
                  <a:pt x="5438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108760" h="21600">
                <a:moveTo>
                  <a:pt x="51804" y="8224"/>
                </a:moveTo>
                <a:lnTo>
                  <a:pt x="55668" y="8224"/>
                </a:lnTo>
                <a:lnTo>
                  <a:pt x="55668" y="15221"/>
                </a:lnTo>
                <a:lnTo>
                  <a:pt x="56956" y="15221"/>
                </a:lnTo>
                <a:lnTo>
                  <a:pt x="56956" y="16144"/>
                </a:lnTo>
                <a:lnTo>
                  <a:pt x="51804" y="16144"/>
                </a:lnTo>
                <a:lnTo>
                  <a:pt x="51804" y="15221"/>
                </a:lnTo>
                <a:lnTo>
                  <a:pt x="53092" y="15221"/>
                </a:lnTo>
                <a:lnTo>
                  <a:pt x="53092" y="9129"/>
                </a:lnTo>
                <a:lnTo>
                  <a:pt x="51804" y="91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>
            <a:hlinkClick r:id="" action="ppaction://hlinkshowjump?jump=firstslide"/>
          </p:cNvPr>
          <p:cNvSpPr/>
          <p:nvPr/>
        </p:nvSpPr>
        <p:spPr>
          <a:xfrm>
            <a:off x="810108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134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939" h="21600">
                <a:moveTo>
                  <a:pt x="134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939" h="21600">
                <a:moveTo>
                  <a:pt x="10893" y="8224"/>
                </a:moveTo>
                <a:lnTo>
                  <a:pt x="14758" y="8224"/>
                </a:lnTo>
                <a:lnTo>
                  <a:pt x="14758" y="15221"/>
                </a:lnTo>
                <a:lnTo>
                  <a:pt x="16046" y="15221"/>
                </a:lnTo>
                <a:lnTo>
                  <a:pt x="16046" y="16144"/>
                </a:lnTo>
                <a:lnTo>
                  <a:pt x="10893" y="16144"/>
                </a:lnTo>
                <a:lnTo>
                  <a:pt x="10893" y="15221"/>
                </a:lnTo>
                <a:lnTo>
                  <a:pt x="12182" y="15221"/>
                </a:lnTo>
                <a:lnTo>
                  <a:pt x="12182" y="9129"/>
                </a:lnTo>
                <a:lnTo>
                  <a:pt x="10893" y="912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1929240" y="184464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桂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3863520" y="177336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>
            <a:hlinkClick r:id="rId4" action="ppaction://hlinksldjump"/>
          </p:cNvPr>
          <p:cNvSpPr/>
          <p:nvPr/>
        </p:nvSpPr>
        <p:spPr>
          <a:xfrm>
            <a:off x="5592600" y="184464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>
            <a:hlinkClick r:id="rId6" action="ppaction://hlinksldjump"/>
          </p:cNvPr>
          <p:cNvSpPr/>
          <p:nvPr/>
        </p:nvSpPr>
        <p:spPr>
          <a:xfrm>
            <a:off x="1487160" y="306864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3360240" y="364500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5376600" y="350028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4">
            <a:hlinkClick r:id="rId2" action="ppaction://hlinksldjump"/>
          </p:cNvPr>
          <p:cNvSpPr/>
          <p:nvPr/>
        </p:nvSpPr>
        <p:spPr>
          <a:xfrm>
            <a:off x="8136000" y="6021360"/>
            <a:ext cx="1008000" cy="836640"/>
          </a:xfrm>
          <a:custGeom>
            <a:avLst/>
            <a:gdLst>
              <a:gd name="textAreaLeft" fmla="*/ 54000 w 1008000"/>
              <a:gd name="textAreaRight" fmla="*/ 954000 w 1008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022" h="21600">
                <a:moveTo>
                  <a:pt x="0" y="0"/>
                </a:moveTo>
                <a:lnTo>
                  <a:pt x="26022" y="0"/>
                </a:lnTo>
                <a:lnTo>
                  <a:pt x="26022" y="21600"/>
                </a:lnTo>
                <a:lnTo>
                  <a:pt x="0" y="21600"/>
                </a:lnTo>
                <a:close/>
              </a:path>
              <a:path fill="lightenLess" w="26022" h="21600">
                <a:moveTo>
                  <a:pt x="0" y="0"/>
                </a:moveTo>
                <a:lnTo>
                  <a:pt x="26022" y="0"/>
                </a:lnTo>
                <a:lnTo>
                  <a:pt x="24622" y="1400"/>
                </a:lnTo>
                <a:lnTo>
                  <a:pt x="1400" y="1400"/>
                </a:lnTo>
                <a:close/>
              </a:path>
              <a:path fill="darken" w="26022" h="21600">
                <a:moveTo>
                  <a:pt x="26022" y="0"/>
                </a:moveTo>
                <a:lnTo>
                  <a:pt x="26022" y="21600"/>
                </a:lnTo>
                <a:lnTo>
                  <a:pt x="24622" y="20200"/>
                </a:lnTo>
                <a:lnTo>
                  <a:pt x="24622" y="1400"/>
                </a:lnTo>
                <a:close/>
              </a:path>
              <a:path fill="darkenLess" w="26022" h="21600">
                <a:moveTo>
                  <a:pt x="2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2" y="20200"/>
                </a:lnTo>
                <a:close/>
              </a:path>
              <a:path fill="lighten" w="2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22" h="21600">
                <a:moveTo>
                  <a:pt x="1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022" h="21600">
                <a:moveTo>
                  <a:pt x="1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022" h="21600">
                <a:moveTo>
                  <a:pt x="10435" y="8224"/>
                </a:moveTo>
                <a:lnTo>
                  <a:pt x="14299" y="8224"/>
                </a:lnTo>
                <a:lnTo>
                  <a:pt x="14299" y="15221"/>
                </a:lnTo>
                <a:lnTo>
                  <a:pt x="15587" y="15221"/>
                </a:lnTo>
                <a:lnTo>
                  <a:pt x="15587" y="16144"/>
                </a:lnTo>
                <a:lnTo>
                  <a:pt x="10435" y="16144"/>
                </a:lnTo>
                <a:lnTo>
                  <a:pt x="10435" y="15221"/>
                </a:lnTo>
                <a:lnTo>
                  <a:pt x="11723" y="15221"/>
                </a:lnTo>
                <a:lnTo>
                  <a:pt x="11723" y="9129"/>
                </a:lnTo>
                <a:lnTo>
                  <a:pt x="10435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3989063369944139861"/>
          <p:cNvPicPr/>
          <p:nvPr/>
        </p:nvPicPr>
        <p:blipFill>
          <a:blip r:embed="rId2"/>
          <a:stretch/>
        </p:blipFill>
        <p:spPr>
          <a:xfrm>
            <a:off x="1166760" y="-380880"/>
            <a:ext cx="6810480" cy="76197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5">
            <a:hlinkClick r:id="rId3" action="ppaction://hlinksldjump"/>
          </p:cNvPr>
          <p:cNvSpPr/>
          <p:nvPr/>
        </p:nvSpPr>
        <p:spPr>
          <a:xfrm>
            <a:off x="8207280" y="6165720"/>
            <a:ext cx="936720" cy="692280"/>
          </a:xfrm>
          <a:custGeom>
            <a:avLst/>
            <a:gdLst>
              <a:gd name="textAreaLeft" fmla="*/ 44640 w 936720"/>
              <a:gd name="textAreaRight" fmla="*/ 892080 w 936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9223" h="21600">
                <a:moveTo>
                  <a:pt x="0" y="0"/>
                </a:moveTo>
                <a:lnTo>
                  <a:pt x="29223" y="0"/>
                </a:lnTo>
                <a:lnTo>
                  <a:pt x="29223" y="21600"/>
                </a:lnTo>
                <a:lnTo>
                  <a:pt x="0" y="21600"/>
                </a:lnTo>
                <a:close/>
              </a:path>
              <a:path fill="lightenLess" w="29223" h="21600">
                <a:moveTo>
                  <a:pt x="0" y="0"/>
                </a:moveTo>
                <a:lnTo>
                  <a:pt x="29223" y="0"/>
                </a:lnTo>
                <a:lnTo>
                  <a:pt x="27823" y="1400"/>
                </a:lnTo>
                <a:lnTo>
                  <a:pt x="1400" y="1400"/>
                </a:lnTo>
                <a:close/>
              </a:path>
              <a:path fill="darken" w="29223" h="21600">
                <a:moveTo>
                  <a:pt x="29223" y="0"/>
                </a:moveTo>
                <a:lnTo>
                  <a:pt x="29223" y="21600"/>
                </a:lnTo>
                <a:lnTo>
                  <a:pt x="27823" y="20200"/>
                </a:lnTo>
                <a:lnTo>
                  <a:pt x="27823" y="1400"/>
                </a:lnTo>
                <a:close/>
              </a:path>
              <a:path fill="darkenLess" w="29223" h="21600">
                <a:moveTo>
                  <a:pt x="29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3" y="20200"/>
                </a:lnTo>
                <a:close/>
              </a:path>
              <a:path fill="lighten" w="29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3" h="21600">
                <a:moveTo>
                  <a:pt x="146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223" h="21600">
                <a:moveTo>
                  <a:pt x="146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223" h="21600">
                <a:moveTo>
                  <a:pt x="12035" y="8224"/>
                </a:moveTo>
                <a:lnTo>
                  <a:pt x="15900" y="8224"/>
                </a:lnTo>
                <a:lnTo>
                  <a:pt x="15900" y="15221"/>
                </a:lnTo>
                <a:lnTo>
                  <a:pt x="17188" y="15221"/>
                </a:lnTo>
                <a:lnTo>
                  <a:pt x="17188" y="16144"/>
                </a:lnTo>
                <a:lnTo>
                  <a:pt x="12035" y="16144"/>
                </a:lnTo>
                <a:lnTo>
                  <a:pt x="12035" y="15221"/>
                </a:lnTo>
                <a:lnTo>
                  <a:pt x="13323" y="15221"/>
                </a:lnTo>
                <a:lnTo>
                  <a:pt x="13323" y="9129"/>
                </a:lnTo>
                <a:lnTo>
                  <a:pt x="12035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4"/>
          <p:cNvSpPr/>
          <p:nvPr/>
        </p:nvSpPr>
        <p:spPr>
          <a:xfrm>
            <a:off x="8101080" y="6093000"/>
            <a:ext cx="1042920" cy="493560"/>
          </a:xfrm>
          <a:custGeom>
            <a:avLst/>
            <a:gdLst>
              <a:gd name="textAreaLeft" fmla="*/ 31680 w 1042920"/>
              <a:gd name="textAreaRight" fmla="*/ 1011240 w 104292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2281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5624" h="21600">
                <a:moveTo>
                  <a:pt x="2281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5624" h="21600">
                <a:moveTo>
                  <a:pt x="20236" y="8224"/>
                </a:moveTo>
                <a:lnTo>
                  <a:pt x="24100" y="8224"/>
                </a:lnTo>
                <a:lnTo>
                  <a:pt x="24100" y="15221"/>
                </a:lnTo>
                <a:lnTo>
                  <a:pt x="25389" y="15221"/>
                </a:lnTo>
                <a:lnTo>
                  <a:pt x="25389" y="16144"/>
                </a:lnTo>
                <a:lnTo>
                  <a:pt x="20236" y="16144"/>
                </a:lnTo>
                <a:lnTo>
                  <a:pt x="20236" y="15221"/>
                </a:lnTo>
                <a:lnTo>
                  <a:pt x="21524" y="15221"/>
                </a:lnTo>
                <a:lnTo>
                  <a:pt x="21524" y="9129"/>
                </a:lnTo>
                <a:lnTo>
                  <a:pt x="20236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AutoShape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4:38:17Z</dcterms:created>
  <dc:creator>微软用户</dc:creator>
  <dc:description/>
  <dc:language>en-US</dc:language>
  <cp:lastModifiedBy>a</cp:lastModifiedBy>
  <dcterms:modified xsi:type="dcterms:W3CDTF">2015-03-16T08:53:27Z</dcterms:modified>
  <cp:revision>4</cp:revision>
  <dc:subject/>
  <dc:title>幻灯片 1</dc:title>
</cp:coreProperties>
</file>