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3BB-5D9B-46F4-B4CA-1943E783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FE8-8863-4932-BF4E-38A28A29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AF82-FE14-4D9F-B8CB-CB67403C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F938B-B9C2-47F8-BD60-723A0A91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093F4-3B7C-4D17-A9B3-2BE5B0B9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EC680-718B-499C-ABAA-4A6B7C1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199E4-F493-4D50-BDA3-80E073F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43E5-C69C-422C-9B48-A53F8D1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FAD1C-59EB-4C83-AD79-2ED6F76A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40DD3-58F8-44B3-95BF-A8B78C44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3754E-92EC-4DE7-B4C6-C3716CE8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07747-7624-485F-A8E0-B35AB59C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6E6-360D-4F79-82F2-52178B1B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65161-22DA-4A59-AC7A-20D047DF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6EB54-8D21-4DC4-8481-E2A0CF85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CAA58-4632-445E-A689-A1268C1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3DD36-3A67-49CF-87C1-D2B95D0A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A83FB-D6B2-46D1-8622-5F847CE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E4095-B2F9-40A5-8261-815A70A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F7951-2C4C-4923-BE27-74C6BAB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70514-6A60-4941-80AC-B06B0A3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6BFD8-ED63-4939-A779-9098DF42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D60C1-70AF-430F-8EFB-E0A36E71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F9C-9C59-41C2-95E8-DDC4FD35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5EFA9-7230-41E0-9313-8A7A44AF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ABC75-8AF0-4CA3-AF24-6EAA3901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1CEB8-398E-458D-95AC-37E338C6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511F0-A5ED-4C99-8CDC-549DD0E1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CFE88-396F-4BFF-9123-CF7CD329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5ADD4-C308-4077-BB57-BF9B7DB4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553C5-B21C-4EFA-A7E3-B0F9A71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D98F2-243B-45AB-807F-7B241F53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2AAE4-8B7C-4E25-AB55-9FF7068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16A33-B18B-4A1C-9664-7093F8C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3198-1505-4A3A-A57F-70EFFE0E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1A331-1C3C-4D8C-B3F0-8F92308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A8DD7-61C0-4B95-8AEF-FF5A46A9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355B1-8398-4AC2-AFF2-4C271EA4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18C52-8563-4B15-87C4-79357AB7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3569D-906A-459B-88EA-18E0A00D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B4A1D-3A7D-4B87-B287-799A0447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DC529-3380-46B4-B952-8C3C4CD0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4E3AA-F83A-40DE-9E01-6051CB3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C343A-7315-4E26-9F70-E21B26F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E89EE-8FA6-4900-8D9A-F172553D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7084-7754-4886-BD95-65C64888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2349-65A6-42B3-AA7B-75CCBB47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60258-2885-4393-8EFF-AD8CA5E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98487-7BA1-4297-BB69-F24E1349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65D86-FCDA-464D-B010-2B8A748F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21FCD-F93E-43CD-B2FF-477B6755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CC789-0EB6-4A64-8E03-FE049EB4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67C19-DA75-43F6-886B-050C52DF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D301D-4BBB-45C5-9F13-3E6B2805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BB0A7E-B060-4ED0-83C4-1E527FC2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8F701-FC91-4869-8AD7-5C9F5FED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EA0D-DD67-439F-8994-F7CE5C85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224FE-E04E-4C5B-ADDC-05934FA2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E5B1A-AAD7-46E1-9CF2-4AD6B80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767D1E-7424-4D97-92D8-773FA8B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25AA9-BEC1-439A-A690-12F1022B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BFEE7-FF31-4DC2-A97A-FC37D65B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10D58-C467-47B8-B966-4CAE4C08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DDAEC-1790-40D8-B414-A7575745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174-6D22-4774-B2B1-1D163773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2F04-8DB7-44F9-A6B9-6A41FB85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2FF2-CFFE-4F7D-B98E-47760902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ED73-B919-4629-B1AE-0786A8D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F96-473F-4331-83C3-C4C2F2D7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D687-0873-4320-88CE-33A0A09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B5DA-3E63-4CBF-B445-F0BADB0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8D02-A0CB-4CB1-8A6F-DBABAC55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26EA-7E6C-4CB9-AFE0-72A48F68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7720-E5C5-40CC-AE5B-588E2C2B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6F67-ECFB-4FD5-B597-F4D38ACF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9B40-E588-479C-A627-86F16F6A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7C135-5321-4CF2-9735-301D5D0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D2A4-F42E-4037-BE17-5AA830F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6DC3-A71D-49FE-8E57-0D7DDC05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6E1-018D-4C96-A3BB-9FC3FD75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692C-B78D-406C-A8C5-0B41897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0B13-3025-4F88-8F20-EFE254A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B50F-FFB0-489B-A06B-2B95076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C8CD-253A-4AF8-93F4-2E2ED0A9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231C-A663-4DB7-BBAB-4767CD02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9C44-3972-4D66-B14B-94B6231A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C25E9-319C-43EB-895C-F11C2834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06C8-011F-4407-82BA-F10F3287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984D-F822-470C-BFA5-C9D01900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EBDF1-7403-48D9-8861-37EB3BB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C9E-EB7E-43E6-A87C-79596445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68BA-D433-4E8A-89AD-F47F42F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1C6A4-EA7C-4EC7-B46D-48949052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A4DB-997A-40E8-882F-AD241B6F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4C10-32C5-4C99-BEB1-3C1B09F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82E3-2A97-4704-A2F6-53541F32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40F9-8972-490C-876D-3C2E8994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DFD4-0971-4885-8622-D59232C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4218-FB5C-49BA-B410-22F0ACEE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5F19-E2D4-4B0E-90FD-3D1F4665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1AEE-BCDE-4CEA-BFB4-8BEDA3F6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5A6-2A5E-47D1-B156-E7761919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E90AC-981A-49B0-84A1-7E2976C8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FC88-A11C-4C6D-9EA9-BE2DE359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BBDA-227F-4DB9-B4DF-A83F9E02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E326-CEB1-42E1-8E94-6D1580E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34145-DFD0-4F8D-894F-67133F4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83C1-8643-4273-B35C-A189DC48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4112-D13C-4BF2-896A-29A65286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DF98-D5B3-4A86-B800-E7C55F2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4E75F-D68D-4325-AC5E-F316DBEA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13DE-CE5F-4DBA-AEB0-AE458534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40F-125A-4533-A5BC-9935998A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1770-FAE7-4346-9857-49B0446E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96AF8-7324-4EB2-B4E4-9BF6088C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F41A-D08B-40AD-95D4-71C566F8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75895-703A-4DBF-A595-BFA92BC2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7FB4-321B-4185-9D44-BBFD9B0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5569-6240-4666-9D4B-B9FF779B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EA2B-2D36-4240-B411-4FF247D8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7465B-9B84-4B0B-B954-DB4AFAA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33D05-7B72-4FF7-A25C-534D436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B4FE-0C10-4813-9A9A-DC013CD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293-7974-41E6-98FD-F5DE7AB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83DD6-8529-49EE-87CB-94454B4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AFC3C-2BDF-4830-A984-17FDDFF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90AC9-07C5-426A-88FC-EC2FE8A0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7B8B-27BE-40E0-9B9B-C87821B6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BE92-120F-4FDB-A2DE-7C662C3F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FCB1F-60DD-4201-A521-4C5C4D0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02E6-1007-42D2-B460-E0719218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1AFC-6ECC-4E6A-AB9F-C73BEAAB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BD527-A8F0-4A35-99C9-3A2602B3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57333-E8CD-4FEF-9ECF-B033E4C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036-55A6-43EC-BABC-D07451B1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C8471-727B-4750-A6F7-F63CF8BD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64E3F-4629-4B62-8107-85293C95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F902D-77A7-44FB-8696-3D7CC16C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60A2B-37EB-47FD-99E5-5431A288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DA1F7-7734-403D-92EB-F6FB3B2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DC69E-C676-4C3A-AF91-F454202B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4629-21B1-4CA8-B05E-830A1CA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DE4B5-D1A0-4C1E-AF89-97C4EFC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FBA1-3650-4BD5-892A-AFAAD9EE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5F7B6-CA7E-4D6E-85CC-A1556A7C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D2B-C13C-4CA6-BA78-B6E7057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5E7C-2FA3-4F3A-9C60-8965FDBC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C806E-A076-434F-9542-EAADB23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A05DF-7D24-4519-8F48-DC824C30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A6E6F-D8A5-46E5-BDC9-E8F6380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CA5D0-297E-41B7-8A50-A171BE83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69E28-259B-4727-BF16-03A36431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5F7F-3E4C-4D52-AE9A-584E6AF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444A6-819B-4B0E-8908-0F075DCA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7AD75-1DBD-4D69-BC28-D8FD4072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903FD-3B4C-49B1-A42E-7B2FEF0A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D802-D770-46EF-BDEE-D184DF067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1174-5AA2-4BE1-8625-6944E595732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EF62-02D4-41DD-AD5B-66AD4F9736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E15F-2C67-4B74-93DA-AD43F5E025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CDD8-4097-4632-9507-0CE30F59A1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2455-7242-463D-BFFF-4244FB8D2F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4EE6-CC24-47EF-965B-2E287C1FE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8044-1CF3-4957-8767-B7D6CE90AC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EA40-4BCA-4B44-96AC-741C4A1F8B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D06-57F6-4A15-BFB9-6E45105F5C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7F5E-5BEF-43E2-A81E-34B3B4E307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F739-69AD-48DE-9596-9DCA6542D2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DAE5-4441-4BB1-B676-E53BC66423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00E-BACC-4E78-817A-F37F96DF2A7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DFCE-871E-4BD2-ABAF-3F5A420380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BAA9-34DE-474C-BBE1-F00E9F2342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CBF-1886-4615-8F8F-42869113F3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9D0D-C6A2-4AE4-A8F4-8D1DEF9F47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7E4-C43C-43B0-A4F4-FC8055FDE7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F3D0-5DD3-404C-8C71-654BF472AD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B5AA-AED7-4461-8A33-081E4F2ED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1E58-57D1-464D-9CEC-110EB826B52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B5A4-A1D7-44C8-8AE6-CE0B452F2C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11E5-CC7F-49D5-BD00-372612290D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4B0D-1E26-4050-BEE6-96884A76A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ianyingku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115680" y="2438280"/>
            <a:ext cx="78984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苏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609480" y="609480"/>
            <a:ext cx="5562720" cy="4724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200280" y="907920"/>
            <a:ext cx="1826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念奴娇  赤壁怀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4"/>
          <p:cNvSpPr/>
          <p:nvPr/>
        </p:nvSpPr>
        <p:spPr>
          <a:xfrm>
            <a:off x="539640" y="105156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豪放派和婉约派是宋代词坛上的两大流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5"/>
          <p:cNvSpPr txBox="1"/>
          <p:nvPr/>
        </p:nvSpPr>
        <p:spPr>
          <a:xfrm>
            <a:off x="468360" y="0"/>
            <a:ext cx="1368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比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539640" y="170028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豪放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品气势豪放，意境雄浑，充满豪情壮志，多给人一种积极向上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词人以苏轼、辛弃疾为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611280" y="335448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婉约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品语言清丽、含蓄，表达的感情婉转缠绵，情调或轻松活泼，或离愁别绪，或深沉幽怨，刻工精细，题材较狭窄，多是写个人遭遇，男女恋情，也间有写山水，融情于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词人有柳永、秦观、李清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3"/>
          <p:cNvSpPr/>
          <p:nvPr/>
        </p:nvSpPr>
        <p:spPr>
          <a:xfrm>
            <a:off x="611280" y="191628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：都是苏轼被贬黄州时所作，同是以赤壁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，通过描写赤壁景色，来缅怀和赤壁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的历史人物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1833480" y="836640"/>
            <a:ext cx="52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念奴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壁怀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壁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4093200" y="3645000"/>
            <a:ext cx="1622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写赤壁景，但景色迥然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写有关赤壁的历史人物，但人物成败不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抒怀，感情基调又各不相同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" descr="苏东坡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5"/>
          <p:cNvSpPr/>
          <p:nvPr/>
        </p:nvSpPr>
        <p:spPr>
          <a:xfrm>
            <a:off x="5435640" y="765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   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4643280" y="1844640"/>
            <a:ext cx="45007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乌台诗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宋八大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苏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豪放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书法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苏黄米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黄庭坚、米芾、蔡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chibi_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zmj-9781-21123.mp3" descr=""/>
          <p:cNvPicPr/>
          <p:nvPr/>
        </p:nvPicPr>
        <p:blipFill>
          <a:blip r:embed="rId3"/>
          <a:stretch/>
        </p:blipFill>
        <p:spPr>
          <a:xfrm>
            <a:off x="75564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99280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Oval 4"/>
          <p:cNvSpPr/>
          <p:nvPr/>
        </p:nvSpPr>
        <p:spPr>
          <a:xfrm>
            <a:off x="4191120" y="1231920"/>
            <a:ext cx="4952880" cy="439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95280" y="1819440"/>
            <a:ext cx="417672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Arial"/>
                <a:ea typeface="隶书"/>
              </a:rPr>
              <a:t>整体感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ecff"/>
                </a:solidFill>
                <a:latin typeface="Arial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ccecff"/>
                </a:solidFill>
                <a:latin typeface="Arial"/>
                <a:ea typeface="隶书"/>
              </a:rPr>
              <a:t>谈谈初读感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ec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611280" y="1484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阕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绘赤壁的景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周瑜的丰功伟绩和词人的感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5" descr="图片8"/>
          <p:cNvPicPr/>
          <p:nvPr/>
        </p:nvPicPr>
        <p:blipFill>
          <a:blip r:embed="rId2"/>
          <a:stretch/>
        </p:blipFill>
        <p:spPr>
          <a:xfrm>
            <a:off x="5489640" y="82440"/>
            <a:ext cx="3475080" cy="6370920"/>
          </a:xfrm>
          <a:prstGeom prst="rect">
            <a:avLst/>
          </a:prstGeom>
          <a:ln w="0">
            <a:noFill/>
          </a:ln>
        </p:spPr>
      </p:pic>
      <p:sp>
        <p:nvSpPr>
          <p:cNvPr id="548" name="WordArt 6"/>
          <p:cNvSpPr txBox="1"/>
          <p:nvPr/>
        </p:nvSpPr>
        <p:spPr>
          <a:xfrm>
            <a:off x="539640" y="333360"/>
            <a:ext cx="201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整体感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7"/>
          <p:cNvSpPr/>
          <p:nvPr/>
        </p:nvSpPr>
        <p:spPr>
          <a:xfrm>
            <a:off x="1187280" y="549360"/>
            <a:ext cx="4038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龄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婚姻：小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表：英俊儒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职位：东吴都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际遇：功成名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4643280" y="2708280"/>
            <a:ext cx="3505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苏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龄：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婚姻：不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表：早生华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位：团练副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际遇：功业未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4984200" y="9079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新宋体"/>
              </a:rPr>
              <a:t>个人档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324000" y="692280"/>
            <a:ext cx="4932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生如梦，一尊还酹江月”作者是一味的消极吗？将“酹江月”理解成借酒浇愁，你同意吗？如果不同意，能说说自己的理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474200" y="4692600"/>
            <a:ext cx="21009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精神情感的自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洒脱旷达的情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" descr="图片8"/>
          <p:cNvPicPr/>
          <p:nvPr/>
        </p:nvPicPr>
        <p:blipFill>
          <a:blip r:embed="rId2"/>
          <a:stretch/>
        </p:blipFill>
        <p:spPr>
          <a:xfrm>
            <a:off x="5489640" y="82440"/>
            <a:ext cx="3475080" cy="637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3"/>
          <p:cNvSpPr/>
          <p:nvPr/>
        </p:nvSpPr>
        <p:spPr>
          <a:xfrm>
            <a:off x="611280" y="1484280"/>
            <a:ext cx="54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：写景、咏史、抒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调：昂扬、豪迈、苍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图片8"/>
          <p:cNvPicPr/>
          <p:nvPr/>
        </p:nvPicPr>
        <p:blipFill>
          <a:blip r:embed="rId2"/>
          <a:stretch/>
        </p:blipFill>
        <p:spPr>
          <a:xfrm>
            <a:off x="5489640" y="82440"/>
            <a:ext cx="3475080" cy="6370920"/>
          </a:xfrm>
          <a:prstGeom prst="rect">
            <a:avLst/>
          </a:prstGeom>
          <a:ln w="0">
            <a:noFill/>
          </a:ln>
        </p:spPr>
      </p:pic>
      <p:sp>
        <p:nvSpPr>
          <p:cNvPr id="559" name="WordArt 5"/>
          <p:cNvSpPr txBox="1"/>
          <p:nvPr/>
        </p:nvSpPr>
        <p:spPr>
          <a:xfrm>
            <a:off x="539640" y="333360"/>
            <a:ext cx="2016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宋体"/>
              </a:rPr>
              <a:t>总结全文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611280" y="69228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寒蝉凄切，对长亭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骤雨初歇。都门帐饮无绪，留恋处，兰舟催发。执手相看泪眼，竟无语凝噎。 念去去千里烟波，暮霭沉沉楚天阔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多情自古伤离别，更那堪冷落清秋节。今宵酒醒何处，杨柳岸晓风残月。此去经年，应是良辰好景虚设。便纵有千种风情，更与何人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雨霖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18:37:13Z</dcterms:created>
  <dc:creator>Billgates</dc:creator>
  <dc:description/>
  <dc:language>en-US</dc:language>
  <cp:lastModifiedBy>a</cp:lastModifiedBy>
  <dcterms:modified xsi:type="dcterms:W3CDTF">2015-03-17T07:13:03Z</dcterms:modified>
  <cp:revision>54</cp:revision>
  <dc:subject/>
  <dc:title>幻灯片 1</dc:title>
</cp:coreProperties>
</file>