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165-576E-475B-AA36-3ECA8FFD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EE7-67F8-47C5-86FC-2302E53C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37431-9AC4-46BB-866A-79C4A038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D3B3D-C630-443C-91CA-3E889B95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3FB90-72DE-4F35-BB51-0A84420B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40EB3-C78B-4D87-ADAB-BBABDF8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3BDD2-FE9E-498F-B907-72E4DE1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325C1-DFF1-4B9C-B778-3546B2D5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54355-AE33-424F-8DEA-4E2F3BD2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A1ED8-E897-4E60-9C01-8851D4BF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83B35-5DB0-4F05-BDD2-DE50CCE3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49DC1-874E-4C07-AD4D-48D0E412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A3E-697D-4672-A99C-0B658040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D889E-DBD7-4AA9-899F-F65B1480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80F92-0730-4168-B99E-B750E473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16822-0F57-44D3-9B0B-79586C64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0842D-38A5-4218-9789-3A5EBEB1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5E22E-7318-4388-AAC4-C8DBDF7E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67BF7-BAE7-4755-962A-94D7FDD1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F38C5-4A5C-41E0-AE7E-DDF76790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5D2FA-67A3-46E2-A0C8-E93DA334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461B5-78C2-4DFB-B29C-6E428242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65CB7-9620-4326-92A4-7A762F21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BB2-C9C4-44DD-AD8D-FACC4165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48EF9-2E77-409C-92E4-94A70E4D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1D5FD-E59B-43FE-88B6-4F5CFC99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0439E-2551-4F2F-A794-FB19206D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342C8-D554-481C-BE1B-72419B12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7A5D2-C9E1-45A1-8E37-FF860C89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2AA60-4C37-4D43-9878-56DE9CBF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C57EF-CC25-4ACC-8514-2298AAAF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5E625-3D87-4B8A-BDD6-316ABAC7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2E20F-D4A8-422C-BD03-AC06427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336B7-667D-4B76-94C4-26B0DDB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9B4C-32C7-46E6-A223-0D264742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64809-5F4A-449B-BAAD-8B9F69B1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11856-9729-4F03-8E38-F8E48BB7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92612-24D6-47C0-AED5-7F4D4489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99B82-5499-4E68-8C0B-054A4C4F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2EE5A-DADC-4BCD-9E34-420016E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4B18E-3DD2-4DB2-9C88-CEDC2346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86658-872D-457B-9EB4-5789356D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17331-C17B-4804-80B7-E3317EB6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370F3-11D9-48ED-9A6B-3BBA4366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66D42-9D26-4F19-8280-746078A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7024-77E6-4931-8918-E09091B9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20FF4-6521-4B83-807A-A4D6FB3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BC2BC-1395-4B3C-803A-E2667DC1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38564-CBC6-48C7-AACC-AA85B76F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E2251-CF31-4686-94FB-99D31C6F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B9C61-5703-4C84-A967-8EFD769C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09ECA-E697-4FB2-8A16-C38BD695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B5F15-7C7D-449A-BE9A-AA7C6515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B0859-287E-42A9-B903-0AB3244F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6305F-6B80-41DE-9FFF-A3500BD2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F1DE9-5A0E-4A6F-B139-BD0BFFD1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5C7C-354C-4042-8F46-58AEC74B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3D1C9-1AFA-4D27-B5D3-91E311BB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BE41D-BBEC-44DF-B9BE-F94D9E7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9E23C-DE61-4422-A21E-5912632D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782FB-4F94-4DB5-BDCE-7DA013EA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A3A6B-A8B4-4D7E-8598-E90DD344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E078C-85AA-4991-9C2D-08CADFBB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337C5-BA23-415B-A025-855FF13E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DBDE-4C5C-4837-96A1-C2F5C52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A1F5-DDFA-4A5F-90B7-FC1D317C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7BCB-7E91-4EE7-96D1-55949AE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8A15-5EC1-4BBF-8B7D-735C3464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85D-4BD3-41A6-8C49-EAEDBFF3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5BCB-2519-44D8-8C27-DE4B931A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827E-D20E-4E33-8AB2-754A34F3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6E79-8F94-4B93-97DB-A438EA7E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2664-6EF2-44DC-8F84-A7BEF9AA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33E5-5053-436D-96CD-78DC332A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61FA-2BCD-42FA-A356-21925427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AA29-EF7C-4DCB-9A25-58BEFF89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FF44-B55E-4EF7-824F-70A25BF7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F20C-4759-4D28-8431-A087EA70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1312-0342-4A83-9010-918DE333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F7D-D83B-44A3-AED1-70DD462D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4AEAA-5938-4B60-B725-2596E2DB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3DF3-9348-4BD2-834A-707C5141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5B19-1979-4AB8-9EF5-10677BC2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7B96-06C6-4C5F-811D-1225A17F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5B6E9-6589-4A42-8083-B33BC213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ABF4-82D4-476F-897F-E2C3D754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5DC20-5F2B-4546-BBE5-07804BE3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BB8E7-20D4-499A-8866-1D94C95C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1ED0-F67F-44C6-B33E-C01DD6D5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4A20-7D33-4B22-B06C-D6B219EA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7C5-7374-4176-9D21-D27C3710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D6D9F-8033-42DA-9F67-9CCC28A0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79FE-5582-4AD6-809A-A6DB9631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FEF40-D903-4350-9DB1-A6310DAE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CC0E-8967-4D5B-8F90-8B2928B1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7F63-484A-4353-BE46-7BEB8CA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8028-220C-4A6A-B493-9BDE184A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ABF6-49FE-4260-89A3-4632822B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BA3E-7A96-4AA3-9151-B671DB0E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4C5CF-F911-4229-83D0-9BEA091E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BA9F-F7CB-4BC7-A24E-CE58548C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AB7-7E57-4396-B1A7-917FE649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80F43-D461-40D6-9DAD-1E13EC72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FF9FE-56AC-4915-9EBB-14AC418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B7EBF-EB56-425C-A8D4-D0C61992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6ECE1-6317-45FE-A92E-A1424FD8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42B3A-C20F-4176-A24C-BEA78B6D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87280-41CC-40FA-A6D8-267413B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25ECD-C457-483C-BCAF-7B9AF4E5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7B5E5-C5B0-4B47-A2C3-B090357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CC7E8-A507-48B1-8337-630324B7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C176-8549-40E1-B81D-4DD9026A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534-BCF6-44C9-A478-23AB7497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F172-511F-4650-B069-55E71500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657CC-226C-4373-8A99-408F5CA0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51E4B-8208-44E7-8D0B-E47B13A0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9BF16-C1B0-449E-891B-A354B815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08657-C5CD-4FBB-A241-52569B4D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94784-B9FB-4389-88F4-36100E2D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FC385-A9CF-4DF8-A1AA-B6312E27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9BAB-3B3C-4F5B-9257-BD1D3150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7FEB4-23B0-42E6-866C-1F1A08EA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64CE8-DD23-4D1C-ADE0-BC323F18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A3E-FD1C-430A-9877-C917FA9C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8C8DA-97BF-4C1F-A527-8E75BBCB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E3019-4A5C-4D56-9F10-3BC22F54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72E6D-211B-49A0-8294-C04C754F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26549-6CFC-4B12-B809-DCDC02CC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9D8B6-94D5-442A-B7F3-68D4E72E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7896-6FBD-4F9A-AC7E-39F846CB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6AEAD-61DF-43B6-BBCA-E00DB289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72FF-54CD-490F-9DBA-8242EE40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44F71-5DC2-4073-A7BF-503C8806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A1F63-2641-4C79-B768-AFA72657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3EC-54BF-427F-9E7D-549977A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4E13D-8E3C-42B6-9FCE-FFEDC395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8D8D6-5E1D-4452-8335-17BF113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358A8-DADA-4B11-BF26-FD7B86EB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93EA5-F056-4230-8971-DD04D566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CABB5-4262-47A9-B3CF-40FF939A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C25CB-7516-40ED-BB8E-D4B5F576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F2278-FDF5-4606-87C0-6D9F99BC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FFD09-75FF-461F-8271-D4273DA5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5B224-E060-4461-B3D5-AB273CD0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A76E4-6AE1-4414-94AE-8E2FFBFC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A60-420A-48AF-901F-FF36FC98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1DEDE-F440-4A17-9ACC-2CD5277D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2530D-AAC0-4E81-AAE4-BE6E9DDF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F914A-6568-4B6D-8794-647B35B2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44840-2F45-4D1E-8355-5440F803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6E357-3A1D-4D3E-A876-427FDB9E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A857-8739-4693-8E58-60795F55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A81EA-BF60-4782-869F-82766F5F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77374-BD5E-48E5-ABB2-415AABC4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1B924-40C6-4654-824C-2EA5DA8F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A5060-FB95-428A-9163-9C9217CB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6ABC-1D25-4540-BC2D-C1EF7A63E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F563-8FA4-4338-9D65-65F9503FD8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7859-8C7F-4B88-BC53-CE54BCBF1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3F90-17FD-4923-8249-92F79581DB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3AF3-5721-45EB-834B-7EB7821264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F1BB-F4AF-4C7C-A2DD-F8A6A78DF7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9352-F30C-46C7-88EF-AA44CD9362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143C-0776-4D44-9715-E8FE0947DD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7D72-8225-419E-8178-5B6FC921D1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8185-2734-43B9-87A6-65D580BD61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07FF-1A9E-4C84-AED3-0C25BB1F59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97D1-498C-40F0-B732-553918DCC8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71E1-BFBA-4F3C-A569-DC23B4D81A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2821-EBA0-4A8C-B1B3-CFCC7231B4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94B0-9AE8-4D48-8323-2A11665CF1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3D27-37C6-457F-AD98-FF5E68C621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7FF2-6032-4EBF-B4CB-77DE2268B9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8BEC-E98E-4601-9C6A-565AF5F609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ED90-A8D3-446A-8F0B-4A025AB15B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0E7E-E4E0-4334-8DF3-895A279147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7087-CE2F-48C1-9204-ABC9267CCA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1CC6-BA3A-420A-8B7E-2B1B87B5A27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1DD8-5D4D-497C-B7D7-E631764BE8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0816-B6D1-4292-81BB-AA37B70400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85F7-7BCD-4094-BE4B-8E29C6ED76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C:\Documents and Settings\Owner\My Documents\刘淑华\未标题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创艺简隶书"/>
              </a:rPr>
              <a:t>人教版小学语文第三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2391480" y="22860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创艺简隶书"/>
              </a:rPr>
              <a:t>农业的变化真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WordArt 6"/>
          <p:cNvSpPr txBox="1"/>
          <p:nvPr/>
        </p:nvSpPr>
        <p:spPr>
          <a:xfrm>
            <a:off x="457200" y="838080"/>
            <a:ext cx="33526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读读记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66261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兴致勃勃      引人注目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科学技术      百花盛开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瓜果飘香      十分茁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4" descr="C:\Documents and Settings\Owner\My Documents\刘淑华\未标题-3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C:\Documents and Settings\Owner\My Documents\刘淑华\未标题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4" descr="C:\Documents and Settings\Owner\My Documents\刘淑华\未标题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C:\Documents and Settings\Owner\My Documents\刘淑华\未标题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C:\Documents and Settings\Owner\My Documents\刘淑华\未标题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4" descr="C:\Documents and Settings\Owner\My Documents\刘淑华\未标题-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C:\Documents and Settings\Owner\My Documents\My Pictures\TN_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WordArt 6"/>
          <p:cNvSpPr txBox="1"/>
          <p:nvPr/>
        </p:nvSpPr>
        <p:spPr>
          <a:xfrm>
            <a:off x="685800" y="1066680"/>
            <a:ext cx="2286000" cy="11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我会认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2286000" y="236232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创艺简隶书"/>
              </a:rPr>
              <a:t>农    技   袁    隆   介    绍    培   育   产    棚    控    制   泥   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C:\Documents and Settings\Owner\My Documents\My Pictures\回3 拷贝.jpg"/>
          <p:cNvPicPr/>
          <p:nvPr/>
        </p:nvPicPr>
        <p:blipFill>
          <a:blip r:embed="rId1"/>
          <a:stretch/>
        </p:blipFill>
        <p:spPr>
          <a:xfrm>
            <a:off x="-304920" y="-343080"/>
            <a:ext cx="9753840" cy="7544160"/>
          </a:xfrm>
          <a:prstGeom prst="rect">
            <a:avLst/>
          </a:prstGeom>
          <a:ln w="0">
            <a:noFill/>
          </a:ln>
        </p:spPr>
      </p:pic>
      <p:sp>
        <p:nvSpPr>
          <p:cNvPr id="558" name="WordArt 6"/>
          <p:cNvSpPr txBox="1"/>
          <p:nvPr/>
        </p:nvSpPr>
        <p:spPr>
          <a:xfrm>
            <a:off x="228600" y="990720"/>
            <a:ext cx="228600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我会写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纺织       科技     农业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创艺简隶书"/>
                <a:ea typeface="创艺简隶书"/>
              </a:rPr>
              <a:t>介绍      工厂      产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07:22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09T02:21:50Z</dcterms:modified>
  <cp:revision>6</cp:revision>
  <dc:subject/>
  <dc:title>第一PPT模板网-WWW.1PPT.COM</dc:title>
</cp:coreProperties>
</file>