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44E7-221D-4573-AB54-E2062C200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46C6-2167-4232-A523-E7D60A50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D4CE4-3236-4486-BAE3-8669866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9D94E-0B36-47DF-8715-D9676ECA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D4588-781E-4947-AEF0-873FBCD7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065A9-E5DD-444F-AFB8-094C9B0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B736-1F25-451F-929E-DFE27E7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557EE-0CD5-4CF0-A606-2CFBC5BA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B6FC5-D2C2-4189-A181-E168A30B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343B5-00EF-4F04-9FEA-5E00EACD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3B0A9-69DD-4654-BD25-5878132D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E546B-D341-47F8-80B8-A523B460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56B65-224A-447B-AB5D-86C1B4B3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A0484-3BC9-4EDC-9A6F-2D27A314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F3074-BFAE-4A99-A779-FB59EC74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89A80-E5D5-418C-8134-FE1B000D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530B3-2E81-479E-AD3F-A77E28FF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516AF-6554-44FE-A1B2-2EDF5DC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6DF6F-FC41-4CA6-B0D1-E4C29910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DCB5E-B627-4992-AB31-F05C819C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A5224-6D1F-4A69-8562-B4A5F5DD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6F57E-8FC6-4183-9136-722C186A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A3406-5862-48AC-AE0C-25F45E09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63897-097A-405A-9615-28DAB285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67AAE-9BBC-454E-8A15-DF6F4060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FC2DB-A489-47C2-9536-FB486F04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A9724-2656-4209-A163-32253AC1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2CC2B-9689-4D98-9C9B-E46F3B8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A05BC-B67C-44D2-827F-B39D4685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9472F-5908-44AA-BA63-8C1DB5E5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F14DA-E7E7-4F8C-B1E4-8B11BC1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8403E-E355-4360-BABC-8F09E71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DD9-2E6A-4758-8494-336E14C0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54F80-DC3B-4DC5-9706-6D935837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ABADB-8982-4074-81EC-16402C6D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9D0DD-2F4F-43EC-B823-8D121352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1B594-AE4E-4646-8E10-88431FEF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CF41D-F4DD-454C-AEAC-6C987C76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68CD0-78DF-42CB-827B-42CDFCCB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318A1-985A-4376-A113-EB364B2F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DE238-4FA5-4CD1-AE3C-AA8753E1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89829-F1F5-40BC-97AE-82B0509F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DE717-F058-4AF6-9B38-F869F8F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5D0-B451-4528-BCE0-E8ED40EE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9CAB4-460C-427A-8BD3-3B7E97E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400C0-36B9-449E-B1C4-DCAC1DA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53C73-9870-42E5-96E3-9408E898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0F199-5BDE-4FDE-878A-97ACF940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C07D4-72EB-4FEF-879F-57B3A59D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776CE-0EEC-419E-A959-64CF1A2E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E5791-7450-4663-92AD-8D1D306D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DE35D-ED5F-424B-82E2-ACE26419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8AA28-5A0C-46C1-A1A3-CC6DA7C4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E5659-AE6F-43B2-B2CA-14723F26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89A-5410-4D53-9AF9-A4CEEBEC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AD073-0C92-44E2-B41C-1086F882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0019B-A42B-46E1-832A-DCFA2016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DCE1D-DA97-4356-8D02-9B9E391A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7EB3A-2ACD-4A13-A0FA-0EFCA814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48740-52B8-462A-AF59-33BE869D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EE983-9166-4382-9750-5816FE5C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AA468-0308-40D1-B2F4-FE792355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3F0F4-85EF-408C-B62D-76E9596B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01868-F5FE-43EF-8DE2-57A3DBEB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70457-0369-4C41-BCC1-6C0EE82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816-F78A-408D-B277-BFEA3533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B0219-8D6D-4680-8CE1-19EF99DA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FDE26-6DF4-4D96-B968-C334B908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5AE09-F889-4E19-AC08-B7DBF10E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663AF-B445-4583-8FCE-0C44827B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E1928-8BBD-4E14-8340-529F41C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6FF36-883C-4813-859D-89F391B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C48AF-45FD-4D81-879C-8BAE4E1C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E5CFF-A563-4945-81C3-C3CF945E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2DBE7-C7F3-432A-9749-5FA70424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FB0-7244-49D4-A196-7A4F121A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1FF-390D-4DC9-BE77-677D38F6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F87-5AEB-4D6B-855D-86F989D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72B-66F4-4F29-8FE0-46D5F838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3EF-4F91-4600-8631-90203E6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040-521C-42D0-80ED-DFCBEAA9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051-FE11-49D0-865E-D014B011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189-CA00-43C4-A606-C68CEB60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2ABD-715B-4C9D-8058-3EAED227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4B6F-4EE0-4B7B-B54A-C194F0A2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9239-D12B-441B-96D6-7A24C95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3F42-210C-400B-9BEA-98D39F0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A322-6593-452E-9FDD-94FD000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B145-E29C-47BA-99C2-141FBE3B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A14A-54BC-47EB-9224-9DB7A27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B262-CBFA-40DD-85BE-28136A99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2E28-C96A-4C34-99A7-90D71792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06C7-DF47-4D61-9263-B647516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7A2C-788E-460E-8294-E035DC70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1FFA-9E0A-44D9-A564-4731C202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2C05-AD67-4D84-B29A-A68ED495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87E4-D335-4485-B83B-F6337E82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14BE-321D-46F1-83B0-4B8B8C42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FEAB-61ED-4138-9059-C4D741D6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2212-EC47-40D1-89B6-8928EE26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51A3-579C-41BD-8CCB-088102F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9A84-8E8A-49F0-86C3-952771E2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3E97-BB00-4956-BC29-5C80188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240D-3766-467D-A800-E85D725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2553-7AC3-45ED-B5DF-6AB0DD8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4D21-A32E-4768-B36C-599C34C3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24E3-914E-439A-8DC8-DAB030A7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5481-211D-49A2-A82A-9B08604B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FFE3-235B-4F4F-AC80-E10F6876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492E-4718-4384-8720-C764BDC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A140-77B2-4378-A8B9-26162B58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FFDC-FADD-45F3-98A6-F112C717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9E3F-996E-41D7-818E-8A9FEDB6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C07AD-E59B-4AD1-8F5F-764BA12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8396-B8C8-4A31-A3A6-002E608A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71163-2025-4F46-AB18-079C056A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7BDD-9539-4274-99B7-F72CA7E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F89A-D320-42C1-BDCF-A088CDAB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5518-2F91-473C-8AA7-B77EE139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D43E1-F8B3-4136-8346-C39B4F8B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FC8E-ED06-465A-B7BB-07096FF1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FE85-677A-4A82-89C2-BEBF3A53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233B-93D3-44AE-B1A9-53102EAC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2F1AF-4793-4C3C-B166-BA20EB38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44EA-4F6B-430E-8C1E-AC3DE5D6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83A7-B01A-4EF0-9245-0F4A0ED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C16AD-1054-47EE-A999-63ED412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A7C4-1EAE-4657-9F1B-B63CF0B5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63A8-82E0-49BE-93F5-B3032C8D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6E2C-4A0D-4587-B088-3E3AF595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DA5CB-D123-4EDC-9886-3E9296D4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917C-E658-4AF9-BB91-4951DF39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FA5CF-2E7F-4B5C-B45E-FB78B87D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7431D-8C2E-4FBB-B3EF-0B9CAD81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387A-59AF-44EF-B4D2-68DFA717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DC03E-3B31-42A1-BB28-DBE0D19E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5EED8-8087-426E-8915-D197D7E6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CD7B-A11E-4E2B-BF08-CE40CAA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C4ADD-91B6-4B4F-9093-D9A50DDB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C7BFF-4920-48C5-8B26-AA5CCCD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4A57D-5490-4496-AA22-490803CD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96A51-785E-4B0B-9F1E-3A7C629D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5C54-8EBF-4686-AD24-C548CFCA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2C98-7987-4504-AC15-F529EE21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659D2-E8C3-495D-BD03-B37B322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DA616-8009-41B3-B98A-64B2812D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封面-色块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2538360" y="3252960"/>
            <a:ext cx="4191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Demi"/>
              </a:rPr>
              <a:t>Make collective repor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封面标题"/>
          <p:cNvPicPr/>
          <p:nvPr/>
        </p:nvPicPr>
        <p:blipFill>
          <a:blip r:embed="rId3"/>
          <a:stretch/>
        </p:blipFill>
        <p:spPr>
          <a:xfrm>
            <a:off x="2940120" y="269568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2"/>
          <p:cNvSpPr/>
          <p:nvPr/>
        </p:nvSpPr>
        <p:spPr>
          <a:xfrm>
            <a:off x="3543480" y="2709720"/>
            <a:ext cx="28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ed"/>
              </a:rPr>
              <a:t>Designer:S.G.C.chen8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573360" y="2994120"/>
            <a:ext cx="27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海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水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正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蓝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作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BCDB-5B43-4EF3-AB59-B628392340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4AF-5713-48A4-A6F3-1B583BD168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7053-51D4-4F59-AD61-2AC7414E78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251C-D75B-42F5-9510-582C8740D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CBD3-B598-4DF9-8361-C03AB258B2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E1E4-897E-4CA9-A785-1B0911481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ABBA-D0D0-4C7C-8FF6-C1CEF6D3AC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FAA4-3F1C-4F07-81CF-EFD449FC65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3AA2-FC5D-4109-97AF-8C35684DEA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A3FE-8CD8-4284-A9D1-45BF7F8E7D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9E4-EFAC-42AB-B852-601888FE67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1C2A-166C-4632-9102-4DE53895EA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封面标题"/>
          <p:cNvPicPr/>
          <p:nvPr/>
        </p:nvPicPr>
        <p:blipFill>
          <a:blip r:embed="rId2"/>
          <a:stretch/>
        </p:blipFill>
        <p:spPr>
          <a:xfrm>
            <a:off x="5595840" y="601992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6199200" y="6033960"/>
            <a:ext cx="28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ed"/>
              </a:rPr>
              <a:t>Designer:S.G.C.chen8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229440" y="6318360"/>
            <a:ext cx="27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海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水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正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蓝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作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内页-底图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封面标题"/>
          <p:cNvPicPr/>
          <p:nvPr/>
        </p:nvPicPr>
        <p:blipFill>
          <a:blip r:embed="rId4"/>
          <a:stretch/>
        </p:blipFill>
        <p:spPr>
          <a:xfrm>
            <a:off x="1990800" y="38088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3"/>
          <p:cNvSpPr/>
          <p:nvPr/>
        </p:nvSpPr>
        <p:spPr>
          <a:xfrm>
            <a:off x="2593800" y="39528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ed"/>
              </a:rPr>
              <a:t>Designer:S.G.C.chen8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624040" y="679320"/>
            <a:ext cx="27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海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水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正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蓝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作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45520" y="6191280"/>
            <a:ext cx="798480" cy="396720"/>
            <a:chOff x="8345520" y="6191280"/>
            <a:chExt cx="798480" cy="396720"/>
          </a:xfrm>
        </p:grpSpPr>
        <p:pic>
          <p:nvPicPr>
            <p:cNvPr id="90" name="Picture 21" descr="内页-页码"/>
            <p:cNvPicPr/>
            <p:nvPr/>
          </p:nvPicPr>
          <p:blipFill>
            <a:blip r:embed="rId5"/>
            <a:stretch/>
          </p:blipFill>
          <p:spPr>
            <a:xfrm>
              <a:off x="8345520" y="6191280"/>
              <a:ext cx="798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2">
              <a:hlinkClick r:id="" action="ppaction://hlinkshowjump?jump=nextslide"/>
            </p:cNvPr>
            <p:cNvSpPr/>
            <p:nvPr/>
          </p:nvSpPr>
          <p:spPr>
            <a:xfrm>
              <a:off x="8424720" y="6248520"/>
              <a:ext cx="719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abylon5"/>
                </a:rPr>
                <a:t>NEX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A71A-3EBA-481A-BC84-B69D235797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E9F-0066-4380-B0F0-473E0A835C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C94A-218E-434B-B8E0-764C05D909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0E66-EA56-4D00-BC03-00A2D5D4FC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36F0-BF7F-4222-897B-E3A66B7ABE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7B67-557E-4F57-B736-5DE3121012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8017-A178-42BC-A2AF-4D66868BCA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8068-4C26-4A20-AA3C-FA3436F00F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424C-ECB2-415A-B1E0-25FE3F948C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45C8-6A8B-4479-B982-6AB28B3F44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8CA9-2DC3-454A-914A-8E8124FA90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679A-F53F-4E12-BE17-09A272A502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7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6" descr="目录-底色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9" name="Picture 7" descr="目录-绿色条"/>
          <p:cNvPicPr/>
          <p:nvPr/>
        </p:nvPicPr>
        <p:blipFill>
          <a:blip r:embed="rId2"/>
          <a:stretch/>
        </p:blipFill>
        <p:spPr>
          <a:xfrm>
            <a:off x="0" y="1978200"/>
            <a:ext cx="9144000" cy="725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封面标题"/>
          <p:cNvPicPr/>
          <p:nvPr/>
        </p:nvPicPr>
        <p:blipFill>
          <a:blip r:embed="rId3"/>
          <a:stretch/>
        </p:blipFill>
        <p:spPr>
          <a:xfrm>
            <a:off x="2004840" y="203508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0"/>
          <p:cNvSpPr/>
          <p:nvPr/>
        </p:nvSpPr>
        <p:spPr>
          <a:xfrm>
            <a:off x="2608200" y="204948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ed"/>
              </a:rPr>
              <a:t>Designer:S.G.C.chen8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2638440" y="2333520"/>
            <a:ext cx="27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海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水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正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蓝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作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502240" y="1959120"/>
            <a:ext cx="3092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abylon5"/>
              </a:rPr>
              <a:t>CONT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19"/>
          <p:cNvGrpSpPr/>
          <p:nvPr/>
        </p:nvGrpSpPr>
        <p:grpSpPr>
          <a:xfrm>
            <a:off x="5559480" y="2990880"/>
            <a:ext cx="3584520" cy="368280"/>
            <a:chOff x="5559480" y="2990880"/>
            <a:chExt cx="3584520" cy="368280"/>
          </a:xfrm>
        </p:grpSpPr>
        <p:sp>
          <p:nvSpPr>
            <p:cNvPr id="595" name="Rectangle 18"/>
            <p:cNvSpPr/>
            <p:nvPr/>
          </p:nvSpPr>
          <p:spPr>
            <a:xfrm>
              <a:off x="5559480" y="3030480"/>
              <a:ext cx="3584520" cy="290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3">
              <a:hlinkClick r:id="" action="ppaction://hlinkshowjump?jump=nextslide"/>
            </p:cNvPr>
            <p:cNvSpPr/>
            <p:nvPr/>
          </p:nvSpPr>
          <p:spPr>
            <a:xfrm>
              <a:off x="5646600" y="299088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1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0"/>
          <p:cNvGrpSpPr/>
          <p:nvPr/>
        </p:nvGrpSpPr>
        <p:grpSpPr>
          <a:xfrm>
            <a:off x="5559480" y="3340080"/>
            <a:ext cx="3584520" cy="368280"/>
            <a:chOff x="5559480" y="3340080"/>
            <a:chExt cx="3584520" cy="368280"/>
          </a:xfrm>
        </p:grpSpPr>
        <p:sp>
          <p:nvSpPr>
            <p:cNvPr id="598" name="Rectangle 21"/>
            <p:cNvSpPr/>
            <p:nvPr/>
          </p:nvSpPr>
          <p:spPr>
            <a:xfrm>
              <a:off x="5559480" y="3379680"/>
              <a:ext cx="3584520" cy="290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2">
              <a:hlinkClick r:id="" action="ppaction://hlinkshowjump?jump=nextslide"/>
            </p:cNvPr>
            <p:cNvSpPr/>
            <p:nvPr/>
          </p:nvSpPr>
          <p:spPr>
            <a:xfrm>
              <a:off x="5646600" y="334008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2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3"/>
          <p:cNvGrpSpPr/>
          <p:nvPr/>
        </p:nvGrpSpPr>
        <p:grpSpPr>
          <a:xfrm>
            <a:off x="5559480" y="3687840"/>
            <a:ext cx="3584520" cy="368280"/>
            <a:chOff x="5559480" y="3687840"/>
            <a:chExt cx="3584520" cy="368280"/>
          </a:xfrm>
        </p:grpSpPr>
        <p:sp>
          <p:nvSpPr>
            <p:cNvPr id="601" name="Rectangle 24"/>
            <p:cNvSpPr/>
            <p:nvPr/>
          </p:nvSpPr>
          <p:spPr>
            <a:xfrm>
              <a:off x="5559480" y="3727080"/>
              <a:ext cx="3584520" cy="290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25">
              <a:hlinkClick r:id="" action="ppaction://hlinkshowjump?jump=nextslide"/>
            </p:cNvPr>
            <p:cNvSpPr/>
            <p:nvPr/>
          </p:nvSpPr>
          <p:spPr>
            <a:xfrm>
              <a:off x="5646600" y="368784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3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6"/>
          <p:cNvGrpSpPr/>
          <p:nvPr/>
        </p:nvGrpSpPr>
        <p:grpSpPr>
          <a:xfrm>
            <a:off x="5559480" y="4035600"/>
            <a:ext cx="3584520" cy="368280"/>
            <a:chOff x="5559480" y="4035600"/>
            <a:chExt cx="3584520" cy="368280"/>
          </a:xfrm>
        </p:grpSpPr>
        <p:sp>
          <p:nvSpPr>
            <p:cNvPr id="604" name="Rectangle 27"/>
            <p:cNvSpPr/>
            <p:nvPr/>
          </p:nvSpPr>
          <p:spPr>
            <a:xfrm>
              <a:off x="5559480" y="4074840"/>
              <a:ext cx="3584520" cy="290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28">
              <a:hlinkClick r:id="" action="ppaction://hlinkshowjump?jump=nextslide"/>
            </p:cNvPr>
            <p:cNvSpPr/>
            <p:nvPr/>
          </p:nvSpPr>
          <p:spPr>
            <a:xfrm>
              <a:off x="5646600" y="40356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4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29"/>
          <p:cNvGrpSpPr/>
          <p:nvPr/>
        </p:nvGrpSpPr>
        <p:grpSpPr>
          <a:xfrm>
            <a:off x="5559480" y="4384800"/>
            <a:ext cx="3584520" cy="368280"/>
            <a:chOff x="5559480" y="4384800"/>
            <a:chExt cx="3584520" cy="368280"/>
          </a:xfrm>
        </p:grpSpPr>
        <p:sp>
          <p:nvSpPr>
            <p:cNvPr id="607" name="Rectangle 30"/>
            <p:cNvSpPr/>
            <p:nvPr/>
          </p:nvSpPr>
          <p:spPr>
            <a:xfrm>
              <a:off x="5559480" y="4424040"/>
              <a:ext cx="3584520" cy="290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31">
              <a:hlinkClick r:id="" action="ppaction://hlinkshowjump?jump=nextslide"/>
            </p:cNvPr>
            <p:cNvSpPr/>
            <p:nvPr/>
          </p:nvSpPr>
          <p:spPr>
            <a:xfrm>
              <a:off x="5646600" y="43848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5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19"/>
          <p:cNvSpPr/>
          <p:nvPr/>
        </p:nvSpPr>
        <p:spPr>
          <a:xfrm>
            <a:off x="944640" y="2290680"/>
            <a:ext cx="757548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45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2000" spc="-1" strike="noStrike">
                <a:solidFill>
                  <a:srgbClr val="0099b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2"/>
          <p:cNvSpPr/>
          <p:nvPr/>
        </p:nvSpPr>
        <p:spPr>
          <a:xfrm>
            <a:off x="5502240" y="274680"/>
            <a:ext cx="3641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abylon5"/>
              </a:rPr>
              <a:t>A.CAPTION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6"/>
          <p:cNvSpPr/>
          <p:nvPr/>
        </p:nvSpPr>
        <p:spPr>
          <a:xfrm>
            <a:off x="5502240" y="274680"/>
            <a:ext cx="3641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abylon5"/>
              </a:rPr>
              <a:t>B.CAPTION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09T02:21:3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