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D5D-B54D-4E9B-8733-3D18D254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D4D-5B70-4248-A708-58E553D4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B2484-DDCA-42DC-B5EA-0CA263CF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46271-CA00-4FCF-8E2B-27C23106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87753-3C5F-4AE3-862E-7CB430EF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B8B67-8A9F-48C4-84F6-0DC9FA3E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01F9B-CAE2-46F0-8995-2D0B6C14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E40D3-0214-4322-9E05-5F42F034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198AD-2B0F-4F2D-98ED-BB4EE0D0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C3326-19DD-4689-B807-DF04F2F0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0B76C-07AC-4E46-9794-AB866BAA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0DBE7-041F-4DFF-A9F8-F7F1877C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129A-3F92-4BCD-9411-B036E7C9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A14BF-6F72-4610-BA26-959CD1F6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FB6E7-3E68-4B05-9EFF-C467843C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5023B-EBAD-4819-B417-648F45C5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97AE3-2A72-4FD8-91E6-5CDCCD46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64101-F307-4F5C-8261-B3105826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D63CA-7528-4EF2-807A-CA0D1569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647E3-54EB-4652-9E48-756F736A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3E78E-CAC2-4945-8C8E-7452F2BE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F5050-D5ED-4168-BF0C-0D0FB416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08426-175A-467A-9860-D70A9860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34A-45D1-4852-9EB5-616053D8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0B611-102D-47F8-B466-5F8BCC95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A424C-48A0-4CC6-9A12-36D4D167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8EC64-55E6-43AA-BC39-D4CA69C0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649F6-E36E-47BA-83E4-F93F5F9B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E4019-1576-4738-9BE5-F61CCF8E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8DACB-17F0-452E-9506-4BD3D2A3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CA32F-90C8-45B5-B980-FA910443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03CAA-2BB5-4DC3-8201-3DBF190A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B590B-277D-4BD4-9DFB-D6E3EDDB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FC12B-64B1-43DF-9933-F20A07E6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DFD0-C07B-4269-B51B-ABE50622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BF21A-6DC6-4A29-9CCA-D464A5A2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D7D1A-A38B-4AEE-96F7-BC01C3C1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30DA2-D0CF-4CC6-AA4E-719C37FD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BEA40-9B86-49C8-B099-38416A7D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CA91F-45A4-463F-ADC0-5DAC0292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5CE91-AF1F-4E32-99BA-606D1114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65CD5-D6A6-44F0-B122-A7EDB0A0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DCB44-4B04-4128-A4CB-1C7327F7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DE4D6-C1BE-4AA0-A4E7-C476B64B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DE2D9-7C4D-4C29-A2C8-97180CE5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CCB2-14EE-428E-89A0-09941041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5B6DE-85AA-4F97-99EB-2F55ECCF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11A90-3060-4C97-99F3-FA60B86A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84117-E8DC-41A2-865C-B65178A5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809CD-414B-4813-8BD6-198144FF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D4884-8A8C-42B4-BD96-234B45EE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6E16B-BFF7-44FC-A767-81372E64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73D89-B33C-47E6-B96A-0A45EEF4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389F6-D1C8-4806-A52B-14C927D8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5EC85-0684-4C6E-B4F1-0EF0B73B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60C81-7AC8-4070-A723-5BEC7AEF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283B-6C99-43C5-AE33-D670925D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1E29E-1045-4F1D-B052-9324E30A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5AD9A-1943-4EFE-B302-E9C1A015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3F9B2-A26E-4367-B621-34512105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2F5A2-B5F2-4A98-9641-AD783ED0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AFC27-D3F4-4B00-B7FA-CE974C6A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823E8-8DE0-4722-8A37-99349691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2029B-0B9E-4F4A-A10E-F485718A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9390-BB75-4F17-9A44-D802C3D4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9527-D8FF-4999-8338-13D8F301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4207-E56A-453E-9198-BCFA84CB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089D-F0B9-4A89-8D9A-05391C27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AC9-C0E0-4685-8AB6-1352A938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F895-BA8A-4502-8677-090D2918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97CA-8319-4269-ACCA-E82517CD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8A93-1251-4CCC-A1F0-08D18E18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E93D-792A-4471-A6A6-9C4DD690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59E0-B034-42AF-8D00-8CE45788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73469-252F-4D12-A76B-0C1B311F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AFFCA-7309-4B15-8027-9CEA2B7C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0C173-FBFA-49D3-8EB5-B0B55407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A72FF-6B8E-4CEC-A1BD-57C4E4EE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65B3B-F289-4DF7-AAAB-6F7F0674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284-9156-4A8C-8132-0DB4162C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0F95B-74B9-4954-9FC2-08A58243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1B05A-C099-4524-8563-CFD4592C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8CEC1-649F-4F08-857E-B7D949F3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344B-7535-4420-8E68-7D602018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37612-9592-4B49-9DAA-F44AD0C6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57B34-0518-45D5-B2B6-E11205E1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B3938-6847-401D-9B31-F6E5131E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9B677-FD22-48F9-B3C1-77419DC4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FFDD8-0EED-4211-A5CF-3FAF61C7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79E9D-114E-4C64-909F-3D2F775A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788-C288-464E-BD96-080346DB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6D36B-C56B-467A-8E44-9DBE40B6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5E7FE-72B9-4879-9592-7A7D6C28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FE8E6-4A5F-48F6-8C3B-B2EFE7ED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C2022-3DC6-450B-BA7C-AE5B760C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AF39A-A836-4840-97B9-0C4EADE1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DA2B1-B261-4DD3-BC27-69A3E8CD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5BE05-5876-46FF-8BD2-ADC719EE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F44CE-FFB7-4739-A482-A2B2F850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D7518-0ECD-47BC-848F-FAF28A56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D285B-0EEC-44D3-BC84-8529607D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584-EC75-4C91-8232-F8337719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0AD84-A77E-4855-9416-831261B4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3F3F4-0BEE-452A-823F-78689BC2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13FB4-51B2-4F09-91BC-CF8FF5A0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99E57-D05C-425B-886A-EC0E4507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6025F-FFC5-4039-A759-3759AEF8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EED75-E660-475D-9BD3-E356A150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66268-FD0B-45C3-86B1-4AD95046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F5CA1-E446-49BC-8613-4EB29C19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10CDA-2E51-4423-9463-CF51E55C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CF02B-24E2-471C-B5DA-FEC5B739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087-77D1-467D-8E88-211FBEC7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96E84-6E37-4D10-949A-A0A29712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32C5B-5922-4E85-A77D-F97FF1EB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CE6BE-CE96-448F-A257-66504584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56B85-4EDF-4ABD-B3C2-888CB6B9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D5CB0-EED1-41BB-BC8A-C0F3B357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DF36B-E822-49BD-9B1A-26AD7EC4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14665-4C91-469C-930D-64CC1835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A1B33-1E6C-419B-9D5E-8E4AF18F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FA3A4-BB7C-478A-8634-5C99A344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0D49A-CD4D-46BA-AB1A-CBDAC800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A33-85A3-4747-A762-05B205D1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F946B-49A9-45BA-ABCA-521C6A10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04226-A2CF-45A5-80EE-B3D8F4C7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49FCA-987C-400B-9747-4DC602E4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07AC2-BEED-42F4-BE4A-F04CAE48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32B31-BCD0-4B96-9937-E2EC7D92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21243-6293-48CA-B700-C62EF2B6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21D63-0FC6-4956-8584-4C543596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FA3F5-7842-472D-98D1-C611C34B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C9ED9-9372-448B-ACB6-E3468ED8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96523-8AA5-4034-AE0A-16319A31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4ED-E8A0-46B1-9F9F-CC5AB745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5828F-3D7A-4CE3-84A9-20185B86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27095-30E5-4675-978B-928525A1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81D8C-1E9C-45CD-9EE5-44064364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F9382-78C4-4A38-8D02-CB523BB8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089EC-1CDF-4CD0-A135-B4AAA586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23052-1F48-4858-8E56-A71871E1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05A1E-6E24-4274-B911-83DF3843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31C3E-9976-47F8-A525-90BA4490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944DA-AE10-4B46-997E-82B1947F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37DD1-D1D6-4DDC-AC6C-306B5A89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B12-663E-4A12-B1BB-824B6BFB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B5C3F-FB4A-45D0-B9A0-88BE332A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ACBBA-F8A2-40F1-9F62-826193F1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D234D-E7B8-4493-A9BA-006C3BBA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F4E10-12F4-477E-8AE3-0B4518F5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45DD1-31BC-46AE-B7F9-294FCD94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27F87-0FFA-43CF-8D7D-67C0B9B0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64DD3-FC85-4279-822C-A8064AF1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1EB7A-EB39-431D-BCF3-CE51FA70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CCF6B-3F2B-4159-BD1F-E9A7B6C4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6D4DF-6634-43C2-80A6-B7825D4B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4659-1C57-48B5-90D3-66173F08D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FFD3-9852-4B76-A8E4-43EE0A0BDDF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6474-A3AD-4FD9-9FE3-E359E8A994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1260-BB7B-4C5C-9418-2850655EBB1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F045-BD7E-47D6-A4F9-B488B374E7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49E5-6394-49BB-9CDB-015F775C54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DB38-5727-4350-9625-440435B31A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EFD7-8ADC-470D-9F54-CA0C7A6C1C0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C3E7-3AF0-43E0-BDB7-B9386B4E9A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89B7-61C1-4E04-A081-004E6528EB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80E5-DED4-42BA-A2BB-1661F69EAA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F86D-AB4A-45D3-A292-3271B0F6342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3FCE-9E3F-43C5-B6EF-ACB8C2A6BC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DECE-807D-4034-9BF8-C52DE44E27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4387-5C2D-46B1-9365-36C18DB002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0B8B-30AD-4468-9453-CFBE21006D0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78E4-E9AE-4EC3-92AE-B83CE733ED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A994-617A-41F9-BC4A-5046F2A46B9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83F6-936D-4F49-9944-C7F09CF41E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0651-1DB9-4A32-A40A-6CA91C27600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F2A4-0B17-4D6C-BAC4-83468764E0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6BEE-150F-4A96-A6F8-891A531133E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2037-DE03-447B-95D9-F53E641A55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688F-CF66-4648-9F09-1EAE166EEE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6D51-8A95-4164-8025-2D441A3747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hyperlink" Target="http://www.1ppt.com/kejian/yuwen/163/" TargetMode="External"/><Relationship Id="rId10" Type="http://schemas.openxmlformats.org/officeDocument/2006/relationships/hyperlink" Target="http://www.1ppt.com/kejian/yuwen/164/" TargetMode="External"/><Relationship Id="rId11" Type="http://schemas.openxmlformats.org/officeDocument/2006/relationships/hyperlink" Target="http://www.1ppt.com/kejian/yuwen/165/" TargetMode="External"/><Relationship Id="rId12" Type="http://schemas.openxmlformats.org/officeDocument/2006/relationships/hyperlink" Target="http://www.1ppt.com/shiti/" TargetMode="External"/><Relationship Id="rId13" Type="http://schemas.openxmlformats.org/officeDocument/2006/relationships/hyperlink" Target="http://www.1ppt.com/kejian/yuwen/166/" TargetMode="External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6"/>
          <p:cNvSpPr/>
          <p:nvPr/>
        </p:nvSpPr>
        <p:spPr>
          <a:xfrm>
            <a:off x="2340000" y="134136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/kejian/yuwen/166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图片 1" descr=""/>
          <p:cNvPicPr/>
          <p:nvPr/>
        </p:nvPicPr>
        <p:blipFill>
          <a:blip r:embed="rId14"/>
          <a:srcRect l="0" t="0" r="0" b="36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1262160" y="16286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他跳进大海里，取下混天绫在水里一摆，便掀起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滔天巨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连东海龙王的水晶宫也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摇晃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起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图片 5" descr=""/>
          <p:cNvPicPr/>
          <p:nvPr/>
        </p:nvPicPr>
        <p:blipFill>
          <a:blip r:embed="rId1"/>
          <a:srcRect l="0" t="0" r="0" b="36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952560" y="11970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龙王派了巡海夜叉上来察看，哪吒打夜叉是不是很费劲呢？自读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，动手划一划，哪些字词可以看出来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5" descr=""/>
          <p:cNvPicPr/>
          <p:nvPr/>
        </p:nvPicPr>
        <p:blipFill>
          <a:blip r:embed="rId1"/>
          <a:srcRect l="0" t="0" r="0" b="36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1371600" y="119700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龙王听到这个消息后，怎样一个表现呢？分四人小组读一读第四自然段，填空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龙王听说以后，气得嗷嗷直叫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______________________________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！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5" descr=""/>
          <p:cNvPicPr/>
          <p:nvPr/>
        </p:nvPicPr>
        <p:blipFill>
          <a:blip r:embed="rId1"/>
          <a:srcRect l="0" t="0" r="0" b="36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990720" y="4129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三太子跳出水面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气冲冲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地对哪吒说：“你打死我家夜叉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该当何罪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？”说着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举枪便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哪吒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一纵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趁势抖出混天绫。那混天绫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立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喷出一团团火焰，把三太子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紧紧裹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三太子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只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现出了原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Nezha2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1:30:24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8T05:43:22Z</dcterms:modified>
  <cp:revision>8</cp:revision>
  <dc:subject>第一PPT模板网-WWW.1PPT.COM</dc:subject>
  <dc:title>第一PPT模板网-WWW.1PPT.COM</dc:title>
</cp:coreProperties>
</file>