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171-A1D3-4658-805F-CF10E4434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EB57-8A9E-4B96-A035-1E61894F0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419869-59DC-4717-89D2-A89D981C6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6E4E42-478B-4B36-9524-A03E40BE2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7F6F29-DA40-4B8F-866D-418FBEAB4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D1AB87-51E6-4BE6-B7D8-9F10306C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AAD58-C266-4222-8F58-900E3541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5D1874-45AE-4A31-BD90-D070FEB1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AF86D-2D00-4658-8F87-96A316C87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E5280-2FB2-426D-B28F-0A5BFAC76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82A199-BD3D-4FCB-805A-E8334601C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86CEF8-820D-457B-BBB2-860776885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348-2352-4D2C-A3B9-34D3A746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E9C80-F0D2-41DC-B824-F21E1CC5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22AC6-95EA-41E8-BC04-1B3B19BD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6D12B8-E8A2-45BA-BFF4-4FF4C7220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48667-A10D-4D61-BB45-AD87A023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E5E34-0499-4D6E-A458-D18C27B3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13671-7219-4D98-AAE1-49EA3065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BF8879-890D-42F0-AFDE-1857F7358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C34933-0A1B-41FF-82B4-39E7BB7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35E5EF-CF9A-4A80-91A1-048BB752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08217-35E1-4525-B983-D58B6BF3E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4327-ECD4-4BD1-8E86-64A695828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F1573A-9F2B-4053-A6D8-0B749D4B9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11D80C-8552-4BB1-8DAC-478A5CE01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27051-CD44-4414-B805-9780DCC3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E7E1E-725A-4CF2-8C3B-0DF186EA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76EC97-5371-4F89-90CE-FA039B0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374AB-50EE-444E-847D-A747768FA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6365E-067C-472C-8098-548A9F92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C2A042-29B9-4A4C-81A7-10E7FFED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5358F-9290-49E6-8049-0FC2E832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594ABC-1CE6-45C5-ADCF-8C2D443A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39B20-D8D0-46DC-B295-1EE7A397A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BFEEBE-440F-4834-98F7-1E4CABA47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A9718-F597-4597-834F-515E59519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594AF-27D3-42D6-AA7F-5625E8A0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05EBA-4810-4300-B4A9-BC578D7E8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BCCEE-C17F-4BAC-809F-B42F3218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F6AB34-C1C0-4B4B-AEA3-E19EB7FB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BDCA24-357C-40B1-B2F4-52C6919D2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649238-AB75-4471-8353-D23B7E5F1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C35C40-E7EB-4B37-A71C-679ADD30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DEF9D-3D23-4B3C-AA61-63979268D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648F-23FF-48AE-B3EB-6FCB89316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962727-1047-46F2-8CA7-5D9DC9B2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469445-4B40-4AF1-940F-B04008C6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977AA-C3EC-4A0B-B9D9-C36BBAE9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EA4123-9F26-4A95-872C-80068B3A8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CC07DD-A8C7-4FE1-A2F6-99632C76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4054A-7498-4262-AFA0-1C277EB28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55FBEC-8309-4BC7-8F0B-2AE647460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D0CC97-2627-42E2-A8EA-7E2FEB542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2EE815-4AC2-4D8A-8A95-07AE7AA48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E3750D-8ABA-466A-8BB1-F4D21D84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73682-17D1-4DCE-A6A8-92AE2A849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730D0D-DE7E-4A7C-99F4-1762955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E9D81-BF3F-48C0-87FE-B1A4AAA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D4257-B20A-408D-80FC-0E1E9A7C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4BC816-7739-4471-B301-F9C591DD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31F1A9-D240-4DA4-87B0-A0CF06A0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815AB0-E23F-4BA0-8071-C0B4295E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C639A5-7A72-4876-9D97-B6808B889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1EA1-9727-4801-BFEB-B9585A31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2C1C6-675E-4EF0-BE6C-7A85946F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B33E-ECB9-4195-8616-B748CF65B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3DFB2-C656-46A5-BF13-500F0058D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E67-77DC-46EE-8096-BF72A80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B3D3-DAEA-460D-AB84-8D13FDD6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FC2C-32AC-4DF2-8D98-1495DCE19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5949-8E5C-4042-9BD4-D59C0793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56DB-D4FC-4010-8120-BEEB2907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2E8F-2976-436D-9CA9-63D0D57B9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5E8BA-E6CF-4435-A6AD-FCF469951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4519E-3F3E-4815-85CD-F72AA73F7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DF76-C958-43AD-9D36-253A2F9A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A9ECB-6E33-43A0-8096-CADF960F8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757CF-69D9-4908-B83B-FB15A581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1700-1F97-4A89-AA20-51B916EA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F03D1-BA6B-441F-978D-BF8A3B40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3AD39-1A6B-4A1E-8321-62E60FCE3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A1A5-F4F0-492F-A3C3-67F4DEF7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47FCC-D0E3-4B39-B8BF-63107583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7DEA63-9E10-41BD-AE2D-D92DA2849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FAEC5A-3A56-4038-B54B-E9F852839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BC37F1-F882-4B67-9AB7-76EE13DD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FBF7E-8D6D-4DC6-9239-052B4DA93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836B56-CE01-42A5-A018-567BC489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ABB9F8-BC0F-43EF-9971-D5F806AD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2B1-BD1C-4581-A0AF-40DA4123D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E653-E143-4CC3-996B-D87855A4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918C6-6191-42E3-B02C-87B5036D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34672-C8E0-4DA2-952F-7D669FEE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A6596-5F02-4A27-8DBA-09DD5B32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CB4CA-3212-4F8A-A1D5-78D3F2A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89B0F-0310-4C76-8DE6-46B39E40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C83A2-829E-4A21-9CCA-DCBE402B2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DFAB4-CA52-47BF-98F9-4FCDB24B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490B9-11FC-4286-AB1D-9023B2F8A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6CDC8E-D26B-46CA-B0B9-D93C59192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CC92-5B31-4EDD-A5C9-10157F43E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66CF0-01E7-45E6-B5B0-D0A7C496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11372E-0FA8-4B9B-A458-875E8B63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049FE-DE56-486A-8511-213EA0DC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386FC-B2A3-41C8-A63A-9AA66BB1C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725313-144A-4F8A-ABAA-6BECBD02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FAB7C2-74E1-45BD-BCFD-4E3D3F5C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ABC08-99A5-4885-AE78-82B81A4F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252C7-924C-4E8B-8890-319F78FA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BDB4FF-2FDF-4C0F-A453-30392F4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65E7E2-0F15-438B-8F10-C9DD03576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B6FA-7514-4D7F-948A-5578A3F2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7F323-1DE1-43E7-895F-3B5170C91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3F42E-3389-4724-B885-9B0DF8D2E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75BA00-CC17-487A-A3B1-E4909ACE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5DF7C-D79A-4790-9D1C-398E47DD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F915BB-C99A-41D6-8590-616BDE180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95EF6F-5887-4B0D-B632-04E0CD82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CCD068-7C82-499B-9EE9-87A3A1515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77761-B7E4-4BCF-BFDB-2B7C9EB2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0215B-039A-428D-A35E-9E79A7F4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26187-ECAE-469A-95E1-19989643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AD3A-7E57-4512-AFF7-16DC2D90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6A7BBB-96A5-4AFA-9155-7C923EC5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8A9EF-1FB4-4F09-9797-CBECB939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D8C50-2034-4DEF-80E0-3D7BEA0D5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B627-EAB6-4429-853F-E02820A0D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47AD9-5200-497E-8F9C-8AE442362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ADBE6-0B74-4865-BDC0-8714D83B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76A827-AEED-4DE3-AD6C-A154AB75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BDCD3-E989-4E3D-9C2E-B92EC2FE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69A0C2-C397-409E-A74B-6585D22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5F30CA-09E0-4882-87EC-1C98B320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691A-3681-4564-BF58-392E1C33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AC59C-D938-49DB-A881-04DFBEC5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8F6C1-7A29-4885-A436-FEFEA382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DF3A8-A058-4D6C-9C64-52C20B2C3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119A4-2168-453D-A1B5-FDA98079E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2A5899-0B3B-483B-AF99-AFD1F8F7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F744C-4B64-4752-B209-69455816B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DC95F-A316-4641-A07B-FD4CEBAA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4BD5E-9080-4E8B-937F-2F262106E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EA15F2-526E-4C81-B033-903C5051B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F7BEA-54FD-4CED-B976-A7CEF0031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FDFF-8147-4BC5-990C-95BDD840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E7F7C-C133-443E-BB48-33F0218C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3E73EF-976B-42F7-91F5-EECC2BC6C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E5BE95-B671-4CE9-B2FF-31E7C9672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C3EB00-1C88-41CC-B3E1-E197C6C2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46BCE2-018B-4024-8C94-DDB0BA7B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1DDEB-1B21-4283-B475-A77BE29D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23DBE7-6F61-4106-A79E-B73639CF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34439A-7D2E-42B5-8671-471288BB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65ABF5-3D98-4CAA-B348-6502F9A3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43A02-3235-492B-8F39-FF86402B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252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98ADF-BACC-41FD-9C7E-85E9FDB0219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F3E8-88A5-4A89-91F0-72E27A425FA7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57871-A80D-4F3A-95B3-25385990F3D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3FCB-3599-4C7A-A357-F216AD442798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8C02-75C1-468F-869B-FF30EC91FF2E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0BBE0-6498-4E82-B7D1-F8F1CB42B17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FCD20-8FE6-4D6F-B2B1-ABE1561534D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A743-2FD3-464A-AB07-4CB1C2A21416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648F-EF0B-4DA3-B70D-6975268FDFB4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1A9B-F69F-43CC-9DE1-159D51F5D4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2B3-B2E5-4468-8938-13B84C4194A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F3A1-126F-4E30-A70F-46BC23CACEB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6055-39C0-4F99-ACD6-A1C1A56D699C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B840-0D37-4C52-85D2-91DE5C17D02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5D3C-C27B-4E60-B659-32159610E34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4A39-68D3-4418-8C23-46452148E83F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D9AB-37A7-4247-8805-3B3DC08A71F3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4C74-2133-4CE2-9AD6-B0653FAC01FC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5245-0128-47F7-9D53-58AD48635C7F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B851C-B266-44F5-A0A0-C5704C642721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E802-9EE7-47F6-8833-18FB26797739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392AD-083E-4371-933E-3BA7462D5EC4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07187-4F90-40E9-B0C6-48C78C4DF162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4920"/>
            <a:ext cx="2845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B41D-3647-4FA6-BD01-BD919419944D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244920"/>
            <a:ext cx="3861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4920"/>
            <a:ext cx="284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6E2C-CA9B-4059-B002-9BFF9B3438D8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5013360" y="1353960"/>
            <a:ext cx="1892160" cy="1893960"/>
            <a:chOff x="5013360" y="1353960"/>
            <a:chExt cx="1892160" cy="1893960"/>
          </a:xfrm>
        </p:grpSpPr>
        <p:sp>
          <p:nvSpPr>
            <p:cNvPr id="534" name="椭圆 6"/>
            <p:cNvSpPr/>
            <p:nvPr/>
          </p:nvSpPr>
          <p:spPr>
            <a:xfrm>
              <a:off x="5013360" y="1353960"/>
              <a:ext cx="1892160" cy="189396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5" name="直接连接符 8"/>
            <p:cNvSpPr/>
            <p:nvPr/>
          </p:nvSpPr>
          <p:spPr>
            <a:xfrm>
              <a:off x="5959440" y="1353960"/>
              <a:ext cx="0" cy="47340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6" name="任意多边形 19"/>
            <p:cNvSpPr/>
            <p:nvPr/>
          </p:nvSpPr>
          <p:spPr>
            <a:xfrm>
              <a:off x="5167080" y="2579040"/>
              <a:ext cx="1568520" cy="66888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7" name="饼形 15"/>
            <p:cNvSpPr/>
            <p:nvPr/>
          </p:nvSpPr>
          <p:spPr>
            <a:xfrm rot="16200000">
              <a:off x="5745960" y="2348640"/>
              <a:ext cx="431280" cy="430920"/>
            </a:xfrm>
            <a:custGeom>
              <a:avLst/>
              <a:gdLst/>
              <a:ahLst/>
              <a:rect l="l" t="t" r="r" b="b"/>
              <a:pathLst>
                <a:path w="452284" h="452284">
                  <a:moveTo>
                    <a:pt x="226142" y="452284"/>
                  </a:moveTo>
                  <a:cubicBezTo>
                    <a:pt x="145349" y="452284"/>
                    <a:pt x="70694" y="409182"/>
                    <a:pt x="30297" y="339213"/>
                  </a:cubicBezTo>
                  <a:cubicBezTo>
                    <a:pt x="-10099" y="269244"/>
                    <a:pt x="-10099" y="183040"/>
                    <a:pt x="30297" y="113071"/>
                  </a:cubicBezTo>
                  <a:cubicBezTo>
                    <a:pt x="70693" y="43102"/>
                    <a:pt x="145349" y="0"/>
                    <a:pt x="226142" y="0"/>
                  </a:cubicBezTo>
                  <a:lnTo>
                    <a:pt x="226142" y="226142"/>
                  </a:lnTo>
                  <a:lnTo>
                    <a:pt x="226142" y="4522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8" name="矩形 9"/>
            <p:cNvSpPr/>
            <p:nvPr/>
          </p:nvSpPr>
          <p:spPr>
            <a:xfrm>
              <a:off x="5762520" y="1827360"/>
              <a:ext cx="196560" cy="28584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9" name="矩形 10"/>
            <p:cNvSpPr/>
            <p:nvPr/>
          </p:nvSpPr>
          <p:spPr>
            <a:xfrm>
              <a:off x="5959440" y="1827360"/>
              <a:ext cx="196560" cy="28584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饼形 12"/>
            <p:cNvSpPr/>
            <p:nvPr/>
          </p:nvSpPr>
          <p:spPr>
            <a:xfrm>
              <a:off x="543204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饼形 13"/>
            <p:cNvSpPr/>
            <p:nvPr/>
          </p:nvSpPr>
          <p:spPr>
            <a:xfrm flipH="1">
              <a:off x="542088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文本框 24"/>
          <p:cNvSpPr/>
          <p:nvPr/>
        </p:nvSpPr>
        <p:spPr>
          <a:xfrm>
            <a:off x="3833640" y="3465360"/>
            <a:ext cx="435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总结报告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文本框 12"/>
          <p:cNvSpPr/>
          <p:nvPr/>
        </p:nvSpPr>
        <p:spPr>
          <a:xfrm>
            <a:off x="4618080" y="4173480"/>
            <a:ext cx="307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演示者的名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空心弧 28"/>
          <p:cNvSpPr/>
          <p:nvPr/>
        </p:nvSpPr>
        <p:spPr>
          <a:xfrm>
            <a:off x="4916520" y="1265400"/>
            <a:ext cx="207000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文本框 17"/>
          <p:cNvSpPr/>
          <p:nvPr/>
        </p:nvSpPr>
        <p:spPr>
          <a:xfrm>
            <a:off x="5568840" y="5073480"/>
            <a:ext cx="85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同心圆 30"/>
          <p:cNvSpPr/>
          <p:nvPr/>
        </p:nvSpPr>
        <p:spPr>
          <a:xfrm>
            <a:off x="5573880" y="4792680"/>
            <a:ext cx="898200" cy="900000"/>
          </a:xfrm>
          <a:custGeom>
            <a:avLst/>
            <a:gdLst/>
            <a:ahLst/>
            <a:rect l="l" t="t" r="r" b="b"/>
            <a:pathLst>
              <a:path w="984250" h="985838">
                <a:moveTo>
                  <a:pt x="0" y="492919"/>
                </a:moveTo>
                <a:cubicBezTo>
                  <a:pt x="0" y="220687"/>
                  <a:pt x="220332" y="0"/>
                  <a:pt x="492125" y="0"/>
                </a:cubicBezTo>
                <a:cubicBezTo>
                  <a:pt x="763918" y="0"/>
                  <a:pt x="984250" y="220687"/>
                  <a:pt x="984250" y="492919"/>
                </a:cubicBezTo>
                <a:cubicBezTo>
                  <a:pt x="984250" y="765151"/>
                  <a:pt x="763918" y="985838"/>
                  <a:pt x="492125" y="985838"/>
                </a:cubicBezTo>
                <a:cubicBezTo>
                  <a:pt x="220332" y="985838"/>
                  <a:pt x="0" y="765151"/>
                  <a:pt x="0" y="492919"/>
                </a:cubicBezTo>
                <a:close/>
                <a:moveTo>
                  <a:pt x="0" y="492919"/>
                </a:moveTo>
                <a:cubicBezTo>
                  <a:pt x="0" y="765151"/>
                  <a:pt x="220332" y="985838"/>
                  <a:pt x="492125" y="985838"/>
                </a:cubicBezTo>
                <a:cubicBezTo>
                  <a:pt x="763918" y="985838"/>
                  <a:pt x="984250" y="765151"/>
                  <a:pt x="984250" y="492919"/>
                </a:cubicBezTo>
                <a:cubicBezTo>
                  <a:pt x="984250" y="220687"/>
                  <a:pt x="763918" y="0"/>
                  <a:pt x="492125" y="0"/>
                </a:cubicBezTo>
                <a:cubicBezTo>
                  <a:pt x="220332" y="0"/>
                  <a:pt x="0" y="220687"/>
                  <a:pt x="0" y="492919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文本框 24"/>
          <p:cNvSpPr/>
          <p:nvPr/>
        </p:nvSpPr>
        <p:spPr>
          <a:xfrm>
            <a:off x="2354400" y="2057400"/>
            <a:ext cx="13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空心弧 28"/>
          <p:cNvSpPr/>
          <p:nvPr/>
        </p:nvSpPr>
        <p:spPr>
          <a:xfrm rot="7561800">
            <a:off x="1702440" y="1359360"/>
            <a:ext cx="207144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1003320" y="874440"/>
            <a:ext cx="1846080" cy="1845720"/>
            <a:chOff x="1003320" y="874440"/>
            <a:chExt cx="1846080" cy="1845720"/>
          </a:xfrm>
        </p:grpSpPr>
        <p:sp>
          <p:nvSpPr>
            <p:cNvPr id="550" name="椭圆 6"/>
            <p:cNvSpPr/>
            <p:nvPr/>
          </p:nvSpPr>
          <p:spPr>
            <a:xfrm rot="18302400">
              <a:off x="1263600" y="1134360"/>
              <a:ext cx="1324800" cy="13255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1" name="直接连接符 8"/>
            <p:cNvSpPr/>
            <p:nvPr/>
          </p:nvSpPr>
          <p:spPr>
            <a:xfrm flipV="1">
              <a:off x="1311840" y="1590120"/>
              <a:ext cx="304560" cy="457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2" name="任意多边形 19"/>
            <p:cNvSpPr/>
            <p:nvPr/>
          </p:nvSpPr>
          <p:spPr>
            <a:xfrm rot="18302400">
              <a:off x="1725120" y="1813680"/>
              <a:ext cx="1098000" cy="46836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3" name="饼形 15"/>
            <p:cNvSpPr/>
            <p:nvPr/>
          </p:nvSpPr>
          <p:spPr>
            <a:xfrm rot="12902400">
              <a:off x="1927080" y="1751040"/>
              <a:ext cx="30168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4" name="矩形 9"/>
            <p:cNvSpPr/>
            <p:nvPr/>
          </p:nvSpPr>
          <p:spPr>
            <a:xfrm rot="18302400">
              <a:off x="1628280" y="1620720"/>
              <a:ext cx="137520" cy="19980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5" name="矩形 10"/>
            <p:cNvSpPr/>
            <p:nvPr/>
          </p:nvSpPr>
          <p:spPr>
            <a:xfrm rot="18302400">
              <a:off x="1707480" y="1508040"/>
              <a:ext cx="137520" cy="19980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6" name="饼形 12"/>
            <p:cNvSpPr/>
            <p:nvPr/>
          </p:nvSpPr>
          <p:spPr>
            <a:xfrm rot="18302400">
              <a:off x="1717560" y="152820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7" name="饼形 13"/>
            <p:cNvSpPr/>
            <p:nvPr/>
          </p:nvSpPr>
          <p:spPr>
            <a:xfrm flipH="1" rot="18303000">
              <a:off x="1712520" y="1534680"/>
              <a:ext cx="754200" cy="75456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8" name="饼形 3"/>
            <p:cNvSpPr/>
            <p:nvPr/>
          </p:nvSpPr>
          <p:spPr>
            <a:xfrm rot="2031600">
              <a:off x="1542960" y="1504440"/>
              <a:ext cx="23112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9" name="文本框 31"/>
          <p:cNvSpPr/>
          <p:nvPr/>
        </p:nvSpPr>
        <p:spPr>
          <a:xfrm>
            <a:off x="5410080" y="2260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一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15"/>
          <p:cNvGrpSpPr/>
          <p:nvPr/>
        </p:nvGrpSpPr>
        <p:grpSpPr>
          <a:xfrm>
            <a:off x="4756320" y="2171880"/>
            <a:ext cx="536400" cy="543240"/>
            <a:chOff x="4756320" y="2171880"/>
            <a:chExt cx="536400" cy="543240"/>
          </a:xfrm>
        </p:grpSpPr>
        <p:sp>
          <p:nvSpPr>
            <p:cNvPr id="561" name="同心圆 14"/>
            <p:cNvSpPr/>
            <p:nvPr/>
          </p:nvSpPr>
          <p:spPr>
            <a:xfrm>
              <a:off x="4756320" y="2171880"/>
              <a:ext cx="536400" cy="53640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2" name="文本框 16"/>
            <p:cNvSpPr/>
            <p:nvPr/>
          </p:nvSpPr>
          <p:spPr>
            <a:xfrm>
              <a:off x="4847760" y="21945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63" name="Group 18"/>
          <p:cNvGrpSpPr/>
          <p:nvPr/>
        </p:nvGrpSpPr>
        <p:grpSpPr>
          <a:xfrm>
            <a:off x="4756320" y="3208320"/>
            <a:ext cx="536400" cy="543240"/>
            <a:chOff x="4756320" y="3208320"/>
            <a:chExt cx="536400" cy="543240"/>
          </a:xfrm>
        </p:grpSpPr>
        <p:sp>
          <p:nvSpPr>
            <p:cNvPr id="564" name="同心圆 32"/>
            <p:cNvSpPr/>
            <p:nvPr/>
          </p:nvSpPr>
          <p:spPr>
            <a:xfrm>
              <a:off x="4756320" y="320832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5" name="文本框 33"/>
            <p:cNvSpPr/>
            <p:nvPr/>
          </p:nvSpPr>
          <p:spPr>
            <a:xfrm>
              <a:off x="4847760" y="323100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6" name="文本框 31"/>
          <p:cNvSpPr/>
          <p:nvPr/>
        </p:nvSpPr>
        <p:spPr>
          <a:xfrm>
            <a:off x="5410080" y="33764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二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7" name="Group 22"/>
          <p:cNvGrpSpPr/>
          <p:nvPr/>
        </p:nvGrpSpPr>
        <p:grpSpPr>
          <a:xfrm>
            <a:off x="4756320" y="4227480"/>
            <a:ext cx="536400" cy="543240"/>
            <a:chOff x="4756320" y="4227480"/>
            <a:chExt cx="536400" cy="543240"/>
          </a:xfrm>
        </p:grpSpPr>
        <p:sp>
          <p:nvSpPr>
            <p:cNvPr id="568" name="同心圆 36"/>
            <p:cNvSpPr/>
            <p:nvPr/>
          </p:nvSpPr>
          <p:spPr>
            <a:xfrm>
              <a:off x="4756320" y="4227480"/>
              <a:ext cx="536400" cy="536760"/>
            </a:xfrm>
            <a:custGeom>
              <a:avLst/>
              <a:gdLst/>
              <a:ahLst/>
              <a:rect l="l" t="t" r="r" b="b"/>
              <a:pathLst>
                <a:path w="536498" h="536498">
                  <a:moveTo>
                    <a:pt x="0" y="268249"/>
                  </a:moveTo>
                  <a:cubicBezTo>
                    <a:pt x="0" y="120099"/>
                    <a:pt x="120099" y="0"/>
                    <a:pt x="268249" y="0"/>
                  </a:cubicBezTo>
                  <a:cubicBezTo>
                    <a:pt x="416399" y="0"/>
                    <a:pt x="536498" y="120099"/>
                    <a:pt x="536498" y="268249"/>
                  </a:cubicBezTo>
                  <a:cubicBezTo>
                    <a:pt x="536498" y="416399"/>
                    <a:pt x="416399" y="536498"/>
                    <a:pt x="268249" y="536498"/>
                  </a:cubicBezTo>
                  <a:cubicBezTo>
                    <a:pt x="120099" y="536498"/>
                    <a:pt x="0" y="416399"/>
                    <a:pt x="0" y="268249"/>
                  </a:cubicBezTo>
                  <a:close/>
                  <a:moveTo>
                    <a:pt x="0" y="268249"/>
                  </a:moveTo>
                  <a:cubicBezTo>
                    <a:pt x="0" y="416399"/>
                    <a:pt x="120099" y="536498"/>
                    <a:pt x="268249" y="536498"/>
                  </a:cubicBezTo>
                  <a:cubicBezTo>
                    <a:pt x="416399" y="536498"/>
                    <a:pt x="536498" y="416399"/>
                    <a:pt x="536498" y="268249"/>
                  </a:cubicBezTo>
                  <a:cubicBezTo>
                    <a:pt x="536498" y="120099"/>
                    <a:pt x="416399" y="0"/>
                    <a:pt x="268249" y="0"/>
                  </a:cubicBezTo>
                  <a:cubicBezTo>
                    <a:pt x="120099" y="0"/>
                    <a:pt x="0" y="120099"/>
                    <a:pt x="0" y="268249"/>
                  </a:cubicBezTo>
                  <a:close/>
                </a:path>
              </a:pathLst>
            </a:custGeom>
            <a:solidFill>
              <a:srgbClr val="5b9bd5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文本框 37"/>
            <p:cNvSpPr/>
            <p:nvPr/>
          </p:nvSpPr>
          <p:spPr>
            <a:xfrm>
              <a:off x="4847760" y="4250160"/>
              <a:ext cx="365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文本框 31"/>
          <p:cNvSpPr/>
          <p:nvPr/>
        </p:nvSpPr>
        <p:spPr>
          <a:xfrm>
            <a:off x="5410080" y="433404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目三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. 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文本框 24"/>
          <p:cNvSpPr/>
          <p:nvPr/>
        </p:nvSpPr>
        <p:spPr>
          <a:xfrm>
            <a:off x="3003480" y="9907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1379160" y="705960"/>
            <a:ext cx="1345320" cy="1343880"/>
            <a:chOff x="1379160" y="705960"/>
            <a:chExt cx="1345320" cy="1343880"/>
          </a:xfrm>
        </p:grpSpPr>
        <p:sp>
          <p:nvSpPr>
            <p:cNvPr id="573" name="椭圆 6"/>
            <p:cNvSpPr/>
            <p:nvPr/>
          </p:nvSpPr>
          <p:spPr>
            <a:xfrm rot="16246800">
              <a:off x="1388520" y="714240"/>
              <a:ext cx="1325880" cy="13273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4" name="直接连接符 8"/>
            <p:cNvSpPr/>
            <p:nvPr/>
          </p:nvSpPr>
          <p:spPr>
            <a:xfrm flipV="1">
              <a:off x="1673640" y="1381320"/>
              <a:ext cx="4680" cy="556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5" name="任意多边形 19"/>
            <p:cNvSpPr/>
            <p:nvPr/>
          </p:nvSpPr>
          <p:spPr>
            <a:xfrm rot="16246800">
              <a:off x="1931760" y="1154520"/>
              <a:ext cx="1099080" cy="46872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6" name="饼形 15"/>
            <p:cNvSpPr/>
            <p:nvPr/>
          </p:nvSpPr>
          <p:spPr>
            <a:xfrm rot="10846800">
              <a:off x="2084760" y="1228320"/>
              <a:ext cx="30204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7" name="矩形 9"/>
            <p:cNvSpPr/>
            <p:nvPr/>
          </p:nvSpPr>
          <p:spPr>
            <a:xfrm rot="16246800">
              <a:off x="1750320" y="1343880"/>
              <a:ext cx="137520" cy="20016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8" name="矩形 10"/>
            <p:cNvSpPr/>
            <p:nvPr/>
          </p:nvSpPr>
          <p:spPr>
            <a:xfrm rot="16246800">
              <a:off x="1752480" y="1205640"/>
              <a:ext cx="137520" cy="20016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9" name="饼形 12"/>
            <p:cNvSpPr/>
            <p:nvPr/>
          </p:nvSpPr>
          <p:spPr>
            <a:xfrm rot="16246800">
              <a:off x="1874880" y="995040"/>
              <a:ext cx="754920" cy="75564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0" name="饼形 13"/>
            <p:cNvSpPr/>
            <p:nvPr/>
          </p:nvSpPr>
          <p:spPr>
            <a:xfrm flipH="1" rot="16247400">
              <a:off x="1874520" y="1002960"/>
              <a:ext cx="754920" cy="75528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饼形 3"/>
            <p:cNvSpPr/>
            <p:nvPr/>
          </p:nvSpPr>
          <p:spPr>
            <a:xfrm rot="21576000">
              <a:off x="1607400" y="1269000"/>
              <a:ext cx="23148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82" name="直接连接符 2"/>
          <p:cNvSpPr/>
          <p:nvPr/>
        </p:nvSpPr>
        <p:spPr>
          <a:xfrm>
            <a:off x="2768760" y="1763640"/>
            <a:ext cx="6113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文本框 38"/>
          <p:cNvSpPr/>
          <p:nvPr/>
        </p:nvSpPr>
        <p:spPr>
          <a:xfrm>
            <a:off x="4976640" y="323856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4" name="图片 23" descr=""/>
          <p:cNvPicPr/>
          <p:nvPr/>
        </p:nvPicPr>
        <p:blipFill>
          <a:blip r:embed="rId1"/>
          <a:stretch/>
        </p:blipFill>
        <p:spPr>
          <a:xfrm>
            <a:off x="3809880" y="2408400"/>
            <a:ext cx="835200" cy="1083960"/>
          </a:xfrm>
          <a:prstGeom prst="rect">
            <a:avLst/>
          </a:prstGeom>
          <a:ln w="0">
            <a:noFill/>
          </a:ln>
        </p:spPr>
      </p:pic>
      <p:sp>
        <p:nvSpPr>
          <p:cNvPr id="585" name="文本框 25"/>
          <p:cNvSpPr/>
          <p:nvPr/>
        </p:nvSpPr>
        <p:spPr>
          <a:xfrm>
            <a:off x="4976640" y="266868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6" name="图片 30" descr=""/>
          <p:cNvPicPr/>
          <p:nvPr/>
        </p:nvPicPr>
        <p:blipFill>
          <a:blip r:embed="rId2"/>
          <a:stretch/>
        </p:blipFill>
        <p:spPr>
          <a:xfrm>
            <a:off x="3809880" y="4059360"/>
            <a:ext cx="781200" cy="780840"/>
          </a:xfrm>
          <a:prstGeom prst="rect">
            <a:avLst/>
          </a:prstGeom>
          <a:ln w="0">
            <a:noFill/>
          </a:ln>
        </p:spPr>
      </p:pic>
      <p:sp>
        <p:nvSpPr>
          <p:cNvPr id="587" name="文本框 38"/>
          <p:cNvSpPr/>
          <p:nvPr/>
        </p:nvSpPr>
        <p:spPr>
          <a:xfrm>
            <a:off x="4976640" y="4842000"/>
            <a:ext cx="350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文本框 42"/>
          <p:cNvSpPr/>
          <p:nvPr/>
        </p:nvSpPr>
        <p:spPr>
          <a:xfrm>
            <a:off x="4976640" y="4272120"/>
            <a:ext cx="20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文本框 24"/>
          <p:cNvSpPr/>
          <p:nvPr/>
        </p:nvSpPr>
        <p:spPr>
          <a:xfrm>
            <a:off x="3003480" y="990720"/>
            <a:ext cx="62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里输入可长可短的标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1379160" y="705960"/>
            <a:ext cx="1345320" cy="1343880"/>
            <a:chOff x="1379160" y="705960"/>
            <a:chExt cx="1345320" cy="1343880"/>
          </a:xfrm>
        </p:grpSpPr>
        <p:sp>
          <p:nvSpPr>
            <p:cNvPr id="591" name="椭圆 6"/>
            <p:cNvSpPr/>
            <p:nvPr/>
          </p:nvSpPr>
          <p:spPr>
            <a:xfrm rot="16246800">
              <a:off x="1388520" y="714240"/>
              <a:ext cx="1325880" cy="132732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直接连接符 8"/>
            <p:cNvSpPr/>
            <p:nvPr/>
          </p:nvSpPr>
          <p:spPr>
            <a:xfrm flipV="1">
              <a:off x="1673640" y="1381320"/>
              <a:ext cx="4680" cy="55692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任意多边形 19"/>
            <p:cNvSpPr/>
            <p:nvPr/>
          </p:nvSpPr>
          <p:spPr>
            <a:xfrm rot="16246800">
              <a:off x="1931760" y="1154520"/>
              <a:ext cx="1099080" cy="46872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饼形 15"/>
            <p:cNvSpPr/>
            <p:nvPr/>
          </p:nvSpPr>
          <p:spPr>
            <a:xfrm rot="10846800">
              <a:off x="2084760" y="1228320"/>
              <a:ext cx="302040" cy="301680"/>
            </a:xfrm>
            <a:custGeom>
              <a:avLst/>
              <a:gdLst/>
              <a:ahLst/>
              <a:rect l="l" t="t" r="r" b="b"/>
              <a:pathLst>
                <a:path w="431013" h="431013">
                  <a:moveTo>
                    <a:pt x="215507" y="431013"/>
                  </a:moveTo>
                  <a:cubicBezTo>
                    <a:pt x="138514" y="431013"/>
                    <a:pt x="67369" y="389938"/>
                    <a:pt x="28872" y="323260"/>
                  </a:cubicBezTo>
                  <a:cubicBezTo>
                    <a:pt x="-9625" y="256582"/>
                    <a:pt x="-9625" y="174431"/>
                    <a:pt x="28872" y="107753"/>
                  </a:cubicBezTo>
                  <a:cubicBezTo>
                    <a:pt x="67369" y="41075"/>
                    <a:pt x="138513" y="-1"/>
                    <a:pt x="215507" y="-1"/>
                  </a:cubicBezTo>
                  <a:lnTo>
                    <a:pt x="215507" y="215507"/>
                  </a:lnTo>
                  <a:lnTo>
                    <a:pt x="215507" y="431013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矩形 9"/>
            <p:cNvSpPr/>
            <p:nvPr/>
          </p:nvSpPr>
          <p:spPr>
            <a:xfrm rot="16246800">
              <a:off x="1750320" y="1343880"/>
              <a:ext cx="137520" cy="20016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10"/>
            <p:cNvSpPr/>
            <p:nvPr/>
          </p:nvSpPr>
          <p:spPr>
            <a:xfrm rot="16246800">
              <a:off x="1752480" y="1205640"/>
              <a:ext cx="137520" cy="20016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饼形 12"/>
            <p:cNvSpPr/>
            <p:nvPr/>
          </p:nvSpPr>
          <p:spPr>
            <a:xfrm rot="16246800">
              <a:off x="1874880" y="995040"/>
              <a:ext cx="754920" cy="75564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饼形 13"/>
            <p:cNvSpPr/>
            <p:nvPr/>
          </p:nvSpPr>
          <p:spPr>
            <a:xfrm flipH="1" rot="16247400">
              <a:off x="1874520" y="1002960"/>
              <a:ext cx="754920" cy="755280"/>
            </a:xfrm>
            <a:custGeom>
              <a:avLst/>
              <a:gdLst/>
              <a:ahLst/>
              <a:rect l="l" t="t" r="r" b="b"/>
              <a:pathLst>
                <a:path w="1077532" h="1077532">
                  <a:moveTo>
                    <a:pt x="15" y="534781"/>
                  </a:moveTo>
                  <a:cubicBezTo>
                    <a:pt x="2205" y="238792"/>
                    <a:pt x="242769" y="0"/>
                    <a:pt x="538766" y="0"/>
                  </a:cubicBezTo>
                  <a:lnTo>
                    <a:pt x="538766" y="538766"/>
                  </a:lnTo>
                  <a:lnTo>
                    <a:pt x="15" y="534781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饼形 3"/>
            <p:cNvSpPr/>
            <p:nvPr/>
          </p:nvSpPr>
          <p:spPr>
            <a:xfrm rot="21576000">
              <a:off x="1607400" y="1269000"/>
              <a:ext cx="231480" cy="205200"/>
            </a:xfrm>
            <a:custGeom>
              <a:avLst/>
              <a:gdLst/>
              <a:ahLst/>
              <a:rect l="l" t="t" r="r" b="b"/>
              <a:pathLst>
                <a:path w="330307" h="293191">
                  <a:moveTo>
                    <a:pt x="158912" y="293086"/>
                  </a:moveTo>
                  <a:cubicBezTo>
                    <a:pt x="68654" y="290056"/>
                    <a:pt x="-2119" y="223229"/>
                    <a:pt x="47" y="143079"/>
                  </a:cubicBezTo>
                  <a:cubicBezTo>
                    <a:pt x="2197" y="63509"/>
                    <a:pt x="75485" y="-1"/>
                    <a:pt x="165154" y="-1"/>
                  </a:cubicBezTo>
                  <a:lnTo>
                    <a:pt x="165154" y="146596"/>
                  </a:lnTo>
                  <a:lnTo>
                    <a:pt x="158912" y="293086"/>
                  </a:lnTo>
                  <a:close/>
                </a:path>
              </a:pathLst>
            </a:custGeom>
            <a:solidFill>
              <a:srgbClr val="0d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00" name="直接连接符 2"/>
          <p:cNvSpPr/>
          <p:nvPr/>
        </p:nvSpPr>
        <p:spPr>
          <a:xfrm>
            <a:off x="2768760" y="1763640"/>
            <a:ext cx="611316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1" name="Group 14"/>
          <p:cNvGrpSpPr/>
          <p:nvPr/>
        </p:nvGrpSpPr>
        <p:grpSpPr>
          <a:xfrm>
            <a:off x="2084400" y="2566800"/>
            <a:ext cx="1823040" cy="1823040"/>
            <a:chOff x="2084400" y="2566800"/>
            <a:chExt cx="1823040" cy="1823040"/>
          </a:xfrm>
        </p:grpSpPr>
        <p:sp>
          <p:nvSpPr>
            <p:cNvPr id="602" name="同心圆 26"/>
            <p:cNvSpPr/>
            <p:nvPr/>
          </p:nvSpPr>
          <p:spPr>
            <a:xfrm>
              <a:off x="2260440" y="274320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3" name="空心弧 27"/>
            <p:cNvSpPr/>
            <p:nvPr/>
          </p:nvSpPr>
          <p:spPr>
            <a:xfrm rot="12246000">
              <a:off x="2305800" y="278820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0" y="689824"/>
                  </a:moveTo>
                  <a:cubicBezTo>
                    <a:pt x="0" y="390829"/>
                    <a:pt x="192617" y="125873"/>
                    <a:pt x="477031" y="33641"/>
                  </a:cubicBezTo>
                  <a:cubicBezTo>
                    <a:pt x="761445" y="-58591"/>
                    <a:pt x="1072897" y="42902"/>
                    <a:pt x="1248365" y="284995"/>
                  </a:cubicBezTo>
                  <a:cubicBezTo>
                    <a:pt x="1423832" y="527088"/>
                    <a:pt x="1423364" y="854659"/>
                    <a:pt x="1247205" y="1096249"/>
                  </a:cubicBezTo>
                  <a:lnTo>
                    <a:pt x="1093624" y="984263"/>
                  </a:lnTo>
                  <a:cubicBezTo>
                    <a:pt x="1221244" y="809241"/>
                    <a:pt x="1221584" y="571928"/>
                    <a:pt x="1094465" y="396542"/>
                  </a:cubicBezTo>
                  <a:cubicBezTo>
                    <a:pt x="967346" y="221155"/>
                    <a:pt x="741711" y="147627"/>
                    <a:pt x="535664" y="214446"/>
                  </a:cubicBezTo>
                  <a:cubicBezTo>
                    <a:pt x="329618" y="281264"/>
                    <a:pt x="190074" y="473215"/>
                    <a:pt x="190074" y="689825"/>
                  </a:cubicBezTo>
                  <a:lnTo>
                    <a:pt x="0" y="6898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4" name="Group 17"/>
          <p:cNvGrpSpPr/>
          <p:nvPr/>
        </p:nvGrpSpPr>
        <p:grpSpPr>
          <a:xfrm>
            <a:off x="5231520" y="2566800"/>
            <a:ext cx="1822680" cy="1823040"/>
            <a:chOff x="5231520" y="2566800"/>
            <a:chExt cx="1822680" cy="1823040"/>
          </a:xfrm>
        </p:grpSpPr>
        <p:sp>
          <p:nvSpPr>
            <p:cNvPr id="605" name="同心圆 29"/>
            <p:cNvSpPr/>
            <p:nvPr/>
          </p:nvSpPr>
          <p:spPr>
            <a:xfrm>
              <a:off x="5407200" y="2743200"/>
              <a:ext cx="147132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6" name="空心弧 31"/>
            <p:cNvSpPr/>
            <p:nvPr/>
          </p:nvSpPr>
          <p:spPr>
            <a:xfrm rot="12246000">
              <a:off x="5452920" y="2788200"/>
              <a:ext cx="137952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149057" y="1118109"/>
                  </a:moveTo>
                  <a:cubicBezTo>
                    <a:pt x="-72511" y="838350"/>
                    <a:pt x="-44122" y="435781"/>
                    <a:pt x="214515" y="189885"/>
                  </a:cubicBezTo>
                  <a:cubicBezTo>
                    <a:pt x="473152" y="-56011"/>
                    <a:pt x="876641" y="-64043"/>
                    <a:pt x="1144860" y="171366"/>
                  </a:cubicBezTo>
                  <a:cubicBezTo>
                    <a:pt x="1413078" y="406774"/>
                    <a:pt x="1457465" y="807894"/>
                    <a:pt x="1247206" y="1096249"/>
                  </a:cubicBezTo>
                  <a:lnTo>
                    <a:pt x="1093624" y="984263"/>
                  </a:lnTo>
                  <a:cubicBezTo>
                    <a:pt x="1245948" y="775361"/>
                    <a:pt x="1213791" y="484766"/>
                    <a:pt x="1019479" y="314222"/>
                  </a:cubicBezTo>
                  <a:cubicBezTo>
                    <a:pt x="825166" y="143678"/>
                    <a:pt x="532854" y="149497"/>
                    <a:pt x="345482" y="327639"/>
                  </a:cubicBezTo>
                  <a:cubicBezTo>
                    <a:pt x="158110" y="505780"/>
                    <a:pt x="137543" y="797425"/>
                    <a:pt x="298060" y="1000100"/>
                  </a:cubicBezTo>
                  <a:lnTo>
                    <a:pt x="149057" y="111810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07" name="Group 20"/>
          <p:cNvGrpSpPr/>
          <p:nvPr/>
        </p:nvGrpSpPr>
        <p:grpSpPr>
          <a:xfrm>
            <a:off x="8334720" y="2566800"/>
            <a:ext cx="1823040" cy="1823040"/>
            <a:chOff x="8334720" y="2566800"/>
            <a:chExt cx="1823040" cy="1823040"/>
          </a:xfrm>
        </p:grpSpPr>
        <p:sp>
          <p:nvSpPr>
            <p:cNvPr id="608" name="同心圆 33"/>
            <p:cNvSpPr/>
            <p:nvPr/>
          </p:nvSpPr>
          <p:spPr>
            <a:xfrm>
              <a:off x="8516880" y="2743200"/>
              <a:ext cx="1471680" cy="1471680"/>
            </a:xfrm>
            <a:custGeom>
              <a:avLst/>
              <a:gdLst/>
              <a:ahLst/>
              <a:rect l="l" t="t" r="r" b="b"/>
              <a:pathLst>
                <a:path w="1471729" h="1471729">
                  <a:moveTo>
                    <a:pt x="0" y="735865"/>
                  </a:moveTo>
                  <a:cubicBezTo>
                    <a:pt x="0" y="329458"/>
                    <a:pt x="329458" y="0"/>
                    <a:pt x="735865" y="0"/>
                  </a:cubicBezTo>
                  <a:cubicBezTo>
                    <a:pt x="1142272" y="0"/>
                    <a:pt x="1471730" y="329458"/>
                    <a:pt x="1471730" y="735865"/>
                  </a:cubicBezTo>
                  <a:cubicBezTo>
                    <a:pt x="1471730" y="1142272"/>
                    <a:pt x="1142272" y="1471730"/>
                    <a:pt x="735865" y="1471730"/>
                  </a:cubicBezTo>
                  <a:cubicBezTo>
                    <a:pt x="329458" y="1471730"/>
                    <a:pt x="0" y="1142272"/>
                    <a:pt x="0" y="735865"/>
                  </a:cubicBezTo>
                  <a:close/>
                  <a:moveTo>
                    <a:pt x="0" y="735865"/>
                  </a:moveTo>
                  <a:cubicBezTo>
                    <a:pt x="0" y="1142272"/>
                    <a:pt x="329458" y="1471730"/>
                    <a:pt x="735865" y="1471730"/>
                  </a:cubicBezTo>
                  <a:cubicBezTo>
                    <a:pt x="1142272" y="1471730"/>
                    <a:pt x="1471730" y="1142272"/>
                    <a:pt x="1471730" y="735865"/>
                  </a:cubicBezTo>
                  <a:cubicBezTo>
                    <a:pt x="1471730" y="329458"/>
                    <a:pt x="1142272" y="0"/>
                    <a:pt x="735865" y="0"/>
                  </a:cubicBezTo>
                  <a:cubicBezTo>
                    <a:pt x="329458" y="0"/>
                    <a:pt x="0" y="329458"/>
                    <a:pt x="0" y="735865"/>
                  </a:cubicBezTo>
                  <a:close/>
                </a:path>
              </a:pathLst>
            </a:custGeom>
            <a:solidFill>
              <a:srgbClr val="ffc000"/>
            </a:soli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9" name="空心弧 34"/>
            <p:cNvSpPr/>
            <p:nvPr/>
          </p:nvSpPr>
          <p:spPr>
            <a:xfrm rot="12246000">
              <a:off x="8556120" y="2788200"/>
              <a:ext cx="1379880" cy="1379880"/>
            </a:xfrm>
            <a:custGeom>
              <a:avLst/>
              <a:gdLst/>
              <a:ahLst/>
              <a:rect l="l" t="t" r="r" b="b"/>
              <a:pathLst>
                <a:path w="1379646" h="1379648">
                  <a:moveTo>
                    <a:pt x="580497" y="8718"/>
                  </a:moveTo>
                  <a:cubicBezTo>
                    <a:pt x="856448" y="-35576"/>
                    <a:pt x="1131857" y="91014"/>
                    <a:pt x="1277929" y="329287"/>
                  </a:cubicBezTo>
                  <a:cubicBezTo>
                    <a:pt x="1424001" y="567560"/>
                    <a:pt x="1411868" y="870425"/>
                    <a:pt x="1247204" y="1096249"/>
                  </a:cubicBezTo>
                  <a:lnTo>
                    <a:pt x="1093624" y="984263"/>
                  </a:lnTo>
                  <a:cubicBezTo>
                    <a:pt x="1212916" y="820662"/>
                    <a:pt x="1221706" y="601249"/>
                    <a:pt x="1115883" y="428630"/>
                  </a:cubicBezTo>
                  <a:cubicBezTo>
                    <a:pt x="1010059" y="256010"/>
                    <a:pt x="810537" y="164302"/>
                    <a:pt x="610621" y="196391"/>
                  </a:cubicBezTo>
                  <a:lnTo>
                    <a:pt x="580497" y="87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10" name="文本框 5"/>
          <p:cNvSpPr/>
          <p:nvPr/>
        </p:nvSpPr>
        <p:spPr>
          <a:xfrm>
            <a:off x="258588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6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文本框 17"/>
          <p:cNvSpPr/>
          <p:nvPr/>
        </p:nvSpPr>
        <p:spPr>
          <a:xfrm>
            <a:off x="564660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7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文本框 19"/>
          <p:cNvSpPr/>
          <p:nvPr/>
        </p:nvSpPr>
        <p:spPr>
          <a:xfrm>
            <a:off x="8756640" y="3156120"/>
            <a:ext cx="99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5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文本框 12"/>
          <p:cNvSpPr/>
          <p:nvPr/>
        </p:nvSpPr>
        <p:spPr>
          <a:xfrm>
            <a:off x="1839960" y="4427640"/>
            <a:ext cx="22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文本框 12"/>
          <p:cNvSpPr/>
          <p:nvPr/>
        </p:nvSpPr>
        <p:spPr>
          <a:xfrm>
            <a:off x="5122800" y="442764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文本框 12"/>
          <p:cNvSpPr/>
          <p:nvPr/>
        </p:nvSpPr>
        <p:spPr>
          <a:xfrm>
            <a:off x="8237520" y="4427640"/>
            <a:ext cx="223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6" name="Group 2"/>
          <p:cNvGrpSpPr/>
          <p:nvPr/>
        </p:nvGrpSpPr>
        <p:grpSpPr>
          <a:xfrm>
            <a:off x="5013360" y="1353960"/>
            <a:ext cx="1892160" cy="1893960"/>
            <a:chOff x="5013360" y="1353960"/>
            <a:chExt cx="1892160" cy="1893960"/>
          </a:xfrm>
        </p:grpSpPr>
        <p:sp>
          <p:nvSpPr>
            <p:cNvPr id="617" name="椭圆 6"/>
            <p:cNvSpPr/>
            <p:nvPr/>
          </p:nvSpPr>
          <p:spPr>
            <a:xfrm>
              <a:off x="5013360" y="1353960"/>
              <a:ext cx="1892160" cy="1893960"/>
            </a:xfrm>
            <a:prstGeom prst="ellipse">
              <a:avLst/>
            </a:prstGeom>
            <a:solidFill>
              <a:srgbClr val="db78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8" name="直接连接符 8"/>
            <p:cNvSpPr/>
            <p:nvPr/>
          </p:nvSpPr>
          <p:spPr>
            <a:xfrm>
              <a:off x="5959440" y="1353960"/>
              <a:ext cx="0" cy="473400"/>
            </a:xfrm>
            <a:prstGeom prst="line">
              <a:avLst/>
            </a:prstGeom>
            <a:ln w="4428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9" name="任意多边形 19"/>
            <p:cNvSpPr/>
            <p:nvPr/>
          </p:nvSpPr>
          <p:spPr>
            <a:xfrm>
              <a:off x="5167080" y="2579040"/>
              <a:ext cx="1568520" cy="668880"/>
            </a:xfrm>
            <a:custGeom>
              <a:avLst/>
              <a:gdLst/>
              <a:ahLst/>
              <a:rect l="l" t="t" r="r" b="b"/>
              <a:pathLst>
                <a:path w="1646438" h="701643">
                  <a:moveTo>
                    <a:pt x="273817" y="0"/>
                  </a:moveTo>
                  <a:lnTo>
                    <a:pt x="0" y="250524"/>
                  </a:lnTo>
                  <a:lnTo>
                    <a:pt x="105736" y="390516"/>
                  </a:lnTo>
                  <a:cubicBezTo>
                    <a:pt x="243140" y="516730"/>
                    <a:pt x="234841" y="497242"/>
                    <a:pt x="299394" y="550605"/>
                  </a:cubicBezTo>
                  <a:cubicBezTo>
                    <a:pt x="362729" y="586231"/>
                    <a:pt x="368287" y="586687"/>
                    <a:pt x="499448" y="639898"/>
                  </a:cubicBezTo>
                  <a:cubicBezTo>
                    <a:pt x="679862" y="702396"/>
                    <a:pt x="689453" y="686856"/>
                    <a:pt x="784456" y="699274"/>
                  </a:cubicBezTo>
                  <a:cubicBezTo>
                    <a:pt x="879937" y="702636"/>
                    <a:pt x="910213" y="706430"/>
                    <a:pt x="1063526" y="679863"/>
                  </a:cubicBezTo>
                  <a:cubicBezTo>
                    <a:pt x="1264949" y="627719"/>
                    <a:pt x="1258033" y="615712"/>
                    <a:pt x="1353949" y="563622"/>
                  </a:cubicBezTo>
                  <a:cubicBezTo>
                    <a:pt x="1433045" y="500709"/>
                    <a:pt x="1477726" y="462377"/>
                    <a:pt x="1539615" y="411754"/>
                  </a:cubicBezTo>
                  <a:cubicBezTo>
                    <a:pt x="1607898" y="340578"/>
                    <a:pt x="1610812" y="324723"/>
                    <a:pt x="1646438" y="281180"/>
                  </a:cubicBezTo>
                  <a:lnTo>
                    <a:pt x="1393751" y="3654"/>
                  </a:lnTo>
                  <a:lnTo>
                    <a:pt x="273817" y="0"/>
                  </a:lnTo>
                  <a:close/>
                </a:path>
              </a:pathLst>
            </a:custGeom>
            <a:gradFill rotWithShape="0">
              <a:gsLst>
                <a:gs pos="0">
                  <a:srgbClr val="f3d255"/>
                </a:gs>
                <a:gs pos="100000">
                  <a:srgbClr val="f7fa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0" name="饼形 15"/>
            <p:cNvSpPr/>
            <p:nvPr/>
          </p:nvSpPr>
          <p:spPr>
            <a:xfrm rot="16200000">
              <a:off x="5745960" y="2348640"/>
              <a:ext cx="431280" cy="430920"/>
            </a:xfrm>
            <a:custGeom>
              <a:avLst/>
              <a:gdLst/>
              <a:ahLst/>
              <a:rect l="l" t="t" r="r" b="b"/>
              <a:pathLst>
                <a:path w="452284" h="452284">
                  <a:moveTo>
                    <a:pt x="226142" y="452284"/>
                  </a:moveTo>
                  <a:cubicBezTo>
                    <a:pt x="145349" y="452284"/>
                    <a:pt x="70694" y="409182"/>
                    <a:pt x="30297" y="339213"/>
                  </a:cubicBezTo>
                  <a:cubicBezTo>
                    <a:pt x="-10099" y="269244"/>
                    <a:pt x="-10099" y="183040"/>
                    <a:pt x="30297" y="113071"/>
                  </a:cubicBezTo>
                  <a:cubicBezTo>
                    <a:pt x="70693" y="43102"/>
                    <a:pt x="145349" y="0"/>
                    <a:pt x="226142" y="0"/>
                  </a:cubicBezTo>
                  <a:lnTo>
                    <a:pt x="226142" y="226142"/>
                  </a:lnTo>
                  <a:lnTo>
                    <a:pt x="226142" y="452284"/>
                  </a:lnTo>
                  <a:close/>
                </a:path>
              </a:pathLst>
            </a:custGeom>
            <a:solidFill>
              <a:srgbClr val="fff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1" name="矩形 9"/>
            <p:cNvSpPr/>
            <p:nvPr/>
          </p:nvSpPr>
          <p:spPr>
            <a:xfrm>
              <a:off x="5762520" y="1827360"/>
              <a:ext cx="196560" cy="285840"/>
            </a:xfrm>
            <a:prstGeom prst="rect">
              <a:avLst/>
            </a:pr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2" name="矩形 10"/>
            <p:cNvSpPr/>
            <p:nvPr/>
          </p:nvSpPr>
          <p:spPr>
            <a:xfrm>
              <a:off x="5959440" y="1827360"/>
              <a:ext cx="196560" cy="285840"/>
            </a:xfrm>
            <a:prstGeom prst="rect">
              <a:avLst/>
            </a:prstGeom>
            <a:solidFill>
              <a:srgbClr val="32323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3" name="饼形 12"/>
            <p:cNvSpPr/>
            <p:nvPr/>
          </p:nvSpPr>
          <p:spPr>
            <a:xfrm>
              <a:off x="543204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1d1d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4" name="饼形 13"/>
            <p:cNvSpPr/>
            <p:nvPr/>
          </p:nvSpPr>
          <p:spPr>
            <a:xfrm flipH="1">
              <a:off x="5420880" y="2047680"/>
              <a:ext cx="1077120" cy="1078200"/>
            </a:xfrm>
            <a:custGeom>
              <a:avLst/>
              <a:gdLst/>
              <a:ahLst/>
              <a:rect l="l" t="t" r="r" b="b"/>
              <a:pathLst>
                <a:path w="1130710" h="1130710">
                  <a:moveTo>
                    <a:pt x="15" y="561173"/>
                  </a:moveTo>
                  <a:cubicBezTo>
                    <a:pt x="2313" y="250577"/>
                    <a:pt x="254750" y="0"/>
                    <a:pt x="565355" y="0"/>
                  </a:cubicBezTo>
                  <a:lnTo>
                    <a:pt x="565355" y="565355"/>
                  </a:lnTo>
                  <a:lnTo>
                    <a:pt x="15" y="561173"/>
                  </a:lnTo>
                  <a:close/>
                </a:path>
              </a:pathLst>
            </a:custGeom>
            <a:solidFill>
              <a:srgbClr val="24242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25" name="文本框 24"/>
          <p:cNvSpPr/>
          <p:nvPr/>
        </p:nvSpPr>
        <p:spPr>
          <a:xfrm>
            <a:off x="4862520" y="3309840"/>
            <a:ext cx="232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文本框 12"/>
          <p:cNvSpPr/>
          <p:nvPr/>
        </p:nvSpPr>
        <p:spPr>
          <a:xfrm>
            <a:off x="5261040" y="3959280"/>
            <a:ext cx="1689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3622B-E8A7-4A36-A8F3-2C0CF15263B7}" type="datetime"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/7/28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空心弧 28"/>
          <p:cNvSpPr/>
          <p:nvPr/>
        </p:nvSpPr>
        <p:spPr>
          <a:xfrm>
            <a:off x="4916520" y="1265400"/>
            <a:ext cx="2070000" cy="2070000"/>
          </a:xfrm>
          <a:custGeom>
            <a:avLst/>
            <a:gdLst/>
            <a:ahLst/>
            <a:rect l="l" t="t" r="r" b="b"/>
            <a:pathLst>
              <a:path w="2070399" h="2070399">
                <a:moveTo>
                  <a:pt x="177978" y="1615552"/>
                </a:moveTo>
                <a:cubicBezTo>
                  <a:pt x="-114491" y="1183554"/>
                  <a:pt x="-39806" y="601425"/>
                  <a:pt x="352243" y="257248"/>
                </a:cubicBezTo>
                <a:cubicBezTo>
                  <a:pt x="744292" y="-86929"/>
                  <a:pt x="1331192" y="-85598"/>
                  <a:pt x="1721677" y="260352"/>
                </a:cubicBezTo>
                <a:cubicBezTo>
                  <a:pt x="2112162" y="606303"/>
                  <a:pt x="2184207" y="1188765"/>
                  <a:pt x="1889783" y="1619432"/>
                </a:cubicBezTo>
                <a:lnTo>
                  <a:pt x="1889782" y="1619432"/>
                </a:lnTo>
                <a:cubicBezTo>
                  <a:pt x="2184207" y="1188764"/>
                  <a:pt x="2112161" y="606302"/>
                  <a:pt x="1721676" y="260352"/>
                </a:cubicBezTo>
                <a:cubicBezTo>
                  <a:pt x="1331191" y="-85599"/>
                  <a:pt x="744292" y="-86929"/>
                  <a:pt x="352242" y="257248"/>
                </a:cubicBezTo>
                <a:cubicBezTo>
                  <a:pt x="-39807" y="601425"/>
                  <a:pt x="-114492" y="1183554"/>
                  <a:pt x="177977" y="1615552"/>
                </a:cubicBezTo>
                <a:lnTo>
                  <a:pt x="177978" y="1615552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文本框 17"/>
          <p:cNvSpPr/>
          <p:nvPr/>
        </p:nvSpPr>
        <p:spPr>
          <a:xfrm>
            <a:off x="5619600" y="4879800"/>
            <a:ext cx="9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同心圆 30"/>
          <p:cNvSpPr/>
          <p:nvPr/>
        </p:nvSpPr>
        <p:spPr>
          <a:xfrm>
            <a:off x="5611680" y="4641840"/>
            <a:ext cx="898560" cy="898560"/>
          </a:xfrm>
          <a:custGeom>
            <a:avLst/>
            <a:gdLst/>
            <a:ahLst/>
            <a:rect l="l" t="t" r="r" b="b"/>
            <a:pathLst>
              <a:path w="984250" h="985838">
                <a:moveTo>
                  <a:pt x="0" y="492919"/>
                </a:moveTo>
                <a:cubicBezTo>
                  <a:pt x="0" y="220687"/>
                  <a:pt x="220332" y="0"/>
                  <a:pt x="492125" y="0"/>
                </a:cubicBezTo>
                <a:cubicBezTo>
                  <a:pt x="763918" y="0"/>
                  <a:pt x="984250" y="220687"/>
                  <a:pt x="984250" y="492919"/>
                </a:cubicBezTo>
                <a:cubicBezTo>
                  <a:pt x="984250" y="765151"/>
                  <a:pt x="763918" y="985838"/>
                  <a:pt x="492125" y="985838"/>
                </a:cubicBezTo>
                <a:cubicBezTo>
                  <a:pt x="220332" y="985838"/>
                  <a:pt x="0" y="765151"/>
                  <a:pt x="0" y="492919"/>
                </a:cubicBezTo>
                <a:close/>
                <a:moveTo>
                  <a:pt x="0" y="492919"/>
                </a:moveTo>
                <a:cubicBezTo>
                  <a:pt x="0" y="765151"/>
                  <a:pt x="220332" y="985838"/>
                  <a:pt x="492125" y="985838"/>
                </a:cubicBezTo>
                <a:cubicBezTo>
                  <a:pt x="763918" y="985838"/>
                  <a:pt x="984250" y="765151"/>
                  <a:pt x="984250" y="492919"/>
                </a:cubicBezTo>
                <a:cubicBezTo>
                  <a:pt x="984250" y="220687"/>
                  <a:pt x="763918" y="0"/>
                  <a:pt x="492125" y="0"/>
                </a:cubicBezTo>
                <a:cubicBezTo>
                  <a:pt x="220332" y="0"/>
                  <a:pt x="0" y="220687"/>
                  <a:pt x="0" y="492919"/>
                </a:cubicBezTo>
                <a:close/>
              </a:path>
            </a:pathLst>
          </a:custGeom>
          <a:solidFill>
            <a:srgbClr val="5b9bd5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0" name="Group 2"/>
          <p:cNvGrpSpPr/>
          <p:nvPr/>
        </p:nvGrpSpPr>
        <p:grpSpPr>
          <a:xfrm>
            <a:off x="1523880" y="0"/>
            <a:ext cx="8466120" cy="6858000"/>
            <a:chOff x="1523880" y="0"/>
            <a:chExt cx="8466120" cy="6858000"/>
          </a:xfrm>
        </p:grpSpPr>
        <p:sp>
          <p:nvSpPr>
            <p:cNvPr id="631" name="矩形 4"/>
            <p:cNvSpPr/>
            <p:nvPr/>
          </p:nvSpPr>
          <p:spPr>
            <a:xfrm>
              <a:off x="214092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152388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3" name="TextBox 7"/>
            <p:cNvSpPr/>
            <p:nvPr/>
          </p:nvSpPr>
          <p:spPr>
            <a:xfrm rot="20926800">
              <a:off x="344484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6T01:34:15Z</dcterms:created>
  <dc:creator>D13001</dc:creator>
  <dc:description/>
  <cp:keywords/>
  <dc:language>en-US</dc:language>
  <cp:lastModifiedBy>a</cp:lastModifiedBy>
  <dcterms:modified xsi:type="dcterms:W3CDTF">2015-01-23T02:56:39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85</vt:lpwstr>
  </property>
</Properties>
</file>