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B9C4D-66EA-4F81-879D-2C707CAA64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67CB5-BD28-4E18-94A9-2536BAEE5C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B762-7782-419F-88AF-B0A5FE740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936A-6E3A-43ED-BC29-A2E3EE247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3546EF-FF18-470F-96BB-76B703EFF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37DD00-5941-4231-B025-E9C005D6E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40679B-45E4-4437-A3E6-E488FD6E8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E0078A-64F7-490A-8E66-C1585E788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7C8FD3-8E69-4717-B572-1C0639E3A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BDD669-8A24-42A0-A13B-4F8F6F737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83106B-8A4C-4D0C-B3FE-E36B3DA0F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F825F5-CF21-42DE-AE4F-FCC6B1855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23B8E8-C479-4ED3-8574-440D734E0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572B8D-5E04-4845-BD69-43BFC28D7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0F93-7FDC-46A3-83B1-EB78F44E7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6DFACC-BFA5-466B-AB13-27095C01A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E5C285-F6E1-44ED-9BC4-D777A631F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7F3AAD-84E9-4653-ABCB-6F0BEB72A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F896A5-E2F1-43B2-9253-C6305097A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51D107-50F9-4A7B-9EF2-549137EC1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F920C2-38C5-472D-BE0F-033D740FF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AB7F21-74CB-433C-B4C4-1FE5367CE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5E093F-560D-4E34-AB90-CEBB582E2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87EF7C-9E3B-4F36-AD64-0740FFBBF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ACC7C9-6CEE-4195-8346-B089ED212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7702-7DC0-4342-9618-44D23395C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125186-99A3-41C7-9F95-605EBA406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62CBFB-7EAA-4F6E-882F-AA6180AD3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1E5767-BC0B-49C6-B7A2-AB8F6DCC4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A036E6-FED2-4191-BFE2-A66F87978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6B5B6A-0F60-4054-9A62-61BAC42AF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03BEC4-4348-4659-AD0E-CC294CB13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63F161-5096-4181-A7C0-D0A1E797A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41DC47-17C0-43A1-A115-C3AD2CD37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DF0FB8-6809-4CCE-84D1-0DF49222C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204583-60CA-4EF4-9A2E-5CDCB5303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40C1E-8358-40F9-B314-ECE620643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219C65-23CE-4AC9-8610-60ECBD496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9AA2F7-508F-4B20-9D19-B275F1BAD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7ADBC9-78DA-4549-A9E5-625561CC4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80BEDD-FC12-48A4-82C9-DEFDB7206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ED03B5-C179-4BAB-9CB2-0D776DF76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BE768E-1AFE-49E8-9112-F495EA1BE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967B91-C1C6-46CE-A64B-1CBEFF5F7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6D0D17-F29B-49B8-99DE-5E32EDC91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1F095B-6FEA-43FD-B1D4-5F69F0AC7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43BFB0-4069-4FBE-9CC6-E81E84FFB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1FFE7-A89B-40B5-BD20-F2BC606A3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DBE840-40B2-486E-A2B4-8D5997078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EB911B-B7DB-4B4B-88F5-384C0128E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3421B3-9E0C-4D45-9997-BFC358A9A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790CC2-D802-4FD8-AA52-222E29932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87706E-EDFF-41F4-9E25-3F67529FB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E3643E-C2A5-41D6-8F17-3D8F1F621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6D072D-C8C4-4A12-B195-091B5126B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F6571B-C1F1-4342-AC1F-0EE243E46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93A5FC-DC40-4194-8EDF-2A48B0347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CC17B2-BC63-49A0-9EB8-7A85815F8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54C84-B79C-4F6F-BFC0-3B428D3D8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399BFB-922A-475C-A9AD-4CABEE91E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040C8E-2C08-459D-B16C-1CC73C096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FDF001-0AB1-460A-9999-58BA45EE6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9F1F53-1A03-4603-BA05-6D8B51E49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C8A30D-D818-4823-BB9B-6F8353689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F9DE79-F538-4ED4-93D4-48A3D824F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4FCECB-EB63-49EF-B8DF-441DD415E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FB2CD-2456-4313-A511-A5D5BDA28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78B74-D907-476E-985B-F4020B27E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F8717-0F7C-4F7D-8791-829FE3026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88EBE-B436-46C9-8D5E-3F0F5B19C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CE73-A336-4A63-83A2-7459649C6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BBFD0-2CD2-4335-814C-E7BEE3F08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D4F33-C862-4FC6-B8D9-F82545F42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4F79C-9E7C-4DD8-8EF8-92880A766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3B448-3A09-46B1-9AEE-4FC2486E9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8C9A6-16BB-4F9D-B129-BEBC23B08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BCFCBF-2E11-4A4B-857A-2C966FD6F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E72C76-8C9D-4B93-8293-A1A602957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110E28-0728-41E0-96E3-EB6EDD3AB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22F17F-E6A3-4B51-9D8D-6DDCD2F69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54F86C-6E74-4E7A-81CE-0B6DED6A5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15AD-0159-4588-9534-A18BD59BD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FA621A-A45B-40A3-9B91-5A39BB47C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209916-3057-475C-A5FF-A2BFC0E49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3D49AC-11C5-425B-ABE2-F7E142F28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9B98F7-EF9C-4842-B040-319F51335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579A1C-D75C-43FF-9284-A7A03373A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3E6A70-3219-484D-AF92-EBB74AE90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F52E32-CDC3-4669-8F17-1B7615243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322C27-F3A1-416E-AC5D-6DDA30733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F20E1B-D7F1-4265-BEA2-E0E970E1E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D0DC88-F4D3-437F-9F96-83CF8A6FD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CC9A-A4DC-410C-8516-9E0F07F0D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81F669-96D3-49B6-8F6B-021001EF6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56E9D1-CE2C-459D-977A-60BB985FC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12CE2E-81B4-438D-AC81-83F919AA3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471D8A-0BBA-4DAF-A93F-D8D0C6B3E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72E1D9-2E7D-4B64-8FE7-CFB58C153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22BD10-5236-49C0-9D1F-B1A01D768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922DFF-2CDC-4448-9375-9E2208CE9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1AC6F0-FEF3-4C7C-AB2E-FD7E5EF22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44B3AA-7A81-4B34-A268-8DC636A3C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F8E81E-251C-418C-B0CB-F3B343419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BE69-9641-4061-ABBD-39BDF6041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9F9900-0F6A-4BC4-A020-0B6CC62DA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C5C8F2-B0F1-4076-9CC2-7ECCC2E18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79091B-CDF5-4D43-967E-096CD91EC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1750B5-ACFF-4248-9BEE-2EF58E8F1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F9E071-E1C6-4862-B283-5064DC818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1163EE-108C-4A8A-A5FB-5827DB4CD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C98BDF-7B8B-44F5-BF0B-D1314FFE6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3926C7-6264-42E8-8F67-6463F201C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5BE880-69D0-4D84-8556-4311D6B26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FEE7A6-8ABA-43D5-928E-EFD011CDB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83D6-B086-4444-BD30-86EA1273B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6B0F4E-6F48-4475-8BAB-E2C693EC1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8FE4C5-59A9-4E40-85FA-303DB1ACC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5DC32D-8A6F-4D3C-A0DB-60FD1BF9D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FA06D7-A92E-4123-8E82-5273E6B7D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541E31-8191-4C66-B135-68BF46F98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466F85-E2F9-4FEC-A6FB-9120A9E9E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1071D6-7DD1-4853-815E-86B71CE5D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123448-A691-4D7C-A5AC-2831FC799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5998FF-21DF-4C5D-B017-02BD7E26E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568801-57C6-41AA-9341-2447EBAE2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59A3-DC92-4F52-B1DE-4B748302D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5AF2E8-1578-46C2-936A-9E65FE1E5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B8FA06-C62B-4E8D-8748-0E20836E8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4733B4-43B3-42B4-BA85-E2D7100DE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ADCC27-A3F3-4E32-BBC1-8A1723002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982D06-1CAF-41C3-A222-2692992A7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6F113F-F247-4C6B-A148-35B1F1C5D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F0312D-AFFB-42A2-AE16-B7FCB5686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7505C9-40B8-4B76-9C53-BE0C1BA05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84318C-F088-4633-917A-FDF3B64D7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CA1952-59DD-4572-A720-D02EDD584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A274-5458-4B12-A556-F26FB2CE7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B554D6-288F-42A4-B51F-3F5359162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293600-81DD-45A5-A23E-0882FB391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BE0F3F-8E24-4D34-A29C-98669DD41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F9FDD5-F6A5-4930-A5AD-46FA7D5B7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4D8163-5154-426E-8458-3B5432D37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25D708-2E2C-4A08-8ED3-D723ACC81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9839B8-FC8B-49D3-95F8-612C21B97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A5D6EC-F997-4E99-935A-355C48FBD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777DDD-981C-4164-A5D6-7C60B1F7E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FF18FA-2443-4916-9F97-43D549BFB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8524-E1DE-4F8D-B0D6-B174044E1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F34EDA-5289-43E0-8DC0-3EF8FEEFB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FB2761-B7E5-41EC-B6DA-624258EA8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D3315C-4598-42CC-AFA8-28579F2C0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A571FD-8C70-4C21-B8F4-2AF526E17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EE0BF6-2AD2-4FD3-BDD7-51038AA7D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CA970E-67D5-412B-B129-B5BC19087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5C57D3-C367-4A09-8BAF-736B0833E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B426F7-C7FD-4078-BB67-AA3E49C40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A3A3E7-310E-403C-91D6-DC0FC355C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F36F2D-4A1B-4898-B5E9-7774B0768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9B36F-053B-42BB-B9E4-908A825FC3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0FC27-6037-4105-AE33-CFEF7E94E26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3C265-2C73-4A9C-807D-BF02AA58DA2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8E146-11D7-40AE-B84A-496503A890E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96EAC-E869-48D6-A3D5-89BA05D2580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78AEB-1982-49DD-8DB9-BB6AD91EB129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159CD-9EB1-443E-A075-5F60A61EA30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AF782-48D7-49DB-9216-D0FFAA6F8A1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D6F1B-40B3-49F8-9BA7-270D4C8930A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73044-B4C0-4491-803C-1E60EAC7971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3C224-6673-4B34-870C-E887C5152C0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4585D-AF86-4C2A-896A-E9E571ECD43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09059-08E6-47F6-AB4B-59BB9D874BD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6F97E-F1FC-4FF5-97BB-079EF546A1C7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81FB8-833F-40A6-AC57-36156DE5383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04E59-DF3C-4F98-9005-A04C2C85956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00193-6EE1-422F-A7C1-F2ACBA1EF03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10D81-E6F4-4FCA-BED6-B4C586C989D0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DC5EB-8AA8-4021-81D1-D62DCD71836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52BCA-4DB1-4B70-B6B7-95B19F2BB31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516BD-530C-4CC8-8CBB-B0034A5F8C7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FB15D-8AE1-4BE5-8472-F4E87E0CA9F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9DAC0-0808-4530-9967-ED37A1C88E5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7D363-6145-4FE1-AEAC-EF9D6685566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B0A5D-2764-4B16-984A-4AA12B52653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image" Target="../media/image1.jpeg"/><Relationship Id="rId1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矩形 9"/>
          <p:cNvSpPr/>
          <p:nvPr/>
        </p:nvSpPr>
        <p:spPr>
          <a:xfrm>
            <a:off x="295200" y="87012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1" name="Picture 9" descr="F:\ppt\612\人教版一年级语文下册《胖乎乎的小手》课件PPT\图片3.jpg"/>
          <p:cNvPicPr/>
          <p:nvPr/>
        </p:nvPicPr>
        <p:blipFill>
          <a:blip r:embed="rId10"/>
          <a:stretch/>
        </p:blipFill>
        <p:spPr>
          <a:xfrm>
            <a:off x="0" y="0"/>
            <a:ext cx="9144000" cy="6777000"/>
          </a:xfrm>
          <a:prstGeom prst="rect">
            <a:avLst/>
          </a:prstGeom>
          <a:ln w="0">
            <a:noFill/>
          </a:ln>
        </p:spPr>
      </p:pic>
      <p:sp>
        <p:nvSpPr>
          <p:cNvPr id="542" name="Text Box 5"/>
          <p:cNvSpPr/>
          <p:nvPr/>
        </p:nvSpPr>
        <p:spPr>
          <a:xfrm>
            <a:off x="1332000" y="2349360"/>
            <a:ext cx="525600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一棵小树十个叉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不长叶子不开花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能写会算还会画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天天干活不说话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方正彩云简体"/>
                <a:ea typeface="方正彩云简体"/>
              </a:rPr>
              <a:t>胖乎乎的小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Picture 9" descr="F:\ppt\612\人教版一年级语文下册《胖乎乎的小手》课件PPT\图片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4" name="Text Box 5"/>
          <p:cNvSpPr/>
          <p:nvPr/>
        </p:nvSpPr>
        <p:spPr>
          <a:xfrm>
            <a:off x="3419640" y="1268280"/>
            <a:ext cx="41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小擂台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一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AutoShape 6"/>
          <p:cNvSpPr/>
          <p:nvPr/>
        </p:nvSpPr>
        <p:spPr>
          <a:xfrm>
            <a:off x="3203640" y="2060640"/>
            <a:ext cx="4249800" cy="3097080"/>
          </a:xfrm>
          <a:prstGeom prst="irregularSeal1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们来比一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看谁记得牢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6" name="Picture 2" descr="toriblue.jpg (23158 バイト)"/>
          <p:cNvPicPr/>
          <p:nvPr/>
        </p:nvPicPr>
        <p:blipFill>
          <a:blip r:embed="rId1">
            <a:lum contrast="100000"/>
          </a:blip>
          <a:stretch/>
        </p:blipFill>
        <p:spPr>
          <a:xfrm>
            <a:off x="0" y="333360"/>
            <a:ext cx="1671480" cy="213372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3" descr="toriblue.jpg (23158 バイト)"/>
          <p:cNvPicPr/>
          <p:nvPr/>
        </p:nvPicPr>
        <p:blipFill>
          <a:blip r:embed="rId2">
            <a:lum contrast="100000"/>
          </a:blip>
          <a:stretch/>
        </p:blipFill>
        <p:spPr>
          <a:xfrm>
            <a:off x="7472520" y="476280"/>
            <a:ext cx="1671480" cy="2133720"/>
          </a:xfrm>
          <a:prstGeom prst="rect">
            <a:avLst/>
          </a:prstGeom>
          <a:ln w="0">
            <a:noFill/>
          </a:ln>
        </p:spPr>
      </p:pic>
      <p:pic>
        <p:nvPicPr>
          <p:cNvPr id="578" name="Picture 4" descr="toriblue.jpg (23158 バイト)"/>
          <p:cNvPicPr/>
          <p:nvPr/>
        </p:nvPicPr>
        <p:blipFill>
          <a:blip r:embed="rId3">
            <a:lum contrast="100000"/>
          </a:blip>
          <a:stretch/>
        </p:blipFill>
        <p:spPr>
          <a:xfrm>
            <a:off x="6012000" y="260280"/>
            <a:ext cx="1671480" cy="2133720"/>
          </a:xfrm>
          <a:prstGeom prst="rect">
            <a:avLst/>
          </a:prstGeom>
          <a:ln w="0">
            <a:noFill/>
          </a:ln>
        </p:spPr>
      </p:pic>
      <p:pic>
        <p:nvPicPr>
          <p:cNvPr id="579" name="Picture 5" descr="toriblue.jpg (23158 バイト)"/>
          <p:cNvPicPr/>
          <p:nvPr/>
        </p:nvPicPr>
        <p:blipFill>
          <a:blip r:embed="rId4">
            <a:lum contrast="100000"/>
          </a:blip>
          <a:stretch/>
        </p:blipFill>
        <p:spPr>
          <a:xfrm>
            <a:off x="3059280" y="333360"/>
            <a:ext cx="1671480" cy="2133720"/>
          </a:xfrm>
          <a:prstGeom prst="rect">
            <a:avLst/>
          </a:prstGeom>
          <a:ln w="0">
            <a:noFill/>
          </a:ln>
        </p:spPr>
      </p:pic>
      <p:pic>
        <p:nvPicPr>
          <p:cNvPr id="580" name="Picture 6" descr="toriblue.jpg (23158 バイト)"/>
          <p:cNvPicPr/>
          <p:nvPr/>
        </p:nvPicPr>
        <p:blipFill>
          <a:blip r:embed="rId5">
            <a:lum contrast="100000"/>
          </a:blip>
          <a:stretch/>
        </p:blipFill>
        <p:spPr>
          <a:xfrm>
            <a:off x="1403280" y="333360"/>
            <a:ext cx="1671840" cy="2133720"/>
          </a:xfrm>
          <a:prstGeom prst="rect">
            <a:avLst/>
          </a:prstGeom>
          <a:ln w="0">
            <a:noFill/>
          </a:ln>
        </p:spPr>
      </p:pic>
      <p:grpSp>
        <p:nvGrpSpPr>
          <p:cNvPr id="581" name="Group 7"/>
          <p:cNvGrpSpPr/>
          <p:nvPr/>
        </p:nvGrpSpPr>
        <p:grpSpPr>
          <a:xfrm>
            <a:off x="324000" y="4797360"/>
            <a:ext cx="936360" cy="1274760"/>
            <a:chOff x="324000" y="4797360"/>
            <a:chExt cx="936360" cy="1274760"/>
          </a:xfrm>
        </p:grpSpPr>
        <p:sp>
          <p:nvSpPr>
            <p:cNvPr id="582" name="Rectangle 8"/>
            <p:cNvSpPr/>
            <p:nvPr/>
          </p:nvSpPr>
          <p:spPr>
            <a:xfrm>
              <a:off x="324000" y="5300640"/>
              <a:ext cx="936360" cy="77148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Arial"/>
                </a:rPr>
                <a:t>替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Line 9"/>
            <p:cNvSpPr/>
            <p:nvPr/>
          </p:nvSpPr>
          <p:spPr>
            <a:xfrm flipV="1">
              <a:off x="324000" y="4797360"/>
              <a:ext cx="502920" cy="50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Line 10"/>
            <p:cNvSpPr/>
            <p:nvPr/>
          </p:nvSpPr>
          <p:spPr>
            <a:xfrm>
              <a:off x="826920" y="4797360"/>
              <a:ext cx="432000" cy="50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5" name="Group 11"/>
          <p:cNvGrpSpPr/>
          <p:nvPr/>
        </p:nvGrpSpPr>
        <p:grpSpPr>
          <a:xfrm>
            <a:off x="1908000" y="4724280"/>
            <a:ext cx="936360" cy="1274760"/>
            <a:chOff x="1908000" y="4724280"/>
            <a:chExt cx="936360" cy="1274760"/>
          </a:xfrm>
        </p:grpSpPr>
        <p:sp>
          <p:nvSpPr>
            <p:cNvPr id="586" name="Rectangle 12"/>
            <p:cNvSpPr/>
            <p:nvPr/>
          </p:nvSpPr>
          <p:spPr>
            <a:xfrm>
              <a:off x="1908000" y="5227560"/>
              <a:ext cx="936360" cy="77148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Arial"/>
                </a:rPr>
                <a:t>墙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Line 13"/>
            <p:cNvSpPr/>
            <p:nvPr/>
          </p:nvSpPr>
          <p:spPr>
            <a:xfrm flipV="1">
              <a:off x="1908000" y="4724280"/>
              <a:ext cx="502920" cy="50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Line 14"/>
            <p:cNvSpPr/>
            <p:nvPr/>
          </p:nvSpPr>
          <p:spPr>
            <a:xfrm>
              <a:off x="2410920" y="4724280"/>
              <a:ext cx="432000" cy="50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9" name="Group 15"/>
          <p:cNvGrpSpPr/>
          <p:nvPr/>
        </p:nvGrpSpPr>
        <p:grpSpPr>
          <a:xfrm>
            <a:off x="6372360" y="4724280"/>
            <a:ext cx="936360" cy="1274760"/>
            <a:chOff x="6372360" y="4724280"/>
            <a:chExt cx="936360" cy="1274760"/>
          </a:xfrm>
        </p:grpSpPr>
        <p:sp>
          <p:nvSpPr>
            <p:cNvPr id="590" name="Rectangle 16"/>
            <p:cNvSpPr/>
            <p:nvPr/>
          </p:nvSpPr>
          <p:spPr>
            <a:xfrm>
              <a:off x="6372360" y="5227560"/>
              <a:ext cx="936360" cy="77148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Arial"/>
                </a:rPr>
                <a:t>变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Line 17"/>
            <p:cNvSpPr/>
            <p:nvPr/>
          </p:nvSpPr>
          <p:spPr>
            <a:xfrm flipV="1">
              <a:off x="6372360" y="4724280"/>
              <a:ext cx="502920" cy="50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Line 18"/>
            <p:cNvSpPr/>
            <p:nvPr/>
          </p:nvSpPr>
          <p:spPr>
            <a:xfrm>
              <a:off x="6875280" y="4724280"/>
              <a:ext cx="432000" cy="50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3" name="Group 19"/>
          <p:cNvGrpSpPr/>
          <p:nvPr/>
        </p:nvGrpSpPr>
        <p:grpSpPr>
          <a:xfrm>
            <a:off x="4932360" y="4724280"/>
            <a:ext cx="936360" cy="1274760"/>
            <a:chOff x="4932360" y="4724280"/>
            <a:chExt cx="936360" cy="1274760"/>
          </a:xfrm>
        </p:grpSpPr>
        <p:sp>
          <p:nvSpPr>
            <p:cNvPr id="594" name="Rectangle 20"/>
            <p:cNvSpPr/>
            <p:nvPr/>
          </p:nvSpPr>
          <p:spPr>
            <a:xfrm>
              <a:off x="4932360" y="5227560"/>
              <a:ext cx="936360" cy="77148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Arial"/>
                </a:rPr>
                <a:t>拖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Line 21"/>
            <p:cNvSpPr/>
            <p:nvPr/>
          </p:nvSpPr>
          <p:spPr>
            <a:xfrm flipV="1">
              <a:off x="4932360" y="4724280"/>
              <a:ext cx="502920" cy="50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Line 22"/>
            <p:cNvSpPr/>
            <p:nvPr/>
          </p:nvSpPr>
          <p:spPr>
            <a:xfrm>
              <a:off x="5435280" y="4724280"/>
              <a:ext cx="432000" cy="50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7" name="Group 23"/>
          <p:cNvGrpSpPr/>
          <p:nvPr/>
        </p:nvGrpSpPr>
        <p:grpSpPr>
          <a:xfrm>
            <a:off x="3419640" y="4724280"/>
            <a:ext cx="936360" cy="1274760"/>
            <a:chOff x="3419640" y="4724280"/>
            <a:chExt cx="936360" cy="1274760"/>
          </a:xfrm>
        </p:grpSpPr>
        <p:sp>
          <p:nvSpPr>
            <p:cNvPr id="598" name="Rectangle 24"/>
            <p:cNvSpPr/>
            <p:nvPr/>
          </p:nvSpPr>
          <p:spPr>
            <a:xfrm>
              <a:off x="3419640" y="5227560"/>
              <a:ext cx="936360" cy="77148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Arial"/>
                </a:rPr>
                <a:t>帮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Line 25"/>
            <p:cNvSpPr/>
            <p:nvPr/>
          </p:nvSpPr>
          <p:spPr>
            <a:xfrm flipV="1">
              <a:off x="3419640" y="4724280"/>
              <a:ext cx="502920" cy="50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Line 26"/>
            <p:cNvSpPr/>
            <p:nvPr/>
          </p:nvSpPr>
          <p:spPr>
            <a:xfrm>
              <a:off x="3922560" y="4724280"/>
              <a:ext cx="432000" cy="50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1" name="Group 27"/>
          <p:cNvGrpSpPr/>
          <p:nvPr/>
        </p:nvGrpSpPr>
        <p:grpSpPr>
          <a:xfrm>
            <a:off x="7885080" y="4724280"/>
            <a:ext cx="936360" cy="1274760"/>
            <a:chOff x="7885080" y="4724280"/>
            <a:chExt cx="936360" cy="1274760"/>
          </a:xfrm>
        </p:grpSpPr>
        <p:sp>
          <p:nvSpPr>
            <p:cNvPr id="602" name="Rectangle 28"/>
            <p:cNvSpPr/>
            <p:nvPr/>
          </p:nvSpPr>
          <p:spPr>
            <a:xfrm>
              <a:off x="7885080" y="5227560"/>
              <a:ext cx="936360" cy="77148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Arial"/>
                </a:rPr>
                <a:t>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Line 29"/>
            <p:cNvSpPr/>
            <p:nvPr/>
          </p:nvSpPr>
          <p:spPr>
            <a:xfrm flipV="1">
              <a:off x="7885080" y="4724280"/>
              <a:ext cx="502920" cy="50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Line 30"/>
            <p:cNvSpPr/>
            <p:nvPr/>
          </p:nvSpPr>
          <p:spPr>
            <a:xfrm>
              <a:off x="8388000" y="4724280"/>
              <a:ext cx="432000" cy="50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05" name="Picture 31" descr="toriblue.jpg (23158 バイト)"/>
          <p:cNvPicPr/>
          <p:nvPr/>
        </p:nvPicPr>
        <p:blipFill>
          <a:blip r:embed="rId6">
            <a:lum contrast="100000"/>
          </a:blip>
          <a:stretch/>
        </p:blipFill>
        <p:spPr>
          <a:xfrm>
            <a:off x="4500720" y="260280"/>
            <a:ext cx="1671480" cy="2133720"/>
          </a:xfrm>
          <a:prstGeom prst="rect">
            <a:avLst/>
          </a:prstGeom>
          <a:ln w="0">
            <a:noFill/>
          </a:ln>
        </p:spPr>
      </p:pic>
      <p:sp>
        <p:nvSpPr>
          <p:cNvPr id="606" name="Rectangle 32"/>
          <p:cNvSpPr/>
          <p:nvPr/>
        </p:nvSpPr>
        <p:spPr>
          <a:xfrm>
            <a:off x="611280" y="1989000"/>
            <a:ext cx="7189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u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33"/>
          <p:cNvSpPr/>
          <p:nvPr/>
        </p:nvSpPr>
        <p:spPr>
          <a:xfrm>
            <a:off x="2124000" y="1989000"/>
            <a:ext cx="86364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ě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34"/>
          <p:cNvSpPr/>
          <p:nvPr/>
        </p:nvSpPr>
        <p:spPr>
          <a:xfrm>
            <a:off x="8244000" y="2060640"/>
            <a:ext cx="64908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tangle 35"/>
          <p:cNvSpPr/>
          <p:nvPr/>
        </p:nvSpPr>
        <p:spPr>
          <a:xfrm>
            <a:off x="5292720" y="2060640"/>
            <a:ext cx="86364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ā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Rectangle 36"/>
          <p:cNvSpPr/>
          <p:nvPr/>
        </p:nvSpPr>
        <p:spPr>
          <a:xfrm>
            <a:off x="6732720" y="2060640"/>
            <a:ext cx="93492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iá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Rectangle 37"/>
          <p:cNvSpPr/>
          <p:nvPr/>
        </p:nvSpPr>
        <p:spPr>
          <a:xfrm>
            <a:off x="3780000" y="1989000"/>
            <a:ext cx="86328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ià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2" name="Picture 2" descr="toriblue.jpg (23158 バイト)"/>
          <p:cNvPicPr/>
          <p:nvPr/>
        </p:nvPicPr>
        <p:blipFill>
          <a:blip r:embed="rId1">
            <a:lum contrast="100000"/>
          </a:blip>
          <a:stretch/>
        </p:blipFill>
        <p:spPr>
          <a:xfrm>
            <a:off x="0" y="333360"/>
            <a:ext cx="1671480" cy="2133720"/>
          </a:xfrm>
          <a:prstGeom prst="rect">
            <a:avLst/>
          </a:prstGeom>
          <a:ln w="0">
            <a:noFill/>
          </a:ln>
        </p:spPr>
      </p:pic>
      <p:pic>
        <p:nvPicPr>
          <p:cNvPr id="613" name="Picture 3" descr="toriblue.jpg (23158 バイト)"/>
          <p:cNvPicPr/>
          <p:nvPr/>
        </p:nvPicPr>
        <p:blipFill>
          <a:blip r:embed="rId2">
            <a:lum contrast="100000"/>
          </a:blip>
          <a:stretch/>
        </p:blipFill>
        <p:spPr>
          <a:xfrm>
            <a:off x="6443640" y="189000"/>
            <a:ext cx="1671840" cy="213336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4" descr="toriblue.jpg (23158 バイト)"/>
          <p:cNvPicPr/>
          <p:nvPr/>
        </p:nvPicPr>
        <p:blipFill>
          <a:blip r:embed="rId3">
            <a:lum contrast="100000"/>
          </a:blip>
          <a:stretch/>
        </p:blipFill>
        <p:spPr>
          <a:xfrm>
            <a:off x="3059280" y="333360"/>
            <a:ext cx="1671480" cy="213372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5" descr="toriblue.jpg (23158 バイト)"/>
          <p:cNvPicPr/>
          <p:nvPr/>
        </p:nvPicPr>
        <p:blipFill>
          <a:blip r:embed="rId4">
            <a:lum contrast="100000"/>
          </a:blip>
          <a:stretch/>
        </p:blipFill>
        <p:spPr>
          <a:xfrm>
            <a:off x="1403280" y="333360"/>
            <a:ext cx="1671840" cy="2133720"/>
          </a:xfrm>
          <a:prstGeom prst="rect">
            <a:avLst/>
          </a:prstGeom>
          <a:ln w="0">
            <a:noFill/>
          </a:ln>
        </p:spPr>
      </p:pic>
      <p:grpSp>
        <p:nvGrpSpPr>
          <p:cNvPr id="616" name="Group 6"/>
          <p:cNvGrpSpPr/>
          <p:nvPr/>
        </p:nvGrpSpPr>
        <p:grpSpPr>
          <a:xfrm>
            <a:off x="324000" y="4797360"/>
            <a:ext cx="936360" cy="1274760"/>
            <a:chOff x="324000" y="4797360"/>
            <a:chExt cx="936360" cy="1274760"/>
          </a:xfrm>
        </p:grpSpPr>
        <p:sp>
          <p:nvSpPr>
            <p:cNvPr id="617" name="Rectangle 7"/>
            <p:cNvSpPr/>
            <p:nvPr/>
          </p:nvSpPr>
          <p:spPr>
            <a:xfrm>
              <a:off x="324000" y="5300640"/>
              <a:ext cx="936360" cy="77148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Arial"/>
                </a:rPr>
                <a:t>喜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Line 8"/>
            <p:cNvSpPr/>
            <p:nvPr/>
          </p:nvSpPr>
          <p:spPr>
            <a:xfrm flipV="1">
              <a:off x="324000" y="4797360"/>
              <a:ext cx="502920" cy="50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Line 9"/>
            <p:cNvSpPr/>
            <p:nvPr/>
          </p:nvSpPr>
          <p:spPr>
            <a:xfrm>
              <a:off x="826920" y="4797360"/>
              <a:ext cx="432000" cy="50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0" name="Group 10"/>
          <p:cNvGrpSpPr/>
          <p:nvPr/>
        </p:nvGrpSpPr>
        <p:grpSpPr>
          <a:xfrm>
            <a:off x="2050920" y="4724280"/>
            <a:ext cx="936360" cy="1274760"/>
            <a:chOff x="2050920" y="4724280"/>
            <a:chExt cx="936360" cy="1274760"/>
          </a:xfrm>
        </p:grpSpPr>
        <p:sp>
          <p:nvSpPr>
            <p:cNvPr id="621" name="Rectangle 11"/>
            <p:cNvSpPr/>
            <p:nvPr/>
          </p:nvSpPr>
          <p:spPr>
            <a:xfrm>
              <a:off x="2050920" y="5227560"/>
              <a:ext cx="936360" cy="77148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Arial"/>
                </a:rPr>
                <a:t>鞋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Line 12"/>
            <p:cNvSpPr/>
            <p:nvPr/>
          </p:nvSpPr>
          <p:spPr>
            <a:xfrm flipV="1">
              <a:off x="2050920" y="4724280"/>
              <a:ext cx="502920" cy="50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Line 13"/>
            <p:cNvSpPr/>
            <p:nvPr/>
          </p:nvSpPr>
          <p:spPr>
            <a:xfrm>
              <a:off x="2553840" y="4724280"/>
              <a:ext cx="432000" cy="50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4" name="Group 14"/>
          <p:cNvGrpSpPr/>
          <p:nvPr/>
        </p:nvGrpSpPr>
        <p:grpSpPr>
          <a:xfrm>
            <a:off x="7451640" y="4653000"/>
            <a:ext cx="936360" cy="1274760"/>
            <a:chOff x="7451640" y="4653000"/>
            <a:chExt cx="936360" cy="1274760"/>
          </a:xfrm>
        </p:grpSpPr>
        <p:sp>
          <p:nvSpPr>
            <p:cNvPr id="625" name="Rectangle 15"/>
            <p:cNvSpPr/>
            <p:nvPr/>
          </p:nvSpPr>
          <p:spPr>
            <a:xfrm>
              <a:off x="7451640" y="5156280"/>
              <a:ext cx="936360" cy="77148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Arial"/>
                </a:rPr>
                <a:t>胖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Line 16"/>
            <p:cNvSpPr/>
            <p:nvPr/>
          </p:nvSpPr>
          <p:spPr>
            <a:xfrm flipV="1">
              <a:off x="7451640" y="4653000"/>
              <a:ext cx="502920" cy="50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Line 17"/>
            <p:cNvSpPr/>
            <p:nvPr/>
          </p:nvSpPr>
          <p:spPr>
            <a:xfrm>
              <a:off x="7954560" y="4653000"/>
              <a:ext cx="432000" cy="50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8" name="Group 18"/>
          <p:cNvGrpSpPr/>
          <p:nvPr/>
        </p:nvGrpSpPr>
        <p:grpSpPr>
          <a:xfrm>
            <a:off x="5580000" y="4797360"/>
            <a:ext cx="936360" cy="1274760"/>
            <a:chOff x="5580000" y="4797360"/>
            <a:chExt cx="936360" cy="1274760"/>
          </a:xfrm>
        </p:grpSpPr>
        <p:sp>
          <p:nvSpPr>
            <p:cNvPr id="629" name="Rectangle 19"/>
            <p:cNvSpPr/>
            <p:nvPr/>
          </p:nvSpPr>
          <p:spPr>
            <a:xfrm>
              <a:off x="5580000" y="5300640"/>
              <a:ext cx="936360" cy="77148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Arial"/>
                </a:rPr>
                <a:t>张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Line 20"/>
            <p:cNvSpPr/>
            <p:nvPr/>
          </p:nvSpPr>
          <p:spPr>
            <a:xfrm flipV="1">
              <a:off x="5580000" y="4797360"/>
              <a:ext cx="502920" cy="50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Line 21"/>
            <p:cNvSpPr/>
            <p:nvPr/>
          </p:nvSpPr>
          <p:spPr>
            <a:xfrm>
              <a:off x="6082920" y="4797360"/>
              <a:ext cx="432000" cy="50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2" name="Group 22"/>
          <p:cNvGrpSpPr/>
          <p:nvPr/>
        </p:nvGrpSpPr>
        <p:grpSpPr>
          <a:xfrm>
            <a:off x="3851280" y="4797360"/>
            <a:ext cx="936360" cy="1274760"/>
            <a:chOff x="3851280" y="4797360"/>
            <a:chExt cx="936360" cy="1274760"/>
          </a:xfrm>
        </p:grpSpPr>
        <p:sp>
          <p:nvSpPr>
            <p:cNvPr id="633" name="Rectangle 23"/>
            <p:cNvSpPr/>
            <p:nvPr/>
          </p:nvSpPr>
          <p:spPr>
            <a:xfrm>
              <a:off x="3851280" y="5300640"/>
              <a:ext cx="936360" cy="77148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Arial"/>
                </a:rPr>
                <a:t>刚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Line 24"/>
            <p:cNvSpPr/>
            <p:nvPr/>
          </p:nvSpPr>
          <p:spPr>
            <a:xfrm flipV="1">
              <a:off x="3851280" y="4797360"/>
              <a:ext cx="502920" cy="50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Line 25"/>
            <p:cNvSpPr/>
            <p:nvPr/>
          </p:nvSpPr>
          <p:spPr>
            <a:xfrm>
              <a:off x="4354200" y="4797360"/>
              <a:ext cx="432000" cy="50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36" name="Picture 26" descr="toriblue.jpg (23158 バイト)"/>
          <p:cNvPicPr/>
          <p:nvPr/>
        </p:nvPicPr>
        <p:blipFill>
          <a:blip r:embed="rId5">
            <a:lum contrast="100000"/>
          </a:blip>
          <a:stretch/>
        </p:blipFill>
        <p:spPr>
          <a:xfrm>
            <a:off x="4643280" y="260280"/>
            <a:ext cx="1671840" cy="2133720"/>
          </a:xfrm>
          <a:prstGeom prst="rect">
            <a:avLst/>
          </a:prstGeom>
          <a:ln w="0">
            <a:noFill/>
          </a:ln>
        </p:spPr>
      </p:pic>
      <p:sp>
        <p:nvSpPr>
          <p:cNvPr id="637" name="Rectangle 27"/>
          <p:cNvSpPr/>
          <p:nvPr/>
        </p:nvSpPr>
        <p:spPr>
          <a:xfrm>
            <a:off x="611280" y="1989000"/>
            <a:ext cx="7189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i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Rectangle 28"/>
          <p:cNvSpPr/>
          <p:nvPr/>
        </p:nvSpPr>
        <p:spPr>
          <a:xfrm>
            <a:off x="2124000" y="1989000"/>
            <a:ext cx="86364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à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Rectangle 29"/>
          <p:cNvSpPr/>
          <p:nvPr/>
        </p:nvSpPr>
        <p:spPr>
          <a:xfrm>
            <a:off x="5651640" y="1916280"/>
            <a:ext cx="86364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ā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Rectangle 30"/>
          <p:cNvSpPr/>
          <p:nvPr/>
        </p:nvSpPr>
        <p:spPr>
          <a:xfrm>
            <a:off x="7380360" y="1916280"/>
            <a:ext cx="93492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zhā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Rectangle 31"/>
          <p:cNvSpPr/>
          <p:nvPr/>
        </p:nvSpPr>
        <p:spPr>
          <a:xfrm>
            <a:off x="3780000" y="1989000"/>
            <a:ext cx="86328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2" name="Group 2"/>
          <p:cNvGrpSpPr/>
          <p:nvPr/>
        </p:nvGrpSpPr>
        <p:grpSpPr>
          <a:xfrm>
            <a:off x="1176480" y="1249200"/>
            <a:ext cx="1702800" cy="1704240"/>
            <a:chOff x="1176480" y="1249200"/>
            <a:chExt cx="1702800" cy="1704240"/>
          </a:xfrm>
        </p:grpSpPr>
        <p:sp>
          <p:nvSpPr>
            <p:cNvPr id="643" name="AutoShape 3"/>
            <p:cNvSpPr/>
            <p:nvPr/>
          </p:nvSpPr>
          <p:spPr>
            <a:xfrm rot="20508600">
              <a:off x="1547280" y="1341360"/>
              <a:ext cx="505080" cy="576000"/>
            </a:xfrm>
            <a:custGeom>
              <a:avLst/>
              <a:gdLst>
                <a:gd name="textAreaLeft" fmla="*/ 117360 w 505080"/>
                <a:gd name="textAreaRight" fmla="*/ 387720 w 505080"/>
                <a:gd name="textAreaTop" fmla="*/ 60120 h 576000"/>
                <a:gd name="textAreaBottom" fmla="*/ 365040 h 57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AutoShape 4"/>
            <p:cNvSpPr/>
            <p:nvPr/>
          </p:nvSpPr>
          <p:spPr>
            <a:xfrm rot="5869200">
              <a:off x="2267280" y="1845000"/>
              <a:ext cx="574560" cy="576360"/>
            </a:xfrm>
            <a:custGeom>
              <a:avLst/>
              <a:gdLst>
                <a:gd name="textAreaLeft" fmla="*/ 133200 w 574560"/>
                <a:gd name="textAreaRight" fmla="*/ 439920 w 574560"/>
                <a:gd name="textAreaTop" fmla="*/ 60120 h 576360"/>
                <a:gd name="textAreaBottom" fmla="*/ 36540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AutoShape 5"/>
            <p:cNvSpPr/>
            <p:nvPr/>
          </p:nvSpPr>
          <p:spPr>
            <a:xfrm rot="12435600">
              <a:off x="1332000" y="2277360"/>
              <a:ext cx="574560" cy="576360"/>
            </a:xfrm>
            <a:custGeom>
              <a:avLst/>
              <a:gdLst>
                <a:gd name="textAreaLeft" fmla="*/ 133200 w 574560"/>
                <a:gd name="textAreaRight" fmla="*/ 439920 w 574560"/>
                <a:gd name="textAreaTop" fmla="*/ 60120 h 576360"/>
                <a:gd name="textAreaBottom" fmla="*/ 36540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AutoShape 6"/>
            <p:cNvSpPr/>
            <p:nvPr/>
          </p:nvSpPr>
          <p:spPr>
            <a:xfrm rot="16066800">
              <a:off x="1187280" y="1701360"/>
              <a:ext cx="576000" cy="576360"/>
            </a:xfrm>
            <a:custGeom>
              <a:avLst/>
              <a:gdLst>
                <a:gd name="textAreaLeft" fmla="*/ 134640 w 576000"/>
                <a:gd name="textAreaRight" fmla="*/ 441360 w 576000"/>
                <a:gd name="textAreaTop" fmla="*/ 60120 h 576360"/>
                <a:gd name="textAreaBottom" fmla="*/ 36540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Oval 7"/>
            <p:cNvSpPr/>
            <p:nvPr/>
          </p:nvSpPr>
          <p:spPr>
            <a:xfrm>
              <a:off x="1690560" y="1846080"/>
              <a:ext cx="576360" cy="5540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3300"/>
                  </a:solidFill>
                  <a:latin typeface="Arial"/>
                </a:rPr>
                <a:t>月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AutoShape 8"/>
            <p:cNvSpPr/>
            <p:nvPr/>
          </p:nvSpPr>
          <p:spPr>
            <a:xfrm rot="8799600">
              <a:off x="2050560" y="2277360"/>
              <a:ext cx="504720" cy="576360"/>
            </a:xfrm>
            <a:custGeom>
              <a:avLst/>
              <a:gdLst>
                <a:gd name="textAreaLeft" fmla="*/ 117360 w 504720"/>
                <a:gd name="textAreaRight" fmla="*/ 387360 w 504720"/>
                <a:gd name="textAreaTop" fmla="*/ 60120 h 576360"/>
                <a:gd name="textAreaBottom" fmla="*/ 36540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AutoShape 9"/>
            <p:cNvSpPr/>
            <p:nvPr/>
          </p:nvSpPr>
          <p:spPr>
            <a:xfrm rot="2375400">
              <a:off x="1995120" y="1366560"/>
              <a:ext cx="576360" cy="576360"/>
            </a:xfrm>
            <a:custGeom>
              <a:avLst/>
              <a:gdLst>
                <a:gd name="textAreaLeft" fmla="*/ 135000 w 576360"/>
                <a:gd name="textAreaRight" fmla="*/ 441360 w 576360"/>
                <a:gd name="textAreaTop" fmla="*/ 60120 h 576360"/>
                <a:gd name="textAreaBottom" fmla="*/ 36540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0" name="Group 10"/>
          <p:cNvGrpSpPr/>
          <p:nvPr/>
        </p:nvGrpSpPr>
        <p:grpSpPr>
          <a:xfrm>
            <a:off x="2905560" y="744480"/>
            <a:ext cx="1702440" cy="1703880"/>
            <a:chOff x="2905560" y="744480"/>
            <a:chExt cx="1702440" cy="1703880"/>
          </a:xfrm>
        </p:grpSpPr>
        <p:sp>
          <p:nvSpPr>
            <p:cNvPr id="651" name="AutoShape 11"/>
            <p:cNvSpPr/>
            <p:nvPr/>
          </p:nvSpPr>
          <p:spPr>
            <a:xfrm rot="20508600">
              <a:off x="3276000" y="836640"/>
              <a:ext cx="504720" cy="576000"/>
            </a:xfrm>
            <a:custGeom>
              <a:avLst/>
              <a:gdLst>
                <a:gd name="textAreaLeft" fmla="*/ 117360 w 504720"/>
                <a:gd name="textAreaRight" fmla="*/ 387360 w 504720"/>
                <a:gd name="textAreaTop" fmla="*/ 60120 h 576000"/>
                <a:gd name="textAreaBottom" fmla="*/ 365040 h 57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AutoShape 12"/>
            <p:cNvSpPr/>
            <p:nvPr/>
          </p:nvSpPr>
          <p:spPr>
            <a:xfrm rot="5869200">
              <a:off x="3996000" y="1340280"/>
              <a:ext cx="574560" cy="576000"/>
            </a:xfrm>
            <a:custGeom>
              <a:avLst/>
              <a:gdLst>
                <a:gd name="textAreaLeft" fmla="*/ 133200 w 574560"/>
                <a:gd name="textAreaRight" fmla="*/ 439920 w 574560"/>
                <a:gd name="textAreaTop" fmla="*/ 60120 h 576000"/>
                <a:gd name="textAreaBottom" fmla="*/ 365040 h 57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AutoShape 13"/>
            <p:cNvSpPr/>
            <p:nvPr/>
          </p:nvSpPr>
          <p:spPr>
            <a:xfrm rot="12435600">
              <a:off x="3060360" y="1772280"/>
              <a:ext cx="574200" cy="576360"/>
            </a:xfrm>
            <a:custGeom>
              <a:avLst/>
              <a:gdLst>
                <a:gd name="textAreaLeft" fmla="*/ 133200 w 574200"/>
                <a:gd name="textAreaRight" fmla="*/ 439560 w 574200"/>
                <a:gd name="textAreaTop" fmla="*/ 60120 h 576360"/>
                <a:gd name="textAreaBottom" fmla="*/ 36540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AutoShape 14"/>
            <p:cNvSpPr/>
            <p:nvPr/>
          </p:nvSpPr>
          <p:spPr>
            <a:xfrm rot="16066800">
              <a:off x="2916360" y="1196640"/>
              <a:ext cx="576000" cy="576000"/>
            </a:xfrm>
            <a:custGeom>
              <a:avLst/>
              <a:gdLst>
                <a:gd name="textAreaLeft" fmla="*/ 134640 w 576000"/>
                <a:gd name="textAreaRight" fmla="*/ 441360 w 576000"/>
                <a:gd name="textAreaTop" fmla="*/ 60120 h 576000"/>
                <a:gd name="textAreaBottom" fmla="*/ 365040 h 57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Oval 15"/>
            <p:cNvSpPr/>
            <p:nvPr/>
          </p:nvSpPr>
          <p:spPr>
            <a:xfrm>
              <a:off x="3419280" y="1341360"/>
              <a:ext cx="576000" cy="5540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3300"/>
                  </a:solidFill>
                  <a:latin typeface="Arial"/>
                </a:rPr>
                <a:t>占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AutoShape 16"/>
            <p:cNvSpPr/>
            <p:nvPr/>
          </p:nvSpPr>
          <p:spPr>
            <a:xfrm rot="8799600">
              <a:off x="3778920" y="1772640"/>
              <a:ext cx="504360" cy="576360"/>
            </a:xfrm>
            <a:custGeom>
              <a:avLst/>
              <a:gdLst>
                <a:gd name="textAreaLeft" fmla="*/ 117360 w 504360"/>
                <a:gd name="textAreaRight" fmla="*/ 387000 w 504360"/>
                <a:gd name="textAreaTop" fmla="*/ 60120 h 576360"/>
                <a:gd name="textAreaBottom" fmla="*/ 36540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AutoShape 17"/>
            <p:cNvSpPr/>
            <p:nvPr/>
          </p:nvSpPr>
          <p:spPr>
            <a:xfrm rot="2375400">
              <a:off x="3723840" y="861840"/>
              <a:ext cx="576000" cy="576360"/>
            </a:xfrm>
            <a:custGeom>
              <a:avLst/>
              <a:gdLst>
                <a:gd name="textAreaLeft" fmla="*/ 134640 w 576000"/>
                <a:gd name="textAreaRight" fmla="*/ 441360 w 576000"/>
                <a:gd name="textAreaTop" fmla="*/ 60120 h 576360"/>
                <a:gd name="textAreaBottom" fmla="*/ 36540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8" name="Group 18"/>
          <p:cNvGrpSpPr/>
          <p:nvPr/>
        </p:nvGrpSpPr>
        <p:grpSpPr>
          <a:xfrm>
            <a:off x="4632480" y="600120"/>
            <a:ext cx="1702800" cy="1704240"/>
            <a:chOff x="4632480" y="600120"/>
            <a:chExt cx="1702800" cy="1704240"/>
          </a:xfrm>
        </p:grpSpPr>
        <p:sp>
          <p:nvSpPr>
            <p:cNvPr id="659" name="AutoShape 19"/>
            <p:cNvSpPr/>
            <p:nvPr/>
          </p:nvSpPr>
          <p:spPr>
            <a:xfrm rot="20508600">
              <a:off x="5003280" y="692280"/>
              <a:ext cx="505080" cy="576000"/>
            </a:xfrm>
            <a:custGeom>
              <a:avLst/>
              <a:gdLst>
                <a:gd name="textAreaLeft" fmla="*/ 117360 w 505080"/>
                <a:gd name="textAreaRight" fmla="*/ 387720 w 505080"/>
                <a:gd name="textAreaTop" fmla="*/ 60120 h 576000"/>
                <a:gd name="textAreaBottom" fmla="*/ 365040 h 57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AutoShape 20"/>
            <p:cNvSpPr/>
            <p:nvPr/>
          </p:nvSpPr>
          <p:spPr>
            <a:xfrm rot="5869200">
              <a:off x="5723280" y="1195920"/>
              <a:ext cx="574560" cy="576360"/>
            </a:xfrm>
            <a:custGeom>
              <a:avLst/>
              <a:gdLst>
                <a:gd name="textAreaLeft" fmla="*/ 133200 w 574560"/>
                <a:gd name="textAreaRight" fmla="*/ 439920 w 574560"/>
                <a:gd name="textAreaTop" fmla="*/ 60120 h 576360"/>
                <a:gd name="textAreaBottom" fmla="*/ 36540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AutoShape 21"/>
            <p:cNvSpPr/>
            <p:nvPr/>
          </p:nvSpPr>
          <p:spPr>
            <a:xfrm rot="12435600">
              <a:off x="4788000" y="1628280"/>
              <a:ext cx="574560" cy="576360"/>
            </a:xfrm>
            <a:custGeom>
              <a:avLst/>
              <a:gdLst>
                <a:gd name="textAreaLeft" fmla="*/ 133200 w 574560"/>
                <a:gd name="textAreaRight" fmla="*/ 439920 w 574560"/>
                <a:gd name="textAreaTop" fmla="*/ 60120 h 576360"/>
                <a:gd name="textAreaBottom" fmla="*/ 36540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AutoShape 22"/>
            <p:cNvSpPr/>
            <p:nvPr/>
          </p:nvSpPr>
          <p:spPr>
            <a:xfrm rot="16066800">
              <a:off x="4643280" y="1052280"/>
              <a:ext cx="576000" cy="576360"/>
            </a:xfrm>
            <a:custGeom>
              <a:avLst/>
              <a:gdLst>
                <a:gd name="textAreaLeft" fmla="*/ 134640 w 576000"/>
                <a:gd name="textAreaRight" fmla="*/ 441360 w 576000"/>
                <a:gd name="textAreaTop" fmla="*/ 60120 h 576360"/>
                <a:gd name="textAreaBottom" fmla="*/ 36540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Oval 23"/>
            <p:cNvSpPr/>
            <p:nvPr/>
          </p:nvSpPr>
          <p:spPr>
            <a:xfrm>
              <a:off x="5146560" y="1197000"/>
              <a:ext cx="576360" cy="5540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3300"/>
                  </a:solidFill>
                  <a:latin typeface="Arial"/>
                </a:rPr>
                <a:t>弓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AutoShape 24"/>
            <p:cNvSpPr/>
            <p:nvPr/>
          </p:nvSpPr>
          <p:spPr>
            <a:xfrm rot="8799600">
              <a:off x="5506560" y="1628280"/>
              <a:ext cx="504720" cy="576360"/>
            </a:xfrm>
            <a:custGeom>
              <a:avLst/>
              <a:gdLst>
                <a:gd name="textAreaLeft" fmla="*/ 117360 w 504720"/>
                <a:gd name="textAreaRight" fmla="*/ 387360 w 504720"/>
                <a:gd name="textAreaTop" fmla="*/ 60120 h 576360"/>
                <a:gd name="textAreaBottom" fmla="*/ 36540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AutoShape 25"/>
            <p:cNvSpPr/>
            <p:nvPr/>
          </p:nvSpPr>
          <p:spPr>
            <a:xfrm rot="2375400">
              <a:off x="5451120" y="717480"/>
              <a:ext cx="576360" cy="576360"/>
            </a:xfrm>
            <a:custGeom>
              <a:avLst/>
              <a:gdLst>
                <a:gd name="textAreaLeft" fmla="*/ 135000 w 576360"/>
                <a:gd name="textAreaRight" fmla="*/ 441360 w 576360"/>
                <a:gd name="textAreaTop" fmla="*/ 60120 h 576360"/>
                <a:gd name="textAreaBottom" fmla="*/ 36540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6" name="Group 26"/>
          <p:cNvGrpSpPr/>
          <p:nvPr/>
        </p:nvGrpSpPr>
        <p:grpSpPr>
          <a:xfrm>
            <a:off x="2616480" y="2689200"/>
            <a:ext cx="1702440" cy="1703880"/>
            <a:chOff x="2616480" y="2689200"/>
            <a:chExt cx="1702440" cy="1703880"/>
          </a:xfrm>
        </p:grpSpPr>
        <p:sp>
          <p:nvSpPr>
            <p:cNvPr id="667" name="AutoShape 27"/>
            <p:cNvSpPr/>
            <p:nvPr/>
          </p:nvSpPr>
          <p:spPr>
            <a:xfrm rot="20508600">
              <a:off x="2986920" y="2781360"/>
              <a:ext cx="504720" cy="576000"/>
            </a:xfrm>
            <a:custGeom>
              <a:avLst/>
              <a:gdLst>
                <a:gd name="textAreaLeft" fmla="*/ 117360 w 504720"/>
                <a:gd name="textAreaRight" fmla="*/ 387360 w 504720"/>
                <a:gd name="textAreaTop" fmla="*/ 60120 h 576000"/>
                <a:gd name="textAreaBottom" fmla="*/ 365040 h 57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AutoShape 28"/>
            <p:cNvSpPr/>
            <p:nvPr/>
          </p:nvSpPr>
          <p:spPr>
            <a:xfrm rot="5869200">
              <a:off x="3706920" y="3285000"/>
              <a:ext cx="574560" cy="576000"/>
            </a:xfrm>
            <a:custGeom>
              <a:avLst/>
              <a:gdLst>
                <a:gd name="textAreaLeft" fmla="*/ 133200 w 574560"/>
                <a:gd name="textAreaRight" fmla="*/ 439920 w 574560"/>
                <a:gd name="textAreaTop" fmla="*/ 60120 h 576000"/>
                <a:gd name="textAreaBottom" fmla="*/ 365040 h 57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AutoShape 29"/>
            <p:cNvSpPr/>
            <p:nvPr/>
          </p:nvSpPr>
          <p:spPr>
            <a:xfrm rot="12435600">
              <a:off x="2771280" y="3717000"/>
              <a:ext cx="574200" cy="576360"/>
            </a:xfrm>
            <a:custGeom>
              <a:avLst/>
              <a:gdLst>
                <a:gd name="textAreaLeft" fmla="*/ 133200 w 574200"/>
                <a:gd name="textAreaRight" fmla="*/ 439560 w 574200"/>
                <a:gd name="textAreaTop" fmla="*/ 60120 h 576360"/>
                <a:gd name="textAreaBottom" fmla="*/ 36540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AutoShape 30"/>
            <p:cNvSpPr/>
            <p:nvPr/>
          </p:nvSpPr>
          <p:spPr>
            <a:xfrm rot="16066800">
              <a:off x="2627280" y="3141360"/>
              <a:ext cx="576000" cy="576000"/>
            </a:xfrm>
            <a:custGeom>
              <a:avLst/>
              <a:gdLst>
                <a:gd name="textAreaLeft" fmla="*/ 134640 w 576000"/>
                <a:gd name="textAreaRight" fmla="*/ 441360 w 576000"/>
                <a:gd name="textAreaTop" fmla="*/ 60120 h 576000"/>
                <a:gd name="textAreaBottom" fmla="*/ 365040 h 57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Oval 31"/>
            <p:cNvSpPr/>
            <p:nvPr/>
          </p:nvSpPr>
          <p:spPr>
            <a:xfrm>
              <a:off x="3130200" y="3286080"/>
              <a:ext cx="576000" cy="5540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3300"/>
                  </a:solidFill>
                  <a:latin typeface="Arial"/>
                </a:rPr>
                <a:t>革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AutoShape 32"/>
            <p:cNvSpPr/>
            <p:nvPr/>
          </p:nvSpPr>
          <p:spPr>
            <a:xfrm rot="8799600">
              <a:off x="3489840" y="3717360"/>
              <a:ext cx="504360" cy="576360"/>
            </a:xfrm>
            <a:custGeom>
              <a:avLst/>
              <a:gdLst>
                <a:gd name="textAreaLeft" fmla="*/ 117360 w 504360"/>
                <a:gd name="textAreaRight" fmla="*/ 387000 w 504360"/>
                <a:gd name="textAreaTop" fmla="*/ 60120 h 576360"/>
                <a:gd name="textAreaBottom" fmla="*/ 36540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AutoShape 33"/>
            <p:cNvSpPr/>
            <p:nvPr/>
          </p:nvSpPr>
          <p:spPr>
            <a:xfrm rot="2375400">
              <a:off x="3434760" y="2806560"/>
              <a:ext cx="576000" cy="576360"/>
            </a:xfrm>
            <a:custGeom>
              <a:avLst/>
              <a:gdLst>
                <a:gd name="textAreaLeft" fmla="*/ 134640 w 576000"/>
                <a:gd name="textAreaRight" fmla="*/ 441360 w 576000"/>
                <a:gd name="textAreaTop" fmla="*/ 60120 h 576360"/>
                <a:gd name="textAreaBottom" fmla="*/ 36540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4" name="Group 34"/>
          <p:cNvGrpSpPr/>
          <p:nvPr/>
        </p:nvGrpSpPr>
        <p:grpSpPr>
          <a:xfrm>
            <a:off x="6361560" y="815760"/>
            <a:ext cx="1702440" cy="1703880"/>
            <a:chOff x="6361560" y="815760"/>
            <a:chExt cx="1702440" cy="1703880"/>
          </a:xfrm>
        </p:grpSpPr>
        <p:sp>
          <p:nvSpPr>
            <p:cNvPr id="675" name="AutoShape 35"/>
            <p:cNvSpPr/>
            <p:nvPr/>
          </p:nvSpPr>
          <p:spPr>
            <a:xfrm rot="20508600">
              <a:off x="6732000" y="907920"/>
              <a:ext cx="504720" cy="576000"/>
            </a:xfrm>
            <a:custGeom>
              <a:avLst/>
              <a:gdLst>
                <a:gd name="textAreaLeft" fmla="*/ 117360 w 504720"/>
                <a:gd name="textAreaRight" fmla="*/ 387360 w 504720"/>
                <a:gd name="textAreaTop" fmla="*/ 60120 h 576000"/>
                <a:gd name="textAreaBottom" fmla="*/ 365040 h 57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AutoShape 36"/>
            <p:cNvSpPr/>
            <p:nvPr/>
          </p:nvSpPr>
          <p:spPr>
            <a:xfrm rot="5869200">
              <a:off x="7452000" y="1411560"/>
              <a:ext cx="574560" cy="576000"/>
            </a:xfrm>
            <a:custGeom>
              <a:avLst/>
              <a:gdLst>
                <a:gd name="textAreaLeft" fmla="*/ 133200 w 574560"/>
                <a:gd name="textAreaRight" fmla="*/ 439920 w 574560"/>
                <a:gd name="textAreaTop" fmla="*/ 60120 h 576000"/>
                <a:gd name="textAreaBottom" fmla="*/ 365040 h 57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AutoShape 37"/>
            <p:cNvSpPr/>
            <p:nvPr/>
          </p:nvSpPr>
          <p:spPr>
            <a:xfrm rot="12435600">
              <a:off x="6516360" y="1843560"/>
              <a:ext cx="574200" cy="576360"/>
            </a:xfrm>
            <a:custGeom>
              <a:avLst/>
              <a:gdLst>
                <a:gd name="textAreaLeft" fmla="*/ 133200 w 574200"/>
                <a:gd name="textAreaRight" fmla="*/ 439560 w 574200"/>
                <a:gd name="textAreaTop" fmla="*/ 60120 h 576360"/>
                <a:gd name="textAreaBottom" fmla="*/ 36540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AutoShape 38"/>
            <p:cNvSpPr/>
            <p:nvPr/>
          </p:nvSpPr>
          <p:spPr>
            <a:xfrm rot="16066800">
              <a:off x="6372360" y="1267920"/>
              <a:ext cx="576000" cy="576000"/>
            </a:xfrm>
            <a:custGeom>
              <a:avLst/>
              <a:gdLst>
                <a:gd name="textAreaLeft" fmla="*/ 134640 w 576000"/>
                <a:gd name="textAreaRight" fmla="*/ 441360 w 576000"/>
                <a:gd name="textAreaTop" fmla="*/ 60120 h 576000"/>
                <a:gd name="textAreaBottom" fmla="*/ 365040 h 57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Oval 39"/>
            <p:cNvSpPr/>
            <p:nvPr/>
          </p:nvSpPr>
          <p:spPr>
            <a:xfrm>
              <a:off x="6875280" y="1412640"/>
              <a:ext cx="576000" cy="5540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3300"/>
                  </a:solidFill>
                  <a:latin typeface="Arial"/>
                </a:rPr>
                <a:t>贝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AutoShape 40"/>
            <p:cNvSpPr/>
            <p:nvPr/>
          </p:nvSpPr>
          <p:spPr>
            <a:xfrm rot="8799600">
              <a:off x="7234920" y="1843920"/>
              <a:ext cx="504360" cy="576360"/>
            </a:xfrm>
            <a:custGeom>
              <a:avLst/>
              <a:gdLst>
                <a:gd name="textAreaLeft" fmla="*/ 117360 w 504360"/>
                <a:gd name="textAreaRight" fmla="*/ 387000 w 504360"/>
                <a:gd name="textAreaTop" fmla="*/ 60120 h 576360"/>
                <a:gd name="textAreaBottom" fmla="*/ 36540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AutoShape 41"/>
            <p:cNvSpPr/>
            <p:nvPr/>
          </p:nvSpPr>
          <p:spPr>
            <a:xfrm rot="2375400">
              <a:off x="7179840" y="933120"/>
              <a:ext cx="576000" cy="576360"/>
            </a:xfrm>
            <a:custGeom>
              <a:avLst/>
              <a:gdLst>
                <a:gd name="textAreaLeft" fmla="*/ 134640 w 576000"/>
                <a:gd name="textAreaRight" fmla="*/ 441360 w 576000"/>
                <a:gd name="textAreaTop" fmla="*/ 60120 h 576360"/>
                <a:gd name="textAreaBottom" fmla="*/ 36540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2" name="Group 42"/>
          <p:cNvGrpSpPr/>
          <p:nvPr/>
        </p:nvGrpSpPr>
        <p:grpSpPr>
          <a:xfrm>
            <a:off x="6073920" y="2328840"/>
            <a:ext cx="1702800" cy="1704240"/>
            <a:chOff x="6073920" y="2328840"/>
            <a:chExt cx="1702800" cy="1704240"/>
          </a:xfrm>
        </p:grpSpPr>
        <p:sp>
          <p:nvSpPr>
            <p:cNvPr id="683" name="AutoShape 43"/>
            <p:cNvSpPr/>
            <p:nvPr/>
          </p:nvSpPr>
          <p:spPr>
            <a:xfrm rot="20508600">
              <a:off x="6444720" y="2421000"/>
              <a:ext cx="505080" cy="576000"/>
            </a:xfrm>
            <a:custGeom>
              <a:avLst/>
              <a:gdLst>
                <a:gd name="textAreaLeft" fmla="*/ 117360 w 505080"/>
                <a:gd name="textAreaRight" fmla="*/ 387720 w 505080"/>
                <a:gd name="textAreaTop" fmla="*/ 60120 h 576000"/>
                <a:gd name="textAreaBottom" fmla="*/ 365040 h 57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AutoShape 44"/>
            <p:cNvSpPr/>
            <p:nvPr/>
          </p:nvSpPr>
          <p:spPr>
            <a:xfrm rot="5869200">
              <a:off x="7164720" y="2924640"/>
              <a:ext cx="574560" cy="576360"/>
            </a:xfrm>
            <a:custGeom>
              <a:avLst/>
              <a:gdLst>
                <a:gd name="textAreaLeft" fmla="*/ 133200 w 574560"/>
                <a:gd name="textAreaRight" fmla="*/ 439920 w 574560"/>
                <a:gd name="textAreaTop" fmla="*/ 60120 h 576360"/>
                <a:gd name="textAreaBottom" fmla="*/ 36540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AutoShape 45"/>
            <p:cNvSpPr/>
            <p:nvPr/>
          </p:nvSpPr>
          <p:spPr>
            <a:xfrm rot="12435600">
              <a:off x="6229440" y="3357000"/>
              <a:ext cx="574560" cy="576360"/>
            </a:xfrm>
            <a:custGeom>
              <a:avLst/>
              <a:gdLst>
                <a:gd name="textAreaLeft" fmla="*/ 133200 w 574560"/>
                <a:gd name="textAreaRight" fmla="*/ 439920 w 574560"/>
                <a:gd name="textAreaTop" fmla="*/ 60120 h 576360"/>
                <a:gd name="textAreaBottom" fmla="*/ 36540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AutoShape 46"/>
            <p:cNvSpPr/>
            <p:nvPr/>
          </p:nvSpPr>
          <p:spPr>
            <a:xfrm rot="16066800">
              <a:off x="6084720" y="2781000"/>
              <a:ext cx="576000" cy="576360"/>
            </a:xfrm>
            <a:custGeom>
              <a:avLst/>
              <a:gdLst>
                <a:gd name="textAreaLeft" fmla="*/ 134640 w 576000"/>
                <a:gd name="textAreaRight" fmla="*/ 441360 w 576000"/>
                <a:gd name="textAreaTop" fmla="*/ 60120 h 576360"/>
                <a:gd name="textAreaBottom" fmla="*/ 36540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Oval 47"/>
            <p:cNvSpPr/>
            <p:nvPr/>
          </p:nvSpPr>
          <p:spPr>
            <a:xfrm>
              <a:off x="6588000" y="2925720"/>
              <a:ext cx="576360" cy="5540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3300"/>
                  </a:solidFill>
                  <a:latin typeface="Arial"/>
                </a:rPr>
                <a:t>圭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AutoShape 48"/>
            <p:cNvSpPr/>
            <p:nvPr/>
          </p:nvSpPr>
          <p:spPr>
            <a:xfrm rot="8799600">
              <a:off x="6948000" y="3357000"/>
              <a:ext cx="504720" cy="576360"/>
            </a:xfrm>
            <a:custGeom>
              <a:avLst/>
              <a:gdLst>
                <a:gd name="textAreaLeft" fmla="*/ 117360 w 504720"/>
                <a:gd name="textAreaRight" fmla="*/ 387360 w 504720"/>
                <a:gd name="textAreaTop" fmla="*/ 60120 h 576360"/>
                <a:gd name="textAreaBottom" fmla="*/ 36540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AutoShape 49"/>
            <p:cNvSpPr/>
            <p:nvPr/>
          </p:nvSpPr>
          <p:spPr>
            <a:xfrm rot="2375400">
              <a:off x="6892560" y="2446200"/>
              <a:ext cx="576360" cy="576360"/>
            </a:xfrm>
            <a:custGeom>
              <a:avLst/>
              <a:gdLst>
                <a:gd name="textAreaLeft" fmla="*/ 135000 w 576360"/>
                <a:gd name="textAreaRight" fmla="*/ 441360 w 576360"/>
                <a:gd name="textAreaTop" fmla="*/ 60120 h 576360"/>
                <a:gd name="textAreaBottom" fmla="*/ 36540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0" name="Group 50"/>
          <p:cNvGrpSpPr/>
          <p:nvPr/>
        </p:nvGrpSpPr>
        <p:grpSpPr>
          <a:xfrm>
            <a:off x="4416840" y="2257200"/>
            <a:ext cx="1702440" cy="1703880"/>
            <a:chOff x="4416840" y="2257200"/>
            <a:chExt cx="1702440" cy="1703880"/>
          </a:xfrm>
        </p:grpSpPr>
        <p:sp>
          <p:nvSpPr>
            <p:cNvPr id="691" name="AutoShape 51"/>
            <p:cNvSpPr/>
            <p:nvPr/>
          </p:nvSpPr>
          <p:spPr>
            <a:xfrm rot="20508600">
              <a:off x="4787280" y="2349360"/>
              <a:ext cx="504720" cy="576000"/>
            </a:xfrm>
            <a:custGeom>
              <a:avLst/>
              <a:gdLst>
                <a:gd name="textAreaLeft" fmla="*/ 117360 w 504720"/>
                <a:gd name="textAreaRight" fmla="*/ 387360 w 504720"/>
                <a:gd name="textAreaTop" fmla="*/ 60120 h 576000"/>
                <a:gd name="textAreaBottom" fmla="*/ 365040 h 57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AutoShape 52"/>
            <p:cNvSpPr/>
            <p:nvPr/>
          </p:nvSpPr>
          <p:spPr>
            <a:xfrm rot="5869200">
              <a:off x="5507280" y="2853000"/>
              <a:ext cx="574560" cy="576000"/>
            </a:xfrm>
            <a:custGeom>
              <a:avLst/>
              <a:gdLst>
                <a:gd name="textAreaLeft" fmla="*/ 133200 w 574560"/>
                <a:gd name="textAreaRight" fmla="*/ 439920 w 574560"/>
                <a:gd name="textAreaTop" fmla="*/ 60120 h 576000"/>
                <a:gd name="textAreaBottom" fmla="*/ 365040 h 57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AutoShape 53"/>
            <p:cNvSpPr/>
            <p:nvPr/>
          </p:nvSpPr>
          <p:spPr>
            <a:xfrm rot="12435600">
              <a:off x="4571640" y="3285000"/>
              <a:ext cx="574200" cy="576360"/>
            </a:xfrm>
            <a:custGeom>
              <a:avLst/>
              <a:gdLst>
                <a:gd name="textAreaLeft" fmla="*/ 133200 w 574200"/>
                <a:gd name="textAreaRight" fmla="*/ 439560 w 574200"/>
                <a:gd name="textAreaTop" fmla="*/ 60120 h 576360"/>
                <a:gd name="textAreaBottom" fmla="*/ 36540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AutoShape 54"/>
            <p:cNvSpPr/>
            <p:nvPr/>
          </p:nvSpPr>
          <p:spPr>
            <a:xfrm rot="16066800">
              <a:off x="4427640" y="2709360"/>
              <a:ext cx="576000" cy="576000"/>
            </a:xfrm>
            <a:custGeom>
              <a:avLst/>
              <a:gdLst>
                <a:gd name="textAreaLeft" fmla="*/ 134640 w 576000"/>
                <a:gd name="textAreaRight" fmla="*/ 441360 w 576000"/>
                <a:gd name="textAreaTop" fmla="*/ 60120 h 576000"/>
                <a:gd name="textAreaBottom" fmla="*/ 365040 h 57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Oval 55"/>
            <p:cNvSpPr/>
            <p:nvPr/>
          </p:nvSpPr>
          <p:spPr>
            <a:xfrm>
              <a:off x="4930560" y="2854080"/>
              <a:ext cx="576000" cy="5540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3300"/>
                  </a:solidFill>
                  <a:latin typeface="Arial"/>
                </a:rPr>
                <a:t>半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AutoShape 56"/>
            <p:cNvSpPr/>
            <p:nvPr/>
          </p:nvSpPr>
          <p:spPr>
            <a:xfrm rot="8799600">
              <a:off x="5290200" y="3285360"/>
              <a:ext cx="504360" cy="576360"/>
            </a:xfrm>
            <a:custGeom>
              <a:avLst/>
              <a:gdLst>
                <a:gd name="textAreaLeft" fmla="*/ 117360 w 504360"/>
                <a:gd name="textAreaRight" fmla="*/ 387000 w 504360"/>
                <a:gd name="textAreaTop" fmla="*/ 60120 h 576360"/>
                <a:gd name="textAreaBottom" fmla="*/ 36540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AutoShape 57"/>
            <p:cNvSpPr/>
            <p:nvPr/>
          </p:nvSpPr>
          <p:spPr>
            <a:xfrm rot="2375400">
              <a:off x="5235120" y="2374560"/>
              <a:ext cx="576000" cy="576360"/>
            </a:xfrm>
            <a:custGeom>
              <a:avLst/>
              <a:gdLst>
                <a:gd name="textAreaLeft" fmla="*/ 134640 w 576000"/>
                <a:gd name="textAreaRight" fmla="*/ 441360 w 576000"/>
                <a:gd name="textAreaTop" fmla="*/ 60120 h 576360"/>
                <a:gd name="textAreaBottom" fmla="*/ 36540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8" name="Group 58"/>
          <p:cNvGrpSpPr/>
          <p:nvPr/>
        </p:nvGrpSpPr>
        <p:grpSpPr>
          <a:xfrm>
            <a:off x="889200" y="2760480"/>
            <a:ext cx="1702800" cy="1704240"/>
            <a:chOff x="889200" y="2760480"/>
            <a:chExt cx="1702800" cy="1704240"/>
          </a:xfrm>
        </p:grpSpPr>
        <p:sp>
          <p:nvSpPr>
            <p:cNvPr id="699" name="AutoShape 59"/>
            <p:cNvSpPr/>
            <p:nvPr/>
          </p:nvSpPr>
          <p:spPr>
            <a:xfrm rot="20508600">
              <a:off x="1260000" y="2852640"/>
              <a:ext cx="505080" cy="576000"/>
            </a:xfrm>
            <a:custGeom>
              <a:avLst/>
              <a:gdLst>
                <a:gd name="textAreaLeft" fmla="*/ 117360 w 505080"/>
                <a:gd name="textAreaRight" fmla="*/ 387720 w 505080"/>
                <a:gd name="textAreaTop" fmla="*/ 60120 h 576000"/>
                <a:gd name="textAreaBottom" fmla="*/ 365040 h 57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AutoShape 60"/>
            <p:cNvSpPr/>
            <p:nvPr/>
          </p:nvSpPr>
          <p:spPr>
            <a:xfrm rot="5869200">
              <a:off x="1980000" y="3356280"/>
              <a:ext cx="574560" cy="576360"/>
            </a:xfrm>
            <a:custGeom>
              <a:avLst/>
              <a:gdLst>
                <a:gd name="textAreaLeft" fmla="*/ 133200 w 574560"/>
                <a:gd name="textAreaRight" fmla="*/ 439920 w 574560"/>
                <a:gd name="textAreaTop" fmla="*/ 60120 h 576360"/>
                <a:gd name="textAreaBottom" fmla="*/ 36540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AutoShape 61"/>
            <p:cNvSpPr/>
            <p:nvPr/>
          </p:nvSpPr>
          <p:spPr>
            <a:xfrm rot="12435600">
              <a:off x="1044720" y="3788640"/>
              <a:ext cx="574560" cy="576360"/>
            </a:xfrm>
            <a:custGeom>
              <a:avLst/>
              <a:gdLst>
                <a:gd name="textAreaLeft" fmla="*/ 133200 w 574560"/>
                <a:gd name="textAreaRight" fmla="*/ 439920 w 574560"/>
                <a:gd name="textAreaTop" fmla="*/ 60120 h 576360"/>
                <a:gd name="textAreaBottom" fmla="*/ 36540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AutoShape 62"/>
            <p:cNvSpPr/>
            <p:nvPr/>
          </p:nvSpPr>
          <p:spPr>
            <a:xfrm rot="16066800">
              <a:off x="900000" y="3212640"/>
              <a:ext cx="576000" cy="576360"/>
            </a:xfrm>
            <a:custGeom>
              <a:avLst/>
              <a:gdLst>
                <a:gd name="textAreaLeft" fmla="*/ 134640 w 576000"/>
                <a:gd name="textAreaRight" fmla="*/ 441360 w 576000"/>
                <a:gd name="textAreaTop" fmla="*/ 60120 h 576360"/>
                <a:gd name="textAreaBottom" fmla="*/ 36540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Oval 63"/>
            <p:cNvSpPr/>
            <p:nvPr/>
          </p:nvSpPr>
          <p:spPr>
            <a:xfrm>
              <a:off x="1403280" y="3357360"/>
              <a:ext cx="576360" cy="5540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Arial"/>
                </a:rPr>
                <a:t>长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AutoShape 64"/>
            <p:cNvSpPr/>
            <p:nvPr/>
          </p:nvSpPr>
          <p:spPr>
            <a:xfrm rot="8799600">
              <a:off x="1763280" y="3788640"/>
              <a:ext cx="504720" cy="576360"/>
            </a:xfrm>
            <a:custGeom>
              <a:avLst/>
              <a:gdLst>
                <a:gd name="textAreaLeft" fmla="*/ 117360 w 504720"/>
                <a:gd name="textAreaRight" fmla="*/ 387360 w 504720"/>
                <a:gd name="textAreaTop" fmla="*/ 60120 h 576360"/>
                <a:gd name="textAreaBottom" fmla="*/ 36540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AutoShape 65"/>
            <p:cNvSpPr/>
            <p:nvPr/>
          </p:nvSpPr>
          <p:spPr>
            <a:xfrm rot="2375400">
              <a:off x="1707840" y="2877840"/>
              <a:ext cx="576360" cy="576360"/>
            </a:xfrm>
            <a:custGeom>
              <a:avLst/>
              <a:gdLst>
                <a:gd name="textAreaLeft" fmla="*/ 135000 w 576360"/>
                <a:gd name="textAreaRight" fmla="*/ 441360 w 576360"/>
                <a:gd name="textAreaTop" fmla="*/ 60120 h 576360"/>
                <a:gd name="textAreaBottom" fmla="*/ 36540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6" name="Group 66"/>
          <p:cNvGrpSpPr/>
          <p:nvPr/>
        </p:nvGrpSpPr>
        <p:grpSpPr>
          <a:xfrm>
            <a:off x="468360" y="4869000"/>
            <a:ext cx="1366920" cy="1584360"/>
            <a:chOff x="468360" y="4869000"/>
            <a:chExt cx="1366920" cy="1584360"/>
          </a:xfrm>
        </p:grpSpPr>
        <p:sp>
          <p:nvSpPr>
            <p:cNvPr id="707" name="Oval 67"/>
            <p:cNvSpPr/>
            <p:nvPr/>
          </p:nvSpPr>
          <p:spPr>
            <a:xfrm>
              <a:off x="468360" y="4869000"/>
              <a:ext cx="1366920" cy="647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Line 68"/>
            <p:cNvSpPr/>
            <p:nvPr/>
          </p:nvSpPr>
          <p:spPr>
            <a:xfrm>
              <a:off x="468360" y="5229360"/>
              <a:ext cx="358560" cy="115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Line 69"/>
            <p:cNvSpPr/>
            <p:nvPr/>
          </p:nvSpPr>
          <p:spPr>
            <a:xfrm flipH="1">
              <a:off x="1476000" y="5229360"/>
              <a:ext cx="358920" cy="12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Oval 70"/>
            <p:cNvSpPr/>
            <p:nvPr/>
          </p:nvSpPr>
          <p:spPr>
            <a:xfrm>
              <a:off x="826920" y="6308640"/>
              <a:ext cx="720720" cy="144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1" name="Text Box 71"/>
          <p:cNvSpPr/>
          <p:nvPr/>
        </p:nvSpPr>
        <p:spPr>
          <a:xfrm>
            <a:off x="468360" y="558972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　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2" name="Group 72"/>
          <p:cNvGrpSpPr/>
          <p:nvPr/>
        </p:nvGrpSpPr>
        <p:grpSpPr>
          <a:xfrm>
            <a:off x="4716360" y="4797360"/>
            <a:ext cx="1366920" cy="1584360"/>
            <a:chOff x="4716360" y="4797360"/>
            <a:chExt cx="1366920" cy="1584360"/>
          </a:xfrm>
        </p:grpSpPr>
        <p:sp>
          <p:nvSpPr>
            <p:cNvPr id="713" name="Oval 73"/>
            <p:cNvSpPr/>
            <p:nvPr/>
          </p:nvSpPr>
          <p:spPr>
            <a:xfrm>
              <a:off x="4716360" y="4797360"/>
              <a:ext cx="1366920" cy="647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Line 74"/>
            <p:cNvSpPr/>
            <p:nvPr/>
          </p:nvSpPr>
          <p:spPr>
            <a:xfrm>
              <a:off x="4716360" y="5157720"/>
              <a:ext cx="358560" cy="115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Line 75"/>
            <p:cNvSpPr/>
            <p:nvPr/>
          </p:nvSpPr>
          <p:spPr>
            <a:xfrm flipH="1">
              <a:off x="5724000" y="5157720"/>
              <a:ext cx="358920" cy="12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Oval 76"/>
            <p:cNvSpPr/>
            <p:nvPr/>
          </p:nvSpPr>
          <p:spPr>
            <a:xfrm>
              <a:off x="5074920" y="6237000"/>
              <a:ext cx="720720" cy="144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7" name="Group 77"/>
          <p:cNvGrpSpPr/>
          <p:nvPr/>
        </p:nvGrpSpPr>
        <p:grpSpPr>
          <a:xfrm>
            <a:off x="2411280" y="4869000"/>
            <a:ext cx="1366920" cy="1584360"/>
            <a:chOff x="2411280" y="4869000"/>
            <a:chExt cx="1366920" cy="1584360"/>
          </a:xfrm>
        </p:grpSpPr>
        <p:sp>
          <p:nvSpPr>
            <p:cNvPr id="718" name="Oval 78"/>
            <p:cNvSpPr/>
            <p:nvPr/>
          </p:nvSpPr>
          <p:spPr>
            <a:xfrm>
              <a:off x="2411280" y="4869000"/>
              <a:ext cx="1366920" cy="647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Line 79"/>
            <p:cNvSpPr/>
            <p:nvPr/>
          </p:nvSpPr>
          <p:spPr>
            <a:xfrm>
              <a:off x="2411280" y="5229360"/>
              <a:ext cx="358560" cy="115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Line 80"/>
            <p:cNvSpPr/>
            <p:nvPr/>
          </p:nvSpPr>
          <p:spPr>
            <a:xfrm flipH="1">
              <a:off x="3418920" y="5229360"/>
              <a:ext cx="358920" cy="12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Oval 81"/>
            <p:cNvSpPr/>
            <p:nvPr/>
          </p:nvSpPr>
          <p:spPr>
            <a:xfrm>
              <a:off x="2769840" y="6308640"/>
              <a:ext cx="720720" cy="144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2" name="Group 82"/>
          <p:cNvGrpSpPr/>
          <p:nvPr/>
        </p:nvGrpSpPr>
        <p:grpSpPr>
          <a:xfrm>
            <a:off x="6804000" y="4797360"/>
            <a:ext cx="1366920" cy="1584360"/>
            <a:chOff x="6804000" y="4797360"/>
            <a:chExt cx="1366920" cy="1584360"/>
          </a:xfrm>
        </p:grpSpPr>
        <p:sp>
          <p:nvSpPr>
            <p:cNvPr id="723" name="Oval 83"/>
            <p:cNvSpPr/>
            <p:nvPr/>
          </p:nvSpPr>
          <p:spPr>
            <a:xfrm>
              <a:off x="6804000" y="4797360"/>
              <a:ext cx="1366920" cy="647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Line 84"/>
            <p:cNvSpPr/>
            <p:nvPr/>
          </p:nvSpPr>
          <p:spPr>
            <a:xfrm>
              <a:off x="6804000" y="5157720"/>
              <a:ext cx="358560" cy="115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Line 85"/>
            <p:cNvSpPr/>
            <p:nvPr/>
          </p:nvSpPr>
          <p:spPr>
            <a:xfrm flipH="1">
              <a:off x="7811640" y="5157720"/>
              <a:ext cx="358920" cy="12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Oval 86"/>
            <p:cNvSpPr/>
            <p:nvPr/>
          </p:nvSpPr>
          <p:spPr>
            <a:xfrm>
              <a:off x="7162560" y="6237000"/>
              <a:ext cx="720720" cy="144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7" name="Rectangle 87"/>
          <p:cNvSpPr/>
          <p:nvPr/>
        </p:nvSpPr>
        <p:spPr>
          <a:xfrm>
            <a:off x="2567520" y="5445000"/>
            <a:ext cx="10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Rectangle 88"/>
          <p:cNvSpPr/>
          <p:nvPr/>
        </p:nvSpPr>
        <p:spPr>
          <a:xfrm>
            <a:off x="4882680" y="5445000"/>
            <a:ext cx="107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　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Rectangle 89"/>
          <p:cNvSpPr/>
          <p:nvPr/>
        </p:nvSpPr>
        <p:spPr>
          <a:xfrm>
            <a:off x="6970320" y="5445000"/>
            <a:ext cx="107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　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AutoShape 90"/>
          <p:cNvSpPr/>
          <p:nvPr/>
        </p:nvSpPr>
        <p:spPr>
          <a:xfrm>
            <a:off x="0" y="189000"/>
            <a:ext cx="1908000" cy="1201680"/>
          </a:xfrm>
          <a:prstGeom prst="irregularSeal1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会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1" name="Picture 7" descr="F:\ppt\612\人教版一年级语文下册《胖乎乎的小手》课件PPT\图片8.jpg"/>
          <p:cNvPicPr/>
          <p:nvPr/>
        </p:nvPicPr>
        <p:blipFill>
          <a:blip r:embed="rId1"/>
          <a:stretch/>
        </p:blipFill>
        <p:spPr>
          <a:xfrm>
            <a:off x="-17640" y="0"/>
            <a:ext cx="9161640" cy="6870600"/>
          </a:xfrm>
          <a:prstGeom prst="rect">
            <a:avLst/>
          </a:prstGeom>
          <a:ln w="0">
            <a:noFill/>
          </a:ln>
        </p:spPr>
      </p:pic>
      <p:sp>
        <p:nvSpPr>
          <p:cNvPr id="732" name="Text Box 3"/>
          <p:cNvSpPr/>
          <p:nvPr/>
        </p:nvSpPr>
        <p:spPr>
          <a:xfrm>
            <a:off x="3419640" y="1268280"/>
            <a:ext cx="40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小擂台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二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AutoShape 4"/>
          <p:cNvSpPr/>
          <p:nvPr/>
        </p:nvSpPr>
        <p:spPr>
          <a:xfrm>
            <a:off x="3276720" y="2060640"/>
            <a:ext cx="4249440" cy="3097080"/>
          </a:xfrm>
          <a:prstGeom prst="irregularSeal1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们再来比一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谁的脑子最棒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Oval 5"/>
          <p:cNvSpPr/>
          <p:nvPr/>
        </p:nvSpPr>
        <p:spPr>
          <a:xfrm>
            <a:off x="8172360" y="6021360"/>
            <a:ext cx="576360" cy="503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识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认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6" name="Picture 2" descr="胖乎乎的小手2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5805360"/>
          </a:xfrm>
          <a:prstGeom prst="rect">
            <a:avLst/>
          </a:prstGeom>
          <a:ln w="0">
            <a:noFill/>
          </a:ln>
        </p:spPr>
      </p:pic>
      <p:sp>
        <p:nvSpPr>
          <p:cNvPr id="737" name="Text Box 3"/>
          <p:cNvSpPr/>
          <p:nvPr/>
        </p:nvSpPr>
        <p:spPr>
          <a:xfrm>
            <a:off x="755640" y="549360"/>
            <a:ext cx="838836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我们全家人都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喜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欢兰兰画的这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张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画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9" name="Picture 2" descr="胖乎乎的小手2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5805360"/>
          </a:xfrm>
          <a:prstGeom prst="rect">
            <a:avLst/>
          </a:prstGeom>
          <a:ln w="0">
            <a:noFill/>
          </a:ln>
        </p:spPr>
      </p:pic>
      <p:sp>
        <p:nvSpPr>
          <p:cNvPr id="740" name="Text Box 3"/>
          <p:cNvSpPr/>
          <p:nvPr/>
        </p:nvSpPr>
        <p:spPr>
          <a:xfrm>
            <a:off x="900000" y="549360"/>
            <a:ext cx="79916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爸爸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下班回来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拿起画看了又看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把画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贴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在了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墙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上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1" name="Picture 2" descr="胖乎乎"/>
          <p:cNvPicPr/>
          <p:nvPr/>
        </p:nvPicPr>
        <p:blipFill>
          <a:blip r:embed="rId1"/>
          <a:stretch/>
        </p:blipFill>
        <p:spPr>
          <a:xfrm>
            <a:off x="0" y="0"/>
            <a:ext cx="9144000" cy="5600880"/>
          </a:xfrm>
          <a:prstGeom prst="rect">
            <a:avLst/>
          </a:prstGeom>
          <a:ln w="0">
            <a:noFill/>
          </a:ln>
        </p:spPr>
      </p:pic>
      <p:sp>
        <p:nvSpPr>
          <p:cNvPr id="742" name="Text Box 3"/>
          <p:cNvSpPr/>
          <p:nvPr/>
        </p:nvSpPr>
        <p:spPr>
          <a:xfrm>
            <a:off x="179280" y="54450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爸爸说：“这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胖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乎乎的小手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替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我拿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拖鞋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呀！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3" name="Picture 2" descr="panghuhu"/>
          <p:cNvPicPr/>
          <p:nvPr/>
        </p:nvPicPr>
        <p:blipFill>
          <a:blip r:embed="rId1"/>
          <a:stretch/>
        </p:blipFill>
        <p:spPr>
          <a:xfrm>
            <a:off x="0" y="0"/>
            <a:ext cx="9144000" cy="5610240"/>
          </a:xfrm>
          <a:prstGeom prst="rect">
            <a:avLst/>
          </a:prstGeom>
          <a:ln w="0">
            <a:noFill/>
          </a:ln>
        </p:spPr>
      </p:pic>
      <p:sp>
        <p:nvSpPr>
          <p:cNvPr id="744" name="Text Box 3"/>
          <p:cNvSpPr/>
          <p:nvPr/>
        </p:nvSpPr>
        <p:spPr>
          <a:xfrm>
            <a:off x="1416960" y="5634000"/>
            <a:ext cx="7008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妈妈说：“这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胖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乎乎的小手给我洗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手绢啊！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6" name="Picture 2" descr="panghuhu1"/>
          <p:cNvPicPr/>
          <p:nvPr/>
        </p:nvPicPr>
        <p:blipFill>
          <a:blip r:embed="rId1"/>
          <a:stretch/>
        </p:blipFill>
        <p:spPr>
          <a:xfrm>
            <a:off x="0" y="0"/>
            <a:ext cx="9144000" cy="5481720"/>
          </a:xfrm>
          <a:prstGeom prst="rect">
            <a:avLst/>
          </a:prstGeom>
          <a:ln w="0">
            <a:noFill/>
          </a:ln>
        </p:spPr>
      </p:pic>
      <p:sp>
        <p:nvSpPr>
          <p:cNvPr id="747" name="Text Box 3"/>
          <p:cNvSpPr/>
          <p:nvPr/>
        </p:nvSpPr>
        <p:spPr>
          <a:xfrm>
            <a:off x="1111320" y="5410080"/>
            <a:ext cx="7313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姥姥说：“这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胖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乎乎的小手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帮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挠过痒痒啊！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Picture 6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6" name="Text Box 8"/>
          <p:cNvSpPr/>
          <p:nvPr/>
        </p:nvSpPr>
        <p:spPr>
          <a:xfrm>
            <a:off x="468360" y="5734080"/>
            <a:ext cx="5398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我的小手可以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----------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   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14"/>
          <p:cNvSpPr/>
          <p:nvPr/>
        </p:nvSpPr>
        <p:spPr>
          <a:xfrm>
            <a:off x="6732720" y="5373720"/>
            <a:ext cx="86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99"/>
                </a:solidFill>
                <a:latin typeface="Arial"/>
              </a:rPr>
              <a:t>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15"/>
          <p:cNvSpPr/>
          <p:nvPr/>
        </p:nvSpPr>
        <p:spPr>
          <a:xfrm>
            <a:off x="3203640" y="3213000"/>
            <a:ext cx="79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99"/>
                </a:solidFill>
                <a:latin typeface="Arial"/>
              </a:rPr>
              <a:t>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AutoShape 16"/>
          <p:cNvSpPr/>
          <p:nvPr/>
        </p:nvSpPr>
        <p:spPr>
          <a:xfrm>
            <a:off x="5148360" y="0"/>
            <a:ext cx="3816360" cy="324000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你的小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能做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9" name="Picture 2" descr="胖乎乎的小手2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5805360"/>
          </a:xfrm>
          <a:prstGeom prst="rect">
            <a:avLst/>
          </a:prstGeom>
          <a:ln w="0">
            <a:noFill/>
          </a:ln>
        </p:spPr>
      </p:pic>
      <p:sp>
        <p:nvSpPr>
          <p:cNvPr id="750" name="Text Box 3"/>
          <p:cNvSpPr/>
          <p:nvPr/>
        </p:nvSpPr>
        <p:spPr>
          <a:xfrm>
            <a:off x="468360" y="476280"/>
            <a:ext cx="79912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等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我长大了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小手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变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成了大手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它会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帮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你们做更多的事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情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1" name="Picture 7" descr="F:\ppt\612\人教版一年级语文下册《胖乎乎的小手》课件PPT\图片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2" name="Text Box 3"/>
          <p:cNvSpPr/>
          <p:nvPr/>
        </p:nvSpPr>
        <p:spPr>
          <a:xfrm>
            <a:off x="3419640" y="1268280"/>
            <a:ext cx="396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小擂台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三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AutoShape 4"/>
          <p:cNvSpPr/>
          <p:nvPr/>
        </p:nvSpPr>
        <p:spPr>
          <a:xfrm>
            <a:off x="3276720" y="2060640"/>
            <a:ext cx="4249440" cy="3097080"/>
          </a:xfrm>
          <a:prstGeom prst="irregularSeal1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我也会写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Oval 5"/>
          <p:cNvSpPr/>
          <p:nvPr/>
        </p:nvSpPr>
        <p:spPr>
          <a:xfrm>
            <a:off x="8172360" y="6021360"/>
            <a:ext cx="576360" cy="503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打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5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756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57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8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Picture 4" descr="胖乎乎的小手2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5805360"/>
          </a:xfrm>
          <a:prstGeom prst="rect">
            <a:avLst/>
          </a:prstGeom>
          <a:ln w="0">
            <a:noFill/>
          </a:ln>
        </p:spPr>
      </p:pic>
      <p:sp>
        <p:nvSpPr>
          <p:cNvPr id="552" name="Text Box 6"/>
          <p:cNvSpPr/>
          <p:nvPr/>
        </p:nvSpPr>
        <p:spPr>
          <a:xfrm>
            <a:off x="1476360" y="0"/>
            <a:ext cx="6192720" cy="16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pà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6  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胖乎乎的小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4" name="Picture 2" descr="胖乎乎的小手2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5805360"/>
          </a:xfrm>
          <a:prstGeom prst="rect">
            <a:avLst/>
          </a:prstGeom>
          <a:ln w="0">
            <a:noFill/>
          </a:ln>
        </p:spPr>
      </p:pic>
      <p:sp>
        <p:nvSpPr>
          <p:cNvPr id="555" name="Text Box 3"/>
          <p:cNvSpPr/>
          <p:nvPr/>
        </p:nvSpPr>
        <p:spPr>
          <a:xfrm>
            <a:off x="250920" y="0"/>
            <a:ext cx="7704000" cy="16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　　</a:t>
            </a:r>
            <a:r>
              <a:rPr b="1" lang="zh-CN" sz="6000" spc="-1" strike="noStrike">
                <a:solidFill>
                  <a:srgbClr val="0000ff"/>
                </a:solidFill>
                <a:latin typeface="Arial"/>
                <a:ea typeface="楷体_GB2312"/>
              </a:rPr>
              <a:t>为什么全家人都喜欢兰兰这双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胖乎乎的小手</a:t>
            </a:r>
            <a:r>
              <a:rPr b="1" lang="zh-CN" sz="6000" spc="-1" strike="noStrike">
                <a:solidFill>
                  <a:srgbClr val="0000ff"/>
                </a:solidFill>
                <a:latin typeface="Arial"/>
                <a:ea typeface="楷体_GB2312"/>
              </a:rPr>
              <a:t>呢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6" name="Picture 2" descr="胖乎乎的小手2"/>
          <p:cNvPicPr/>
          <p:nvPr/>
        </p:nvPicPr>
        <p:blipFill>
          <a:blip r:embed="rId1"/>
          <a:stretch/>
        </p:blipFill>
        <p:spPr>
          <a:xfrm>
            <a:off x="11160" y="-4586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7" name="Text Box 3"/>
          <p:cNvSpPr/>
          <p:nvPr/>
        </p:nvSpPr>
        <p:spPr>
          <a:xfrm>
            <a:off x="250920" y="0"/>
            <a:ext cx="7704000" cy="8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　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4"/>
          <p:cNvSpPr/>
          <p:nvPr/>
        </p:nvSpPr>
        <p:spPr>
          <a:xfrm>
            <a:off x="971640" y="0"/>
            <a:ext cx="77770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自由读课文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　　１、借助拼音读懂全文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　　２、说说你读懂了什么？或你知道了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Picture 5" descr="F:\ppt\612\人教版一年级语文下册《胖乎乎的小手》课件PPT\图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0" name="Text Box 3"/>
          <p:cNvSpPr/>
          <p:nvPr/>
        </p:nvSpPr>
        <p:spPr>
          <a:xfrm>
            <a:off x="1619280" y="476280"/>
            <a:ext cx="6553080" cy="45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99"/>
                </a:solidFill>
                <a:latin typeface="Arial"/>
                <a:ea typeface="华文彩云"/>
              </a:rPr>
              <a:t>我会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、爸爸喜欢兰兰的小手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是因为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____________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、妈妈喜欢兰兰的小手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是因为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____________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、奶奶喜欢兰兰的小手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是因为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____________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、兰兰明白了，大家喜欢她的画，是因为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___________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1" name="Picture 11" descr="F:\ppt\612\人教版一年级语文下册《胖乎乎的小手》课件PPT\图片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2" name="Text Box 3"/>
          <p:cNvSpPr/>
          <p:nvPr/>
        </p:nvSpPr>
        <p:spPr>
          <a:xfrm>
            <a:off x="1623960" y="907920"/>
            <a:ext cx="665460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喜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欢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张 　 刚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好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贴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墙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上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代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替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拖鞋  帮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忙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等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车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变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成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事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4"/>
          <p:cNvSpPr/>
          <p:nvPr/>
        </p:nvSpPr>
        <p:spPr>
          <a:xfrm>
            <a:off x="1140480" y="620640"/>
            <a:ext cx="6334920" cy="47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x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Arial"/>
              </a:rPr>
              <a:t>ǐ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  <a:ea typeface="Arial"/>
              </a:rPr>
              <a:t>     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Arial"/>
              </a:rPr>
              <a:t>　　　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  <a:ea typeface="Arial"/>
              </a:rPr>
              <a:t>zh</a:t>
            </a: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ā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  <a:ea typeface="Arial"/>
              </a:rPr>
              <a:t>ng  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Arial"/>
              </a:rPr>
              <a:t>　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  <a:ea typeface="Arial"/>
              </a:rPr>
              <a:t>g</a:t>
            </a: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ā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  <a:ea typeface="Arial"/>
              </a:rPr>
              <a:t>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  <a:ea typeface="Arial"/>
              </a:rPr>
              <a:t>ti</a:t>
            </a:r>
            <a:r>
              <a:rPr b="1" lang="en-US" sz="3600" spc="-1" strike="noStrike">
                <a:solidFill>
                  <a:srgbClr val="0000ff"/>
                </a:solidFill>
                <a:latin typeface="宋体"/>
                <a:ea typeface="Arial"/>
              </a:rPr>
              <a:t>ē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  <a:ea typeface="Arial"/>
              </a:rPr>
              <a:t>      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Arial"/>
              </a:rPr>
              <a:t>　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  <a:ea typeface="Arial"/>
              </a:rPr>
              <a:t>qi</a:t>
            </a:r>
            <a:r>
              <a:rPr b="0" lang="en-US" sz="3600" spc="-1" strike="noStrike">
                <a:solidFill>
                  <a:srgbClr val="0000ff"/>
                </a:solidFill>
                <a:latin typeface="Comic Sans MS"/>
                <a:ea typeface="Arial"/>
              </a:rPr>
              <a:t>á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  <a:ea typeface="Arial"/>
              </a:rPr>
              <a:t>ng  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Arial"/>
              </a:rPr>
              <a:t>　　  　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  <a:ea typeface="Arial"/>
              </a:rPr>
              <a:t>t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  <a:ea typeface="Arial"/>
              </a:rPr>
              <a:t>tu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Arial"/>
              </a:rPr>
              <a:t>ō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  <a:ea typeface="Arial"/>
              </a:rPr>
              <a:t> xié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  <a:ea typeface="Arial"/>
              </a:rPr>
              <a:t>b</a:t>
            </a: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ā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  <a:ea typeface="Arial"/>
              </a:rPr>
              <a:t>ng      d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Arial"/>
              </a:rPr>
              <a:t>ě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  <a:ea typeface="Arial"/>
              </a:rPr>
              <a:t>ng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  <a:ea typeface="Arial"/>
              </a:rPr>
              <a:t>bi</a:t>
            </a:r>
            <a:r>
              <a:rPr b="0" lang="en-US" sz="3600" spc="-1" strike="noStrike">
                <a:solidFill>
                  <a:srgbClr val="0000ff"/>
                </a:solidFill>
                <a:latin typeface="Comic Sans MS"/>
                <a:ea typeface="Arial"/>
              </a:rPr>
              <a:t>à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  <a:ea typeface="Arial"/>
              </a:rPr>
              <a:t>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           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  <a:ea typeface="Arial"/>
              </a:rPr>
              <a:t>qí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4" name="Picture 6" descr="F:\ppt\612\人教版一年级语文下册《胖乎乎的小手》课件PPT\图片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5" name="Text Box 3"/>
          <p:cNvSpPr/>
          <p:nvPr/>
        </p:nvSpPr>
        <p:spPr>
          <a:xfrm>
            <a:off x="1697040" y="836640"/>
            <a:ext cx="665460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喜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欢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张 　 刚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好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贴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墙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上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代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替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拖鞋  帮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忙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等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车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变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成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事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4"/>
          <p:cNvSpPr/>
          <p:nvPr/>
        </p:nvSpPr>
        <p:spPr>
          <a:xfrm>
            <a:off x="470880" y="333360"/>
            <a:ext cx="56016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7" name="Picture 11" descr="F:\ppt\612\人教版一年级语文下册《胖乎乎的小手》课件PPT\图片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8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之家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5"/>
          <p:cNvSpPr/>
          <p:nvPr/>
        </p:nvSpPr>
        <p:spPr>
          <a:xfrm>
            <a:off x="1763640" y="1197000"/>
            <a:ext cx="42955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喜  张  刚  贴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墙  替  拖  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帮  等  变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5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7"/>
          <p:cNvSpPr/>
          <p:nvPr/>
        </p:nvSpPr>
        <p:spPr>
          <a:xfrm>
            <a:off x="6477840" y="58896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游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8"/>
          <p:cNvSpPr/>
          <p:nvPr/>
        </p:nvSpPr>
        <p:spPr>
          <a:xfrm>
            <a:off x="2124000" y="260280"/>
            <a:ext cx="324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我会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Oval 9"/>
          <p:cNvSpPr/>
          <p:nvPr/>
        </p:nvSpPr>
        <p:spPr>
          <a:xfrm>
            <a:off x="7236000" y="6093000"/>
            <a:ext cx="50472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小组汇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0T15:09:01Z</dcterms:created>
  <dc:creator>第一PPT模板网-WWW.1PPT.COM</dc:creator>
  <dc:description/>
  <cp:keywords>第一PPT模板网-WWW.1PPT.COM</cp:keywords>
  <dc:language>en-US</dc:language>
  <cp:lastModifiedBy>a</cp:lastModifiedBy>
  <dcterms:modified xsi:type="dcterms:W3CDTF">2015-03-16T08:55:44Z</dcterms:modified>
  <cp:revision>54</cp:revision>
  <dc:subject/>
  <dc:title>第一PPT模板网-WWW.1PPT.COM</dc:title>
</cp:coreProperties>
</file>