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A76-851A-400F-82D2-B2AA7187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37B-4466-434A-A5A6-60EA3422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56CC9-2079-4F25-9DE3-B6082654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79DC7-453C-4D07-8BFC-AC52BCA9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1DB41-FA79-4969-AE3F-65798D58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7238B-CDED-48FC-BC4A-48BD5AFE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A68E0-134D-4B19-9E1E-930F2C4B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F6573-4978-450E-B2DA-2D33DBF6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A4914-C2B9-4489-B9CB-C73799D3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4E470-BA5C-4E5A-9667-B7D65817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44D65-1008-47DE-83C7-655CB95F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14A14-2FE9-4846-BC53-6A7C2A2C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E9E-58AE-4A8F-8C58-735B6B34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A9253-327A-43BF-87FF-1AE1A7FC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DB0BF-E002-425D-A81C-322D1461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F3508-20DE-44B9-A58A-B30160F1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5FB90-C2D3-4100-BA0B-6C6875B0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8037A-53CC-4E01-AB13-83827DF0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192A1-0876-445F-9E96-E656F2C2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3CAEE-70B3-4D88-9201-083DA9C8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CCB0B-4357-459C-83BD-7334D977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60207-C49C-42E1-AB21-2CCF7F99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C478D-73C0-4CEE-9514-AAF574C9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FAF-C1B7-4A7E-B797-EC641D1B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3E747-39BB-4135-A81F-21519B00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3EB22-BF12-43EB-A098-81E598FF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9C7D0-D96F-451B-B862-78C5D29D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3DA8B-8919-44C7-A544-F9E605DF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68BCE-26F1-4270-87FF-FF11FA80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95DE0-11F3-4B28-8318-4A6082DA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41163-D8C2-4EC9-BACA-70D0A5BE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62343-F881-4782-8CA0-217FFF6B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73438-04AC-46A1-AD59-EFF6E98E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3709E-2A50-476C-9F1D-245A772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7EE4-9C24-4AAC-9855-CF9216F1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89BCD-8623-4BC8-AA64-C8AD2702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1ADAF-2E46-4485-838E-6D048EFD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4E652-5ECE-4C0F-B11F-A76F0E8A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EF747-57A7-496C-8981-467DF819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7E3BF-C4BA-4042-8EF7-E8F5C1DE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0B8FE-8932-4104-B85D-8D4BA690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C1EF2-F088-419B-8D97-4071F07E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83AF8-489F-493C-AE3F-B49BBFF0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DD45F-74C0-4EE4-A67C-D51D0E72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08139-EEF5-42A9-80E9-9E7EB524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015D-DC2E-41DD-A372-6F8986AC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11F26-685E-4D5F-86F4-B0492C36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189E1-C6E7-44FB-B87F-1C49274D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F6439-C8F2-4907-80C9-71D2FE2B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5CB06-5717-47A6-BE14-B5F20412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0F96D-E4E1-4444-ACC0-ECF1B033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B95EA-D5D0-48E3-A3BC-989C1F50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B0A37-40C0-4002-92BB-FB47936E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9DF86-0C10-4891-8924-06791FE2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469CA-3F9E-4FB0-8FB9-9A5B61A1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07DEE-BCE1-4CE6-9231-A1AB0542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B4F3-B974-4D50-8C6C-F8C1A4FC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4EDD3-E954-487D-8774-3D6B6C1A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61144-7769-4FC1-A3E0-A2A6A214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D333D-EFEA-47CF-A804-B899BEB4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196BF-FC5C-4827-91A5-CD3E1C1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455B9-7692-4612-9D90-01AA3CCD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4994D-33E8-4BE2-8CD5-143433AB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801B1-9C7B-4B3D-95AA-0EC68D1F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0B715-BD93-459B-A7FD-99A16CFC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7848D-103E-4D94-B56B-5CE9A316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2314B-0805-45F6-BDD9-7E6525BF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434B-007A-4C5F-B669-A7F2ED84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D4DC7-FA26-4BDC-A031-3483A71F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E39A1-CD97-4292-943E-3F01A94F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51BB9-46E7-45D3-89E1-DA6DACC3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4E49C-EBA0-4645-8234-B4C9F245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E8081-DDA0-41E2-A47F-6D7CE62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66296-A0C6-49C6-B27F-7C202C15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47205-EB34-4581-86F1-AF696615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74100-E5E7-450F-A32D-34E75DAA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F012B-B393-4AE2-AC68-FC03C478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12AB-BA7D-4E1E-AA82-B11E1D6E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8DF4-2354-42A1-BB55-1474AB23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DE25-93CC-49E7-93CA-31874C25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5DD-5817-4E68-AD80-07519264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C1F2-B465-47F3-8E28-ADCB3142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1121-AAAF-4340-9DB9-DBB6E6BC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FA14-6667-4BD1-9DBB-89847448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214D-536C-40B0-9C79-67F4A965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8BFE-6611-4FA7-BCB8-2863ACB8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4C44-FD16-4AAA-B867-1CA5726E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51DD-7677-41D3-A0B1-59B3CCA3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6DC9-9B79-47A8-89EA-3EE6AA58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B7A9-E626-4333-8604-513D1932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A221-A4A5-4285-AF08-645BA0BA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56A-A9ED-4071-ADED-FC07AAEF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8B798-87B9-4A55-9252-EF951635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82E6-A3A9-4A95-A81E-9C8B1693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599CF-8D0E-40B3-A461-137647CB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B454-7E69-4EB3-8AD8-12679167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0580-D3EF-42E8-84C8-FC3B0BD2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19F9D-4BDD-40CE-8D34-37B70C44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9A24-017B-4D85-A826-40ED029D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EB86-DF7A-4C45-8C5A-FDD523D2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8024-962D-4BE4-8EBF-0137FEC0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8F0B-BFB9-4B6F-9644-009A6C3D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755-6B97-47A4-930F-BD745552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EE177-0D61-45FE-AFF8-23385321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CA79-9B27-4116-855E-3097B243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D9C3F-3747-43A5-AF36-62A97AF4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A05CC-FF7B-4951-A955-DB3CEB3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A8E1-B4B7-4FF2-A6CB-6D9E2278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220BD-EEAA-47FD-AB08-503ED408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1739-2225-4366-B3D8-BD5FA2A7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5EEA4-F568-419C-9A03-907938A1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B2A3-2E8A-4B7D-A811-79E5099C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02AE8-F9AB-4091-B854-E2460FEA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142-24AC-4432-8DFC-CCFC8F4C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8D6B-0516-432A-8C57-2D370809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E6CD4-4706-48F6-9767-A3E18383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40BAD-F628-4E50-83FB-1CD79E28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4477-3D90-4B1D-8056-6ADB7F99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A1704-4681-46A5-84E0-34534A08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E6636-48FF-4B49-A166-8E92E208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E3DC7-19EC-4CCB-A9D1-D3C0611D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94BDD-19A8-41FA-A968-3C85E8BB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4F0F5-B5F9-47FF-8E10-DF99A1C2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66FEB-B518-45CF-87D5-3681C477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735-9A45-430C-A63B-238F9169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4CD80-9A0B-4A31-BCE2-2572A317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083E5-73D6-4448-8A17-44332B16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5F5B3-D57B-446A-AB5A-B2C8ED9A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6B3BF-7B40-41F6-BE99-CC0CBAAC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79E6E-FB38-4D16-AABA-87EBB1E7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E67AE-57E2-4B54-AC18-513AE4FE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C8397-5F6D-40C2-A5F1-C444F0A8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C0692-C3D5-404E-9302-FBD092CD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9F14C-FB83-43B9-8D8A-19D30E8A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E9383-C074-4268-9496-6FB2EBD7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B67-C8DE-4F8B-B6F6-4EA7AF51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5B7EF-675D-416B-9765-183D3182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9D51E-2ABB-4714-8B3A-9BC78F30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37A73-9840-4167-9070-B5131196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F143D-0C58-414F-88C8-A8D7D5DC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68DCA-A9BF-47CF-85CF-24655B30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B7E1A-557F-4BB6-A649-2711A5A4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D4311-F91C-454D-9386-E8B2F0FF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25FFE-4BFF-48B8-BDD7-597B0F8B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61529-9AF1-406D-AF17-FD02DB80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91E1B-2AC8-4B75-8DB1-85F54167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058-00C1-4F68-8230-677D08E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CDF1E-A9D5-41C8-846F-5D849183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224D3-4757-42E4-90D1-E703A787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39C34-8821-4E7F-9961-0B1D2CAB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ED9A1-F5AD-417B-872E-8C23F94F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9D5DE-9D60-4907-A07C-C1A23793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B95EE-7114-4EB6-8661-BE2BC87F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05588-547C-4C1F-8F8F-5C75FA0C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12DC1-D482-4303-BB33-FF1EA4B0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47F1F-FEDE-4049-A613-F9651669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73D8D-402B-44E2-8F17-33383FCA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149-8FD8-4FC6-9353-D3178435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650B4-C5D6-4BAB-AC36-9C0AA101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F11CC-2841-4A62-A5B3-87702759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7378F-4983-47E6-AA50-BBB4A803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60A2D-1799-41D8-8D99-D16779F9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4131D-FC7C-4BCF-B21C-F52435C2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E2999-C54A-4325-AA50-87A01D38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50C3D-CB86-455A-97C0-EE5B212F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E47A3-C23B-4343-8A4F-F1950273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9E274-BCEB-48B7-A8AA-2BF2190B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28EBB-33F5-449D-9F7D-BD46C1D3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044B-1709-4314-A2F6-B27893255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C000-7274-4C15-B63B-1F3631F257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4BBF-2300-4147-86E3-B590E71767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C080-60CB-4C57-9215-083930E49C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A8B6-E34B-4A51-B5A5-AD013B088A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A436-3AFB-45BD-9824-6C3C9C61E3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629E-D97E-4D88-A7A7-0F3B008172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D6F2-D084-4B4A-98B7-97F55DECA0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63EC-4F2C-4F5C-82B4-588D8BA104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12B2-BC1B-495E-BCC8-1CF3ED0B37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20FF-B550-401F-8DDF-11B3398695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8107-9B1D-479C-8EBF-EDC7F28D3E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B18B-87F9-49A8-AA32-C805E99721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8653-C2F6-46D4-857A-DBF69A5A4B0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5275-45BF-4E71-B693-C0010FB63C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FEF8-3224-4FB2-B8BB-77A91FAE2E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AE1B-7D28-4413-A056-4F53369874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1AF5-FDD8-40E6-BD90-6DE15986D4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A41D-CD17-4203-8298-E99D04D309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6AEF-124C-427D-A336-360F51932A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0FDB-B21A-415A-937B-FAF70ED607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6DB7-9B90-4B37-AC19-EA5C45CDA7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0381-CFC3-4E93-B58F-EC39A482CF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E5B8-9FEE-4261-9A4E-2BE7906034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E546-C691-432C-BB52-CDA79EA763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9660-0433-43EC-8031-34B8FD939E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2"/>
          <p:cNvSpPr txBox="1"/>
          <p:nvPr/>
        </p:nvSpPr>
        <p:spPr>
          <a:xfrm rot="5400000">
            <a:off x="5218920" y="278136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方正姚体"/>
              </a:rPr>
              <a:t>普罗米修斯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  <p:pic>
        <p:nvPicPr>
          <p:cNvPr id="576" name="Picture 4" descr="普"/>
          <p:cNvPicPr/>
          <p:nvPr/>
        </p:nvPicPr>
        <p:blipFill>
          <a:blip r:embed="rId1"/>
          <a:stretch/>
        </p:blipFill>
        <p:spPr>
          <a:xfrm>
            <a:off x="2268360" y="1255680"/>
            <a:ext cx="46800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332000" y="2349360"/>
            <a:ext cx="74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尽管如此，普罗米修斯就是不向宙斯屈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20051015182732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457200" y="91440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4000" spc="-1" strike="noStrike">
                <a:solidFill>
                  <a:srgbClr val="e9e2b6"/>
                </a:solidFill>
                <a:latin typeface="Times New Roman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e2b6"/>
                </a:solidFill>
                <a:latin typeface="Times New Roman"/>
              </a:rPr>
              <a:t>抄写故事中生动感人的词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2268360" y="1413000"/>
            <a:ext cx="5473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普罗米修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太阳神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阿波罗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众神领袖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宙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大力神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赫拉克勒斯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高加索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1403280" y="90792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普罗米修斯的双手和双脚戴着铁环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被死死地锁在高高的悬崖上。他既不能动弹，也不能睡觉，日夜遭受着风吹雨淋的痛苦。尽管如此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普罗米修斯就是不向宙斯屈服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403280" y="90792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普罗米修斯的双手和双脚戴着铁环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被死死地锁在高高的悬崖上。他既不能动弹，也不能睡觉，日夜遭受着风吹雨淋的痛苦。尽管如此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普罗米修斯就是不向宙斯屈服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3"/>
          <p:cNvSpPr/>
          <p:nvPr/>
        </p:nvSpPr>
        <p:spPr>
          <a:xfrm>
            <a:off x="1476360" y="76500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狠心的宙斯又派了一只凶恶的鹫鹰，每天站在普罗米修斯的双膝上，用它尖利的嘴巴，啄食他的肝脏。白天，他的肝脏被吃光了，可是一到晚上，肝脏又重新长了起来。这样，普罗米修斯所承受的痛苦，永远没有尽头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476360" y="76500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狠心的宙斯又派了一只凶恶的鹫鹰，每天站在普罗米修斯的双膝上，用它尖利的嘴巴，啄食他的肝脏。白天，他的肝脏被吃光了，可是一到晚上，肝脏又重新长了起来。这样，普罗米修斯所承受的痛苦，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永远没有尽头了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476360" y="765000"/>
            <a:ext cx="74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狠心的宙斯又派了一只凶恶的鹫鹰，每天站在普罗米修斯的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膝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，用它尖利的嘴巴，啄食他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肝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白天，他的肝脏被吃光了，可是一到晚上，肝脏又重新长了起来。这样，普罗米修斯所承受的痛苦，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永远没有尽头了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6"/>
          <p:cNvSpPr/>
          <p:nvPr/>
        </p:nvSpPr>
        <p:spPr>
          <a:xfrm>
            <a:off x="1447920" y="1523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4f41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7" descr="普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1523880"/>
            <a:ext cx="74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许多年来，普罗米修斯一直被锁在那个可怕的悬崖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3:34:44Z</dcterms:created>
  <dc:creator>user</dc:creator>
  <dc:description/>
  <dc:language>en-US</dc:language>
  <cp:lastModifiedBy>a</cp:lastModifiedBy>
  <dcterms:modified xsi:type="dcterms:W3CDTF">2015-03-18T05:54:35Z</dcterms:modified>
  <cp:revision>23</cp:revision>
  <dc:subject/>
  <dc:title>PowerPoint 演示文稿</dc:title>
</cp:coreProperties>
</file>