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chimes.wav" ContentType="audio/x-wav"/>
  <Override PartName="/ppt/media/image9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E0FD-047E-40A9-BB50-4E50A29C3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0D27-3809-4B2A-9785-12500158B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796A61-D393-4A0F-AE48-B2F789F53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E6E05D-9A43-4C1E-BF0F-E65751546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BEB3A7-DE76-4F20-B997-6520EBE1E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C47915-541F-4D57-9D21-8E8E24D6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D65471-516B-45E9-9868-8E691D5C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FE2AC9-C910-4F07-9E66-3F0665ED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128A2B-BB4A-4922-A8A4-C02C34C70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BDD03D-CC20-4462-B4ED-25A5850C2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40F575-A96D-4119-BC49-7B569BAA4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7053E1-2A5A-465C-8C15-FF117CE28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A3B3-B413-4215-A79A-682C26504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DD1DF4-4635-4928-AAC8-511463FDE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6DB0E0-2021-45E4-80DD-49E4F8A12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7A1A90-2EC3-4283-ABF6-083C9A7F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020F83-A3A4-48B1-BFE1-084EC5429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04E8C8-0781-4002-8A58-3425503B1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7685AD-5734-435B-BFAA-85DD8913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0D582C-D7EC-434C-8834-EA6B07A9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53441F-6F1B-4812-B7E5-662E64B5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41097D-E49C-4A8C-B31A-F1D6B9A29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E7EAB7-14B5-4FF8-BD9A-42BE9D2F4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2D64-C90E-4395-909E-467C1EA5D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3BBD66-C84C-47BF-887F-99D4755C5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8535EA-9B66-4BFD-B4E2-5EB94206C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B8AA63-950A-4779-9861-A91FFCE4D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8F4CF9-FC1A-4C48-AEC4-9CD747812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284991-4129-4C42-A8E7-1D5236D1B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E1AA97-F39C-4259-AD70-842C628C1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7FBF94-8EA8-474A-A8BB-C56863D4C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06BD93-1B2B-48D6-BB66-06D73837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CD65CC-159B-4CCB-ACC4-AD0E2AE3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A2B228-A9E9-4C2B-ABD6-17C4C4EF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262DF-AC63-45FF-A952-F826148A4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032CE4-5507-4E2E-88F1-DA10382E2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060B25-7672-4ED3-9B64-215ACDA4C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D842E6-FF2D-474E-929E-A3FF35D7C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CC28A4-6E2A-4731-8BE9-0BDA4BB2D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76E309-7BD9-409C-9E0B-37252C6BA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3C8B3C-490E-40D5-B0BD-4E0B20B29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A49C0D-42A4-478A-B214-8F0404709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4877D7-2C26-40E3-884A-C050AD96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399579-B538-4563-B9A1-240435E84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FB54BC-C719-490D-A9F4-80D0E058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DAC5D-D8C7-4F4D-834C-7A268D0BD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CEBD37-69D4-4385-A0CA-517004E8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2FBB99-A81D-4975-9208-84D19CE1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D36CE9-72A5-4EF9-A925-EA07F19E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977680-B631-454A-B992-6E2A906A5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050027-DD1D-4385-B4E5-149F58A5B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A0BE97-2F80-4C4F-952E-7A5FB57C8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9E7A84-6CD1-48DA-893E-9044B1920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2D85B6-E33D-4871-B266-843250C1B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76C491-8947-4B96-8593-05C8A03EF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0E13F4-7CDB-46AD-A36E-2C74A9E00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AAEDF-AE24-44EE-90E8-173977E92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51E9EF-8E26-4E15-BF82-5A77F4E88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EEB300-9A9C-47B3-AAF4-52B09BC1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ECE072-6150-4491-B3F3-C597F653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82CFFF-1E4F-43BA-A5D3-C4F7DF18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AC32AA-6420-4A3B-8084-5D56C6F4D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70D669-34A6-466C-9F31-30616FE14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FEE3C6-9195-4C93-B275-9FCE9E6CC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7CBE49-2D59-400B-B37E-A613397B7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BAD049-BB76-479B-B843-B29190A70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C2E383-CC34-4212-855F-B1ABAAD0F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0ED23-0E3F-484E-A819-34BC1B226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49A29E-B321-4F4E-B48B-1EAA18B10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DCCEB5-E272-41B6-9A01-CDF19CEBB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9889FF-543E-4742-A4DB-A41A7B636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81A8CD-649B-47B9-A6A9-06D17BF3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1FB3D4-3E09-4125-8453-9C88374A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EDAEF0-F592-4D6B-A043-AAECEE10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3AAFD5-8E3B-45B7-BFC7-950BB47FE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1A6A04-B1E9-489F-B8E2-49A800DC8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25CA65-19EB-46A2-B322-16DC468F2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9B4E39-3564-443F-A6C7-BC632CCCA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E27B6-D54F-4D5F-BD21-32A23C76A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9EEFA7-B153-4153-BDBB-C0FECE498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740C35-EBD2-49A4-B765-C1453208D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60D66E-9DBA-4821-970D-6EC23452E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DD6928-D045-4558-8762-599AAA794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7DD3AC-E4CD-40E1-B88A-292B161CD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41C43E-A6C5-421B-AADA-896D0553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3A068C-1F5F-4C83-A779-C69F6216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60C441-8F1B-42F3-BD80-72C7AB9D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7B38DA-EC1C-49DA-A547-BBB27BC95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6A0FB4-C7CE-4740-AA28-E46EA2893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31D73-A6EF-4C04-BA90-5C28D1D06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8B85F7-653B-4230-9DC1-777FF790B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F0DEF-E16E-40B3-ACBB-C64E3998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6F25-BD3A-45FC-BF51-A6B434D97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D9D78-E467-4942-9ED3-453A08B5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7D1DC-BD0C-4CF2-BD4C-661B3BE6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EEB05-C6A6-41C8-9726-39D40545D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C43A5-C640-47C9-9515-1446A7412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1220C-ECEC-4F5E-9815-C2B5E5DF4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21867-35A1-4E69-ACC6-35A8F53CF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186FA-5E7A-431C-A38C-34AB5938E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6B524-31F4-45BD-9366-DD911D631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03A48-98C1-4DD7-804A-B0667C99A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59E82-D9DF-4253-9A27-B75B33079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2069-BE89-4D59-9C8B-596DCCBF6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EB63D-5C2A-4F5A-A431-D1C6E91F0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7D9E7-8C6F-48F0-AA4C-FF7C6114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5C70A-D8B3-41D8-9C23-B357D734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5FEAA-EABF-494B-B15C-EDC665CD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32D78-76B7-471C-992F-191F8C0AB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84464-CD8B-4C85-9AB3-E13FED871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E1907-29F3-40BA-987F-7509B3C3D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C3839-008F-475F-B2A5-0A5B5DE09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CF81E-8384-418D-AED7-958B5B83F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778AD-C30C-4D14-83AD-B732F602E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1924-7E9C-43C4-BF34-9BE1DC3B2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AE8EF-6B5C-4689-9704-1CC6E1AD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C1B59-3019-41EA-92BE-C1FF058AA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5E40D-8EFF-4C1E-B01D-407014C06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0A6CB-FAD9-45BE-8C5C-12BD9F19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B045B-4860-4021-B568-AB2B3C7F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A1225-C8F1-4772-A548-A083A419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CC48A-F85B-4565-A66B-FF6DAB87B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60FF5-1886-4D77-BDF9-056B0C071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3FEBD-3D00-431C-8111-23633F3DB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B5BBB-88FD-49EF-B752-0D74F9C59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3D55-4E5A-4FCD-9FC8-9AC471E7E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F4348-7339-4B31-948B-E29640287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3B210-CF38-4ABF-9EF7-0DA094884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FD8BE-2A3A-4CE7-9561-8CF870F77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C697F-ED86-4B3D-A0B3-88C8ED15B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DF045-0BE1-4ADE-9062-26B308CF8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E644E-4CE0-46B1-98BC-2CC2D39A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F493B-AD5F-47F0-B270-B10431B0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AFEF8-7D23-4D4A-B6E6-1E3F4B6B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956D6-59DA-44C1-8896-47FDB4EA1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DE325-99C2-4A21-878D-D7755D095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F6F0-BFE2-481E-A832-6BDE3296D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C181E-A112-462A-8B63-CD9684892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90CCE-5C81-4B31-A010-F74D0ABE5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911BC-AC83-4B46-A332-D46A96FFE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F6AEF-E691-4E01-A0C7-9E37F51DD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52D0B-213B-4AC1-BAC3-035BA199E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975360-CC3D-4108-AE29-5472D8AB6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430F8-EEDF-45F9-B5D4-D6214FD35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82D58-C7AF-4CF3-BD45-8A43B30B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BE1ED-2D9D-4194-B5D4-5546B754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C9360-B689-4DFF-90E8-1F6C3FAB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B386-22A8-482F-BFA4-57E8E942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B5295-EA37-4034-96E4-4DBCBFA0B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43D44B-F67E-4D0C-979E-4877D06FE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69D3C-6E0A-4960-906C-B76CC0D83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8939AC-38CE-4764-857C-B1FFD9399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0186B-70EF-4B6B-A4E7-FEDDDA203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C528A4-BAC6-4E20-B26C-917670396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0BEA5A-9309-4E3C-8EDD-5F0880DCC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D3745-A01D-4EB7-983A-6E5836A42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5E197-25A9-4351-B6B4-8117286EE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6FBA9-0421-4A53-AE19-47AEADAB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87F0-2824-4482-AAF6-676BFE61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137DC-649A-48E5-8262-F6BCDE76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294A8-24A4-41D1-9CB5-1A42B2A2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E27CA-7E16-49B6-979D-D11A47F06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78BDF-2CAF-4067-9E63-848D04C6E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772DA-904E-485A-88AA-DEDFF5CB3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7BE04F-AF67-4468-A896-4961D6F1A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81C7B5-115B-4E5A-A8AF-6D71D12C2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DC707A-04EE-4392-BBAC-2F11CDB04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246E33-B8FD-411B-84C4-A672C92A7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CEC776-7604-4CCF-A93B-00E844413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6DC8-1232-426F-9D10-BFB0E43A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7273B2-40E9-4CF0-B3EC-4F230D21A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B2FFB1-791B-4673-96B9-5EC17914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98A812-E79C-42A5-9CA4-4EB20BD8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C74DF-69E1-4A4E-B38B-5D1C6357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D1D16A-F488-4A25-B274-8FA65B132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42141E-8C35-40A9-9A5D-B12A58DBE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CD4046-4FE2-4284-BEC4-1D228D3C3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9486A5-54DA-4061-BC05-EB1320E96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A8A4B6-BFF5-40D9-999B-F9FFFE4B6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2B2370-2212-4DEA-B097-42D1DFBBA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843B1-64FC-4514-B588-CB384C927B51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FE0D2-DAA8-4763-A606-EF48498F735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628CD-CA42-4868-B4D4-6019E92C454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075E9-0EAD-411E-A45B-E4EBE8A4D19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86C1F-BD38-44D7-9EE2-E9820ADF25E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F153C-C046-4D42-97C7-7978C0CB275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73493-A93B-48E1-9537-5090203C4B2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B405B-2B49-49AC-8DB8-361912D9DD6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1065F-4643-4287-82F8-BF5DB008ECD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C1DB5-46CD-44B1-94A6-89910A47DD9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8695F-E742-4CCB-BFFE-5D9B4CEB0B6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9B228-8FEE-4A10-BD8C-E8B34742D61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FFC6C-E8A1-437B-95C9-7D6421729A9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251F3-E445-4321-9812-71F8992CB2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6FA75-C42D-40E9-BA88-0CE2F05F318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560B1-FA2E-41D7-9474-8E68AB5C06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33007-4EEF-4CD1-A3D9-FA52D1C8649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6CDC8-6E3A-4298-AF08-F402ECCA532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0682A-3299-4C77-BEAD-7298760013B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56DB7-35D4-4767-9A6E-43ED0F8D49F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C474D-F122-4DAD-99B9-4165CEEEBD7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35CF9-A781-4EDF-8499-B3AD65A1F43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D3A0-BCA6-49D6-974C-5ABACBEC31E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5F23B-5B9A-44AD-8B6B-6AAE9B4E2A5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E01B0-2802-41D6-A3F2-5D83D4FBD1D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AB045-8E48-4410-A5F0-1F7C44019F9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9990D-8F90-4BE1-A328-B8CC09C19D7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audio" Target="../media/chimes.wav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WordArt 6"/>
          <p:cNvSpPr txBox="1"/>
          <p:nvPr/>
        </p:nvSpPr>
        <p:spPr>
          <a:xfrm>
            <a:off x="2484360" y="2565360"/>
            <a:ext cx="3888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平平搭积木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5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53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Picture 2" descr="art_0042"/>
          <p:cNvPicPr/>
          <p:nvPr/>
        </p:nvPicPr>
        <p:blipFill>
          <a:blip r:embed="rId2"/>
          <a:stretch/>
        </p:blipFill>
        <p:spPr>
          <a:xfrm>
            <a:off x="0" y="-95400"/>
            <a:ext cx="9144000" cy="702972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3" descr="《平平搭积木》课文插图1"/>
          <p:cNvPicPr/>
          <p:nvPr/>
        </p:nvPicPr>
        <p:blipFill>
          <a:blip r:embed="rId3"/>
          <a:stretch/>
        </p:blipFill>
        <p:spPr>
          <a:xfrm>
            <a:off x="1835280" y="1557360"/>
            <a:ext cx="525780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3" descr="我会读pic_227543"/>
          <p:cNvPicPr/>
          <p:nvPr/>
        </p:nvPicPr>
        <p:blipFill>
          <a:blip r:embed="rId2"/>
          <a:stretch/>
        </p:blipFill>
        <p:spPr>
          <a:xfrm>
            <a:off x="0" y="0"/>
            <a:ext cx="1828800" cy="1498680"/>
          </a:xfrm>
          <a:prstGeom prst="rect">
            <a:avLst/>
          </a:prstGeom>
          <a:ln w="0">
            <a:noFill/>
          </a:ln>
        </p:spPr>
      </p:pic>
      <p:sp>
        <p:nvSpPr>
          <p:cNvPr id="619" name="Rectangle 3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读一读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Rectangle 4"/>
          <p:cNvSpPr/>
          <p:nvPr/>
        </p:nvSpPr>
        <p:spPr>
          <a:xfrm>
            <a:off x="380880" y="2666880"/>
            <a:ext cx="84582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平 平    搭 积 木     这 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都 给 谁 住 呢        没 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还 有 一 间 啊        很 多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Text Box 5"/>
          <p:cNvSpPr/>
          <p:nvPr/>
        </p:nvSpPr>
        <p:spPr>
          <a:xfrm>
            <a:off x="1214280" y="21337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zypyyb"/>
                <a:ea typeface="zypyyb"/>
              </a:rPr>
              <a:t>p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  <a:ea typeface="zypyyb"/>
              </a:rPr>
              <a:t>í</a:t>
            </a:r>
            <a:r>
              <a:rPr b="0" lang="en-US" sz="2800" spc="-1" strike="noStrike">
                <a:solidFill>
                  <a:srgbClr val="006600"/>
                </a:solidFill>
                <a:latin typeface="zypyyb"/>
                <a:ea typeface="zypyyb"/>
              </a:rPr>
              <a:t>ng 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Rectangle 6"/>
          <p:cNvSpPr/>
          <p:nvPr/>
        </p:nvSpPr>
        <p:spPr>
          <a:xfrm>
            <a:off x="1066680" y="1677960"/>
            <a:ext cx="6782040" cy="745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Text Box 8"/>
          <p:cNvSpPr/>
          <p:nvPr/>
        </p:nvSpPr>
        <p:spPr>
          <a:xfrm>
            <a:off x="3476520" y="21337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zypyyb"/>
                <a:ea typeface="zypyyb"/>
              </a:rPr>
              <a:t>dā  jī  m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  <a:ea typeface="zypyyb"/>
              </a:rPr>
              <a:t>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Text Box 9"/>
          <p:cNvSpPr/>
          <p:nvPr/>
        </p:nvSpPr>
        <p:spPr>
          <a:xfrm>
            <a:off x="6381720" y="5110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zypyyb"/>
                <a:ea typeface="zypyyb"/>
              </a:rPr>
              <a:t>hěn du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Text Box 10"/>
          <p:cNvSpPr/>
          <p:nvPr/>
        </p:nvSpPr>
        <p:spPr>
          <a:xfrm>
            <a:off x="6381720" y="21337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zypyyb"/>
                <a:ea typeface="zypyyb"/>
              </a:rPr>
              <a:t>zh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  <a:ea typeface="zypyyb"/>
              </a:rPr>
              <a:t>è</a:t>
            </a:r>
            <a:r>
              <a:rPr b="0" lang="en-US" sz="2800" spc="-1" strike="noStrike">
                <a:solidFill>
                  <a:srgbClr val="006600"/>
                </a:solidFill>
                <a:latin typeface="zypyyb"/>
                <a:ea typeface="zypyyb"/>
              </a:rPr>
              <a:t> xi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Text Box 11"/>
          <p:cNvSpPr/>
          <p:nvPr/>
        </p:nvSpPr>
        <p:spPr>
          <a:xfrm>
            <a:off x="6400800" y="35812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zypyyb"/>
                <a:ea typeface="zypyyb"/>
              </a:rPr>
              <a:t>m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  <a:ea typeface="zypyyb"/>
              </a:rPr>
              <a:t>é</a:t>
            </a:r>
            <a:r>
              <a:rPr b="0" lang="en-US" sz="2800" spc="-1" strike="noStrike">
                <a:solidFill>
                  <a:srgbClr val="006600"/>
                </a:solidFill>
                <a:latin typeface="zypyyb"/>
                <a:ea typeface="zypyyb"/>
              </a:rPr>
              <a:t>i yǒ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Text Box 12"/>
          <p:cNvSpPr/>
          <p:nvPr/>
        </p:nvSpPr>
        <p:spPr>
          <a:xfrm>
            <a:off x="1295280" y="358128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zypyyb"/>
                <a:ea typeface="zypyyb"/>
              </a:rPr>
              <a:t>dōu gěi shu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  <a:ea typeface="zypyyb"/>
              </a:rPr>
              <a:t>í</a:t>
            </a:r>
            <a:r>
              <a:rPr b="0" lang="en-US" sz="2800" spc="-1" strike="noStrike">
                <a:solidFill>
                  <a:srgbClr val="006600"/>
                </a:solidFill>
                <a:latin typeface="zypyyb"/>
                <a:ea typeface="zypyyb"/>
              </a:rPr>
              <a:t> zh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  <a:ea typeface="zypyyb"/>
              </a:rPr>
              <a:t>ù</a:t>
            </a:r>
            <a:r>
              <a:rPr b="0" lang="en-US" sz="2800" spc="-1" strike="noStrike">
                <a:solidFill>
                  <a:srgbClr val="006600"/>
                </a:solidFill>
                <a:latin typeface="zypyyb"/>
                <a:ea typeface="zypyyb"/>
              </a:rPr>
              <a:t> 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Text Box 13"/>
          <p:cNvSpPr/>
          <p:nvPr/>
        </p:nvSpPr>
        <p:spPr>
          <a:xfrm>
            <a:off x="1357200" y="51102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zypyyb"/>
                <a:ea typeface="zypyyb"/>
              </a:rPr>
              <a:t>hāi yǒu y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  <a:ea typeface="zypyyb"/>
              </a:rPr>
              <a:t>ì</a:t>
            </a:r>
            <a:r>
              <a:rPr b="0" lang="en-US" sz="2800" spc="-1" strike="noStrike">
                <a:solidFill>
                  <a:srgbClr val="006600"/>
                </a:solidFill>
                <a:latin typeface="zypyyb"/>
                <a:ea typeface="zypyyb"/>
              </a:rPr>
              <a:t> jiān  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Picture 2" descr="art_0042"/>
          <p:cNvPicPr/>
          <p:nvPr/>
        </p:nvPicPr>
        <p:blipFill>
          <a:blip r:embed="rId2"/>
          <a:stretch/>
        </p:blipFill>
        <p:spPr>
          <a:xfrm>
            <a:off x="0" y="-95400"/>
            <a:ext cx="9144000" cy="7029720"/>
          </a:xfrm>
          <a:prstGeom prst="rect">
            <a:avLst/>
          </a:prstGeom>
          <a:ln w="0">
            <a:noFill/>
          </a:ln>
        </p:spPr>
      </p:pic>
      <p:sp>
        <p:nvSpPr>
          <p:cNvPr id="630" name="Text Box 3"/>
          <p:cNvSpPr/>
          <p:nvPr/>
        </p:nvSpPr>
        <p:spPr>
          <a:xfrm>
            <a:off x="1476360" y="1773360"/>
            <a:ext cx="676764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平　搭　间　这　些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都　住　呢　啊　没　很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Text Box 4"/>
          <p:cNvSpPr/>
          <p:nvPr/>
        </p:nvSpPr>
        <p:spPr>
          <a:xfrm>
            <a:off x="1403280" y="119700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Times New Roman"/>
              </a:rPr>
              <a:t>píng   dā     jiān    zhè    xi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Text Box 5"/>
          <p:cNvSpPr/>
          <p:nvPr/>
        </p:nvSpPr>
        <p:spPr>
          <a:xfrm>
            <a:off x="1332000" y="328464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6600"/>
                </a:solidFill>
                <a:latin typeface="Times New Roman"/>
              </a:rPr>
              <a:t>dōu    zhù    ne      </a:t>
            </a:r>
            <a:r>
              <a:rPr b="1" lang="en-US" sz="3600" spc="-1" strike="noStrike">
                <a:solidFill>
                  <a:srgbClr val="006600"/>
                </a:solidFill>
                <a:latin typeface="宋体"/>
              </a:rPr>
              <a:t>a </a:t>
            </a:r>
            <a:r>
              <a:rPr b="1" lang="en-US" sz="3600" spc="-1" strike="noStrike">
                <a:solidFill>
                  <a:srgbClr val="006600"/>
                </a:solidFill>
                <a:latin typeface="Times New Roman"/>
              </a:rPr>
              <a:t>    méi     hě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4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2" descr="art_0042"/>
          <p:cNvPicPr/>
          <p:nvPr/>
        </p:nvPicPr>
        <p:blipFill>
          <a:blip r:embed="rId2"/>
          <a:stretch/>
        </p:blipFill>
        <p:spPr>
          <a:xfrm>
            <a:off x="0" y="-95400"/>
            <a:ext cx="9144000" cy="7029720"/>
          </a:xfrm>
          <a:prstGeom prst="rect">
            <a:avLst/>
          </a:prstGeom>
          <a:ln w="0">
            <a:noFill/>
          </a:ln>
        </p:spPr>
      </p:pic>
      <p:sp>
        <p:nvSpPr>
          <p:cNvPr id="634" name="Text Box 3"/>
          <p:cNvSpPr/>
          <p:nvPr/>
        </p:nvSpPr>
        <p:spPr>
          <a:xfrm>
            <a:off x="1332000" y="3000240"/>
            <a:ext cx="66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平平，平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这些／房子／都给／谁住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5" name="Picture 2" descr="想问题"/>
          <p:cNvPicPr/>
          <p:nvPr/>
        </p:nvPicPr>
        <p:blipFill>
          <a:blip r:embed="rId3"/>
          <a:stretch/>
        </p:blipFill>
        <p:spPr>
          <a:xfrm>
            <a:off x="900000" y="549360"/>
            <a:ext cx="196704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Picture 2" descr="art_0042"/>
          <p:cNvPicPr/>
          <p:nvPr/>
        </p:nvPicPr>
        <p:blipFill>
          <a:blip r:embed="rId2"/>
          <a:stretch/>
        </p:blipFill>
        <p:spPr>
          <a:xfrm>
            <a:off x="0" y="-95400"/>
            <a:ext cx="9144000" cy="7029720"/>
          </a:xfrm>
          <a:prstGeom prst="rect">
            <a:avLst/>
          </a:prstGeom>
          <a:ln w="0">
            <a:noFill/>
          </a:ln>
        </p:spPr>
      </p:pic>
      <p:sp>
        <p:nvSpPr>
          <p:cNvPr id="637" name="Text Box 3"/>
          <p:cNvSpPr/>
          <p:nvPr/>
        </p:nvSpPr>
        <p:spPr>
          <a:xfrm>
            <a:off x="611280" y="306720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一间／给／爷爷／和／他的／书／住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一间／给／奶奶／和／平平／住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一间／给／爸爸妈妈／住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8" name="Picture 2" descr="想问题"/>
          <p:cNvPicPr/>
          <p:nvPr/>
        </p:nvPicPr>
        <p:blipFill>
          <a:blip r:embed="rId3"/>
          <a:stretch/>
        </p:blipFill>
        <p:spPr>
          <a:xfrm>
            <a:off x="900000" y="549360"/>
            <a:ext cx="196704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Picture 2" descr="art_0042"/>
          <p:cNvPicPr/>
          <p:nvPr/>
        </p:nvPicPr>
        <p:blipFill>
          <a:blip r:embed="rId2"/>
          <a:stretch/>
        </p:blipFill>
        <p:spPr>
          <a:xfrm>
            <a:off x="0" y="-95400"/>
            <a:ext cx="9144000" cy="7029720"/>
          </a:xfrm>
          <a:prstGeom prst="rect">
            <a:avLst/>
          </a:prstGeom>
          <a:ln w="0">
            <a:noFill/>
          </a:ln>
        </p:spPr>
      </p:pic>
      <p:sp>
        <p:nvSpPr>
          <p:cNvPr id="640" name="Text Box 3"/>
          <p:cNvSpPr/>
          <p:nvPr/>
        </p:nvSpPr>
        <p:spPr>
          <a:xfrm>
            <a:off x="1332000" y="306864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平平，平平，还有／一间呢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1" name="Picture 2" descr="想问题"/>
          <p:cNvPicPr/>
          <p:nvPr/>
        </p:nvPicPr>
        <p:blipFill>
          <a:blip r:embed="rId3"/>
          <a:stretch/>
        </p:blipFill>
        <p:spPr>
          <a:xfrm>
            <a:off x="900000" y="549360"/>
            <a:ext cx="1967040" cy="2349360"/>
          </a:xfrm>
          <a:prstGeom prst="rect">
            <a:avLst/>
          </a:prstGeom>
          <a:ln w="0">
            <a:noFill/>
          </a:ln>
        </p:spPr>
      </p:pic>
      <p:sp>
        <p:nvSpPr>
          <p:cNvPr id="642" name="Rectangle 5"/>
          <p:cNvSpPr/>
          <p:nvPr/>
        </p:nvSpPr>
        <p:spPr>
          <a:xfrm>
            <a:off x="784080" y="49417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更多全套免费课件下载地址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第一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模板网：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.1ppt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Picture 2" descr="art_0042"/>
          <p:cNvPicPr/>
          <p:nvPr/>
        </p:nvPicPr>
        <p:blipFill>
          <a:blip r:embed="rId2"/>
          <a:stretch/>
        </p:blipFill>
        <p:spPr>
          <a:xfrm>
            <a:off x="0" y="-95400"/>
            <a:ext cx="9144000" cy="7029720"/>
          </a:xfrm>
          <a:prstGeom prst="rect">
            <a:avLst/>
          </a:prstGeom>
          <a:ln w="0">
            <a:noFill/>
          </a:ln>
        </p:spPr>
      </p:pic>
      <p:sp>
        <p:nvSpPr>
          <p:cNvPr id="644" name="Text Box 3"/>
          <p:cNvSpPr/>
          <p:nvPr/>
        </p:nvSpPr>
        <p:spPr>
          <a:xfrm>
            <a:off x="1476360" y="306864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还有一间给没有房子的人住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5" name="Picture 2" descr="想问题"/>
          <p:cNvPicPr/>
          <p:nvPr/>
        </p:nvPicPr>
        <p:blipFill>
          <a:blip r:embed="rId3"/>
          <a:stretch/>
        </p:blipFill>
        <p:spPr>
          <a:xfrm>
            <a:off x="900000" y="549360"/>
            <a:ext cx="196704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矩形 7"/>
          <p:cNvSpPr/>
          <p:nvPr/>
        </p:nvSpPr>
        <p:spPr>
          <a:xfrm>
            <a:off x="4356000" y="1341360"/>
            <a:ext cx="2087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模板下载：</a:t>
            </a:r>
            <a:r>
              <a:rPr b="0" lang="en-US" sz="4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www.1ppt.com/moban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行业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4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www.1ppt.com/hangye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节日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4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www.1ppt.com/jieri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     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素材下载：</a:t>
            </a:r>
            <a:r>
              <a:rPr b="0" lang="en-US" sz="4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www.1ppt.com/sucai/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背景图片：</a:t>
            </a:r>
            <a:r>
              <a:rPr b="0" lang="en-US" sz="400" spc="-1" strike="noStrike" u="sng">
                <a:solidFill>
                  <a:srgbClr val="ff0000"/>
                </a:solidFill>
                <a:uFillTx/>
                <a:latin typeface="Times New Roman"/>
                <a:hlinkClick r:id="rId6"/>
              </a:rPr>
              <a:t>www.1ppt.com/beijing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图表下载：</a:t>
            </a:r>
            <a:r>
              <a:rPr b="0" lang="en-US" sz="400" spc="-1" strike="noStrike" u="sng">
                <a:solidFill>
                  <a:srgbClr val="ff0000"/>
                </a:solidFill>
                <a:uFillTx/>
                <a:latin typeface="Times New Roman"/>
                <a:hlinkClick r:id="rId7"/>
              </a:rPr>
              <a:t>www.1ppt.com/tubiao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优秀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下载：</a:t>
            </a:r>
            <a:r>
              <a:rPr b="0" lang="en-US" sz="400" spc="-1" strike="noStrike" u="sng">
                <a:solidFill>
                  <a:srgbClr val="ff0000"/>
                </a:solidFill>
                <a:uFillTx/>
                <a:latin typeface="Times New Roman"/>
                <a:hlinkClick r:id="rId8"/>
              </a:rPr>
              <a:t>www.1ppt.com/xiazai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  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400" spc="-1" strike="noStrike" u="sng">
                <a:solidFill>
                  <a:srgbClr val="ff0000"/>
                </a:solidFill>
                <a:uFillTx/>
                <a:latin typeface="Times New Roman"/>
                <a:hlinkClick r:id="rId9"/>
              </a:rPr>
              <a:t>www.1ppt.com/powerpoint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Word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400" spc="-1" strike="noStrike" u="sng">
                <a:solidFill>
                  <a:srgbClr val="ff0000"/>
                </a:solidFill>
                <a:uFillTx/>
                <a:latin typeface="Times New Roman"/>
                <a:hlinkClick r:id="rId10"/>
              </a:rPr>
              <a:t>www.1ppt.com/word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        Excel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教程：</a:t>
            </a:r>
            <a:r>
              <a:rPr b="0" lang="en-US" sz="400" spc="-1" strike="noStrike" u="sng">
                <a:solidFill>
                  <a:srgbClr val="ff0000"/>
                </a:solidFill>
                <a:uFillTx/>
                <a:latin typeface="Times New Roman"/>
                <a:hlinkClick r:id="rId11"/>
              </a:rPr>
              <a:t>www.1ppt.com/excel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资料下载：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www.1ppt.com/ziliao/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课件下载：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www.1ppt.com/kejian/ 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范文下载：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www.1ppt.com/fanwen/           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7" name="Picture 2" descr="1"/>
          <p:cNvPicPr/>
          <p:nvPr/>
        </p:nvPicPr>
        <p:blipFill>
          <a:blip r:embed="rId1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3" descr="FC_003"/>
          <p:cNvPicPr/>
          <p:nvPr/>
        </p:nvPicPr>
        <p:blipFill>
          <a:blip r:embed="rId13"/>
          <a:stretch/>
        </p:blipFill>
        <p:spPr>
          <a:xfrm>
            <a:off x="4114800" y="59436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5" descr="0"/>
          <p:cNvPicPr/>
          <p:nvPr/>
        </p:nvPicPr>
        <p:blipFill>
          <a:blip r:embed="rId14"/>
          <a:stretch/>
        </p:blipFill>
        <p:spPr>
          <a:xfrm>
            <a:off x="684360" y="692280"/>
            <a:ext cx="2447640" cy="2127240"/>
          </a:xfrm>
          <a:prstGeom prst="rect">
            <a:avLst/>
          </a:prstGeom>
          <a:ln w="0">
            <a:noFill/>
          </a:ln>
        </p:spPr>
      </p:pic>
      <p:sp>
        <p:nvSpPr>
          <p:cNvPr id="650" name="Rectangle 6"/>
          <p:cNvSpPr/>
          <p:nvPr/>
        </p:nvSpPr>
        <p:spPr>
          <a:xfrm>
            <a:off x="1209600" y="3057480"/>
            <a:ext cx="547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平平／还要搭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很多很多的／房子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给／大家／住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5-02-10T02:13:06Z</dcterms:modified>
  <cp:revision>96</cp:revision>
  <dc:subject/>
  <dc:title>PowerPoint Presentation</dc:title>
</cp:coreProperties>
</file>